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0091-3611-4C20-A200-2DD52D063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685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00200" y="5428440"/>
            <a:ext cx="685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EAE5-E3FF-4351-8C05-1171D8703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452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00200" y="542844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4520" y="542844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619E-B159-4463-8B48-73085BC14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18960" y="522936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37360" y="522936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00200" y="542844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18960" y="542844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37360" y="542844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EE57-D54C-47E9-8FFD-22AA22474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9592B-026A-414D-80D5-3EA476F0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600200" y="522936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42578-0CDB-4C27-90F7-3CB88FB3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58E11-8501-40DD-B66C-A800AD0E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3346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4520" y="5229360"/>
            <a:ext cx="3346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11B35-C3AD-4D67-BED2-F2B4E41F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0E414-C598-40E0-885A-098857E7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676520" y="3908160"/>
            <a:ext cx="685800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51B75-BE78-499E-84D0-D257B8A4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4520" y="5229360"/>
            <a:ext cx="3346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00200" y="542844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1155A-0A3A-4B16-9551-A2DBE331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00200" y="522936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9564-2A40-4D02-809B-F9577FC53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3346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452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4520" y="542844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ABEE7-7687-42A0-80F4-49F87A67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452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00200" y="5428440"/>
            <a:ext cx="685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C8AC1-9F84-4A1F-91D9-2D2C82A5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685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600200" y="5428440"/>
            <a:ext cx="685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B1EED-BC2F-4095-BC93-E8520DE1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452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600200" y="542844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4520" y="542844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34322-60CE-4121-B29A-A3BF9E49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18960" y="522936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37360" y="522936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600200" y="542844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18960" y="542844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37360" y="542844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A89FF-409D-4EE3-8B7F-E46EF4FC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F9FB-1271-4AE6-A5E4-B55F13A0E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3346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4520" y="5229360"/>
            <a:ext cx="3346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5119-2E66-4A29-ACE9-0400D3922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F34B-DBC6-4169-9F77-D218E35A0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3908160"/>
            <a:ext cx="685800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07DE-4199-4D24-A264-88FFA611F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4520" y="5229360"/>
            <a:ext cx="3346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00200" y="542844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F0D5-F081-4A4E-BE4B-85EAC5FF2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3346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452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4520" y="542844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C234-CA5C-498E-AFE6-10667A1C2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452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00200" y="5428440"/>
            <a:ext cx="685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1FF92-A6EA-4AEE-A9B3-4F853E47B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9360"/>
            <a:ext cx="9144000" cy="847440"/>
          </a:xfrm>
          <a:prstGeom prst="rect">
            <a:avLst/>
          </a:prstGeom>
          <a:gradFill rotWithShape="0">
            <a:gsLst>
              <a:gs pos="0">
                <a:srgbClr val="7c4d36"/>
              </a:gs>
              <a:gs pos="100000">
                <a:srgbClr val="3923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964720" y="836640"/>
            <a:ext cx="179280" cy="5832360"/>
          </a:xfrm>
          <a:prstGeom prst="rect">
            <a:avLst/>
          </a:prstGeom>
          <a:gradFill rotWithShape="0">
            <a:gsLst>
              <a:gs pos="0">
                <a:srgbClr val="7c4d36"/>
              </a:gs>
              <a:gs pos="100000">
                <a:srgbClr val="ddc9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836640"/>
            <a:ext cx="611280" cy="6033960"/>
          </a:xfrm>
          <a:prstGeom prst="rect">
            <a:avLst/>
          </a:prstGeom>
          <a:gradFill rotWithShape="0">
            <a:gsLst>
              <a:gs pos="0">
                <a:srgbClr val="d3a553"/>
              </a:gs>
              <a:gs pos="100000">
                <a:srgbClr val="ddc9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467400"/>
            <a:ext cx="8532720" cy="405000"/>
          </a:xfrm>
          <a:prstGeom prst="rect">
            <a:avLst/>
          </a:prstGeom>
          <a:solidFill>
            <a:srgbClr val="dd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3a5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8095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30DD-BBFD-446A-B275-498A9A20FEE2}" type="slidenum">
              <a:rPr b="0" lang="en-US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-4680"/>
            <a:ext cx="59688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32000" y="3716280"/>
            <a:ext cx="5400720" cy="1441440"/>
          </a:xfrm>
          <a:prstGeom prst="rect">
            <a:avLst/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3716280"/>
            <a:ext cx="1724040" cy="1441440"/>
          </a:xfrm>
          <a:prstGeom prst="rect">
            <a:avLst/>
          </a:prstGeom>
          <a:solidFill>
            <a:srgbClr val="dd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09560" y="0"/>
            <a:ext cx="7045560" cy="371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7c4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2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63241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DDF6-808F-4197-8718-D3188BBC8D41}" type="slidenum">
              <a:rPr b="0" lang="en-US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30492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8057880" y="4163760"/>
            <a:ext cx="1420920" cy="503280"/>
          </a:xfrm>
          <a:prstGeom prst="triangle">
            <a:avLst>
              <a:gd name="adj" fmla="val 50000"/>
            </a:avLst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9e2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9d53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f9e2"/>
                </a:solidFill>
                <a:latin typeface="Verdana"/>
              </a:rPr>
              <a:t>国外精美的</a:t>
            </a:r>
            <a:r>
              <a:rPr b="1" lang="en-US" sz="4000" spc="-1" strike="noStrike">
                <a:solidFill>
                  <a:srgbClr val="fef9e2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fef9e2"/>
                </a:solidFill>
                <a:latin typeface="Verdana"/>
              </a:rPr>
              <a:t>模板</a:t>
            </a: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00200" y="522936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1" lang="en-US" sz="1800" spc="-1" strike="noStrike">
              <a:solidFill>
                <a:srgbClr val="9b9d5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98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b9d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b9d5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b9d5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3542c"/>
              </a:gs>
              <a:gs pos="50000">
                <a:srgbClr val="9b9d53"/>
              </a:gs>
              <a:gs pos="100000">
                <a:srgbClr val="53542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9b9d53">
                  <a:alpha val="0"/>
                </a:srgbClr>
              </a:gs>
              <a:gs pos="100000">
                <a:srgbClr val="6263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d9db5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d9db5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a5461"/>
              </a:gs>
              <a:gs pos="50000">
                <a:srgbClr val="6d9db5"/>
              </a:gs>
              <a:gs pos="100000">
                <a:srgbClr val="3a546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d9db5">
                  <a:alpha val="0"/>
                </a:srgbClr>
              </a:gs>
              <a:gs pos="100000">
                <a:srgbClr val="44637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52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d3a55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14c26"/>
              </a:gs>
              <a:gs pos="100000">
                <a:srgbClr val="d3a55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1582c"/>
              </a:gs>
              <a:gs pos="50000">
                <a:srgbClr val="d3a553"/>
              </a:gs>
              <a:gs pos="100000">
                <a:srgbClr val="71582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d3a553">
                  <a:alpha val="0"/>
                </a:srgbClr>
              </a:gs>
              <a:gs pos="100000">
                <a:srgbClr val="8568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62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67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98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b9d53"/>
              </a:gs>
              <a:gs pos="100000">
                <a:srgbClr val="d3a55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447920" y="1600200"/>
            <a:ext cx="3657600" cy="4181400"/>
            <a:chOff x="1447920" y="1600200"/>
            <a:chExt cx="3657600" cy="4181400"/>
          </a:xfrm>
        </p:grpSpPr>
        <p:sp>
          <p:nvSpPr>
            <p:cNvPr id="278" name=""/>
            <p:cNvSpPr/>
            <p:nvPr/>
          </p:nvSpPr>
          <p:spPr>
            <a:xfrm rot="20876400">
              <a:off x="3468960" y="49719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00560" y="37530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21080" y="376236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38720" y="37782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30880" y="3822840"/>
              <a:ext cx="140940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18160" y="43797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0826600">
              <a:off x="1625760" y="436212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1549440" y="3371760"/>
              <a:ext cx="1371240" cy="1441080"/>
              <a:chOff x="1549440" y="3371760"/>
              <a:chExt cx="1371240" cy="1441080"/>
            </a:xfrm>
          </p:grpSpPr>
          <p:sp>
            <p:nvSpPr>
              <p:cNvPr id="286" name=""/>
              <p:cNvSpPr/>
              <p:nvPr/>
            </p:nvSpPr>
            <p:spPr>
              <a:xfrm>
                <a:off x="1549440" y="33717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67440" y="3380040"/>
                <a:ext cx="133704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80400" y="339336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652040" y="343008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880" y="38779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447920" y="26067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24240" y="20001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36840" y="20048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48000" y="201600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02000" y="20415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21160" y="23493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14760" y="21337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37160" y="16002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46520" y="16034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53000" y="16095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89360" y="162864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907360" y="18241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98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832280" y="253044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80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875520" y="1821960"/>
            <a:ext cx="4125960" cy="3931560"/>
            <a:chOff x="875520" y="1821960"/>
            <a:chExt cx="4125960" cy="3931560"/>
          </a:xfrm>
        </p:grpSpPr>
        <p:sp>
          <p:nvSpPr>
            <p:cNvPr id="306" name=""/>
            <p:cNvSpPr/>
            <p:nvPr/>
          </p:nvSpPr>
          <p:spPr>
            <a:xfrm rot="5433000">
              <a:off x="3510000" y="301320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74826"/>
                </a:gs>
                <a:gs pos="50000">
                  <a:srgbClr val="9b9d53"/>
                </a:gs>
                <a:gs pos="100000">
                  <a:srgbClr val="474826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5433000">
              <a:off x="2799000" y="187164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392318"/>
                </a:gs>
                <a:gs pos="50000">
                  <a:srgbClr val="7c4d36"/>
                </a:gs>
                <a:gs pos="100000">
                  <a:srgbClr val="392318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5433000">
              <a:off x="2874960" y="42051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392318"/>
                </a:gs>
                <a:gs pos="50000">
                  <a:srgbClr val="7c4d36"/>
                </a:gs>
                <a:gs pos="100000">
                  <a:srgbClr val="392318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2167200" y="30574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solidFill>
              <a:srgbClr val="6d9db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5433000">
              <a:off x="1484280" y="1933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74826"/>
                </a:gs>
                <a:gs pos="50000">
                  <a:srgbClr val="9b9d53"/>
                </a:gs>
                <a:gs pos="100000">
                  <a:srgbClr val="474826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5433000">
              <a:off x="1536840" y="426240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74826"/>
                </a:gs>
                <a:gs pos="50000">
                  <a:srgbClr val="9b9d53"/>
                </a:gs>
                <a:gs pos="100000">
                  <a:srgbClr val="474826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5433000">
              <a:off x="839880" y="312264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392318"/>
                </a:gs>
                <a:gs pos="50000">
                  <a:srgbClr val="7c4d36"/>
                </a:gs>
                <a:gs pos="100000">
                  <a:srgbClr val="392318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5362560" y="1897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02000" y="196524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98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ddc981"/>
              </a:solidFill>
              <a:latin typeface="Verdana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17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24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32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46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51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98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ddc981"/>
              </a:solidFill>
              <a:latin typeface="Verdana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62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365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366" name="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369" name="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72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378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2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383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384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387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9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395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00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01" name="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04" name="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6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07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18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19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22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25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31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9e2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9e2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9e2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9e2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444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8" name=""/>
            <p:cNvCxnSpPr>
              <a:stCxn id="444" idx="3"/>
              <a:endCxn id="445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ddc981"/>
              </a:solidFill>
              <a:miter/>
              <a:tailEnd len="med" type="triangle" w="med"/>
            </a:ln>
          </p:spPr>
        </p:cxnSp>
        <p:cxnSp>
          <p:nvCxnSpPr>
            <p:cNvPr id="449" name=""/>
            <p:cNvCxnSpPr>
              <a:stCxn id="445" idx="3"/>
              <a:endCxn id="446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ddc981"/>
              </a:solidFill>
              <a:miter/>
              <a:tailEnd len="med" type="triangle" w="med"/>
            </a:ln>
          </p:spPr>
        </p:cxnSp>
        <p:cxnSp>
          <p:nvCxnSpPr>
            <p:cNvPr id="450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ddc981"/>
              </a:solidFill>
              <a:miter/>
              <a:tailEnd len="med" type="triangle" w="med"/>
            </a:ln>
          </p:spPr>
        </p:cxnSp>
      </p:grpSp>
      <p:sp>
        <p:nvSpPr>
          <p:cNvPr id="451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b9d53"/>
                </a:solidFill>
                <a:uFillTx/>
                <a:latin typeface="Arial"/>
                <a:hlinkClick r:id="rId1"/>
              </a:rPr>
              <a:t>国外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9b9d53"/>
                </a:solidFill>
                <a:uFillTx/>
                <a:latin typeface="Arial"/>
                <a:hlinkClick r:id="rId2"/>
              </a:rPr>
              <a:t>http://www.eeppt.com/moban/guow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454" name="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804680" y="1869120"/>
              <a:ext cx="1130760" cy="1064520"/>
              <a:chOff x="1804680" y="1869120"/>
              <a:chExt cx="1130760" cy="1064520"/>
            </a:xfrm>
          </p:grpSpPr>
          <p:sp>
            <p:nvSpPr>
              <p:cNvPr id="456" name=""/>
              <p:cNvSpPr/>
              <p:nvPr/>
            </p:nvSpPr>
            <p:spPr>
              <a:xfrm>
                <a:off x="1804680" y="18691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3a553"/>
                  </a:gs>
                  <a:gs pos="100000">
                    <a:srgbClr val="927239"/>
                  </a:gs>
                </a:gsLst>
                <a:lin ang="5400000"/>
              </a:gradFill>
              <a:ln w="3816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875240" y="193752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cda0"/>
                  </a:gs>
                  <a:gs pos="50000">
                    <a:srgbClr val="d3a553">
                      <a:alpha val="0"/>
                    </a:srgbClr>
                  </a:gs>
                  <a:gs pos="100000">
                    <a:srgbClr val="e6cda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930680" y="21585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461" name="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1804680" y="3399120"/>
              <a:ext cx="1130760" cy="1064520"/>
              <a:chOff x="1804680" y="3399120"/>
              <a:chExt cx="1130760" cy="1064520"/>
            </a:xfrm>
          </p:grpSpPr>
          <p:sp>
            <p:nvSpPr>
              <p:cNvPr id="463" name=""/>
              <p:cNvSpPr/>
              <p:nvPr/>
            </p:nvSpPr>
            <p:spPr>
              <a:xfrm>
                <a:off x="1804680" y="33991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5b781"/>
                  </a:gs>
                  <a:gs pos="100000">
                    <a:srgbClr val="9b9d53"/>
                  </a:gs>
                </a:gsLst>
                <a:lin ang="5400000"/>
              </a:gradFill>
              <a:ln w="3816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875240" y="346752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9d53">
                      <a:alpha val="0"/>
                    </a:srgbClr>
                  </a:gs>
                  <a:gs pos="100000">
                    <a:srgbClr val="d3d4b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930680" y="3690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468" name="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1804680" y="4939200"/>
              <a:ext cx="1130760" cy="1064520"/>
              <a:chOff x="1804680" y="4939200"/>
              <a:chExt cx="1130760" cy="1064520"/>
            </a:xfrm>
          </p:grpSpPr>
          <p:sp>
            <p:nvSpPr>
              <p:cNvPr id="470" name=""/>
              <p:cNvSpPr/>
              <p:nvPr/>
            </p:nvSpPr>
            <p:spPr>
              <a:xfrm>
                <a:off x="1804680" y="49392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1bfcf"/>
                  </a:gs>
                  <a:gs pos="100000">
                    <a:srgbClr val="6d9db5"/>
                  </a:gs>
                </a:gsLst>
                <a:lin ang="5400000"/>
              </a:gradFill>
              <a:ln w="3816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75240" y="50076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d9db5">
                      <a:alpha val="0"/>
                    </a:srgbClr>
                  </a:gs>
                  <a:gs pos="100000">
                    <a:srgbClr val="b7ced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930680" y="52300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475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480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b9d53"/>
                </a:gs>
                <a:gs pos="100000">
                  <a:srgbClr val="47482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482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1260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d3a5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488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1260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9b9d53"/>
                </a:gs>
                <a:gs pos="100000">
                  <a:srgbClr val="47482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494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1260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d3a5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9e2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9e2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9e2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9e2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062000" y="2165400"/>
          <a:ext cx="7370640" cy="3124080"/>
        </p:xfrm>
        <a:graphic>
          <a:graphicData uri="http://schemas.openxmlformats.org/drawingml/2006/table">
            <a:tbl>
              <a:tblPr/>
              <a:tblGrid>
                <a:gridCol w="1662120"/>
                <a:gridCol w="1160280"/>
                <a:gridCol w="1136880"/>
                <a:gridCol w="1135080"/>
                <a:gridCol w="1141200"/>
                <a:gridCol w="11350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825120" y="755280"/>
            <a:ext cx="7378560" cy="5581080"/>
            <a:chOff x="825120" y="755280"/>
            <a:chExt cx="7378560" cy="5581080"/>
          </a:xfrm>
        </p:grpSpPr>
        <p:sp>
          <p:nvSpPr>
            <p:cNvPr id="510" name=""/>
            <p:cNvSpPr/>
            <p:nvPr/>
          </p:nvSpPr>
          <p:spPr>
            <a:xfrm>
              <a:off x="2361960" y="45417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ef9e2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20601600">
              <a:off x="1636560" y="242820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20601600">
              <a:off x="1693080" y="22665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20601600">
              <a:off x="1609560" y="2252160"/>
              <a:ext cx="569772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b9d53"/>
                </a:gs>
                <a:gs pos="100000">
                  <a:srgbClr val="bebf9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rot="20602200">
              <a:off x="1658520" y="2252520"/>
              <a:ext cx="564264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d3a553"/>
                </a:gs>
                <a:gs pos="100000">
                  <a:srgbClr val="92723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20601600">
              <a:off x="1616400" y="2263320"/>
              <a:ext cx="56808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70713b"/>
                </a:gs>
                <a:gs pos="100000">
                  <a:srgbClr val="9b9d53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rot="20602200">
              <a:off x="1626480" y="2261880"/>
              <a:ext cx="5701320" cy="293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392318"/>
                </a:gs>
                <a:gs pos="100000">
                  <a:srgbClr val="7c4d36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87640" y="369864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486878"/>
                </a:gs>
                <a:gs pos="100000">
                  <a:srgbClr val="6d9d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0539200">
              <a:off x="1243440" y="1659600"/>
              <a:ext cx="654192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6d9db5"/>
                </a:gs>
                <a:gs pos="100000">
                  <a:srgbClr val="32485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98720" y="403848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4e7182"/>
                </a:gs>
                <a:gs pos="100000">
                  <a:srgbClr val="6d9db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20601600">
              <a:off x="3153960" y="29811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e3e3e3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144520" y="366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9640" y="2441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8440" y="2746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73520" y="3965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63840" y="4651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17720" y="4254480"/>
              <a:ext cx="86328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b9d53">
                    <a:alpha val="19215"/>
                  </a:srgbClr>
                </a:gs>
                <a:gs pos="100000">
                  <a:srgbClr val="bbbc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0601600">
              <a:off x="3255840" y="3233520"/>
              <a:ext cx="258552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2001960" y="23050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808080"/>
              </a:gs>
              <a:gs pos="100000">
                <a:srgbClr val="fef9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773360" y="1542960"/>
            <a:ext cx="579096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9d53"/>
              </a:gs>
              <a:gs pos="50000">
                <a:srgbClr val="bdbf8f"/>
              </a:gs>
              <a:gs pos="100000">
                <a:srgbClr val="9b9d5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53000" y="291456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9e2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011240" y="4178160"/>
            <a:ext cx="1579680" cy="2070000"/>
            <a:chOff x="1011240" y="4178160"/>
            <a:chExt cx="1579680" cy="2070000"/>
          </a:xfrm>
        </p:grpSpPr>
        <p:grpSp>
          <p:nvGrpSpPr>
            <p:cNvPr id="534" name=""/>
            <p:cNvGrpSpPr/>
            <p:nvPr/>
          </p:nvGrpSpPr>
          <p:grpSpPr>
            <a:xfrm>
              <a:off x="1011240" y="4178160"/>
              <a:ext cx="1486080" cy="1514520"/>
              <a:chOff x="1011240" y="4178160"/>
              <a:chExt cx="1486080" cy="151452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1011240" y="4178160"/>
                <a:ext cx="1486080" cy="1514520"/>
                <a:chOff x="1011240" y="4178160"/>
                <a:chExt cx="1486080" cy="15145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011240" y="417816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c4d36"/>
                    </a:gs>
                    <a:gs pos="100000">
                      <a:srgbClr val="4e302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181160" y="420300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c4d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1169280" y="49492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1011240" y="581004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ef9e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2916360" y="4178160"/>
            <a:ext cx="1617120" cy="2070000"/>
            <a:chOff x="2916360" y="4178160"/>
            <a:chExt cx="1617120" cy="2070000"/>
          </a:xfrm>
        </p:grpSpPr>
        <p:grpSp>
          <p:nvGrpSpPr>
            <p:cNvPr id="541" name=""/>
            <p:cNvGrpSpPr/>
            <p:nvPr/>
          </p:nvGrpSpPr>
          <p:grpSpPr>
            <a:xfrm>
              <a:off x="2916360" y="4178160"/>
              <a:ext cx="1523520" cy="1521000"/>
              <a:chOff x="2916360" y="4178160"/>
              <a:chExt cx="1523520" cy="1521000"/>
            </a:xfrm>
          </p:grpSpPr>
          <p:sp>
            <p:nvSpPr>
              <p:cNvPr id="542" name=""/>
              <p:cNvSpPr/>
              <p:nvPr/>
            </p:nvSpPr>
            <p:spPr>
              <a:xfrm>
                <a:off x="2916360" y="4178160"/>
                <a:ext cx="1523520" cy="1521000"/>
              </a:xfrm>
              <a:prstGeom prst="ellipse">
                <a:avLst/>
              </a:prstGeom>
              <a:gradFill rotWithShape="0">
                <a:gsLst>
                  <a:gs pos="0">
                    <a:srgbClr val="9b9d53"/>
                  </a:gs>
                  <a:gs pos="100000">
                    <a:srgbClr val="4f50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090240" y="420336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b9d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2992320" y="490824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54160" y="581004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ef9e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4973760" y="4133880"/>
            <a:ext cx="1631880" cy="2114640"/>
            <a:chOff x="4973760" y="4133880"/>
            <a:chExt cx="1631880" cy="2114640"/>
          </a:xfrm>
        </p:grpSpPr>
        <p:grpSp>
          <p:nvGrpSpPr>
            <p:cNvPr id="547" name=""/>
            <p:cNvGrpSpPr/>
            <p:nvPr/>
          </p:nvGrpSpPr>
          <p:grpSpPr>
            <a:xfrm>
              <a:off x="4973760" y="4133880"/>
              <a:ext cx="1523880" cy="1521000"/>
              <a:chOff x="4973760" y="4133880"/>
              <a:chExt cx="1523880" cy="1521000"/>
            </a:xfrm>
          </p:grpSpPr>
          <p:sp>
            <p:nvSpPr>
              <p:cNvPr id="548" name=""/>
              <p:cNvSpPr/>
              <p:nvPr/>
            </p:nvSpPr>
            <p:spPr>
              <a:xfrm>
                <a:off x="4973760" y="41338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d3a553"/>
                  </a:gs>
                  <a:gs pos="100000">
                    <a:srgbClr val="6b54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148000" y="41590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d3a5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5050080" y="48639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26320" y="58104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ef9e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6878520" y="4133880"/>
            <a:ext cx="1579680" cy="2114640"/>
            <a:chOff x="6878520" y="4133880"/>
            <a:chExt cx="1579680" cy="2114640"/>
          </a:xfrm>
        </p:grpSpPr>
        <p:grpSp>
          <p:nvGrpSpPr>
            <p:cNvPr id="553" name=""/>
            <p:cNvGrpSpPr/>
            <p:nvPr/>
          </p:nvGrpSpPr>
          <p:grpSpPr>
            <a:xfrm>
              <a:off x="6878520" y="4133880"/>
              <a:ext cx="1523880" cy="1531800"/>
              <a:chOff x="6878520" y="4133880"/>
              <a:chExt cx="1523880" cy="1531800"/>
            </a:xfrm>
          </p:grpSpPr>
          <p:grpSp>
            <p:nvGrpSpPr>
              <p:cNvPr id="554" name=""/>
              <p:cNvGrpSpPr/>
              <p:nvPr/>
            </p:nvGrpSpPr>
            <p:grpSpPr>
              <a:xfrm>
                <a:off x="6878520" y="4133880"/>
                <a:ext cx="1523880" cy="1531800"/>
                <a:chOff x="6878520" y="4133880"/>
                <a:chExt cx="1523880" cy="153180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6878520" y="4133880"/>
                  <a:ext cx="152388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9db5"/>
                    </a:gs>
                    <a:gs pos="100000">
                      <a:srgbClr val="1a26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052760" y="4159080"/>
                  <a:ext cx="117540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d9db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7021440" y="48477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6878520" y="58104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ef9e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5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7c4d36"/>
            </a:soli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c4d36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9e2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0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d3a553"/>
            </a:soli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d3a553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9e2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5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9b9d53"/>
            </a:soli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9b9d53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9e2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0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6d9db5"/>
            </a:soli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6d9db5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9e2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1835280" y="4038480"/>
            <a:ext cx="555624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ef9e2"/>
                  </a:solidFill>
                  <a:miter/>
                </a:ln>
                <a:gradFill rotWithShape="0">
                  <a:gsLst>
                    <a:gs pos="0">
                      <a:srgbClr val="ddc981"/>
                    </a:gs>
                    <a:gs pos="100000">
                      <a:srgbClr val="7c4d36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ef9e2"/>
                </a:solidFill>
                <a:miter/>
              </a:ln>
              <a:gradFill rotWithShape="0">
                <a:gsLst>
                  <a:gs pos="0">
                    <a:srgbClr val="ddc981"/>
                  </a:gs>
                  <a:gs pos="100000">
                    <a:srgbClr val="7c4d36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98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b8d7e"/>
              </a:gs>
              <a:gs pos="100000">
                <a:srgbClr val="7c4d3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edec7"/>
              </a:gs>
              <a:gs pos="100000">
                <a:srgbClr val="9b9d5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21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22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b4c28"/>
                  </a:gs>
                  <a:gs pos="100000">
                    <a:srgbClr val="9b9d5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9b9d53"/>
                  </a:gs>
                  <a:gs pos="100000">
                    <a:srgbClr val="d1d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d3a553"/>
                </a:gs>
                <a:gs pos="100000">
                  <a:srgbClr val="614c2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eedec2"/>
                </a:gs>
                <a:gs pos="100000">
                  <a:srgbClr val="d3a55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d3a553">
                    <a:alpha val="48235"/>
                  </a:srgbClr>
                </a:gs>
                <a:gs pos="100000">
                  <a:srgbClr val="a682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d3a553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14400" y="1722240"/>
            <a:ext cx="7328520" cy="4583520"/>
            <a:chOff x="914400" y="1722240"/>
            <a:chExt cx="7328520" cy="4583520"/>
          </a:xfrm>
        </p:grpSpPr>
        <p:sp>
          <p:nvSpPr>
            <p:cNvPr id="132" name=""/>
            <p:cNvSpPr/>
            <p:nvPr/>
          </p:nvSpPr>
          <p:spPr>
            <a:xfrm rot="20241600">
              <a:off x="154440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7d7d7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056200">
              <a:off x="449532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056200">
              <a:off x="716256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056200">
              <a:off x="3047760" y="54860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056200">
              <a:off x="5638320" y="48765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056200">
              <a:off x="2285640" y="4038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7368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b9d53"/>
                </a:gs>
                <a:gs pos="100000">
                  <a:srgbClr val="3535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3844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3a553"/>
                </a:gs>
                <a:gs pos="100000">
                  <a:srgbClr val="4133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2252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7c4d36"/>
                </a:gs>
                <a:gs pos="100000">
                  <a:srgbClr val="2c1b1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104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d2d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1680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d9db5"/>
                </a:gs>
                <a:gs pos="100000">
                  <a:srgbClr val="2535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7568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7932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8896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9668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8676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8128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5436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"/>
            <p:cNvCxnSpPr/>
            <p:nvPr/>
          </p:nvCxnSpPr>
          <p:spPr>
            <a:xfrm flipH="1">
              <a:off x="103932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1" name=""/>
            <p:cNvSpPr/>
            <p:nvPr/>
          </p:nvSpPr>
          <p:spPr>
            <a:xfrm>
              <a:off x="91440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4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3b3b3b">
                    <a:alpha val="12156"/>
                  </a:srgbClr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14c26"/>
                </a:gs>
                <a:gs pos="50000">
                  <a:srgbClr val="d3a553"/>
                </a:gs>
                <a:gs pos="100000">
                  <a:srgbClr val="614c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adada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74826"/>
                </a:gs>
                <a:gs pos="50000">
                  <a:srgbClr val="9b9d53"/>
                </a:gs>
                <a:gs pos="100000">
                  <a:srgbClr val="4748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adadad">
                    <a:alpha val="12156"/>
                  </a:srgbClr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4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75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0e8cc"/>
                  </a:gs>
                  <a:gs pos="100000">
                    <a:srgbClr val="ddc9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0e8cc"/>
                  </a:gs>
                  <a:gs pos="100000">
                    <a:srgbClr val="ddc981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0e8cc"/>
                  </a:gs>
                  <a:gs pos="100000">
                    <a:srgbClr val="ddc98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b9d53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53542c"/>
                  </a:gs>
                  <a:gs pos="50000">
                    <a:srgbClr val="9b9d53"/>
                  </a:gs>
                  <a:gs pos="100000">
                    <a:srgbClr val="53542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14c26"/>
                </a:gs>
                <a:gs pos="50000">
                  <a:srgbClr val="d3a553"/>
                </a:gs>
                <a:gs pos="100000">
                  <a:srgbClr val="614c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14c26"/>
                </a:gs>
                <a:gs pos="50000">
                  <a:srgbClr val="d3a553"/>
                </a:gs>
                <a:gs pos="100000">
                  <a:srgbClr val="614c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14c26"/>
                </a:gs>
                <a:gs pos="50000">
                  <a:srgbClr val="d3a553"/>
                </a:gs>
                <a:gs pos="100000">
                  <a:srgbClr val="614c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9e2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ef9e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98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13" name="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92318"/>
                </a:gs>
                <a:gs pos="50000">
                  <a:srgbClr val="7c4d36"/>
                </a:gs>
                <a:gs pos="100000">
                  <a:srgbClr val="39231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7c4d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74826"/>
                </a:gs>
                <a:gs pos="50000">
                  <a:srgbClr val="9b9d53"/>
                </a:gs>
                <a:gs pos="100000">
                  <a:srgbClr val="47482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9b9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a2a2a"/>
                </a:gs>
                <a:gs pos="50000">
                  <a:srgbClr val="808080"/>
                </a:gs>
                <a:gs pos="100000">
                  <a:srgbClr val="2a2a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a0a0a0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593727"/>
                </a:gs>
                <a:gs pos="50000">
                  <a:srgbClr val="7c4d36"/>
                </a:gs>
                <a:gs pos="100000">
                  <a:srgbClr val="59372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70713b"/>
                </a:gs>
                <a:gs pos="50000">
                  <a:srgbClr val="9b9d53"/>
                </a:gs>
                <a:gs pos="100000">
                  <a:srgbClr val="7071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d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4e7182"/>
                </a:gs>
                <a:gs pos="50000">
                  <a:srgbClr val="6d9db5"/>
                </a:gs>
                <a:gs pos="100000">
                  <a:srgbClr val="4e71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5c5c5c"/>
                </a:gs>
                <a:gs pos="50000">
                  <a:srgbClr val="808080"/>
                </a:gs>
                <a:gs pos="100000">
                  <a:srgbClr val="5c5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dc981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ECA7-27F3-41F6-9DB6-1A000CA068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98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1600200"/>
            <a:ext cx="5651640" cy="4495680"/>
          </a:xfrm>
          <a:prstGeom prst="rightArrow">
            <a:avLst>
              <a:gd name="adj1" fmla="val 79306"/>
              <a:gd name="adj2" fmla="val 31137"/>
            </a:avLst>
          </a:prstGeom>
          <a:gradFill rotWithShape="0">
            <a:gsLst>
              <a:gs pos="0">
                <a:srgbClr val="d3a553"/>
              </a:gs>
              <a:gs pos="100000">
                <a:srgbClr val="fef9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c4d36"/>
              </a:gs>
              <a:gs pos="100000">
                <a:srgbClr val="a28272"/>
              </a:gs>
            </a:gsLst>
            <a:lin ang="5400000"/>
          </a:gradFill>
          <a:ln w="25560">
            <a:solidFill>
              <a:srgbClr val="fef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9e2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ef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9e2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b9d53"/>
              </a:gs>
              <a:gs pos="100000">
                <a:srgbClr val="b8b986"/>
              </a:gs>
            </a:gsLst>
            <a:lin ang="5400000"/>
          </a:gradFill>
          <a:ln w="25560">
            <a:solidFill>
              <a:srgbClr val="fef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9e2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07:47Z</dcterms:modified>
  <cp:revision>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