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144C-B858-4224-A773-41D33F57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388584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95280" y="424404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2DF9-C865-4BF1-9DDB-AC324BA1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38858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5240" y="38858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2440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5240" y="42440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C6AA-4E38-4C70-A6F9-BA45B7B4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5280" y="38858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59240" y="38858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23560" y="38858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95280" y="42440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59240" y="42440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23560" y="42440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07E7-9BCD-4D06-9B7A-CB83F88B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6971-51E2-414A-8075-32ACC561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9528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3140-AAA5-481E-9EA4-6D73E366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528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D04B-E8D8-439F-9730-0B00BE15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5280" y="388584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5240" y="388584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EF8F-FC03-43C7-BAF7-911E19FA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6090-D4DE-4B8E-9D0B-D19177FF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4EB1-24EE-4284-8925-0633EAA2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38858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5240" y="388584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95280" y="42440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CE87-719C-473F-BB02-9D1A0B0A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9528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D987-4813-40A6-8B58-8416E62E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388584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5240" y="38858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5240" y="42440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06D6-0CA4-46C3-84EB-BA64C63B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38858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5240" y="38858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95280" y="424404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4A9B-A96E-43FD-BB07-2B007129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388584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295280" y="424404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EC63-D87A-42FC-A089-C21BE9F6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38858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5240" y="38858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2440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5240" y="42440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71CE-3A43-45C3-83EA-648D4A2F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5280" y="38858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59240" y="38858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623560" y="38858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295280" y="42440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59240" y="42440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623560" y="42440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CE31-97A0-4A33-B463-C59D115A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528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B627-DD8D-480C-AF12-6CEE1F5A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5280" y="388584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75240" y="388584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8128-F167-4641-B6F7-04A3731C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E3FE-3BA8-468C-A732-407106D7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325B-A9A4-4DCA-9EBD-AD2176A6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38858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5240" y="388584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95280" y="42440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BD84-4D66-4ECD-9D96-5BAE421C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388584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5240" y="38858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5240" y="42440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960E-2AB9-4054-9D2C-912CCB55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38858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5240" y="38858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5280" y="424404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6774-4628-4CD3-ABB4-1F1E291C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64d5"/>
            </a:gs>
            <a:gs pos="100000">
              <a:srgbClr val="abc1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160" y="-22320"/>
            <a:ext cx="9156240" cy="6432480"/>
            <a:chOff x="-11160" y="-22320"/>
            <a:chExt cx="9156240" cy="6432480"/>
          </a:xfrm>
        </p:grpSpPr>
        <p:sp>
          <p:nvSpPr>
            <p:cNvPr id="1" name=""/>
            <p:cNvSpPr/>
            <p:nvPr/>
          </p:nvSpPr>
          <p:spPr>
            <a:xfrm>
              <a:off x="-11160" y="-22320"/>
              <a:ext cx="9142560" cy="6418080"/>
            </a:xfrm>
            <a:custGeom>
              <a:avLst/>
              <a:gdLst/>
              <a:ahLst/>
              <a:rect l="l" t="t" r="r" b="b"/>
              <a:pathLst>
                <a:path w="5769" h="4029">
                  <a:moveTo>
                    <a:pt x="0" y="3392"/>
                  </a:moveTo>
                  <a:cubicBezTo>
                    <a:pt x="70" y="3461"/>
                    <a:pt x="642" y="3914"/>
                    <a:pt x="1978" y="3972"/>
                  </a:cubicBezTo>
                  <a:cubicBezTo>
                    <a:pt x="3313" y="4029"/>
                    <a:pt x="5398" y="3277"/>
                    <a:pt x="5769" y="2953"/>
                  </a:cubicBezTo>
                  <a:lnTo>
                    <a:pt x="5769" y="0"/>
                  </a:lnTo>
                  <a:lnTo>
                    <a:pt x="9" y="9"/>
                  </a:lnTo>
                  <a:lnTo>
                    <a:pt x="15" y="19"/>
                  </a:lnTo>
                  <a:lnTo>
                    <a:pt x="0" y="3392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80" y="-7560"/>
              <a:ext cx="9142200" cy="6417720"/>
            </a:xfrm>
            <a:custGeom>
              <a:avLst/>
              <a:gdLst/>
              <a:ahLst/>
              <a:rect l="l" t="t" r="r" b="b"/>
              <a:pathLst>
                <a:path w="5769" h="4029">
                  <a:moveTo>
                    <a:pt x="0" y="3392"/>
                  </a:moveTo>
                  <a:cubicBezTo>
                    <a:pt x="70" y="3461"/>
                    <a:pt x="642" y="3914"/>
                    <a:pt x="1978" y="3972"/>
                  </a:cubicBezTo>
                  <a:cubicBezTo>
                    <a:pt x="3313" y="4029"/>
                    <a:pt x="5398" y="3277"/>
                    <a:pt x="5769" y="2953"/>
                  </a:cubicBezTo>
                  <a:lnTo>
                    <a:pt x="5769" y="0"/>
                  </a:lnTo>
                  <a:lnTo>
                    <a:pt x="9" y="9"/>
                  </a:lnTo>
                  <a:lnTo>
                    <a:pt x="15" y="19"/>
                  </a:lnTo>
                  <a:lnTo>
                    <a:pt x="0" y="3392"/>
                  </a:lnTo>
                  <a:close/>
                </a:path>
              </a:pathLst>
            </a:custGeom>
            <a:gradFill rotWithShape="0">
              <a:gsLst>
                <a:gs pos="0">
                  <a:srgbClr val="132e62">
                    <a:alpha val="46274"/>
                  </a:srgbClr>
                </a:gs>
                <a:gs pos="100000">
                  <a:srgbClr val="2b64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-25560" y="5256360"/>
            <a:ext cx="9169560" cy="1601640"/>
          </a:xfrm>
          <a:custGeom>
            <a:avLst/>
            <a:gdLst/>
            <a:ahLst/>
            <a:rect l="l" t="t" r="r" b="b"/>
            <a:pathLst>
              <a:path w="5776" h="1009">
                <a:moveTo>
                  <a:pt x="9" y="426"/>
                </a:moveTo>
                <a:cubicBezTo>
                  <a:pt x="80" y="445"/>
                  <a:pt x="759" y="661"/>
                  <a:pt x="1773" y="710"/>
                </a:cubicBezTo>
                <a:cubicBezTo>
                  <a:pt x="2788" y="758"/>
                  <a:pt x="4177" y="622"/>
                  <a:pt x="5776" y="0"/>
                </a:cubicBezTo>
                <a:lnTo>
                  <a:pt x="5771" y="1009"/>
                </a:lnTo>
                <a:lnTo>
                  <a:pt x="0" y="1007"/>
                </a:lnTo>
                <a:lnTo>
                  <a:pt x="9" y="426"/>
                </a:lnTo>
                <a:close/>
              </a:path>
            </a:pathLst>
          </a:custGeom>
          <a:gradFill rotWithShape="0">
            <a:gsLst>
              <a:gs pos="0">
                <a:srgbClr val="3fb180"/>
              </a:gs>
              <a:gs pos="100000">
                <a:srgbClr val="2b64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0f7bd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B4A7-7F91-4887-B60F-2CB0EF4003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64d5"/>
            </a:gs>
            <a:gs pos="100000">
              <a:srgbClr val="abc1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14400" y="4292640"/>
            <a:ext cx="9164880" cy="2592360"/>
          </a:xfrm>
          <a:custGeom>
            <a:avLst/>
            <a:gdLst/>
            <a:ahLst/>
            <a:rect l="l" t="t" r="r" b="b"/>
            <a:pathLst>
              <a:path w="5773" h="1633">
                <a:moveTo>
                  <a:pt x="9" y="633"/>
                </a:moveTo>
                <a:cubicBezTo>
                  <a:pt x="74" y="660"/>
                  <a:pt x="695" y="1099"/>
                  <a:pt x="1710" y="1182"/>
                </a:cubicBezTo>
                <a:cubicBezTo>
                  <a:pt x="2725" y="1265"/>
                  <a:pt x="3871" y="1008"/>
                  <a:pt x="5773" y="0"/>
                </a:cubicBezTo>
                <a:lnTo>
                  <a:pt x="5773" y="1633"/>
                </a:lnTo>
                <a:lnTo>
                  <a:pt x="0" y="1630"/>
                </a:lnTo>
                <a:lnTo>
                  <a:pt x="9" y="63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-15840" y="0"/>
            <a:ext cx="9155160" cy="6124680"/>
            <a:chOff x="-15840" y="0"/>
            <a:chExt cx="9155160" cy="6124680"/>
          </a:xfrm>
        </p:grpSpPr>
        <p:sp>
          <p:nvSpPr>
            <p:cNvPr id="47" name=""/>
            <p:cNvSpPr/>
            <p:nvPr/>
          </p:nvSpPr>
          <p:spPr>
            <a:xfrm>
              <a:off x="-1440" y="0"/>
              <a:ext cx="9140760" cy="6124680"/>
            </a:xfrm>
            <a:custGeom>
              <a:avLst/>
              <a:gdLst/>
              <a:ahLst/>
              <a:rect l="l" t="t" r="r" b="b"/>
              <a:pathLst>
                <a:path w="5769" h="3858">
                  <a:moveTo>
                    <a:pt x="0" y="3026"/>
                  </a:moveTo>
                  <a:cubicBezTo>
                    <a:pt x="70" y="3092"/>
                    <a:pt x="640" y="3748"/>
                    <a:pt x="1984" y="3803"/>
                  </a:cubicBezTo>
                  <a:cubicBezTo>
                    <a:pt x="3328" y="3858"/>
                    <a:pt x="5396" y="2688"/>
                    <a:pt x="5769" y="2377"/>
                  </a:cubicBezTo>
                  <a:lnTo>
                    <a:pt x="5769" y="0"/>
                  </a:lnTo>
                  <a:lnTo>
                    <a:pt x="18" y="0"/>
                  </a:lnTo>
                  <a:lnTo>
                    <a:pt x="9" y="10"/>
                  </a:lnTo>
                  <a:lnTo>
                    <a:pt x="0" y="3026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15840" y="0"/>
              <a:ext cx="9141120" cy="6124680"/>
            </a:xfrm>
            <a:custGeom>
              <a:avLst/>
              <a:gdLst/>
              <a:ahLst/>
              <a:rect l="l" t="t" r="r" b="b"/>
              <a:pathLst>
                <a:path w="5769" h="3858">
                  <a:moveTo>
                    <a:pt x="0" y="3026"/>
                  </a:moveTo>
                  <a:cubicBezTo>
                    <a:pt x="70" y="3092"/>
                    <a:pt x="640" y="3748"/>
                    <a:pt x="1984" y="3803"/>
                  </a:cubicBezTo>
                  <a:cubicBezTo>
                    <a:pt x="3328" y="3858"/>
                    <a:pt x="5396" y="2688"/>
                    <a:pt x="5769" y="2377"/>
                  </a:cubicBezTo>
                  <a:lnTo>
                    <a:pt x="5769" y="0"/>
                  </a:lnTo>
                  <a:lnTo>
                    <a:pt x="18" y="0"/>
                  </a:lnTo>
                  <a:lnTo>
                    <a:pt x="9" y="10"/>
                  </a:lnTo>
                  <a:lnTo>
                    <a:pt x="0" y="3026"/>
                  </a:lnTo>
                  <a:close/>
                </a:path>
              </a:pathLst>
            </a:custGeom>
            <a:gradFill rotWithShape="0">
              <a:gsLst>
                <a:gs pos="0">
                  <a:srgbClr val="132e62">
                    <a:alpha val="44313"/>
                  </a:srgbClr>
                </a:gs>
                <a:gs pos="100000">
                  <a:srgbClr val="2b64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0f7bd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5D57-FEE3-4533-A76A-80C76AAD45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89720" y="130320"/>
            <a:ext cx="2306880" cy="1657440"/>
            <a:chOff x="189720" y="130320"/>
            <a:chExt cx="2306880" cy="1657440"/>
          </a:xfrm>
        </p:grpSpPr>
        <p:sp>
          <p:nvSpPr>
            <p:cNvPr id="54" name=""/>
            <p:cNvSpPr/>
            <p:nvPr/>
          </p:nvSpPr>
          <p:spPr>
            <a:xfrm rot="20667600">
              <a:off x="304560" y="387360"/>
              <a:ext cx="2076480" cy="1143000"/>
            </a:xfrm>
            <a:prstGeom prst="ellipse">
              <a:avLst/>
            </a:prstGeom>
            <a:gradFill rotWithShape="0">
              <a:gsLst>
                <a:gs pos="0">
                  <a:srgbClr val="132d60"/>
                </a:gs>
                <a:gs pos="100000">
                  <a:srgbClr val="2b64d5"/>
                </a:gs>
              </a:gsLst>
              <a:lin ang="90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rot="20667600">
              <a:off x="399960" y="474480"/>
              <a:ext cx="1842840" cy="955440"/>
            </a:xfrm>
            <a:prstGeom prst="ellipse">
              <a:avLst/>
            </a:prstGeom>
            <a:gradFill rotWithShape="0">
              <a:gsLst>
                <a:gs pos="0">
                  <a:srgbClr val="2b64d5"/>
                </a:gs>
                <a:gs pos="100000">
                  <a:srgbClr val="132d60"/>
                </a:gs>
              </a:gsLst>
              <a:lin ang="90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762480" y="609480"/>
            <a:ext cx="115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5.wmf"/><Relationship Id="rId5" Type="http://schemas.openxmlformats.org/officeDocument/2006/relationships/image" Target="../media/image7.png"/><Relationship Id="rId6" Type="http://schemas.openxmlformats.org/officeDocument/2006/relationships/image" Target="../media/image5.wmf"/><Relationship Id="rId7" Type="http://schemas.openxmlformats.org/officeDocument/2006/relationships/image" Target="../media/image8.png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guowai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64d5"/>
            </a:gs>
            <a:gs pos="100000">
              <a:srgbClr val="abc1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0f7bd"/>
                </a:solidFill>
                <a:latin typeface="Arial"/>
              </a:rPr>
              <a:t>国外精美</a:t>
            </a:r>
            <a:r>
              <a:rPr b="1" i="1" lang="zh-CN" sz="4400" spc="-1" strike="noStrike">
                <a:solidFill>
                  <a:srgbClr val="f0f7bd"/>
                </a:solidFill>
                <a:latin typeface="Arial"/>
                <a:ea typeface="宋体"/>
              </a:rPr>
              <a:t>PPT</a:t>
            </a:r>
            <a:r>
              <a:rPr b="1" i="1" lang="en-US" sz="4400" spc="-1" strike="noStrike">
                <a:solidFill>
                  <a:srgbClr val="f0f7bd"/>
                </a:solidFill>
                <a:latin typeface="Arial"/>
              </a:rPr>
              <a:t>模版</a:t>
            </a:r>
            <a:r>
              <a:rPr b="1" i="1" lang="zh-CN" sz="4400" spc="-1" strike="noStrike">
                <a:solidFill>
                  <a:srgbClr val="f0f7bd"/>
                </a:solidFill>
                <a:latin typeface="Arial"/>
                <a:ea typeface="宋体"/>
              </a:rPr>
              <a:t>下载</a:t>
            </a:r>
            <a:endParaRPr b="1" i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9528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64d5"/>
            </a:gs>
            <a:gs pos="100000">
              <a:srgbClr val="abc1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0f7bd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33560" y="212580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66680" y="213372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084320" y="419724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84320" y="215568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778040" y="1817640"/>
            <a:ext cx="642960" cy="642960"/>
            <a:chOff x="1778040" y="1817640"/>
            <a:chExt cx="642960" cy="642960"/>
          </a:xfrm>
        </p:grpSpPr>
        <p:sp>
          <p:nvSpPr>
            <p:cNvPr id="304" name=""/>
            <p:cNvSpPr/>
            <p:nvPr/>
          </p:nvSpPr>
          <p:spPr>
            <a:xfrm>
              <a:off x="1778040" y="18176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84520" y="182232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792440" y="182628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798920" y="183204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832760" y="184752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1918080" y="1909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09520" y="257976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57840" y="212580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791320" y="2133720"/>
            <a:ext cx="2098440" cy="280332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54">
                <a:moveTo>
                  <a:pt x="3600" y="0"/>
                </a:moveTo>
                <a:arcTo wR="3600" hR="3600" stAng="16200000" swAng="-5400000"/>
                <a:lnTo>
                  <a:pt x="0" y="25254"/>
                </a:lnTo>
                <a:arcTo wR="3600" hR="3600" stAng="10800000" swAng="-5400000"/>
                <a:lnTo>
                  <a:pt x="18000" y="28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808600" y="419724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1e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808600" y="215568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3ca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502320" y="1817640"/>
            <a:ext cx="642960" cy="642960"/>
            <a:chOff x="6502320" y="1817640"/>
            <a:chExt cx="642960" cy="642960"/>
          </a:xfrm>
        </p:grpSpPr>
        <p:sp>
          <p:nvSpPr>
            <p:cNvPr id="316" name=""/>
            <p:cNvSpPr/>
            <p:nvPr/>
          </p:nvSpPr>
          <p:spPr>
            <a:xfrm>
              <a:off x="6502320" y="18176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08800" y="182232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16720" y="182628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23200" y="183204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557040" y="184752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6642360" y="1909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834160" y="257976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95520" y="212580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213372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446640" y="419724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1f0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46640" y="215568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ff6d3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40360" y="1817640"/>
            <a:ext cx="64260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46480" y="1822320"/>
            <a:ext cx="622440" cy="6224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154400" y="1825560"/>
            <a:ext cx="60804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160880" y="1832040"/>
            <a:ext cx="577800" cy="5666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195800" y="1847880"/>
            <a:ext cx="512640" cy="460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80400" y="1909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471840" y="257976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0f7bd"/>
                </a:solidFill>
                <a:latin typeface="Arial"/>
              </a:rPr>
              <a:t>使用规范说明</a:t>
            </a:r>
            <a:endParaRPr b="1" i="1" lang="en-US" sz="40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5DDC-2E4D-49A6-AB5E-CEAB09507C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64d5"/>
            </a:gs>
            <a:gs pos="100000">
              <a:srgbClr val="abc1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0f7bd"/>
                </a:solidFill>
                <a:latin typeface="Arial"/>
              </a:rPr>
              <a:t>Progress Diagram</a:t>
            </a:r>
            <a:endParaRPr b="1" i="1" lang="en-US" sz="40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562720" y="22860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6a4016"/>
              </a:gs>
              <a:gs pos="100000">
                <a:srgbClr val="e68b30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00400" y="22860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1d513b"/>
              </a:gs>
              <a:gs pos="100000">
                <a:srgbClr val="3fb180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38080" y="22860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525419"/>
              </a:gs>
              <a:gs pos="100000">
                <a:srgbClr val="b2b838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66680" y="14479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25419"/>
              </a:gs>
              <a:gs pos="100000">
                <a:srgbClr val="b2b838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386160" y="14479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d513b"/>
              </a:gs>
              <a:gs pos="100000">
                <a:srgbClr val="3fb18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715000" y="14479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a4016"/>
              </a:gs>
              <a:gs pos="100000">
                <a:srgbClr val="e68b3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64d5"/>
            </a:gs>
            <a:gs pos="100000">
              <a:srgbClr val="abc1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0f7bd"/>
                </a:solidFill>
                <a:latin typeface="Arial"/>
              </a:rPr>
              <a:t>Block Diagram</a:t>
            </a:r>
            <a:endParaRPr b="1" i="1" lang="en-US" sz="40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3118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59400" y="30481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819520" y="30481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0540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111680" y="1553760"/>
            <a:ext cx="6436800" cy="1387800"/>
            <a:chOff x="1111680" y="1553760"/>
            <a:chExt cx="6436800" cy="1387800"/>
          </a:xfrm>
        </p:grpSpPr>
        <p:sp>
          <p:nvSpPr>
            <p:cNvPr id="350" name=""/>
            <p:cNvSpPr/>
            <p:nvPr/>
          </p:nvSpPr>
          <p:spPr>
            <a:xfrm rot="3418800">
              <a:off x="1321920" y="17787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3fb180"/>
                </a:gs>
                <a:gs pos="100000">
                  <a:srgbClr val="1d513b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2286360" y="1950480"/>
              <a:ext cx="932040" cy="131760"/>
              <a:chOff x="2286360" y="1950480"/>
              <a:chExt cx="932040" cy="131760"/>
            </a:xfrm>
          </p:grpSpPr>
          <p:sp>
            <p:nvSpPr>
              <p:cNvPr id="352" name=""/>
              <p:cNvSpPr/>
              <p:nvPr/>
            </p:nvSpPr>
            <p:spPr>
              <a:xfrm>
                <a:off x="22863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375640" y="19515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07728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132e62"/>
                  </a:gs>
                  <a:gs pos="50000">
                    <a:srgbClr val="2b64d5"/>
                  </a:gs>
                  <a:gs pos="100000">
                    <a:srgbClr val="132e62"/>
                  </a:gs>
                </a:gsLst>
                <a:lin ang="5400000"/>
              </a:gradFill>
              <a:ln w="12600">
                <a:solidFill>
                  <a:srgbClr val="2b64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15252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132e62"/>
                  </a:gs>
                  <a:gs pos="50000">
                    <a:srgbClr val="2b64d5"/>
                  </a:gs>
                  <a:gs pos="100000">
                    <a:srgbClr val="132e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 rot="3418800">
              <a:off x="304308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e68b30"/>
                </a:gs>
                <a:gs pos="100000">
                  <a:srgbClr val="6a4016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4007520" y="1950480"/>
              <a:ext cx="932040" cy="131760"/>
              <a:chOff x="4007520" y="1950480"/>
              <a:chExt cx="932040" cy="131760"/>
            </a:xfrm>
          </p:grpSpPr>
          <p:sp>
            <p:nvSpPr>
              <p:cNvPr id="358" name=""/>
              <p:cNvSpPr/>
              <p:nvPr/>
            </p:nvSpPr>
            <p:spPr>
              <a:xfrm>
                <a:off x="400752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096800" y="19515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79844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132e62"/>
                  </a:gs>
                  <a:gs pos="50000">
                    <a:srgbClr val="2b64d5"/>
                  </a:gs>
                  <a:gs pos="100000">
                    <a:srgbClr val="132e62"/>
                  </a:gs>
                </a:gsLst>
                <a:lin ang="5400000"/>
              </a:gradFill>
              <a:ln w="12600">
                <a:solidFill>
                  <a:srgbClr val="2b64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87368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132e62"/>
                  </a:gs>
                  <a:gs pos="50000">
                    <a:srgbClr val="2b64d5"/>
                  </a:gs>
                  <a:gs pos="100000">
                    <a:srgbClr val="132e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 rot="3418800">
              <a:off x="4692240" y="171288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3fb180"/>
                </a:gs>
                <a:gs pos="100000">
                  <a:srgbClr val="1d513b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5728680" y="1950480"/>
              <a:ext cx="1218600" cy="131760"/>
              <a:chOff x="5728680" y="1950480"/>
              <a:chExt cx="1218600" cy="131760"/>
            </a:xfrm>
          </p:grpSpPr>
          <p:sp>
            <p:nvSpPr>
              <p:cNvPr id="364" name=""/>
              <p:cNvSpPr/>
              <p:nvPr/>
            </p:nvSpPr>
            <p:spPr>
              <a:xfrm>
                <a:off x="5728680" y="195048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84532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762600" y="19526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132e62"/>
                  </a:gs>
                  <a:gs pos="50000">
                    <a:srgbClr val="2b64d5"/>
                  </a:gs>
                  <a:gs pos="100000">
                    <a:srgbClr val="132e62"/>
                  </a:gs>
                </a:gsLst>
                <a:lin ang="5400000"/>
              </a:gradFill>
              <a:ln w="12600">
                <a:solidFill>
                  <a:srgbClr val="2b64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861240" y="19936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132e62"/>
                  </a:gs>
                  <a:gs pos="50000">
                    <a:srgbClr val="2b64d5"/>
                  </a:gs>
                  <a:gs pos="100000">
                    <a:srgbClr val="132e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 rot="3418800">
              <a:off x="6413400" y="171288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e68b30"/>
                </a:gs>
                <a:gs pos="100000">
                  <a:srgbClr val="6a4016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144252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1950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7952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54804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4490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20148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95396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7068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64d5"/>
            </a:gs>
            <a:gs pos="100000">
              <a:srgbClr val="abc1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0f7bd"/>
                </a:solidFill>
                <a:latin typeface="Arial"/>
              </a:rPr>
              <a:t>Table</a:t>
            </a:r>
            <a:endParaRPr b="1" i="1" lang="en-US" sz="4000" spc="-1" strike="noStrike">
              <a:solidFill>
                <a:srgbClr val="f0f7bd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685800" y="1676520"/>
          <a:ext cx="7620120" cy="340020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d513b"/>
                        </a:gs>
                        <a:gs pos="50000">
                          <a:srgbClr val="3fb180"/>
                        </a:gs>
                        <a:gs pos="100000">
                          <a:srgbClr val="1d51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9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d513b"/>
                        </a:gs>
                        <a:gs pos="50000">
                          <a:srgbClr val="3fb180"/>
                        </a:gs>
                        <a:gs pos="100000">
                          <a:srgbClr val="1d51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0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d513b"/>
                        </a:gs>
                        <a:gs pos="50000">
                          <a:srgbClr val="3fb180"/>
                        </a:gs>
                        <a:gs pos="100000">
                          <a:srgbClr val="1d51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d513b"/>
                        </a:gs>
                        <a:gs pos="50000">
                          <a:srgbClr val="3fb180"/>
                        </a:gs>
                        <a:gs pos="100000">
                          <a:srgbClr val="1d51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0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d513b"/>
                        </a:gs>
                        <a:gs pos="50000">
                          <a:srgbClr val="3fb180"/>
                        </a:gs>
                        <a:gs pos="100000">
                          <a:srgbClr val="1d51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9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d513b"/>
                        </a:gs>
                        <a:gs pos="50000">
                          <a:srgbClr val="3fb180"/>
                        </a:gs>
                        <a:gs pos="100000">
                          <a:srgbClr val="1d51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64d5"/>
            </a:gs>
            <a:gs pos="100000">
              <a:srgbClr val="abc1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0f7bd"/>
                </a:solidFill>
                <a:latin typeface="Arial"/>
              </a:rPr>
              <a:t>3-D Pie Chart</a:t>
            </a:r>
            <a:endParaRPr b="1" i="1" lang="en-US" sz="40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192400" y="417996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2b64d5"/>
              </a:gs>
              <a:gs pos="100000">
                <a:srgbClr val="0c1e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20601600">
            <a:off x="1467000" y="206640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20601600">
            <a:off x="1523520" y="1904760"/>
            <a:ext cx="5562720" cy="29224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20601600">
            <a:off x="1438200" y="1890720"/>
            <a:ext cx="570168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 rot="20602200">
            <a:off x="1416240" y="1922040"/>
            <a:ext cx="5753520" cy="28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20601600">
            <a:off x="1447920" y="1901880"/>
            <a:ext cx="56790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 rot="20602200">
            <a:off x="1430280" y="1909440"/>
            <a:ext cx="5699880" cy="282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20601600">
            <a:off x="2984400" y="261900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300040" y="2841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204800" y="19270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881320" y="23842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07200" y="2917800"/>
            <a:ext cx="1295280" cy="1711440"/>
          </a:xfrm>
          <a:custGeom>
            <a:avLst/>
            <a:gdLst/>
            <a:ahLst/>
            <a:rect l="l" t="t" r="r" b="b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88a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20539200">
            <a:off x="1441800" y="1919880"/>
            <a:ext cx="6258240" cy="297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01" y="14046"/>
                </a:moveTo>
                <a:arcTo wR="10800" hR="10800" stAng="1049521" swAng="2830486"/>
                <a:lnTo>
                  <a:pt x="10800" y="10800"/>
                </a:lnTo>
                <a:close/>
              </a:path>
              <a:path fill="none" w="21600" h="21600">
                <a:moveTo>
                  <a:pt x="21101" y="14046"/>
                </a:moveTo>
                <a:arcTo wR="10800" hR="10800" stAng="1049521" swAng="2830486"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06920" y="3398760"/>
            <a:ext cx="1758960" cy="1236600"/>
          </a:xfrm>
          <a:custGeom>
            <a:avLst/>
            <a:gdLst/>
            <a:ahLst/>
            <a:rect l="l" t="t" r="r" b="b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e8dd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881320" y="33750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128840" y="41371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223720" y="3984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20601600">
            <a:off x="3086280" y="2871720"/>
            <a:ext cx="2585880" cy="1090800"/>
          </a:xfrm>
          <a:prstGeom prst="ellipse">
            <a:avLst/>
          </a:prstGeom>
          <a:gradFill rotWithShape="0">
            <a:gsLst>
              <a:gs pos="0">
                <a:srgbClr val="132e62"/>
              </a:gs>
              <a:gs pos="100000">
                <a:srgbClr val="2b64d5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782960" y="3794040"/>
            <a:ext cx="1283040" cy="1028880"/>
          </a:xfrm>
          <a:custGeom>
            <a:avLst/>
            <a:gdLst/>
            <a:ahLst/>
            <a:rect l="l" t="t" r="r" b="b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64d5"/>
            </a:gs>
            <a:gs pos="100000">
              <a:srgbClr val="abc1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0f7bd"/>
                </a:solidFill>
                <a:latin typeface="Arial"/>
              </a:rPr>
              <a:t>Marketing Diagram</a:t>
            </a:r>
            <a:endParaRPr b="1" i="1" lang="en-US" sz="40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693800" y="232884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2b838"/>
              </a:gs>
              <a:gs pos="100000">
                <a:srgbClr val="2b64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676520" y="153828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a4016"/>
              </a:gs>
              <a:gs pos="50000">
                <a:srgbClr val="e68b30"/>
              </a:gs>
              <a:gs pos="100000">
                <a:srgbClr val="6a4016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413520" y="293544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880920" y="4114800"/>
            <a:ext cx="1544760" cy="1544760"/>
            <a:chOff x="880920" y="4114800"/>
            <a:chExt cx="1544760" cy="1544760"/>
          </a:xfrm>
        </p:grpSpPr>
        <p:sp>
          <p:nvSpPr>
            <p:cNvPr id="404" name=""/>
            <p:cNvSpPr/>
            <p:nvPr/>
          </p:nvSpPr>
          <p:spPr>
            <a:xfrm>
              <a:off x="880920" y="4114800"/>
              <a:ext cx="1544760" cy="15447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914400" y="415116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79c77"/>
                </a:gs>
                <a:gs pos="100000">
                  <a:srgbClr val="f0f7bd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71280" y="420516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adb288"/>
                </a:gs>
                <a:gs pos="100000">
                  <a:srgbClr val="f0f7b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07" name="" descr=""/>
            <p:cNvPicPr/>
            <p:nvPr/>
          </p:nvPicPr>
          <p:blipFill>
            <a:blip r:embed="rId2"/>
            <a:stretch/>
          </p:blipFill>
          <p:spPr>
            <a:xfrm>
              <a:off x="914400" y="4205160"/>
              <a:ext cx="97776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1230480" y="473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2819520" y="4114800"/>
            <a:ext cx="1544400" cy="1544760"/>
            <a:chOff x="2819520" y="4114800"/>
            <a:chExt cx="1544400" cy="1544760"/>
          </a:xfrm>
        </p:grpSpPr>
        <p:sp>
          <p:nvSpPr>
            <p:cNvPr id="410" name=""/>
            <p:cNvSpPr/>
            <p:nvPr/>
          </p:nvSpPr>
          <p:spPr>
            <a:xfrm>
              <a:off x="2819520" y="4114800"/>
              <a:ext cx="1544400" cy="15447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52640" y="4151160"/>
              <a:ext cx="1472760" cy="1474920"/>
            </a:xfrm>
            <a:prstGeom prst="ellipse">
              <a:avLst/>
            </a:prstGeom>
            <a:gradFill rotWithShape="0">
              <a:gsLst>
                <a:gs pos="0">
                  <a:srgbClr val="277051"/>
                </a:gs>
                <a:gs pos="100000">
                  <a:srgbClr val="3fb180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09520" y="420516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2d7f5c"/>
                </a:gs>
                <a:gs pos="100000">
                  <a:srgbClr val="3fb1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3" name="" descr=""/>
            <p:cNvPicPr/>
            <p:nvPr/>
          </p:nvPicPr>
          <p:blipFill>
            <a:blip r:embed="rId4"/>
            <a:stretch/>
          </p:blipFill>
          <p:spPr>
            <a:xfrm>
              <a:off x="2852640" y="4205160"/>
              <a:ext cx="97740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3168720" y="473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4800600" y="4114800"/>
            <a:ext cx="1544760" cy="1544760"/>
            <a:chOff x="4800600" y="4114800"/>
            <a:chExt cx="1544760" cy="1544760"/>
          </a:xfrm>
        </p:grpSpPr>
        <p:sp>
          <p:nvSpPr>
            <p:cNvPr id="416" name=""/>
            <p:cNvSpPr/>
            <p:nvPr/>
          </p:nvSpPr>
          <p:spPr>
            <a:xfrm>
              <a:off x="4800600" y="4114800"/>
              <a:ext cx="1544760" cy="15447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34080" y="415116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707423"/>
                </a:gs>
                <a:gs pos="100000">
                  <a:srgbClr val="b2b838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90960" y="420516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808428"/>
                </a:gs>
                <a:gs pos="100000">
                  <a:srgbClr val="b2b83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9" name="" descr=""/>
            <p:cNvPicPr/>
            <p:nvPr/>
          </p:nvPicPr>
          <p:blipFill>
            <a:blip r:embed="rId6"/>
            <a:stretch/>
          </p:blipFill>
          <p:spPr>
            <a:xfrm>
              <a:off x="4834080" y="4205160"/>
              <a:ext cx="97776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5150160" y="473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6781680" y="4114800"/>
            <a:ext cx="1544760" cy="1544760"/>
            <a:chOff x="6781680" y="4114800"/>
            <a:chExt cx="1544760" cy="1544760"/>
          </a:xfrm>
        </p:grpSpPr>
        <p:sp>
          <p:nvSpPr>
            <p:cNvPr id="422" name=""/>
            <p:cNvSpPr/>
            <p:nvPr/>
          </p:nvSpPr>
          <p:spPr>
            <a:xfrm>
              <a:off x="6781680" y="4114800"/>
              <a:ext cx="1544760" cy="154476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15160" y="415116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25698f"/>
                </a:gs>
                <a:gs pos="100000">
                  <a:srgbClr val="3ba7e3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872040" y="420516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a78a4"/>
                </a:gs>
                <a:gs pos="100000">
                  <a:srgbClr val="3ba7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25" name="" descr=""/>
            <p:cNvPicPr/>
            <p:nvPr/>
          </p:nvPicPr>
          <p:blipFill>
            <a:blip r:embed="rId8"/>
            <a:stretch/>
          </p:blipFill>
          <p:spPr>
            <a:xfrm>
              <a:off x="6815160" y="4205160"/>
              <a:ext cx="97776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7131240" y="473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64d5"/>
            </a:gs>
            <a:gs pos="100000">
              <a:srgbClr val="abc1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1752480" y="2286000"/>
            <a:ext cx="5486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0f7bd"/>
                    </a:gs>
                    <a:gs pos="100000">
                      <a:srgbClr val="3fb180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0f7bd"/>
                  </a:gs>
                  <a:gs pos="100000">
                    <a:srgbClr val="3fb180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64d5"/>
            </a:gs>
            <a:gs pos="100000">
              <a:srgbClr val="abc1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0f7bd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0f7bd"/>
                </a:solidFill>
                <a:latin typeface="Arial"/>
              </a:rPr>
              <a:t>Cycle Diagram</a:t>
            </a:r>
            <a:endParaRPr b="1" i="1" lang="en-US" sz="40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20241600">
            <a:off x="1077480" y="23094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3ba7e3"/>
              </a:gs>
              <a:gs pos="100000">
                <a:srgbClr val="ebf5fb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0056200">
            <a:off x="4571640" y="220932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20056200">
            <a:off x="7391160" y="251424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20056200">
            <a:off x="2971440" y="540972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056200">
            <a:off x="5714640" y="480024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0056200">
            <a:off x="2057040" y="3733560"/>
            <a:ext cx="1066680" cy="30456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14479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3fb180"/>
              </a:gs>
              <a:gs pos="100000">
                <a:srgbClr val="153c2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29718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b2b838"/>
              </a:gs>
              <a:gs pos="100000">
                <a:srgbClr val="37391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78000" y="466884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e68b30"/>
              </a:gs>
              <a:gs pos="100000">
                <a:srgbClr val="51311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40384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d476d6"/>
              </a:gs>
              <a:gs pos="100000">
                <a:srgbClr val="59315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16765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3ba7e3"/>
              </a:gs>
              <a:gs pos="100000">
                <a:srgbClr val="14394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48000" y="3505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39640" y="19051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71480" y="21826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81560" y="44956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60600" y="51195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343368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73200" y="1735200"/>
            <a:ext cx="1793880" cy="161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5" name=""/>
          <p:cNvCxnSpPr/>
          <p:nvPr/>
        </p:nvCxnSpPr>
        <p:spPr>
          <a:xfrm flipH="1">
            <a:off x="456840" y="1734840"/>
            <a:ext cx="201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534600" y="12952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64d5"/>
            </a:gs>
            <a:gs pos="100000">
              <a:srgbClr val="abc1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0f7bd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38098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5419"/>
              </a:gs>
              <a:gs pos="50000">
                <a:srgbClr val="b2b838"/>
              </a:gs>
              <a:gs pos="100000">
                <a:srgbClr val="525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32767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5419"/>
              </a:gs>
              <a:gs pos="50000">
                <a:srgbClr val="b2b838"/>
              </a:gs>
              <a:gs pos="100000">
                <a:srgbClr val="525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57600" y="27432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5419"/>
              </a:gs>
              <a:gs pos="50000">
                <a:srgbClr val="b2b838"/>
              </a:gs>
              <a:gs pos="100000">
                <a:srgbClr val="525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98680" y="29732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98680" y="35067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98680" y="4040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71800" y="25146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6e7157">
                  <a:alpha val="12156"/>
                </a:srgbClr>
              </a:gs>
              <a:gs pos="100000">
                <a:srgbClr val="f0f7b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19810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0f7bd"/>
              </a:gs>
              <a:gs pos="100000">
                <a:srgbClr val="f6fade"/>
              </a:gs>
            </a:gsLst>
            <a:lin ang="5400000"/>
          </a:gradFill>
          <a:ln w="38160">
            <a:solidFill>
              <a:srgbClr val="2b6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22096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19810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0f7bd"/>
              </a:gs>
              <a:gs pos="100000">
                <a:srgbClr val="f6fade"/>
              </a:gs>
            </a:gsLst>
            <a:lin ang="5400000"/>
          </a:gradFill>
          <a:ln w="38160">
            <a:solidFill>
              <a:srgbClr val="2b6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48520" y="22096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89640" y="25146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f0f7bd"/>
              </a:gs>
              <a:gs pos="100000">
                <a:srgbClr val="6e7157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13716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132e62"/>
              </a:gs>
              <a:gs pos="50000">
                <a:srgbClr val="2b64d5"/>
              </a:gs>
              <a:gs pos="100000">
                <a:srgbClr val="132e6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24120" y="21337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f0f7bd"/>
              </a:gs>
              <a:gs pos="100000">
                <a:srgbClr val="f4f8d4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74920" y="1604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51055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d"/>
              </a:gs>
              <a:gs pos="50000">
                <a:srgbClr val="44bd41"/>
              </a:gs>
              <a:gs pos="100000">
                <a:srgbClr val="1f571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74920" y="53388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02160" y="44956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f4f8d4">
                  <a:alpha val="12156"/>
                </a:srgbClr>
              </a:gs>
              <a:gs pos="100000">
                <a:srgbClr val="f0f7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64d5"/>
            </a:gs>
            <a:gs pos="100000">
              <a:srgbClr val="abc1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0f7bd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rot="16200000">
            <a:off x="2812680" y="2869200"/>
            <a:ext cx="490680" cy="3272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f8fae4"/>
              </a:gs>
              <a:gs pos="100000">
                <a:srgbClr val="f0f7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rot="5400000">
            <a:off x="5683320" y="2815200"/>
            <a:ext cx="490320" cy="3272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f8fae4"/>
              </a:gs>
              <a:gs pos="100000">
                <a:srgbClr val="f0f7b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rot="10800000">
            <a:off x="4249800" y="4316400"/>
            <a:ext cx="488880" cy="32688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f8fae4"/>
              </a:gs>
              <a:gs pos="100000">
                <a:srgbClr val="f0f7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22720" y="1752480"/>
            <a:ext cx="2563560" cy="2563920"/>
            <a:chOff x="3222720" y="1752480"/>
            <a:chExt cx="2563560" cy="2563920"/>
          </a:xfrm>
        </p:grpSpPr>
        <p:sp>
          <p:nvSpPr>
            <p:cNvPr id="141" name=""/>
            <p:cNvSpPr/>
            <p:nvPr/>
          </p:nvSpPr>
          <p:spPr>
            <a:xfrm>
              <a:off x="3222720" y="1752480"/>
              <a:ext cx="256356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2b64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68520" y="1896840"/>
              <a:ext cx="226980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01720" y="2031840"/>
              <a:ext cx="200304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fb18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01720" y="2031840"/>
              <a:ext cx="200304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33480" y="2163600"/>
              <a:ext cx="1739520" cy="1743120"/>
            </a:xfrm>
            <a:prstGeom prst="ellipse">
              <a:avLst/>
            </a:prstGeom>
            <a:gradFill rotWithShape="0">
              <a:gsLst>
                <a:gs pos="0">
                  <a:srgbClr val="215f45"/>
                </a:gs>
                <a:gs pos="50000">
                  <a:srgbClr val="3fb180"/>
                </a:gs>
                <a:gs pos="100000">
                  <a:srgbClr val="215f4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33480" y="2163600"/>
              <a:ext cx="173952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a4016"/>
              </a:gs>
              <a:gs pos="50000">
                <a:srgbClr val="e68b30"/>
              </a:gs>
              <a:gs pos="100000">
                <a:srgbClr val="6a401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a4016"/>
              </a:gs>
              <a:gs pos="50000">
                <a:srgbClr val="e68b30"/>
              </a:gs>
              <a:gs pos="100000">
                <a:srgbClr val="6a401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a4016"/>
              </a:gs>
              <a:gs pos="50000">
                <a:srgbClr val="e68b30"/>
              </a:gs>
              <a:gs pos="100000">
                <a:srgbClr val="6a401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5419"/>
              </a:gs>
              <a:gs pos="50000">
                <a:srgbClr val="b2b838"/>
              </a:gs>
              <a:gs pos="100000">
                <a:srgbClr val="525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5419"/>
              </a:gs>
              <a:gs pos="50000">
                <a:srgbClr val="b2b838"/>
              </a:gs>
              <a:gs pos="100000">
                <a:srgbClr val="525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5419"/>
              </a:gs>
              <a:gs pos="50000">
                <a:srgbClr val="b2b838"/>
              </a:gs>
              <a:gs pos="100000">
                <a:srgbClr val="525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32e62"/>
              </a:gs>
              <a:gs pos="50000">
                <a:srgbClr val="2b64d5"/>
              </a:gs>
              <a:gs pos="100000">
                <a:srgbClr val="132e62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d3a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d3a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d3a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64d5"/>
            </a:gs>
            <a:gs pos="100000">
              <a:srgbClr val="abc1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0f7bd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761240" y="1752480"/>
            <a:ext cx="614520" cy="981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71d"/>
              </a:gs>
              <a:gs pos="50000">
                <a:srgbClr val="00563f"/>
              </a:gs>
              <a:gs pos="100000">
                <a:srgbClr val="00271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43840" y="2727360"/>
            <a:ext cx="612720" cy="9745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20743"/>
              </a:gs>
              <a:gs pos="50000">
                <a:srgbClr val="4b1092"/>
              </a:gs>
              <a:gs pos="100000">
                <a:srgbClr val="2207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24640" y="369108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21704"/>
              </a:gs>
              <a:gs pos="50000">
                <a:srgbClr val="90330a"/>
              </a:gs>
              <a:gs pos="100000">
                <a:srgbClr val="42170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10120" y="465768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23106"/>
              </a:gs>
              <a:gs pos="50000">
                <a:srgbClr val="906b0e"/>
              </a:gs>
              <a:gs pos="100000">
                <a:srgbClr val="42310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008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906a"/>
              </a:gs>
              <a:gs pos="100000">
                <a:srgbClr val="00684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c2eb8"/>
              </a:gs>
              <a:gs pos="50000">
                <a:srgbClr val="8041ff"/>
              </a:gs>
              <a:gs pos="100000">
                <a:srgbClr val="5c2eb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9e5139"/>
              </a:gs>
              <a:gs pos="50000">
                <a:srgbClr val="dc7150"/>
              </a:gs>
              <a:gs pos="100000">
                <a:srgbClr val="9e513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67414"/>
              </a:gs>
              <a:gs pos="50000">
                <a:srgbClr val="d0a11c"/>
              </a:gs>
              <a:gs pos="100000">
                <a:srgbClr val="96741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64d5"/>
            </a:gs>
            <a:gs pos="100000">
              <a:srgbClr val="abc1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0f7bd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360" y="1295280"/>
            <a:ext cx="6086520" cy="4496040"/>
          </a:xfrm>
          <a:prstGeom prst="rightArrow">
            <a:avLst>
              <a:gd name="adj1" fmla="val 79306"/>
              <a:gd name="adj2" fmla="val 33530"/>
            </a:avLst>
          </a:prstGeom>
          <a:gradFill rotWithShape="0">
            <a:gsLst>
              <a:gs pos="0">
                <a:srgbClr val="6c93e2"/>
              </a:gs>
              <a:gs pos="100000">
                <a:srgbClr val="003cb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1905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b2b838"/>
              </a:gs>
              <a:gs pos="100000">
                <a:srgbClr val="52541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3048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0482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4191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68b30"/>
              </a:gs>
              <a:gs pos="100000">
                <a:srgbClr val="6a401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436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64d5"/>
            </a:gs>
            <a:gs pos="100000">
              <a:srgbClr val="abc1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0f7bd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1636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b2b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5164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fb1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fb18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fb180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6912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15f45"/>
              </a:gs>
              <a:gs pos="50000">
                <a:srgbClr val="3fb180"/>
              </a:gs>
              <a:gs pos="100000">
                <a:srgbClr val="215f4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400800" y="2057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fb180">
                  <a:alpha val="0"/>
                </a:srgbClr>
              </a:gs>
              <a:gs pos="100000">
                <a:srgbClr val="27705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706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ba7e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ba7e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96760" y="2039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1f5a7a"/>
              </a:gs>
              <a:gs pos="50000">
                <a:srgbClr val="3ba7e3"/>
              </a:gs>
              <a:gs pos="100000">
                <a:srgbClr val="1f5a7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98560" y="2043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ba7e3">
                  <a:alpha val="0"/>
                </a:srgbClr>
              </a:gs>
              <a:gs pos="100000">
                <a:srgbClr val="25698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21337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017720" y="2158920"/>
            <a:ext cx="1636560" cy="1636920"/>
            <a:chOff x="1017720" y="2158920"/>
            <a:chExt cx="1636560" cy="1636920"/>
          </a:xfrm>
        </p:grpSpPr>
        <p:sp>
          <p:nvSpPr>
            <p:cNvPr id="208" name=""/>
            <p:cNvSpPr/>
            <p:nvPr/>
          </p:nvSpPr>
          <p:spPr>
            <a:xfrm>
              <a:off x="101772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38600" y="21679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5552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4444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b2b838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525419"/>
              </a:gs>
              <a:gs pos="100000">
                <a:srgbClr val="b2b838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3384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f631e"/>
              </a:gs>
              <a:gs pos="50000">
                <a:srgbClr val="b2b838"/>
              </a:gs>
              <a:gs pos="100000">
                <a:srgbClr val="5f631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35280" y="20494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b2b838">
                  <a:alpha val="0"/>
                </a:srgbClr>
              </a:gs>
              <a:gs pos="100000">
                <a:srgbClr val="70742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274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754440" y="2158920"/>
            <a:ext cx="1636560" cy="1636920"/>
            <a:chOff x="3754440" y="2158920"/>
            <a:chExt cx="1636560" cy="1636920"/>
          </a:xfrm>
        </p:grpSpPr>
        <p:sp>
          <p:nvSpPr>
            <p:cNvPr id="218" name=""/>
            <p:cNvSpPr/>
            <p:nvPr/>
          </p:nvSpPr>
          <p:spPr>
            <a:xfrm>
              <a:off x="375444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75320" y="21679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9224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8116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500880" y="2158920"/>
            <a:ext cx="1636560" cy="1636920"/>
            <a:chOff x="6500880" y="2158920"/>
            <a:chExt cx="1636560" cy="1636920"/>
          </a:xfrm>
        </p:grpSpPr>
        <p:sp>
          <p:nvSpPr>
            <p:cNvPr id="223" name=""/>
            <p:cNvSpPr/>
            <p:nvPr/>
          </p:nvSpPr>
          <p:spPr>
            <a:xfrm>
              <a:off x="650088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21760" y="21679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3868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2760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8049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3844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913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522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954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386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64d5"/>
            </a:gs>
            <a:gs pos="100000">
              <a:srgbClr val="abc1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0f7bd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6765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e68b30"/>
              </a:gs>
              <a:gs pos="100000">
                <a:srgbClr val="3fb180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410080" y="3124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f7bd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20876400">
            <a:off x="2986200" y="47307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17800" y="351144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938320" y="352116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55960" y="353700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48120" y="358128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35400" y="41385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20826600">
            <a:off x="1157400" y="412092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081080" y="3130560"/>
            <a:ext cx="1371240" cy="1441080"/>
            <a:chOff x="1081080" y="3130560"/>
            <a:chExt cx="1371240" cy="1441080"/>
          </a:xfrm>
        </p:grpSpPr>
        <p:sp>
          <p:nvSpPr>
            <p:cNvPr id="244" name=""/>
            <p:cNvSpPr/>
            <p:nvPr/>
          </p:nvSpPr>
          <p:spPr>
            <a:xfrm>
              <a:off x="1081080" y="31305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99080" y="313884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12040" y="315216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183680" y="318888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61520" y="3636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033560" y="236520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09520" y="1758960"/>
            <a:ext cx="1024200" cy="10238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22480" y="176364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33640" y="1774800"/>
            <a:ext cx="95076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87280" y="18003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306800" y="21081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00400" y="18352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22440" y="13017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32160" y="130500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38280" y="1311120"/>
            <a:ext cx="633600" cy="6224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5000" y="1330200"/>
            <a:ext cx="56340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93000" y="15256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64d5"/>
            </a:gs>
            <a:gs pos="100000">
              <a:srgbClr val="abc1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0f7bd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dcbed"/>
              </a:gs>
              <a:gs pos="100000">
                <a:srgbClr val="3ba7e3"/>
              </a:gs>
            </a:gsLst>
            <a:lin ang="9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dcbed"/>
              </a:gs>
              <a:gs pos="100000">
                <a:srgbClr val="3ba7e3"/>
              </a:gs>
            </a:gsLst>
            <a:lin ang="19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dcbed"/>
              </a:gs>
              <a:gs pos="100000">
                <a:srgbClr val="3ba7e3"/>
              </a:gs>
            </a:gsLst>
            <a:lin ang="12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dcbed"/>
              </a:gs>
              <a:gs pos="100000">
                <a:srgbClr val="3ba7e3"/>
              </a:gs>
            </a:gsLst>
            <a:lin ang="194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8dcbed"/>
              </a:gs>
              <a:gs pos="100000">
                <a:srgbClr val="3ba7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8dcbed"/>
              </a:gs>
              <a:gs pos="100000">
                <a:srgbClr val="3ba7e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f0f7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29000" y="1749600"/>
            <a:ext cx="360360" cy="360360"/>
          </a:xfrm>
          <a:prstGeom prst="ellipse">
            <a:avLst/>
          </a:prstGeom>
          <a:gradFill rotWithShape="0">
            <a:gsLst>
              <a:gs pos="0">
                <a:srgbClr val="bde3d3"/>
              </a:gs>
              <a:gs pos="100000">
                <a:srgbClr val="3fb1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444840" y="1779480"/>
            <a:ext cx="223920" cy="225360"/>
          </a:xfrm>
          <a:prstGeom prst="ellipse">
            <a:avLst/>
          </a:prstGeom>
          <a:gradFill rotWithShape="0">
            <a:gsLst>
              <a:gs pos="0">
                <a:srgbClr val="bde3d3"/>
              </a:gs>
              <a:gs pos="100000">
                <a:srgbClr val="3fb18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84360" y="3405240"/>
            <a:ext cx="360360" cy="360360"/>
          </a:xfrm>
          <a:prstGeom prst="ellipse">
            <a:avLst/>
          </a:prstGeom>
          <a:gradFill rotWithShape="0">
            <a:gsLst>
              <a:gs pos="0">
                <a:srgbClr val="bde3d3"/>
              </a:gs>
              <a:gs pos="100000">
                <a:srgbClr val="3fb1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00200" y="3435480"/>
            <a:ext cx="223920" cy="225360"/>
          </a:xfrm>
          <a:prstGeom prst="ellipse">
            <a:avLst/>
          </a:prstGeom>
          <a:gradFill rotWithShape="0">
            <a:gsLst>
              <a:gs pos="0">
                <a:srgbClr val="bde3d3"/>
              </a:gs>
              <a:gs pos="100000">
                <a:srgbClr val="3fb18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348000" y="4948200"/>
            <a:ext cx="360360" cy="360360"/>
          </a:xfrm>
          <a:prstGeom prst="ellipse">
            <a:avLst/>
          </a:prstGeom>
          <a:gradFill rotWithShape="0">
            <a:gsLst>
              <a:gs pos="0">
                <a:srgbClr val="bde3d3"/>
              </a:gs>
              <a:gs pos="100000">
                <a:srgbClr val="3fb1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63840" y="4978440"/>
            <a:ext cx="223920" cy="225360"/>
          </a:xfrm>
          <a:prstGeom prst="ellipse">
            <a:avLst/>
          </a:prstGeom>
          <a:gradFill rotWithShape="0">
            <a:gsLst>
              <a:gs pos="0">
                <a:srgbClr val="bde3d3"/>
              </a:gs>
              <a:gs pos="100000">
                <a:srgbClr val="3fb18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278320" y="1728720"/>
            <a:ext cx="360360" cy="360360"/>
          </a:xfrm>
          <a:prstGeom prst="ellipse">
            <a:avLst/>
          </a:prstGeom>
          <a:gradFill rotWithShape="0">
            <a:gsLst>
              <a:gs pos="0">
                <a:srgbClr val="bde3d3"/>
              </a:gs>
              <a:gs pos="100000">
                <a:srgbClr val="3fb1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294160" y="1758960"/>
            <a:ext cx="223920" cy="225360"/>
          </a:xfrm>
          <a:prstGeom prst="ellipse">
            <a:avLst/>
          </a:prstGeom>
          <a:gradFill rotWithShape="0">
            <a:gsLst>
              <a:gs pos="0">
                <a:srgbClr val="bde3d3"/>
              </a:gs>
              <a:gs pos="100000">
                <a:srgbClr val="3fb18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227640" y="3405240"/>
            <a:ext cx="360360" cy="360360"/>
          </a:xfrm>
          <a:prstGeom prst="ellipse">
            <a:avLst/>
          </a:prstGeom>
          <a:gradFill rotWithShape="0">
            <a:gsLst>
              <a:gs pos="0">
                <a:srgbClr val="bde3d3"/>
              </a:gs>
              <a:gs pos="100000">
                <a:srgbClr val="3fb1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243480" y="3435480"/>
            <a:ext cx="223920" cy="225360"/>
          </a:xfrm>
          <a:prstGeom prst="ellipse">
            <a:avLst/>
          </a:prstGeom>
          <a:gradFill rotWithShape="0">
            <a:gsLst>
              <a:gs pos="0">
                <a:srgbClr val="bde3d3"/>
              </a:gs>
              <a:gs pos="100000">
                <a:srgbClr val="3fb18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34120" y="5005440"/>
            <a:ext cx="360360" cy="360360"/>
          </a:xfrm>
          <a:prstGeom prst="ellipse">
            <a:avLst/>
          </a:prstGeom>
          <a:gradFill rotWithShape="0">
            <a:gsLst>
              <a:gs pos="0">
                <a:srgbClr val="bde3d3"/>
              </a:gs>
              <a:gs pos="100000">
                <a:srgbClr val="3fb1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49960" y="5035680"/>
            <a:ext cx="223920" cy="225360"/>
          </a:xfrm>
          <a:prstGeom prst="ellipse">
            <a:avLst/>
          </a:prstGeom>
          <a:gradFill rotWithShape="0">
            <a:gsLst>
              <a:gs pos="0">
                <a:srgbClr val="bde3d3"/>
              </a:gs>
              <a:gs pos="100000">
                <a:srgbClr val="3fb18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fcc0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525419"/>
              </a:gs>
              <a:gs pos="100000">
                <a:srgbClr val="b2b838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896d00"/>
              </a:gs>
              <a:gs pos="50000">
                <a:srgbClr val="ffcc00"/>
              </a:gs>
              <a:gs pos="100000">
                <a:srgbClr val="896d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753000" y="278748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ffcc00">
                  <a:alpha val="0"/>
                </a:srgbClr>
              </a:gs>
              <a:gs pos="100000">
                <a:srgbClr val="a181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35440" y="285444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57760" y="2873520"/>
            <a:ext cx="1471320" cy="14731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75040" y="288288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90880" y="289728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71880" y="293364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14400" y="6400800"/>
            <a:ext cx="6121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3fb180"/>
                </a:solidFill>
                <a:uFillTx/>
                <a:latin typeface="Arial"/>
                <a:hlinkClick r:id="rId1"/>
              </a:rPr>
              <a:t>外国ppt模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eeppt.com/moban/guowai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06:22:0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10:11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