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77CA2F-4C90-47D6-A354-A87568672BE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320004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4120" y="6039000"/>
            <a:ext cx="35812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73d89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334120" y="6198120"/>
            <a:ext cx="35812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73d8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135E10-4FF2-42FC-9784-6FB8664BC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320004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4120" y="6039000"/>
            <a:ext cx="17474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73d89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7169400" y="6039000"/>
            <a:ext cx="17474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73d89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334120" y="6198120"/>
            <a:ext cx="17474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73d89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169400" y="6198120"/>
            <a:ext cx="17474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73d8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13F44-F520-48EB-A85B-1CBFFA712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400" y="320004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334120" y="6039000"/>
            <a:ext cx="11530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73d89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6545160" y="6039000"/>
            <a:ext cx="11530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73d89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7756200" y="6039000"/>
            <a:ext cx="11530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73d89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334120" y="6198120"/>
            <a:ext cx="11530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73d89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6545160" y="6198120"/>
            <a:ext cx="11530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73d89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7756200" y="6198120"/>
            <a:ext cx="11530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73d8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151BF4-94D0-4510-AA29-0D7BD67A368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833377-CA39-44CC-AB62-257CED8EB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320004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5334120" y="6039000"/>
            <a:ext cx="35812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73d8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835AFD-18CB-4781-812C-CBAA26B14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320004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4120" y="6039000"/>
            <a:ext cx="358128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73d8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646012-714E-4568-AC5B-DA5769568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320004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4120" y="6039000"/>
            <a:ext cx="174744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73d89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7169400" y="6039000"/>
            <a:ext cx="174744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73d8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283A98-D483-4AF8-81C8-91D88979C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320004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838242-4DC5-4090-B78C-23667687D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4400" y="3200040"/>
            <a:ext cx="7238880" cy="28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73d8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FBFAB8-6513-4722-8F22-3814DB778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320004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4120" y="6039000"/>
            <a:ext cx="17474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73d89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7169400" y="6039000"/>
            <a:ext cx="174744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73d89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334120" y="6198120"/>
            <a:ext cx="17474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73d8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609898-FA76-4850-87E1-3EBB166BA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320004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5334120" y="6039000"/>
            <a:ext cx="35812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73d8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4BA677-98D1-4F11-8DD9-A0ED97EBC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320004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4120" y="6039000"/>
            <a:ext cx="174744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73d89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7169400" y="6039000"/>
            <a:ext cx="17474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73d89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169400" y="6198120"/>
            <a:ext cx="17474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73d8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210FB0-2728-4C51-9B81-5A5714F5B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320004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4120" y="6039000"/>
            <a:ext cx="17474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73d89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7169400" y="6039000"/>
            <a:ext cx="17474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73d89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334120" y="6198120"/>
            <a:ext cx="35812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73d8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9C4B91-E6C6-4274-B14B-088D9F106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320004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4120" y="6039000"/>
            <a:ext cx="35812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73d89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334120" y="6198120"/>
            <a:ext cx="35812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73d8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AA0DDB-6BC5-4D9B-8CB6-9290D5887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320004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34120" y="6039000"/>
            <a:ext cx="17474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73d89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7169400" y="6039000"/>
            <a:ext cx="17474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73d89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334120" y="6198120"/>
            <a:ext cx="17474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73d89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169400" y="6198120"/>
            <a:ext cx="17474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73d8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A178D4-487E-4417-B383-EBFCD2791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320004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334120" y="6039000"/>
            <a:ext cx="11530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73d89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545160" y="6039000"/>
            <a:ext cx="11530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73d89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7756200" y="6039000"/>
            <a:ext cx="11530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73d89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334120" y="6198120"/>
            <a:ext cx="11530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73d89"/>
              </a:solidFill>
              <a:latin typeface="Tahoma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6545160" y="6198120"/>
            <a:ext cx="11530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73d89"/>
              </a:solidFill>
              <a:latin typeface="Tahoma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7756200" y="6198120"/>
            <a:ext cx="11530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73d8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4DEED1-6115-4AF2-827F-66AC2CD02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320004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4120" y="6039000"/>
            <a:ext cx="358128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73d8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35F505-C551-45CE-8CEA-E20B178A5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320004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4120" y="6039000"/>
            <a:ext cx="174744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73d89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7169400" y="6039000"/>
            <a:ext cx="174744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73d8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51023E-8A17-483A-A7BD-2E8C3DA96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320004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A09DCB-0235-4478-BBAC-28FAD5266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914400" y="3200040"/>
            <a:ext cx="7238880" cy="28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73d8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D05D4C-2011-41BC-828A-1905E08B6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320004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4120" y="6039000"/>
            <a:ext cx="17474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73d89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7169400" y="6039000"/>
            <a:ext cx="174744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73d89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334120" y="6198120"/>
            <a:ext cx="17474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73d8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3DDE70-6C4F-4021-A364-6671590A1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320004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4120" y="6039000"/>
            <a:ext cx="174744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73d89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169400" y="6039000"/>
            <a:ext cx="17474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73d89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169400" y="6198120"/>
            <a:ext cx="17474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73d8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C7080E-2ABC-401F-AF07-0EB1C317E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320004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4120" y="6039000"/>
            <a:ext cx="17474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73d89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169400" y="6039000"/>
            <a:ext cx="17474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73d89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334120" y="6198120"/>
            <a:ext cx="35812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73d8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255D94-012A-4C8F-BBEF-B017188FD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96969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8915400" cy="1014480"/>
          </a:xfrm>
          <a:custGeom>
            <a:avLst/>
            <a:gdLst/>
            <a:ahLst/>
            <a:rect l="l" t="t" r="r" b="b"/>
            <a:pathLst>
              <a:path w="5616" h="576">
                <a:moveTo>
                  <a:pt x="0" y="576"/>
                </a:moveTo>
                <a:lnTo>
                  <a:pt x="5465" y="563"/>
                </a:lnTo>
                <a:lnTo>
                  <a:pt x="5616" y="0"/>
                </a:lnTo>
                <a:lnTo>
                  <a:pt x="0" y="0"/>
                </a:lnTo>
                <a:lnTo>
                  <a:pt x="0" y="57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8924760" cy="6858000"/>
          </a:xfrm>
          <a:custGeom>
            <a:avLst/>
            <a:gdLst/>
            <a:ahLst/>
            <a:rect l="l" t="t" r="r" b="b"/>
            <a:pathLst>
              <a:path w="5622" h="4320">
                <a:moveTo>
                  <a:pt x="0" y="0"/>
                </a:moveTo>
                <a:lnTo>
                  <a:pt x="5622" y="0"/>
                </a:lnTo>
                <a:lnTo>
                  <a:pt x="4457" y="4313"/>
                </a:lnTo>
                <a:lnTo>
                  <a:pt x="0" y="4320"/>
                </a:lnTo>
                <a:lnTo>
                  <a:pt x="0" y="0"/>
                </a:lnTo>
                <a:close/>
              </a:path>
            </a:pathLst>
          </a:custGeom>
          <a:solidFill>
            <a:srgbClr val="94b1ec">
              <a:alpha val="1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403200"/>
            <a:ext cx="9144000" cy="609480"/>
          </a:xfrm>
          <a:prstGeom prst="rect">
            <a:avLst/>
          </a:prstGeom>
          <a:solidFill>
            <a:srgbClr val="173d89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b6f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9181e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456840" y="6570360"/>
            <a:ext cx="2133720" cy="1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2"/>
          </p:nvPr>
        </p:nvSpPr>
        <p:spPr>
          <a:xfrm>
            <a:off x="3962520" y="6552720"/>
            <a:ext cx="1218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5372A-ADF4-472C-A3B4-B0952486224C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664480" y="403200"/>
            <a:ext cx="478080" cy="609480"/>
          </a:xfrm>
          <a:custGeom>
            <a:avLst/>
            <a:gdLst/>
            <a:ahLst/>
            <a:rect l="l" t="t" r="r" b="b"/>
            <a:pathLst>
              <a:path w="288" h="384">
                <a:moveTo>
                  <a:pt x="96" y="0"/>
                </a:moveTo>
                <a:lnTo>
                  <a:pt x="0" y="384"/>
                </a:lnTo>
                <a:lnTo>
                  <a:pt x="288" y="384"/>
                </a:lnTo>
                <a:lnTo>
                  <a:pt x="288" y="0"/>
                </a:lnTo>
                <a:lnTo>
                  <a:pt x="96" y="0"/>
                </a:lnTo>
                <a:close/>
              </a:path>
            </a:pathLst>
          </a:custGeom>
          <a:solidFill>
            <a:srgbClr val="5fb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title"/>
          </p:nvPr>
        </p:nvSpPr>
        <p:spPr>
          <a:xfrm>
            <a:off x="533520" y="412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"/>
          <p:cNvSpPr/>
          <p:nvPr/>
        </p:nvSpPr>
        <p:spPr>
          <a:xfrm>
            <a:off x="7543800" y="648972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73d89"/>
                </a:solidFill>
                <a:latin typeface="Verdana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677000" cy="6858000"/>
          </a:xfrm>
          <a:custGeom>
            <a:avLst/>
            <a:gdLst/>
            <a:ahLst/>
            <a:rect l="l" t="t" r="r" b="b"/>
            <a:pathLst>
              <a:path w="4272" h="4320">
                <a:moveTo>
                  <a:pt x="0" y="0"/>
                </a:moveTo>
                <a:lnTo>
                  <a:pt x="4272" y="0"/>
                </a:lnTo>
                <a:lnTo>
                  <a:pt x="2832" y="4320"/>
                </a:lnTo>
                <a:lnTo>
                  <a:pt x="0" y="432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94b1ec">
                  <a:alpha val="23137"/>
                </a:srgbClr>
              </a:gs>
              <a:gs pos="100000">
                <a:srgbClr val="e9eff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762120"/>
            <a:ext cx="9144000" cy="2385720"/>
          </a:xfrm>
          <a:prstGeom prst="rect">
            <a:avLst/>
          </a:prstGeom>
          <a:solidFill>
            <a:srgbClr val="5fb6f1">
              <a:alpha val="9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969696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914400"/>
            <a:ext cx="7326360" cy="2233440"/>
          </a:xfrm>
          <a:custGeom>
            <a:avLst/>
            <a:gdLst/>
            <a:ahLst/>
            <a:rect l="l" t="t" r="r" b="b"/>
            <a:pathLst>
              <a:path w="4615" h="1407">
                <a:moveTo>
                  <a:pt x="0" y="0"/>
                </a:moveTo>
                <a:lnTo>
                  <a:pt x="4615" y="0"/>
                </a:lnTo>
                <a:lnTo>
                  <a:pt x="4092" y="1386"/>
                </a:lnTo>
                <a:lnTo>
                  <a:pt x="0" y="1407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3124080"/>
            <a:ext cx="9144000" cy="762120"/>
          </a:xfrm>
          <a:prstGeom prst="rect">
            <a:avLst/>
          </a:prstGeom>
          <a:solidFill>
            <a:srgbClr val="173d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320004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3"/>
          </p:nvPr>
        </p:nvSpPr>
        <p:spPr>
          <a:xfrm>
            <a:off x="456840" y="6555960"/>
            <a:ext cx="2133720" cy="1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4"/>
          </p:nvPr>
        </p:nvSpPr>
        <p:spPr>
          <a:xfrm>
            <a:off x="3238200" y="6578640"/>
            <a:ext cx="2895480" cy="1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5"/>
          </p:nvPr>
        </p:nvSpPr>
        <p:spPr>
          <a:xfrm>
            <a:off x="8458200" y="6588000"/>
            <a:ext cx="45720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A8369-86FC-44D9-880A-9BA95E52350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04920" y="17604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3d89"/>
                </a:solidFill>
                <a:latin typeface="Verdana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3d89"/>
                </a:solidFill>
                <a:latin typeface="Tahoma"/>
              </a:rPr>
              <a:t>Click to edit the outline text format</a:t>
            </a:r>
            <a:endParaRPr b="0" lang="en-US" sz="1600" spc="-1" strike="noStrike">
              <a:solidFill>
                <a:srgbClr val="173d89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Wingdings" charset="2"/>
              <a:buChar char="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moban/guowai/" TargetMode="Externa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320004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国外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  <a:ea typeface="宋体"/>
              </a:rPr>
              <a:t>PPT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模板下载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5334120" y="6039000"/>
            <a:ext cx="35812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Tahoma"/>
              </a:rPr>
              <a:t>幻灯片之家 </a:t>
            </a:r>
            <a:r>
              <a:rPr b="1" lang="zh-CN" sz="1400" spc="-1" strike="noStrike">
                <a:solidFill>
                  <a:srgbClr val="1c1c1c"/>
                </a:solidFill>
                <a:latin typeface="Tahoma"/>
              </a:rPr>
              <a:t>http://www.eeppt.com</a:t>
            </a:r>
            <a:endParaRPr b="0" lang="en-US" sz="1400" spc="-1" strike="noStrike">
              <a:solidFill>
                <a:srgbClr val="173d8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33520" y="412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Block Diagram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"/>
          <p:cNvSpPr/>
          <p:nvPr/>
        </p:nvSpPr>
        <p:spPr>
          <a:xfrm>
            <a:off x="1905120" y="2438280"/>
            <a:ext cx="5530680" cy="2743200"/>
          </a:xfrm>
          <a:prstGeom prst="upArrow">
            <a:avLst>
              <a:gd name="adj1" fmla="val 57824"/>
              <a:gd name="adj2" fmla="val 54398"/>
            </a:avLst>
          </a:prstGeom>
          <a:gradFill rotWithShape="0">
            <a:gsLst>
              <a:gs pos="0">
                <a:srgbClr val="5fb6f1"/>
              </a:gs>
              <a:gs pos="100000">
                <a:srgbClr val="f1f5f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676520" y="1676520"/>
            <a:ext cx="579096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9181e1"/>
              </a:gs>
              <a:gs pos="50000">
                <a:srgbClr val="b7adea"/>
              </a:gs>
              <a:gs pos="100000">
                <a:srgbClr val="9181e1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656160" y="3048120"/>
            <a:ext cx="18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914400" y="4311720"/>
            <a:ext cx="1579680" cy="2070000"/>
            <a:chOff x="914400" y="4311720"/>
            <a:chExt cx="1579680" cy="2070000"/>
          </a:xfrm>
        </p:grpSpPr>
        <p:grpSp>
          <p:nvGrpSpPr>
            <p:cNvPr id="289" name=""/>
            <p:cNvGrpSpPr/>
            <p:nvPr/>
          </p:nvGrpSpPr>
          <p:grpSpPr>
            <a:xfrm>
              <a:off x="914400" y="4311720"/>
              <a:ext cx="1486080" cy="1514520"/>
              <a:chOff x="914400" y="4311720"/>
              <a:chExt cx="1486080" cy="1514520"/>
            </a:xfrm>
          </p:grpSpPr>
          <p:grpSp>
            <p:nvGrpSpPr>
              <p:cNvPr id="290" name=""/>
              <p:cNvGrpSpPr/>
              <p:nvPr/>
            </p:nvGrpSpPr>
            <p:grpSpPr>
              <a:xfrm>
                <a:off x="914400" y="4311720"/>
                <a:ext cx="1486080" cy="1514520"/>
                <a:chOff x="914400" y="4311720"/>
                <a:chExt cx="1486080" cy="1514520"/>
              </a:xfrm>
            </p:grpSpPr>
            <p:sp>
              <p:nvSpPr>
                <p:cNvPr id="291" name=""/>
                <p:cNvSpPr/>
                <p:nvPr/>
              </p:nvSpPr>
              <p:spPr>
                <a:xfrm>
                  <a:off x="914400" y="4311720"/>
                  <a:ext cx="1486080" cy="1514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cd2af"/>
                    </a:gs>
                    <a:gs pos="100000">
                      <a:srgbClr val="30846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1084320" y="4336560"/>
                  <a:ext cx="1146240" cy="5716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4cd2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1072440" y="5082840"/>
                <a:ext cx="115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914400" y="5943600"/>
              <a:ext cx="1579680" cy="438120"/>
            </a:xfrm>
            <a:prstGeom prst="ellipse">
              <a:avLst/>
            </a:prstGeom>
            <a:gradFill rotWithShape="0">
              <a:gsLst>
                <a:gs pos="0">
                  <a:srgbClr val="f1f5fd"/>
                </a:gs>
                <a:gs pos="100000">
                  <a:srgbClr val="96969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2819520" y="4311720"/>
            <a:ext cx="1617120" cy="2070000"/>
            <a:chOff x="2819520" y="4311720"/>
            <a:chExt cx="1617120" cy="2070000"/>
          </a:xfrm>
        </p:grpSpPr>
        <p:grpSp>
          <p:nvGrpSpPr>
            <p:cNvPr id="296" name=""/>
            <p:cNvGrpSpPr/>
            <p:nvPr/>
          </p:nvGrpSpPr>
          <p:grpSpPr>
            <a:xfrm>
              <a:off x="2819520" y="4311720"/>
              <a:ext cx="1523520" cy="1521000"/>
              <a:chOff x="2819520" y="4311720"/>
              <a:chExt cx="1523520" cy="1521000"/>
            </a:xfrm>
          </p:grpSpPr>
          <p:sp>
            <p:nvSpPr>
              <p:cNvPr id="297" name=""/>
              <p:cNvSpPr/>
              <p:nvPr/>
            </p:nvSpPr>
            <p:spPr>
              <a:xfrm>
                <a:off x="2819520" y="4311720"/>
                <a:ext cx="1523520" cy="1521000"/>
              </a:xfrm>
              <a:prstGeom prst="ellipse">
                <a:avLst/>
              </a:prstGeom>
              <a:gradFill rotWithShape="0">
                <a:gsLst>
                  <a:gs pos="0">
                    <a:srgbClr val="5fb6f1"/>
                  </a:gs>
                  <a:gs pos="100000">
                    <a:srgbClr val="305d7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993400" y="4336920"/>
                <a:ext cx="1175400" cy="57384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5fb6f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9" name=""/>
            <p:cNvSpPr/>
            <p:nvPr/>
          </p:nvSpPr>
          <p:spPr>
            <a:xfrm>
              <a:off x="2895480" y="5041800"/>
              <a:ext cx="1371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857320" y="5943600"/>
              <a:ext cx="1579320" cy="438120"/>
            </a:xfrm>
            <a:prstGeom prst="ellipse">
              <a:avLst/>
            </a:prstGeom>
            <a:gradFill rotWithShape="0">
              <a:gsLst>
                <a:gs pos="0">
                  <a:srgbClr val="f1f5fd"/>
                </a:gs>
                <a:gs pos="100000">
                  <a:srgbClr val="96969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4876920" y="4267080"/>
            <a:ext cx="1631880" cy="2114640"/>
            <a:chOff x="4876920" y="4267080"/>
            <a:chExt cx="1631880" cy="2114640"/>
          </a:xfrm>
        </p:grpSpPr>
        <p:grpSp>
          <p:nvGrpSpPr>
            <p:cNvPr id="302" name=""/>
            <p:cNvGrpSpPr/>
            <p:nvPr/>
          </p:nvGrpSpPr>
          <p:grpSpPr>
            <a:xfrm>
              <a:off x="4876920" y="4267080"/>
              <a:ext cx="1523880" cy="1521000"/>
              <a:chOff x="4876920" y="4267080"/>
              <a:chExt cx="1523880" cy="1521000"/>
            </a:xfrm>
          </p:grpSpPr>
          <p:sp>
            <p:nvSpPr>
              <p:cNvPr id="303" name=""/>
              <p:cNvSpPr/>
              <p:nvPr/>
            </p:nvSpPr>
            <p:spPr>
              <a:xfrm>
                <a:off x="4876920" y="4267080"/>
                <a:ext cx="1523880" cy="1521000"/>
              </a:xfrm>
              <a:prstGeom prst="ellipse">
                <a:avLst/>
              </a:prstGeom>
              <a:gradFill rotWithShape="0">
                <a:gsLst>
                  <a:gs pos="0">
                    <a:srgbClr val="9181e1"/>
                  </a:gs>
                  <a:gs pos="100000">
                    <a:srgbClr val="4a427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5051160" y="4292280"/>
                <a:ext cx="1175400" cy="57384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9181e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5" name=""/>
            <p:cNvSpPr/>
            <p:nvPr/>
          </p:nvSpPr>
          <p:spPr>
            <a:xfrm>
              <a:off x="4953240" y="499716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929480" y="5943600"/>
              <a:ext cx="1579320" cy="438120"/>
            </a:xfrm>
            <a:prstGeom prst="ellipse">
              <a:avLst/>
            </a:prstGeom>
            <a:gradFill rotWithShape="0">
              <a:gsLst>
                <a:gs pos="0">
                  <a:srgbClr val="f1f5fd"/>
                </a:gs>
                <a:gs pos="100000">
                  <a:srgbClr val="96969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6781680" y="4267080"/>
            <a:ext cx="1579680" cy="2114640"/>
            <a:chOff x="6781680" y="4267080"/>
            <a:chExt cx="1579680" cy="2114640"/>
          </a:xfrm>
        </p:grpSpPr>
        <p:grpSp>
          <p:nvGrpSpPr>
            <p:cNvPr id="308" name=""/>
            <p:cNvGrpSpPr/>
            <p:nvPr/>
          </p:nvGrpSpPr>
          <p:grpSpPr>
            <a:xfrm>
              <a:off x="6781680" y="4267080"/>
              <a:ext cx="1523880" cy="1531800"/>
              <a:chOff x="6781680" y="4267080"/>
              <a:chExt cx="1523880" cy="1531800"/>
            </a:xfrm>
          </p:grpSpPr>
          <p:grpSp>
            <p:nvGrpSpPr>
              <p:cNvPr id="309" name=""/>
              <p:cNvGrpSpPr/>
              <p:nvPr/>
            </p:nvGrpSpPr>
            <p:grpSpPr>
              <a:xfrm>
                <a:off x="6781680" y="4267080"/>
                <a:ext cx="1523880" cy="1531800"/>
                <a:chOff x="6781680" y="4267080"/>
                <a:chExt cx="1523880" cy="153180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6781680" y="4267080"/>
                  <a:ext cx="1523880" cy="1531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4b1ec"/>
                    </a:gs>
                    <a:gs pos="100000">
                      <a:srgbClr val="232a3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6955920" y="4292280"/>
                  <a:ext cx="1175400" cy="5781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4b1e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2" name=""/>
              <p:cNvSpPr/>
              <p:nvPr/>
            </p:nvSpPr>
            <p:spPr>
              <a:xfrm>
                <a:off x="6924600" y="4980960"/>
                <a:ext cx="1200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3" name=""/>
            <p:cNvSpPr/>
            <p:nvPr/>
          </p:nvSpPr>
          <p:spPr>
            <a:xfrm>
              <a:off x="6781680" y="5943600"/>
              <a:ext cx="1579680" cy="438120"/>
            </a:xfrm>
            <a:prstGeom prst="ellipse">
              <a:avLst/>
            </a:prstGeom>
            <a:gradFill rotWithShape="0">
              <a:gsLst>
                <a:gs pos="0">
                  <a:srgbClr val="f1f5fd"/>
                </a:gs>
                <a:gs pos="100000">
                  <a:srgbClr val="96969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362320" y="3200400"/>
            <a:ext cx="43434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9181e1"/>
                    </a:gs>
                    <a:gs pos="100000">
                      <a:srgbClr val="5fb6f1"/>
                    </a:gs>
                  </a:gsLst>
                  <a:lin ang="10800000"/>
                </a:gradFill>
                <a:effectLst>
                  <a:outerShdw dist="71785" dir="2700000" blurRad="0" rotWithShape="0">
                    <a:srgbClr val="000000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9181e1"/>
                  </a:gs>
                  <a:gs pos="100000">
                    <a:srgbClr val="5fb6f1"/>
                  </a:gs>
                </a:gsLst>
                <a:lin ang="10800000"/>
              </a:gradFill>
              <a:effectLst>
                <a:outerShdw dist="71785" dir="2700000" blurRad="0" rotWithShape="0">
                  <a:srgbClr val="000000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520" y="412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"/>
          <p:cNvSpPr/>
          <p:nvPr/>
        </p:nvSpPr>
        <p:spPr>
          <a:xfrm>
            <a:off x="556272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14300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238400" y="355284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2272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8ce1cb"/>
              </a:gs>
              <a:gs pos="100000">
                <a:srgbClr val="4cd2a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487440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cbe6f9"/>
              </a:gs>
              <a:gs pos="100000">
                <a:srgbClr val="5fb6f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3048120" y="1628640"/>
            <a:ext cx="2998440" cy="1601280"/>
            <a:chOff x="3048120" y="1628640"/>
            <a:chExt cx="2998440" cy="1601280"/>
          </a:xfrm>
        </p:grpSpPr>
        <p:grpSp>
          <p:nvGrpSpPr>
            <p:cNvPr id="102" name=""/>
            <p:cNvGrpSpPr/>
            <p:nvPr/>
          </p:nvGrpSpPr>
          <p:grpSpPr>
            <a:xfrm>
              <a:off x="3048120" y="1771560"/>
              <a:ext cx="2998440" cy="1458360"/>
              <a:chOff x="3048120" y="1771560"/>
              <a:chExt cx="2998440" cy="1458360"/>
            </a:xfrm>
          </p:grpSpPr>
          <p:sp>
            <p:nvSpPr>
              <p:cNvPr id="103" name=""/>
              <p:cNvSpPr/>
              <p:nvPr/>
            </p:nvSpPr>
            <p:spPr>
              <a:xfrm>
                <a:off x="3080880" y="181800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2e5874"/>
                  </a:gs>
                  <a:gs pos="100000">
                    <a:srgbClr val="5fb6f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048120" y="1771560"/>
                <a:ext cx="2966040" cy="1411920"/>
              </a:xfrm>
              <a:prstGeom prst="ellipse">
                <a:avLst/>
              </a:prstGeom>
              <a:gradFill rotWithShape="0">
                <a:gsLst>
                  <a:gs pos="0">
                    <a:srgbClr val="5fb6f1"/>
                  </a:gs>
                  <a:gs pos="100000">
                    <a:srgbClr val="b7ddf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" name=""/>
            <p:cNvSpPr/>
            <p:nvPr/>
          </p:nvSpPr>
          <p:spPr>
            <a:xfrm>
              <a:off x="3189240" y="1628640"/>
              <a:ext cx="2684520" cy="1341360"/>
            </a:xfrm>
            <a:prstGeom prst="ellipse">
              <a:avLst/>
            </a:prstGeom>
            <a:gradFill rotWithShape="0">
              <a:gsLst>
                <a:gs pos="0">
                  <a:srgbClr val="9181e1"/>
                </a:gs>
                <a:gs pos="100000">
                  <a:srgbClr val="423b6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224160" y="1636560"/>
              <a:ext cx="2619720" cy="1308240"/>
            </a:xfrm>
            <a:prstGeom prst="ellipse">
              <a:avLst/>
            </a:prstGeom>
            <a:gradFill rotWithShape="0">
              <a:gsLst>
                <a:gs pos="0">
                  <a:srgbClr val="d7d2f3"/>
                </a:gs>
                <a:gs pos="100000">
                  <a:srgbClr val="9181e1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251160" y="1649160"/>
              <a:ext cx="2492640" cy="1222560"/>
            </a:xfrm>
            <a:prstGeom prst="ellipse">
              <a:avLst/>
            </a:prstGeom>
            <a:gradFill rotWithShape="0">
              <a:gsLst>
                <a:gs pos="0">
                  <a:srgbClr val="9181e1">
                    <a:alpha val="48235"/>
                  </a:srgbClr>
                </a:gs>
                <a:gs pos="100000">
                  <a:srgbClr val="7265b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382920" y="1676160"/>
              <a:ext cx="2194200" cy="990720"/>
            </a:xfrm>
            <a:prstGeom prst="ellipse">
              <a:avLst/>
            </a:prstGeom>
            <a:gradFill rotWithShape="0">
              <a:gsLst>
                <a:gs pos="0">
                  <a:srgbClr val="9181e1">
                    <a:alpha val="38039"/>
                  </a:srgbClr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3882960" y="182880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734080" y="355284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412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1143000" y="2209680"/>
            <a:ext cx="6705720" cy="3352680"/>
            <a:chOff x="1143000" y="2209680"/>
            <a:chExt cx="6705720" cy="3352680"/>
          </a:xfrm>
        </p:grpSpPr>
        <p:grpSp>
          <p:nvGrpSpPr>
            <p:cNvPr id="113" name=""/>
            <p:cNvGrpSpPr/>
            <p:nvPr/>
          </p:nvGrpSpPr>
          <p:grpSpPr>
            <a:xfrm>
              <a:off x="3009240" y="2209680"/>
              <a:ext cx="2900160" cy="2706120"/>
              <a:chOff x="3009240" y="2209680"/>
              <a:chExt cx="2900160" cy="2706120"/>
            </a:xfrm>
          </p:grpSpPr>
          <p:sp>
            <p:nvSpPr>
              <p:cNvPr id="114" name=""/>
              <p:cNvSpPr/>
              <p:nvPr/>
            </p:nvSpPr>
            <p:spPr>
              <a:xfrm flipH="1" rot="16200000">
                <a:off x="2927880" y="3258000"/>
                <a:ext cx="459000" cy="296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a3b2cf"/>
                  </a:gs>
                  <a:gs pos="100000">
                    <a:srgbClr val="173d8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5400000">
                <a:off x="5531040" y="3207240"/>
                <a:ext cx="459000" cy="29700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a3b2cf"/>
                  </a:gs>
                  <a:gs pos="100000">
                    <a:srgbClr val="173d89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rot="10800000">
                <a:off x="4236840" y="4609800"/>
                <a:ext cx="443880" cy="30600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a3b2cf"/>
                  </a:gs>
                  <a:gs pos="100000">
                    <a:srgbClr val="173d8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3305880" y="2209680"/>
                <a:ext cx="2327040" cy="24001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3438360" y="2344680"/>
                <a:ext cx="2060280" cy="2125080"/>
              </a:xfrm>
              <a:prstGeom prst="ellipse">
                <a:avLst/>
              </a:prstGeom>
              <a:gradFill rotWithShape="0">
                <a:gsLst>
                  <a:gs pos="0">
                    <a:srgbClr val="a1a1a1"/>
                  </a:gs>
                  <a:gs pos="50000">
                    <a:srgbClr val="ffffff"/>
                  </a:gs>
                  <a:gs pos="100000">
                    <a:srgbClr val="a1a1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3559680" y="2471040"/>
                <a:ext cx="1818000" cy="18784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5fb6f1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559680" y="2471040"/>
                <a:ext cx="1818000" cy="187848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3679200" y="2594520"/>
                <a:ext cx="1578960" cy="1631880"/>
              </a:xfrm>
              <a:prstGeom prst="ellipse">
                <a:avLst/>
              </a:prstGeom>
              <a:gradFill rotWithShape="0">
                <a:gsLst>
                  <a:gs pos="0">
                    <a:srgbClr val="336281"/>
                  </a:gs>
                  <a:gs pos="50000">
                    <a:srgbClr val="5fb6f1"/>
                  </a:gs>
                  <a:gs pos="100000">
                    <a:srgbClr val="33628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9200" y="2594520"/>
                <a:ext cx="1578960" cy="1631880"/>
              </a:xfrm>
              <a:prstGeom prst="ellipse">
                <a:avLst/>
              </a:prstGeom>
              <a:gradFill rotWithShape="0">
                <a:gsLst>
                  <a:gs pos="0">
                    <a:srgbClr val="7b6200"/>
                  </a:gs>
                  <a:gs pos="100000">
                    <a:srgbClr val="ffcc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" name=""/>
            <p:cNvSpPr/>
            <p:nvPr/>
          </p:nvSpPr>
          <p:spPr>
            <a:xfrm>
              <a:off x="1143000" y="3707640"/>
              <a:ext cx="165888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4516c"/>
                </a:gs>
                <a:gs pos="50000">
                  <a:srgbClr val="94b1ec"/>
                </a:gs>
                <a:gs pos="100000">
                  <a:srgbClr val="44516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143000" y="3208320"/>
              <a:ext cx="1658880" cy="5709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4516c"/>
                </a:gs>
                <a:gs pos="50000">
                  <a:srgbClr val="94b1ec"/>
                </a:gs>
                <a:gs pos="100000">
                  <a:srgbClr val="44516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143000" y="2709000"/>
              <a:ext cx="165888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4516c"/>
                </a:gs>
                <a:gs pos="50000">
                  <a:srgbClr val="94b1ec"/>
                </a:gs>
                <a:gs pos="100000">
                  <a:srgbClr val="44516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120360" y="3707640"/>
              <a:ext cx="172836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23b67"/>
                </a:gs>
                <a:gs pos="50000">
                  <a:srgbClr val="9181e1"/>
                </a:gs>
                <a:gs pos="100000">
                  <a:srgbClr val="423b6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120360" y="3208320"/>
              <a:ext cx="1728360" cy="5709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23b67"/>
                </a:gs>
                <a:gs pos="50000">
                  <a:srgbClr val="9181e1"/>
                </a:gs>
                <a:gs pos="100000">
                  <a:srgbClr val="423b6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120360" y="2709000"/>
              <a:ext cx="172836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23b67"/>
                </a:gs>
                <a:gs pos="50000">
                  <a:srgbClr val="9181e1"/>
                </a:gs>
                <a:gs pos="100000">
                  <a:srgbClr val="423b6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77532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702520" y="5063400"/>
              <a:ext cx="3525480" cy="4989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588320" y="2855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8832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58832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685200" y="2855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68520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68520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520" y="412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873000" y="5621400"/>
            <a:ext cx="1657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873000" y="478296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873000" y="39528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872640" y="3124080"/>
            <a:ext cx="4165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873000" y="2282760"/>
            <a:ext cx="5034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25640" y="2276640"/>
            <a:ext cx="0" cy="871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25640" y="3147840"/>
            <a:ext cx="0" cy="817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025640" y="3965400"/>
            <a:ext cx="0" cy="816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025640" y="4782960"/>
            <a:ext cx="0" cy="816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224720" y="26002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224720" y="342756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224720" y="42908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224720" y="509760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2590920" y="2286000"/>
            <a:ext cx="5825520" cy="3343320"/>
            <a:chOff x="2590920" y="2286000"/>
            <a:chExt cx="5825520" cy="3343320"/>
          </a:xfrm>
        </p:grpSpPr>
        <p:sp>
          <p:nvSpPr>
            <p:cNvPr id="152" name=""/>
            <p:cNvSpPr/>
            <p:nvPr/>
          </p:nvSpPr>
          <p:spPr>
            <a:xfrm>
              <a:off x="7833960" y="2286000"/>
              <a:ext cx="576000" cy="846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36050"/>
                </a:gs>
                <a:gs pos="50000">
                  <a:srgbClr val="4cd2af"/>
                </a:gs>
                <a:gs pos="100000">
                  <a:srgbClr val="23605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073480" y="2286000"/>
              <a:ext cx="3342960" cy="54144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4cd2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254720" y="3117960"/>
              <a:ext cx="575640" cy="84132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b536f"/>
                </a:gs>
                <a:gs pos="50000">
                  <a:srgbClr val="5fb6f1"/>
                </a:gs>
                <a:gs pos="100000">
                  <a:srgbClr val="2b536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243320" y="3117960"/>
              <a:ext cx="3593520" cy="53964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5fb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673680" y="3949560"/>
              <a:ext cx="572760" cy="84456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4516c"/>
                </a:gs>
                <a:gs pos="50000">
                  <a:srgbClr val="94b1ec"/>
                </a:gs>
                <a:gs pos="100000">
                  <a:srgbClr val="44516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095880" y="4782960"/>
              <a:ext cx="577440" cy="84636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0a1c3f"/>
                </a:gs>
                <a:gs pos="50000">
                  <a:srgbClr val="173d89"/>
                </a:gs>
                <a:gs pos="100000">
                  <a:srgbClr val="0a1c3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592000" y="4788000"/>
              <a:ext cx="4081320" cy="53964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173d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184200" y="2440080"/>
              <a:ext cx="1838160" cy="272232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00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079600" y="2827440"/>
              <a:ext cx="2766960" cy="304560"/>
            </a:xfrm>
            <a:prstGeom prst="rect">
              <a:avLst/>
            </a:prstGeom>
            <a:gradFill rotWithShape="0">
              <a:gsLst>
                <a:gs pos="0">
                  <a:srgbClr val="36977e"/>
                </a:gs>
                <a:gs pos="50000">
                  <a:srgbClr val="4cd2af"/>
                </a:gs>
                <a:gs pos="100000">
                  <a:srgbClr val="36977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244760" y="3657600"/>
              <a:ext cx="3015720" cy="298440"/>
            </a:xfrm>
            <a:prstGeom prst="rect">
              <a:avLst/>
            </a:prstGeom>
            <a:gradFill rotWithShape="0">
              <a:gsLst>
                <a:gs pos="0">
                  <a:srgbClr val="4483ae"/>
                </a:gs>
                <a:gs pos="50000">
                  <a:srgbClr val="5fb6f1"/>
                </a:gs>
                <a:gs pos="100000">
                  <a:srgbClr val="4483a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19280" y="3949560"/>
              <a:ext cx="3833280" cy="54468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94b1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422520" y="4492800"/>
              <a:ext cx="3263400" cy="298440"/>
            </a:xfrm>
            <a:prstGeom prst="rect">
              <a:avLst/>
            </a:prstGeom>
            <a:gradFill rotWithShape="0">
              <a:gsLst>
                <a:gs pos="0">
                  <a:srgbClr val="6a7faa"/>
                </a:gs>
                <a:gs pos="50000">
                  <a:srgbClr val="94b1ec"/>
                </a:gs>
                <a:gs pos="100000">
                  <a:srgbClr val="6a7fa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590920" y="5329080"/>
              <a:ext cx="3512880" cy="297000"/>
            </a:xfrm>
            <a:prstGeom prst="rect">
              <a:avLst/>
            </a:prstGeom>
            <a:gradFill rotWithShape="0">
              <a:gsLst>
                <a:gs pos="0">
                  <a:srgbClr val="102c63"/>
                </a:gs>
                <a:gs pos="50000">
                  <a:srgbClr val="173d89"/>
                </a:gs>
                <a:gs pos="100000">
                  <a:srgbClr val="102c6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3520" y="412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4832280" y="2727360"/>
            <a:ext cx="3168720" cy="289548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dadad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875520" y="2018880"/>
            <a:ext cx="4125960" cy="3931560"/>
            <a:chOff x="875520" y="2018880"/>
            <a:chExt cx="4125960" cy="3931560"/>
          </a:xfrm>
        </p:grpSpPr>
        <p:sp>
          <p:nvSpPr>
            <p:cNvPr id="168" name=""/>
            <p:cNvSpPr/>
            <p:nvPr/>
          </p:nvSpPr>
          <p:spPr>
            <a:xfrm rot="5433000">
              <a:off x="3510000" y="3210120"/>
              <a:ext cx="1527120" cy="1441440"/>
            </a:xfrm>
            <a:prstGeom prst="hexagon">
              <a:avLst>
                <a:gd name="adj" fmla="val 26486"/>
                <a:gd name="vf" fmla="val 115470"/>
              </a:avLst>
            </a:prstGeom>
            <a:gradFill rotWithShape="0">
              <a:gsLst>
                <a:gs pos="0">
                  <a:srgbClr val="2b536f"/>
                </a:gs>
                <a:gs pos="50000">
                  <a:srgbClr val="5fb6f1"/>
                </a:gs>
                <a:gs pos="100000">
                  <a:srgbClr val="2b536f"/>
                </a:gs>
              </a:gsLst>
              <a:lin ang="807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5433000">
              <a:off x="2799000" y="2068560"/>
              <a:ext cx="1527120" cy="1441440"/>
            </a:xfrm>
            <a:prstGeom prst="hexagon">
              <a:avLst>
                <a:gd name="adj" fmla="val 26486"/>
                <a:gd name="vf" fmla="val 115470"/>
              </a:avLst>
            </a:prstGeom>
            <a:gradFill rotWithShape="0">
              <a:gsLst>
                <a:gs pos="0">
                  <a:srgbClr val="236050"/>
                </a:gs>
                <a:gs pos="50000">
                  <a:srgbClr val="4cd2af"/>
                </a:gs>
                <a:gs pos="100000">
                  <a:srgbClr val="236050"/>
                </a:gs>
              </a:gsLst>
              <a:lin ang="807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5433000">
              <a:off x="2874960" y="4402080"/>
              <a:ext cx="1527120" cy="1441440"/>
            </a:xfrm>
            <a:prstGeom prst="hexagon">
              <a:avLst>
                <a:gd name="adj" fmla="val 26486"/>
                <a:gd name="vf" fmla="val 115470"/>
              </a:avLst>
            </a:prstGeom>
            <a:gradFill rotWithShape="0">
              <a:gsLst>
                <a:gs pos="0">
                  <a:srgbClr val="236050"/>
                </a:gs>
                <a:gs pos="50000">
                  <a:srgbClr val="4cd2af"/>
                </a:gs>
                <a:gs pos="100000">
                  <a:srgbClr val="236050"/>
                </a:gs>
              </a:gsLst>
              <a:lin ang="807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5400000">
              <a:off x="2167200" y="3254400"/>
              <a:ext cx="1527120" cy="1441440"/>
            </a:xfrm>
            <a:prstGeom prst="hexagon">
              <a:avLst>
                <a:gd name="adj" fmla="val 26486"/>
                <a:gd name="vf" fmla="val 115470"/>
              </a:avLst>
            </a:prstGeom>
            <a:gradFill rotWithShape="0">
              <a:gsLst>
                <a:gs pos="0">
                  <a:srgbClr val="423b67"/>
                </a:gs>
                <a:gs pos="50000">
                  <a:srgbClr val="9181e1"/>
                </a:gs>
                <a:gs pos="100000">
                  <a:srgbClr val="423b67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5433000">
              <a:off x="1484280" y="2130480"/>
              <a:ext cx="1527120" cy="1441440"/>
            </a:xfrm>
            <a:prstGeom prst="hexagon">
              <a:avLst>
                <a:gd name="adj" fmla="val 26486"/>
                <a:gd name="vf" fmla="val 115470"/>
              </a:avLst>
            </a:prstGeom>
            <a:gradFill rotWithShape="0">
              <a:gsLst>
                <a:gs pos="0">
                  <a:srgbClr val="2b536f"/>
                </a:gs>
                <a:gs pos="50000">
                  <a:srgbClr val="5fb6f1"/>
                </a:gs>
                <a:gs pos="100000">
                  <a:srgbClr val="2b536f"/>
                </a:gs>
              </a:gsLst>
              <a:lin ang="807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5433000">
              <a:off x="1536840" y="4459320"/>
              <a:ext cx="1527120" cy="1441440"/>
            </a:xfrm>
            <a:prstGeom prst="hexagon">
              <a:avLst>
                <a:gd name="adj" fmla="val 26486"/>
                <a:gd name="vf" fmla="val 115470"/>
              </a:avLst>
            </a:prstGeom>
            <a:gradFill rotWithShape="0">
              <a:gsLst>
                <a:gs pos="0">
                  <a:srgbClr val="2b536f"/>
                </a:gs>
                <a:gs pos="50000">
                  <a:srgbClr val="5fb6f1"/>
                </a:gs>
                <a:gs pos="100000">
                  <a:srgbClr val="2b536f"/>
                </a:gs>
              </a:gsLst>
              <a:lin ang="807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rot="5433000">
              <a:off x="839880" y="3319560"/>
              <a:ext cx="1527120" cy="1441440"/>
            </a:xfrm>
            <a:prstGeom prst="hexagon">
              <a:avLst>
                <a:gd name="adj" fmla="val 26486"/>
                <a:gd name="vf" fmla="val 115470"/>
              </a:avLst>
            </a:prstGeom>
            <a:gradFill rotWithShape="0">
              <a:gsLst>
                <a:gs pos="0">
                  <a:srgbClr val="236050"/>
                </a:gs>
                <a:gs pos="50000">
                  <a:srgbClr val="4cd2af"/>
                </a:gs>
                <a:gs pos="100000">
                  <a:srgbClr val="236050"/>
                </a:gs>
              </a:gsLst>
              <a:lin ang="807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5362560" y="2093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202000" y="2162160"/>
            <a:ext cx="260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d89"/>
                </a:solidFill>
                <a:latin typeface="Arial"/>
              </a:rPr>
              <a:t>Add Your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3520" y="412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"/>
          <p:cNvSpPr/>
          <p:nvPr/>
        </p:nvSpPr>
        <p:spPr>
          <a:xfrm>
            <a:off x="1447920" y="1981080"/>
            <a:ext cx="5943600" cy="403884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5fb6f1"/>
              </a:gs>
              <a:gs pos="100000">
                <a:srgbClr val="9181e1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172200" y="373392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3d89"/>
                </a:solidFill>
                <a:latin typeface="Arial"/>
              </a:rPr>
              <a:t>Add Your 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20876400">
            <a:off x="3316320" y="4971960"/>
            <a:ext cx="1438200" cy="6667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47920" y="3753000"/>
            <a:ext cx="1704960" cy="170640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268800" y="3762360"/>
            <a:ext cx="1665000" cy="166356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86080" y="3778200"/>
            <a:ext cx="1584360" cy="155592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378240" y="3822840"/>
            <a:ext cx="1409760" cy="12618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665880" y="437976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rot="20826600">
            <a:off x="1473120" y="4362120"/>
            <a:ext cx="1133640" cy="60948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1397160" y="3371760"/>
            <a:ext cx="1371240" cy="1441080"/>
            <a:chOff x="1397160" y="3371760"/>
            <a:chExt cx="1371240" cy="1441080"/>
          </a:xfrm>
        </p:grpSpPr>
        <p:sp>
          <p:nvSpPr>
            <p:cNvPr id="188" name=""/>
            <p:cNvSpPr/>
            <p:nvPr/>
          </p:nvSpPr>
          <p:spPr>
            <a:xfrm>
              <a:off x="1397160" y="3371760"/>
              <a:ext cx="1371240" cy="14410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415160" y="3380040"/>
              <a:ext cx="1337040" cy="14043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428120" y="3393360"/>
              <a:ext cx="1271880" cy="131436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499760" y="3430080"/>
              <a:ext cx="1132200" cy="106596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677600" y="38779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1295280" y="2606760"/>
            <a:ext cx="914400" cy="53316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371600" y="2000160"/>
            <a:ext cx="1023840" cy="102420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384200" y="2004840"/>
            <a:ext cx="1000080" cy="100044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395360" y="2016000"/>
            <a:ext cx="951120" cy="93348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449360" y="2041560"/>
            <a:ext cx="847800" cy="7570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568520" y="23493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562120" y="2076480"/>
            <a:ext cx="685800" cy="22860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684520" y="1542960"/>
            <a:ext cx="682560" cy="68256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693880" y="1546200"/>
            <a:ext cx="665280" cy="6667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700360" y="1552680"/>
            <a:ext cx="633240" cy="62208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736720" y="1571760"/>
            <a:ext cx="563760" cy="5032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754720" y="176688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838080" y="5867280"/>
            <a:ext cx="61214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5fb6f1"/>
                </a:solidFill>
                <a:uFillTx/>
                <a:latin typeface="Arial"/>
                <a:hlinkClick r:id="rId1"/>
              </a:rPr>
              <a:t>外国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guow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520" y="412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ycle Diagram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685800" y="1447920"/>
            <a:ext cx="7848360" cy="4419000"/>
            <a:chOff x="685800" y="1447920"/>
            <a:chExt cx="7848360" cy="4419000"/>
          </a:xfrm>
        </p:grpSpPr>
        <p:sp>
          <p:nvSpPr>
            <p:cNvPr id="208" name=""/>
            <p:cNvSpPr/>
            <p:nvPr/>
          </p:nvSpPr>
          <p:spPr>
            <a:xfrm>
              <a:off x="2683800" y="2149200"/>
              <a:ext cx="3781440" cy="3717720"/>
            </a:xfrm>
            <a:prstGeom prst="ellipse">
              <a:avLst/>
            </a:prstGeom>
            <a:gradFill rotWithShape="0">
              <a:gsLst>
                <a:gs pos="0">
                  <a:srgbClr val="5fb6f1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5fb6f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9" name=""/>
            <p:cNvGrpSpPr/>
            <p:nvPr/>
          </p:nvGrpSpPr>
          <p:grpSpPr>
            <a:xfrm>
              <a:off x="3611160" y="3078720"/>
              <a:ext cx="1926360" cy="2001600"/>
              <a:chOff x="3611160" y="3078720"/>
              <a:chExt cx="1926360" cy="2001600"/>
            </a:xfrm>
          </p:grpSpPr>
          <p:sp>
            <p:nvSpPr>
              <p:cNvPr id="210" name=""/>
              <p:cNvSpPr/>
              <p:nvPr/>
            </p:nvSpPr>
            <p:spPr>
              <a:xfrm>
                <a:off x="3611160" y="3078720"/>
                <a:ext cx="1926360" cy="200160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732e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3831120" y="3111840"/>
                <a:ext cx="1486080" cy="75528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2" name=""/>
            <p:cNvSpPr/>
            <p:nvPr/>
          </p:nvSpPr>
          <p:spPr>
            <a:xfrm>
              <a:off x="3913920" y="3865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3" name=""/>
            <p:cNvGrpSpPr/>
            <p:nvPr/>
          </p:nvGrpSpPr>
          <p:grpSpPr>
            <a:xfrm>
              <a:off x="4182120" y="1792080"/>
              <a:ext cx="641880" cy="617760"/>
              <a:chOff x="4182120" y="1792080"/>
              <a:chExt cx="641880" cy="617760"/>
            </a:xfrm>
          </p:grpSpPr>
          <p:grpSp>
            <p:nvGrpSpPr>
              <p:cNvPr id="214" name=""/>
              <p:cNvGrpSpPr/>
              <p:nvPr/>
            </p:nvGrpSpPr>
            <p:grpSpPr>
              <a:xfrm>
                <a:off x="4182120" y="1792080"/>
                <a:ext cx="641880" cy="617760"/>
                <a:chOff x="4182120" y="1792080"/>
                <a:chExt cx="641880" cy="617760"/>
              </a:xfrm>
            </p:grpSpPr>
            <p:sp>
              <p:nvSpPr>
                <p:cNvPr id="215" name=""/>
                <p:cNvSpPr/>
                <p:nvPr/>
              </p:nvSpPr>
              <p:spPr>
                <a:xfrm>
                  <a:off x="4182120" y="1792080"/>
                  <a:ext cx="641880" cy="617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cd2af"/>
                    </a:gs>
                    <a:gs pos="100000">
                      <a:srgbClr val="20584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4255200" y="1802160"/>
                  <a:ext cx="495360" cy="2329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4cd2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7" name=""/>
              <p:cNvSpPr/>
              <p:nvPr/>
            </p:nvSpPr>
            <p:spPr>
              <a:xfrm>
                <a:off x="4325040" y="1887120"/>
                <a:ext cx="384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8" name=""/>
            <p:cNvGrpSpPr/>
            <p:nvPr/>
          </p:nvGrpSpPr>
          <p:grpSpPr>
            <a:xfrm>
              <a:off x="3558240" y="4874400"/>
              <a:ext cx="344520" cy="312840"/>
              <a:chOff x="3558240" y="4874400"/>
              <a:chExt cx="344520" cy="312840"/>
            </a:xfrm>
          </p:grpSpPr>
          <p:sp>
            <p:nvSpPr>
              <p:cNvPr id="219" name=""/>
              <p:cNvSpPr/>
              <p:nvPr/>
            </p:nvSpPr>
            <p:spPr>
              <a:xfrm rot="18226800">
                <a:off x="3584520" y="5035320"/>
                <a:ext cx="122760" cy="129600"/>
              </a:xfrm>
              <a:prstGeom prst="ellipse">
                <a:avLst/>
              </a:prstGeom>
              <a:gradFill rotWithShape="0">
                <a:gsLst>
                  <a:gs pos="0">
                    <a:srgbClr val="94b1ec"/>
                  </a:gs>
                  <a:gs pos="100000">
                    <a:srgbClr val="62759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18226800">
                <a:off x="3753000" y="4896360"/>
                <a:ext cx="122760" cy="129600"/>
              </a:xfrm>
              <a:prstGeom prst="ellipse">
                <a:avLst/>
              </a:prstGeom>
              <a:gradFill rotWithShape="0">
                <a:gsLst>
                  <a:gs pos="0">
                    <a:srgbClr val="94b1ec"/>
                  </a:gs>
                  <a:gs pos="100000">
                    <a:srgbClr val="62759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1" name=""/>
            <p:cNvGrpSpPr/>
            <p:nvPr/>
          </p:nvGrpSpPr>
          <p:grpSpPr>
            <a:xfrm>
              <a:off x="2968920" y="5147640"/>
              <a:ext cx="641880" cy="643320"/>
              <a:chOff x="2968920" y="5147640"/>
              <a:chExt cx="641880" cy="643320"/>
            </a:xfrm>
          </p:grpSpPr>
          <p:grpSp>
            <p:nvGrpSpPr>
              <p:cNvPr id="222" name=""/>
              <p:cNvGrpSpPr/>
              <p:nvPr/>
            </p:nvGrpSpPr>
            <p:grpSpPr>
              <a:xfrm>
                <a:off x="2968920" y="5147640"/>
                <a:ext cx="641880" cy="643320"/>
                <a:chOff x="2968920" y="5147640"/>
                <a:chExt cx="641880" cy="64332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2968920" y="5147640"/>
                  <a:ext cx="641880" cy="643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4b1ec"/>
                    </a:gs>
                    <a:gs pos="100000">
                      <a:srgbClr val="232a3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3042000" y="5158080"/>
                  <a:ext cx="495360" cy="2426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4b1e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5" name=""/>
              <p:cNvSpPr/>
              <p:nvPr/>
            </p:nvSpPr>
            <p:spPr>
              <a:xfrm>
                <a:off x="3107160" y="5267880"/>
                <a:ext cx="351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6" name=""/>
            <p:cNvGrpSpPr/>
            <p:nvPr/>
          </p:nvGrpSpPr>
          <p:grpSpPr>
            <a:xfrm>
              <a:off x="6111360" y="3078720"/>
              <a:ext cx="639360" cy="650880"/>
              <a:chOff x="6111360" y="3078720"/>
              <a:chExt cx="639360" cy="650880"/>
            </a:xfrm>
          </p:grpSpPr>
          <p:grpSp>
            <p:nvGrpSpPr>
              <p:cNvPr id="227" name=""/>
              <p:cNvGrpSpPr/>
              <p:nvPr/>
            </p:nvGrpSpPr>
            <p:grpSpPr>
              <a:xfrm>
                <a:off x="6111360" y="3078720"/>
                <a:ext cx="639360" cy="650880"/>
                <a:chOff x="6111360" y="3078720"/>
                <a:chExt cx="639360" cy="650880"/>
              </a:xfrm>
            </p:grpSpPr>
            <p:sp>
              <p:nvSpPr>
                <p:cNvPr id="228" name=""/>
                <p:cNvSpPr/>
                <p:nvPr/>
              </p:nvSpPr>
              <p:spPr>
                <a:xfrm>
                  <a:off x="6111360" y="3078720"/>
                  <a:ext cx="639360" cy="65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fb6f1"/>
                    </a:gs>
                    <a:gs pos="100000">
                      <a:srgbClr val="3b719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6184440" y="3089520"/>
                  <a:ext cx="493200" cy="2455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5fb6f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0" name=""/>
              <p:cNvSpPr/>
              <p:nvPr/>
            </p:nvSpPr>
            <p:spPr>
              <a:xfrm>
                <a:off x="6236640" y="3168000"/>
                <a:ext cx="37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1" name=""/>
            <p:cNvGrpSpPr/>
            <p:nvPr/>
          </p:nvGrpSpPr>
          <p:grpSpPr>
            <a:xfrm>
              <a:off x="5537520" y="5151960"/>
              <a:ext cx="612360" cy="583920"/>
              <a:chOff x="5537520" y="5151960"/>
              <a:chExt cx="612360" cy="583920"/>
            </a:xfrm>
          </p:grpSpPr>
          <p:grpSp>
            <p:nvGrpSpPr>
              <p:cNvPr id="232" name=""/>
              <p:cNvGrpSpPr/>
              <p:nvPr/>
            </p:nvGrpSpPr>
            <p:grpSpPr>
              <a:xfrm>
                <a:off x="5537520" y="5151960"/>
                <a:ext cx="612360" cy="583920"/>
                <a:chOff x="5537520" y="5151960"/>
                <a:chExt cx="612360" cy="583920"/>
              </a:xfrm>
            </p:grpSpPr>
            <p:sp>
              <p:nvSpPr>
                <p:cNvPr id="233" name=""/>
                <p:cNvSpPr/>
                <p:nvPr/>
              </p:nvSpPr>
              <p:spPr>
                <a:xfrm>
                  <a:off x="5537520" y="5151960"/>
                  <a:ext cx="612360" cy="583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69696"/>
                    </a:gs>
                    <a:gs pos="100000">
                      <a:srgbClr val="43434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5607360" y="5161320"/>
                  <a:ext cx="472320" cy="2203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6969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5" name=""/>
              <p:cNvSpPr/>
              <p:nvPr/>
            </p:nvSpPr>
            <p:spPr>
              <a:xfrm>
                <a:off x="5672880" y="5183280"/>
                <a:ext cx="40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6" name=""/>
            <p:cNvGrpSpPr/>
            <p:nvPr/>
          </p:nvGrpSpPr>
          <p:grpSpPr>
            <a:xfrm>
              <a:off x="2469600" y="3078720"/>
              <a:ext cx="641880" cy="643320"/>
              <a:chOff x="2469600" y="3078720"/>
              <a:chExt cx="641880" cy="643320"/>
            </a:xfrm>
          </p:grpSpPr>
          <p:grpSp>
            <p:nvGrpSpPr>
              <p:cNvPr id="237" name=""/>
              <p:cNvGrpSpPr/>
              <p:nvPr/>
            </p:nvGrpSpPr>
            <p:grpSpPr>
              <a:xfrm>
                <a:off x="2469600" y="3078720"/>
                <a:ext cx="641880" cy="643320"/>
                <a:chOff x="2469600" y="3078720"/>
                <a:chExt cx="641880" cy="643320"/>
              </a:xfrm>
            </p:grpSpPr>
            <p:sp>
              <p:nvSpPr>
                <p:cNvPr id="238" name=""/>
                <p:cNvSpPr/>
                <p:nvPr/>
              </p:nvSpPr>
              <p:spPr>
                <a:xfrm>
                  <a:off x="2469600" y="3078720"/>
                  <a:ext cx="641880" cy="643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181e1"/>
                    </a:gs>
                    <a:gs pos="100000">
                      <a:srgbClr val="413a6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2542680" y="3089160"/>
                  <a:ext cx="495360" cy="2426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181e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0" name=""/>
              <p:cNvSpPr/>
              <p:nvPr/>
            </p:nvSpPr>
            <p:spPr>
              <a:xfrm>
                <a:off x="2606400" y="3150000"/>
                <a:ext cx="390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1" name=""/>
            <p:cNvSpPr/>
            <p:nvPr/>
          </p:nvSpPr>
          <p:spPr>
            <a:xfrm rot="18226800">
              <a:off x="5468040" y="5003640"/>
              <a:ext cx="122040" cy="12924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63636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 rot="18226800">
              <a:off x="5325480" y="4860720"/>
              <a:ext cx="122040" cy="12924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63636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3" name=""/>
            <p:cNvGrpSpPr/>
            <p:nvPr/>
          </p:nvGrpSpPr>
          <p:grpSpPr>
            <a:xfrm>
              <a:off x="3159720" y="3481920"/>
              <a:ext cx="389520" cy="244080"/>
              <a:chOff x="3159720" y="3481920"/>
              <a:chExt cx="389520" cy="244080"/>
            </a:xfrm>
          </p:grpSpPr>
          <p:sp>
            <p:nvSpPr>
              <p:cNvPr id="244" name=""/>
              <p:cNvSpPr/>
              <p:nvPr/>
            </p:nvSpPr>
            <p:spPr>
              <a:xfrm rot="18226800">
                <a:off x="3186360" y="3503880"/>
                <a:ext cx="122760" cy="129960"/>
              </a:xfrm>
              <a:prstGeom prst="ellipse">
                <a:avLst/>
              </a:prstGeom>
              <a:gradFill rotWithShape="0">
                <a:gsLst>
                  <a:gs pos="0">
                    <a:srgbClr val="9181e1"/>
                  </a:gs>
                  <a:gs pos="100000">
                    <a:srgbClr val="534a81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18226800">
                <a:off x="3399480" y="3574080"/>
                <a:ext cx="122760" cy="129600"/>
              </a:xfrm>
              <a:prstGeom prst="ellipse">
                <a:avLst/>
              </a:prstGeom>
              <a:gradFill rotWithShape="0">
                <a:gsLst>
                  <a:gs pos="0">
                    <a:srgbClr val="9181e1"/>
                  </a:gs>
                  <a:gs pos="100000">
                    <a:srgbClr val="463e6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6" name=""/>
            <p:cNvGrpSpPr/>
            <p:nvPr/>
          </p:nvGrpSpPr>
          <p:grpSpPr>
            <a:xfrm>
              <a:off x="4444200" y="2522880"/>
              <a:ext cx="175320" cy="437760"/>
              <a:chOff x="4444200" y="2522880"/>
              <a:chExt cx="175320" cy="437760"/>
            </a:xfrm>
          </p:grpSpPr>
          <p:sp>
            <p:nvSpPr>
              <p:cNvPr id="247" name=""/>
              <p:cNvSpPr/>
              <p:nvPr/>
            </p:nvSpPr>
            <p:spPr>
              <a:xfrm rot="18226800">
                <a:off x="4470480" y="2545200"/>
                <a:ext cx="122400" cy="129240"/>
              </a:xfrm>
              <a:prstGeom prst="ellipse">
                <a:avLst/>
              </a:prstGeom>
              <a:gradFill rotWithShape="0">
                <a:gsLst>
                  <a:gs pos="0">
                    <a:srgbClr val="4cd2af"/>
                  </a:gs>
                  <a:gs pos="100000">
                    <a:srgbClr val="225f4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18226800">
                <a:off x="4470480" y="2809080"/>
                <a:ext cx="122040" cy="129240"/>
              </a:xfrm>
              <a:prstGeom prst="ellipse">
                <a:avLst/>
              </a:prstGeom>
              <a:gradFill rotWithShape="0">
                <a:gsLst>
                  <a:gs pos="0">
                    <a:srgbClr val="4cd2af"/>
                  </a:gs>
                  <a:gs pos="100000">
                    <a:srgbClr val="24655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9" name=""/>
            <p:cNvSpPr/>
            <p:nvPr/>
          </p:nvSpPr>
          <p:spPr>
            <a:xfrm rot="18226800">
              <a:off x="5842800" y="3529440"/>
              <a:ext cx="121680" cy="128880"/>
            </a:xfrm>
            <a:prstGeom prst="ellipse">
              <a:avLst/>
            </a:prstGeom>
            <a:gradFill rotWithShape="0">
              <a:gsLst>
                <a:gs pos="0">
                  <a:srgbClr val="5fb6f1"/>
                </a:gs>
                <a:gs pos="100000">
                  <a:srgbClr val="29506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 rot="18226800">
              <a:off x="5610960" y="3645720"/>
              <a:ext cx="121680" cy="128880"/>
            </a:xfrm>
            <a:prstGeom prst="ellipse">
              <a:avLst/>
            </a:prstGeom>
            <a:gradFill rotWithShape="0">
              <a:gsLst>
                <a:gs pos="0">
                  <a:srgbClr val="5fb6f1"/>
                </a:gs>
                <a:gs pos="100000">
                  <a:srgbClr val="29506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85800" y="3221640"/>
              <a:ext cx="178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611160" y="1447920"/>
              <a:ext cx="178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750720" y="3235320"/>
              <a:ext cx="178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042200" y="5366520"/>
              <a:ext cx="178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179760" y="5366520"/>
              <a:ext cx="178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33520" y="412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Progress Diagram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990720" y="2133720"/>
            <a:ext cx="6858000" cy="3428640"/>
            <a:chOff x="990720" y="2133720"/>
            <a:chExt cx="6858000" cy="3428640"/>
          </a:xfrm>
        </p:grpSpPr>
        <p:sp>
          <p:nvSpPr>
            <p:cNvPr id="258" name=""/>
            <p:cNvSpPr/>
            <p:nvPr/>
          </p:nvSpPr>
          <p:spPr>
            <a:xfrm>
              <a:off x="5285520" y="2903040"/>
              <a:ext cx="2563200" cy="2659320"/>
            </a:xfrm>
            <a:custGeom>
              <a:avLst/>
              <a:gdLst>
                <a:gd name="textAreaLeft" fmla="*/ 0 w 2563200"/>
                <a:gd name="textAreaRight" fmla="*/ 2563560 w 2563200"/>
                <a:gd name="textAreaTop" fmla="*/ 0 h 2659320"/>
                <a:gd name="textAreaBottom" fmla="*/ 2659680 h 265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043" y="0"/>
                  </a:lnTo>
                  <a:lnTo>
                    <a:pt x="21600" y="10800"/>
                  </a:lnTo>
                  <a:lnTo>
                    <a:pt x="18043" y="21600"/>
                  </a:lnTo>
                  <a:lnTo>
                    <a:pt x="0" y="21600"/>
                  </a:lnTo>
                  <a:lnTo>
                    <a:pt x="3557" y="10800"/>
                  </a:lnTo>
                  <a:close/>
                </a:path>
              </a:pathLst>
            </a:custGeom>
            <a:solidFill>
              <a:srgbClr val="4cd2af"/>
            </a:soli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138120" y="2903040"/>
              <a:ext cx="2701440" cy="2659320"/>
            </a:xfrm>
            <a:custGeom>
              <a:avLst/>
              <a:gdLst>
                <a:gd name="textAreaLeft" fmla="*/ 0 w 2701440"/>
                <a:gd name="textAreaRight" fmla="*/ 2701800 w 2701440"/>
                <a:gd name="textAreaTop" fmla="*/ 0 h 2659320"/>
                <a:gd name="textAreaBottom" fmla="*/ 2659680 h 265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solidFill>
              <a:srgbClr val="5fb6f1"/>
            </a:soli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990720" y="2903040"/>
              <a:ext cx="2701440" cy="2659320"/>
            </a:xfrm>
            <a:custGeom>
              <a:avLst/>
              <a:gdLst>
                <a:gd name="textAreaLeft" fmla="*/ 0 w 2701440"/>
                <a:gd name="textAreaRight" fmla="*/ 2701800 w 2701440"/>
                <a:gd name="textAreaTop" fmla="*/ 0 h 2659320"/>
                <a:gd name="textAreaBottom" fmla="*/ 2659680 h 265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solidFill>
              <a:srgbClr val="9181e1"/>
            </a:soli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198440" y="2133720"/>
              <a:ext cx="1870200" cy="527400"/>
            </a:xfrm>
            <a:prstGeom prst="roundRect">
              <a:avLst>
                <a:gd name="adj" fmla="val 50000"/>
              </a:avLst>
            </a:prstGeom>
            <a:solidFill>
              <a:srgbClr val="9181e1"/>
            </a:soli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306960" y="2133720"/>
              <a:ext cx="1870200" cy="527400"/>
            </a:xfrm>
            <a:prstGeom prst="roundRect">
              <a:avLst>
                <a:gd name="adj" fmla="val 50000"/>
              </a:avLst>
            </a:prstGeom>
            <a:solidFill>
              <a:srgbClr val="5fb6f1"/>
            </a:soli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424120" y="2133720"/>
              <a:ext cx="1870200" cy="527400"/>
            </a:xfrm>
            <a:prstGeom prst="roundRect">
              <a:avLst>
                <a:gd name="adj" fmla="val 50000"/>
              </a:avLst>
            </a:prstGeom>
            <a:solidFill>
              <a:srgbClr val="4cd2af"/>
            </a:soli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 rot="20601600">
            <a:off x="1469520" y="2190240"/>
            <a:ext cx="5562720" cy="292284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2791bb"/>
              </a:gs>
            </a:gsLst>
            <a:lin ang="144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601200" y="679320"/>
            <a:ext cx="7379280" cy="5581080"/>
            <a:chOff x="601200" y="679320"/>
            <a:chExt cx="7379280" cy="5581080"/>
          </a:xfrm>
        </p:grpSpPr>
        <p:sp>
          <p:nvSpPr>
            <p:cNvPr id="266" name=""/>
            <p:cNvSpPr/>
            <p:nvPr/>
          </p:nvSpPr>
          <p:spPr>
            <a:xfrm>
              <a:off x="2138400" y="4465800"/>
              <a:ext cx="5562720" cy="1325520"/>
            </a:xfrm>
            <a:prstGeom prst="ellipse">
              <a:avLst/>
            </a:prstGeom>
            <a:gradFill rotWithShape="0">
              <a:gsLst>
                <a:gs pos="0">
                  <a:srgbClr val="f1f5fd"/>
                </a:gs>
                <a:gs pos="100000">
                  <a:srgbClr val="96969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rot="20601600">
              <a:off x="1413000" y="235224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dadad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rot="20601600">
              <a:off x="1385640" y="2176200"/>
              <a:ext cx="5698440" cy="292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395" y="2248"/>
                  </a:moveTo>
                  <a:arcTo wR="10800" hR="10800" stAng="-3141777" swAng="5155523"/>
                  <a:lnTo>
                    <a:pt x="10800" y="10800"/>
                  </a:lnTo>
                  <a:close/>
                </a:path>
                <a:path fill="none" w="21600" h="21600">
                  <a:moveTo>
                    <a:pt x="17395" y="2248"/>
                  </a:moveTo>
                  <a:arcTo wR="10800" hR="10800" stAng="-3141777" swAng="5155523"/>
                </a:path>
              </a:pathLst>
            </a:custGeom>
            <a:gradFill rotWithShape="0">
              <a:gsLst>
                <a:gs pos="0">
                  <a:srgbClr val="5fb6f1"/>
                </a:gs>
                <a:gs pos="100000">
                  <a:srgbClr val="98cff5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 rot="20602200">
              <a:off x="1434960" y="2176200"/>
              <a:ext cx="5643360" cy="295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28" y="12048"/>
                  </a:moveTo>
                  <a:arcTo wR="10800" hR="10800" stAng="398260" swAng="5586891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28" y="12048"/>
                  </a:moveTo>
                  <a:arcTo wR="10800" hR="10800" stAng="398260" swAng="5586891"/>
                </a:path>
              </a:pathLst>
            </a:custGeom>
            <a:gradFill rotWithShape="0">
              <a:gsLst>
                <a:gs pos="0">
                  <a:srgbClr val="9181e1"/>
                </a:gs>
                <a:gs pos="100000">
                  <a:srgbClr val="64599c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rot="20601600">
              <a:off x="1392840" y="2187360"/>
              <a:ext cx="5681520" cy="283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879" y="1186"/>
                  </a:moveTo>
                  <a:arcTo wR="10800" hR="10800" stAng="-7026499" swAng="4201110"/>
                  <a:lnTo>
                    <a:pt x="10800" y="10800"/>
                  </a:lnTo>
                  <a:close/>
                </a:path>
                <a:path fill="none" w="21600" h="21600">
                  <a:moveTo>
                    <a:pt x="5879" y="1186"/>
                  </a:moveTo>
                  <a:arcTo wR="10800" hR="10800" stAng="-7026499" swAng="4201110"/>
                </a:path>
              </a:pathLst>
            </a:custGeom>
            <a:gradFill rotWithShape="0">
              <a:gsLst>
                <a:gs pos="0">
                  <a:srgbClr val="4483ae"/>
                </a:gs>
                <a:gs pos="100000">
                  <a:srgbClr val="5fb6f1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H="1" rot="20602200">
              <a:off x="1403280" y="2185920"/>
              <a:ext cx="5702040" cy="2930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946" y="828"/>
                  </a:moveTo>
                  <a:arcTo wR="10800" hR="10800" stAng="-4045467" swAng="5794864"/>
                  <a:lnTo>
                    <a:pt x="10800" y="10800"/>
                  </a:lnTo>
                  <a:close/>
                </a:path>
                <a:path fill="none" w="21600" h="21600">
                  <a:moveTo>
                    <a:pt x="14946" y="828"/>
                  </a:moveTo>
                  <a:arcTo wR="10800" hR="10800" stAng="-4045467" swAng="5794864"/>
                </a:path>
              </a:pathLst>
            </a:custGeom>
            <a:gradFill rotWithShape="0">
              <a:gsLst>
                <a:gs pos="0">
                  <a:srgbClr val="236050"/>
                </a:gs>
                <a:gs pos="100000">
                  <a:srgbClr val="4cd2af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464080" y="3622680"/>
              <a:ext cx="1754280" cy="1778040"/>
            </a:xfrm>
            <a:custGeom>
              <a:avLst/>
              <a:gdLst/>
              <a:ahLst/>
              <a:rect l="l" t="t" r="r" b="b"/>
              <a:pathLst>
                <a:path w="1105" h="1120">
                  <a:moveTo>
                    <a:pt x="9" y="888"/>
                  </a:moveTo>
                  <a:lnTo>
                    <a:pt x="1105" y="0"/>
                  </a:lnTo>
                  <a:lnTo>
                    <a:pt x="1081" y="256"/>
                  </a:lnTo>
                  <a:cubicBezTo>
                    <a:pt x="1014" y="373"/>
                    <a:pt x="882" y="560"/>
                    <a:pt x="705" y="704"/>
                  </a:cubicBezTo>
                  <a:cubicBezTo>
                    <a:pt x="528" y="848"/>
                    <a:pt x="133" y="1089"/>
                    <a:pt x="17" y="1120"/>
                  </a:cubicBezTo>
                  <a:cubicBezTo>
                    <a:pt x="0" y="1038"/>
                    <a:pt x="9" y="888"/>
                    <a:pt x="9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94b1ec"/>
                </a:gs>
                <a:gs pos="100000">
                  <a:srgbClr val="cddaf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rot="20539200">
              <a:off x="1019520" y="1583280"/>
              <a:ext cx="6542640" cy="377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808" y="16758"/>
                  </a:moveTo>
                  <a:arcTo wR="10800" hR="10800" stAng="2008784" swAng="2800242"/>
                  <a:lnTo>
                    <a:pt x="10800" y="10800"/>
                  </a:lnTo>
                  <a:close/>
                </a:path>
                <a:path fill="none" w="21600" h="21600">
                  <a:moveTo>
                    <a:pt x="19808" y="16758"/>
                  </a:moveTo>
                  <a:arcTo wR="10800" hR="10800" stAng="2008784" swAng="2800242"/>
                </a:path>
              </a:pathLst>
            </a:custGeom>
            <a:gradFill rotWithShape="0">
              <a:gsLst>
                <a:gs pos="0">
                  <a:srgbClr val="94b1ec"/>
                </a:gs>
                <a:gs pos="100000">
                  <a:srgbClr val="44516c"/>
                </a:gs>
              </a:gsLst>
              <a:lin ang="145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475160" y="3962520"/>
              <a:ext cx="1028880" cy="1473120"/>
            </a:xfrm>
            <a:custGeom>
              <a:avLst/>
              <a:gdLst/>
              <a:ahLst/>
              <a:rect l="l" t="t" r="r" b="b"/>
              <a:pathLst>
                <a:path w="648" h="928">
                  <a:moveTo>
                    <a:pt x="648" y="632"/>
                  </a:moveTo>
                  <a:lnTo>
                    <a:pt x="648" y="928"/>
                  </a:lnTo>
                  <a:lnTo>
                    <a:pt x="0" y="64"/>
                  </a:lnTo>
                  <a:lnTo>
                    <a:pt x="96" y="0"/>
                  </a:lnTo>
                  <a:lnTo>
                    <a:pt x="648" y="632"/>
                  </a:lnTo>
                  <a:close/>
                </a:path>
              </a:pathLst>
            </a:custGeom>
            <a:gradFill rotWithShape="0">
              <a:gsLst>
                <a:gs pos="0">
                  <a:srgbClr val="94b1ec"/>
                </a:gs>
                <a:gs pos="100000">
                  <a:srgbClr val="cddaf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20601600">
              <a:off x="2930400" y="290484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0c0c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921320" y="35845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826440" y="23655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655240" y="26701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350320" y="38894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140640" y="45752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394160" y="4178520"/>
              <a:ext cx="863640" cy="107928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5fb6f1">
                    <a:alpha val="19215"/>
                  </a:srgbClr>
                </a:gs>
                <a:gs pos="100000">
                  <a:srgbClr val="93cdf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20601600">
              <a:off x="3032280" y="3157560"/>
              <a:ext cx="2585880" cy="1090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3520" y="426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-D Pie Ch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6T06:30:4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05T03:16:52Z</dcterms:modified>
  <cp:revision>3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