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46D6D-E6BD-4C4D-8E85-3AADFD898A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0" y="3794040"/>
            <a:ext cx="678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6000" y="4072680"/>
            <a:ext cx="678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F9D4F-F369-4D74-88B4-81FEF9D811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0" y="3794040"/>
            <a:ext cx="3309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61080" y="3794040"/>
            <a:ext cx="3309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000" y="4072680"/>
            <a:ext cx="3309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61080" y="4072680"/>
            <a:ext cx="3309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B8D60-DA3E-4B6B-964B-96FC8262CF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0" y="3794040"/>
            <a:ext cx="2183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8840" y="3794040"/>
            <a:ext cx="2183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72040" y="3794040"/>
            <a:ext cx="2183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6000" y="4072680"/>
            <a:ext cx="2183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578840" y="4072680"/>
            <a:ext cx="2183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872040" y="4072680"/>
            <a:ext cx="2183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3045C-6BF7-4F7B-9B0C-12E9053B3B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0082C-C515-4DC0-AFE8-0A062459D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286000" y="379404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4C9308-1F2B-40B8-927A-74F46C42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0" y="379404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060459-8320-44F3-BE1C-F699D0D4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0" y="3794040"/>
            <a:ext cx="3309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61080" y="3794040"/>
            <a:ext cx="3309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F04A2-6C28-4473-A15F-31D0073C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C78A0-F684-42A2-88BB-0AB8FE28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362320" y="3124080"/>
            <a:ext cx="6781680" cy="282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F1EDA-3B19-480D-8738-1394D083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0" y="3794040"/>
            <a:ext cx="3309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761080" y="3794040"/>
            <a:ext cx="3309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0" y="4072680"/>
            <a:ext cx="3309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77F44-88A9-4238-B55A-5A4B6C23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6000" y="379404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118A9-817A-41F7-BDE2-45CF33B52B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0" y="3794040"/>
            <a:ext cx="3309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761080" y="3794040"/>
            <a:ext cx="3309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61080" y="4072680"/>
            <a:ext cx="3309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F7A0D2-2CA1-4DE5-920E-4F0186B2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0" y="3794040"/>
            <a:ext cx="3309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61080" y="3794040"/>
            <a:ext cx="3309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0" y="4072680"/>
            <a:ext cx="678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DFA1E5-FB7C-4782-9B0D-816FAFB1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0" y="3794040"/>
            <a:ext cx="678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286000" y="4072680"/>
            <a:ext cx="678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50F679-37F6-4EFA-8093-05E696A1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0" y="3794040"/>
            <a:ext cx="3309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761080" y="3794040"/>
            <a:ext cx="3309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286000" y="4072680"/>
            <a:ext cx="3309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761080" y="4072680"/>
            <a:ext cx="3309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A18050-A2F2-4780-A916-ECD8A6413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0" y="3794040"/>
            <a:ext cx="2183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8840" y="3794040"/>
            <a:ext cx="2183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72040" y="3794040"/>
            <a:ext cx="2183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286000" y="4072680"/>
            <a:ext cx="2183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578840" y="4072680"/>
            <a:ext cx="2183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872040" y="4072680"/>
            <a:ext cx="2183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530F07-704D-43E2-AD48-9854F2374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0" y="379404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7FBAA-E9A8-4B90-A63D-E4D669E22B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0" y="3794040"/>
            <a:ext cx="3309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61080" y="3794040"/>
            <a:ext cx="3309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08A91-4FDD-45D9-A80A-82B3C759AC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1032A-5446-4A27-80B8-A33241ABC7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362320" y="3124080"/>
            <a:ext cx="6781680" cy="282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295AD-FDD2-48EA-81C1-FAF9B51634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0" y="3794040"/>
            <a:ext cx="3309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1080" y="3794040"/>
            <a:ext cx="3309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0" y="4072680"/>
            <a:ext cx="3309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C24A5-FA47-4C7B-995A-B1D0C71D3F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0" y="3794040"/>
            <a:ext cx="3309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61080" y="3794040"/>
            <a:ext cx="3309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761080" y="4072680"/>
            <a:ext cx="3309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5AFEB-637D-423C-96B2-7CA7721305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0" y="3794040"/>
            <a:ext cx="3309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61080" y="3794040"/>
            <a:ext cx="33091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0" y="4072680"/>
            <a:ext cx="678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2B090-9704-4E68-B024-FEDF927E99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2" name="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569880" y="0"/>
            <a:ext cx="6512040" cy="800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60948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b7e7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b7e7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7347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b7e7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7347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b7e7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7347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b7e7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7347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b7e7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7347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b7e7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77b7e7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1"/>
          </p:nvPr>
        </p:nvSpPr>
        <p:spPr>
          <a:xfrm>
            <a:off x="6019560" y="641628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347d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2"/>
          </p:nvPr>
        </p:nvSpPr>
        <p:spPr>
          <a:xfrm>
            <a:off x="3505320" y="6432120"/>
            <a:ext cx="21333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347d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87CC-E7C3-4FBB-AA6F-256B4F44FEC4}" type="slidenum">
              <a:rPr b="0" lang="en-US" sz="1200" spc="-1" strike="noStrike">
                <a:solidFill>
                  <a:srgbClr val="17347d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609120" y="731520"/>
            <a:ext cx="8001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"/>
          <p:cNvSpPr/>
          <p:nvPr/>
        </p:nvSpPr>
        <p:spPr>
          <a:xfrm>
            <a:off x="7315200" y="763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40"/>
            <a:ext cx="2209680" cy="313236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03560" y="0"/>
            <a:ext cx="6940440" cy="3314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05000" y="3124080"/>
            <a:ext cx="6939000" cy="648000"/>
          </a:xfrm>
          <a:prstGeom prst="rect">
            <a:avLst/>
          </a:prstGeom>
          <a:solidFill>
            <a:srgbClr val="173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124080"/>
            <a:ext cx="9144000" cy="152640"/>
          </a:xfrm>
          <a:prstGeom prst="rect">
            <a:avLst/>
          </a:prstGeom>
          <a:solidFill>
            <a:srgbClr val="173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3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7347d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4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4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7347d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47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5"/>
          </p:nvPr>
        </p:nvSpPr>
        <p:spPr>
          <a:xfrm>
            <a:off x="65527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347d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3EC1-993E-4342-BD8F-E88F0A70F49C}" type="slidenum">
              <a:rPr b="0" lang="en-US" sz="1200" spc="-1" strike="noStrike">
                <a:solidFill>
                  <a:srgbClr val="1734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2514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47d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7347d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7347d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7347d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7347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7347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moban/guowai/" TargetMode="External"/><Relationship Id="rId2" Type="http://schemas.openxmlformats.org/officeDocument/2006/relationships/hyperlink" Target="http://www.eeppt.com/moban/guowai/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362320" y="31240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国外优秀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作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19320" y="548640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Verdana"/>
              </a:rPr>
              <a:t>幻灯片之家 </a:t>
            </a:r>
            <a:r>
              <a:rPr b="1" lang="zh-CN" sz="1800" spc="-1" strike="noStrike">
                <a:solidFill>
                  <a:srgbClr val="1c1c1c"/>
                </a:solidFill>
                <a:latin typeface="Verdana"/>
              </a:rPr>
              <a:t>http://www.eeppt.com</a:t>
            </a:r>
            <a:endParaRPr b="0" lang="en-US" sz="1800" spc="-1" strike="noStrike">
              <a:solidFill>
                <a:srgbClr val="1734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731520"/>
            <a:ext cx="8001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14479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77b7e7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1722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rot="20876400">
            <a:off x="354492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47652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497400" y="376236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51468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60684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89448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20826600">
            <a:off x="1701720" y="436212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1625760" y="3371760"/>
            <a:ext cx="1371240" cy="1441080"/>
            <a:chOff x="1625760" y="3371760"/>
            <a:chExt cx="1371240" cy="1441080"/>
          </a:xfrm>
        </p:grpSpPr>
        <p:sp>
          <p:nvSpPr>
            <p:cNvPr id="305" name=""/>
            <p:cNvSpPr/>
            <p:nvPr/>
          </p:nvSpPr>
          <p:spPr>
            <a:xfrm>
              <a:off x="162576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43760" y="3380040"/>
              <a:ext cx="133704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656720" y="3393360"/>
              <a:ext cx="1271880" cy="1314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728360" y="3430080"/>
              <a:ext cx="1132200" cy="1065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90620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152388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60020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1280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62396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67796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79712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79072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91312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922480" y="154620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928960" y="1552680"/>
            <a:ext cx="633240" cy="6220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965320" y="1571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98332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731520"/>
            <a:ext cx="8001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838080" y="1676520"/>
            <a:ext cx="7391160" cy="4343040"/>
            <a:chOff x="838080" y="1676520"/>
            <a:chExt cx="7391160" cy="4343040"/>
          </a:xfrm>
        </p:grpSpPr>
        <p:sp>
          <p:nvSpPr>
            <p:cNvPr id="324" name=""/>
            <p:cNvSpPr/>
            <p:nvPr/>
          </p:nvSpPr>
          <p:spPr>
            <a:xfrm>
              <a:off x="2719440" y="2365920"/>
              <a:ext cx="3561120" cy="3653640"/>
            </a:xfrm>
            <a:prstGeom prst="ellipse">
              <a:avLst/>
            </a:prstGeom>
            <a:gradFill rotWithShape="0">
              <a:gsLst>
                <a:gs pos="0">
                  <a:srgbClr val="77b7e7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77b7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3592800" y="3279240"/>
              <a:ext cx="1814040" cy="1967040"/>
              <a:chOff x="3592800" y="3279240"/>
              <a:chExt cx="1814040" cy="1967040"/>
            </a:xfrm>
          </p:grpSpPr>
          <p:sp>
            <p:nvSpPr>
              <p:cNvPr id="326" name=""/>
              <p:cNvSpPr/>
              <p:nvPr/>
            </p:nvSpPr>
            <p:spPr>
              <a:xfrm>
                <a:off x="3592800" y="3279240"/>
                <a:ext cx="1814040" cy="19670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32e00"/>
                  </a:gs>
                </a:gsLst>
                <a:lin ang="5400000"/>
              </a:gradFill>
              <a:ln w="9360">
                <a:solidFill>
                  <a:srgbClr val="1734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800160" y="3311640"/>
                <a:ext cx="1399320" cy="7423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3837960" y="405216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4130640" y="2014560"/>
              <a:ext cx="604440" cy="607320"/>
              <a:chOff x="4130640" y="2014560"/>
              <a:chExt cx="604440" cy="607320"/>
            </a:xfrm>
          </p:grpSpPr>
          <p:grpSp>
            <p:nvGrpSpPr>
              <p:cNvPr id="330" name=""/>
              <p:cNvGrpSpPr/>
              <p:nvPr/>
            </p:nvGrpSpPr>
            <p:grpSpPr>
              <a:xfrm>
                <a:off x="4130640" y="2014560"/>
                <a:ext cx="604440" cy="607320"/>
                <a:chOff x="4130640" y="2014560"/>
                <a:chExt cx="604440" cy="60732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4130640" y="2014560"/>
                  <a:ext cx="604440" cy="60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c13f"/>
                    </a:gs>
                    <a:gs pos="100000">
                      <a:srgbClr val="28511a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4199760" y="2024640"/>
                  <a:ext cx="466200" cy="229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1c13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3" name=""/>
              <p:cNvSpPr/>
              <p:nvPr/>
            </p:nvSpPr>
            <p:spPr>
              <a:xfrm>
                <a:off x="4254840" y="210780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3542040" y="5045400"/>
              <a:ext cx="327600" cy="304560"/>
              <a:chOff x="3542040" y="5045400"/>
              <a:chExt cx="327600" cy="304560"/>
            </a:xfrm>
          </p:grpSpPr>
          <p:sp>
            <p:nvSpPr>
              <p:cNvPr id="335" name=""/>
              <p:cNvSpPr/>
              <p:nvPr/>
            </p:nvSpPr>
            <p:spPr>
              <a:xfrm rot="18226800">
                <a:off x="3565800" y="5204520"/>
                <a:ext cx="120600" cy="12240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63636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8226800">
                <a:off x="3724560" y="5068080"/>
                <a:ext cx="120600" cy="12240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63636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2988000" y="5312520"/>
              <a:ext cx="604440" cy="632160"/>
              <a:chOff x="2988000" y="5312520"/>
              <a:chExt cx="604440" cy="632160"/>
            </a:xfrm>
          </p:grpSpPr>
          <p:grpSp>
            <p:nvGrpSpPr>
              <p:cNvPr id="338" name=""/>
              <p:cNvGrpSpPr/>
              <p:nvPr/>
            </p:nvGrpSpPr>
            <p:grpSpPr>
              <a:xfrm>
                <a:off x="2988000" y="5312520"/>
                <a:ext cx="604440" cy="632160"/>
                <a:chOff x="2988000" y="5312520"/>
                <a:chExt cx="604440" cy="63216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2988000" y="5312520"/>
                  <a:ext cx="604440" cy="63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3057120" y="5322960"/>
                  <a:ext cx="466200" cy="238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1" name=""/>
              <p:cNvSpPr/>
              <p:nvPr/>
            </p:nvSpPr>
            <p:spPr>
              <a:xfrm>
                <a:off x="3111480" y="543096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5947560" y="3279240"/>
              <a:ext cx="601920" cy="639360"/>
              <a:chOff x="5947560" y="3279240"/>
              <a:chExt cx="601920" cy="63936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5947560" y="3279240"/>
                <a:ext cx="601920" cy="639360"/>
                <a:chOff x="5947560" y="3279240"/>
                <a:chExt cx="601920" cy="63936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5947560" y="3279240"/>
                  <a:ext cx="601920" cy="639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c3c3fe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016320" y="3289680"/>
                  <a:ext cx="464400" cy="2412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6053400" y="336708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5407200" y="5316840"/>
              <a:ext cx="576720" cy="573840"/>
              <a:chOff x="5407200" y="5316840"/>
              <a:chExt cx="576720" cy="57384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5407200" y="5316840"/>
                <a:ext cx="576720" cy="573840"/>
                <a:chOff x="5407200" y="5316840"/>
                <a:chExt cx="576720" cy="57384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5407200" y="5316840"/>
                  <a:ext cx="576720" cy="573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575757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473080" y="5326200"/>
                  <a:ext cx="444960" cy="2163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" name=""/>
              <p:cNvSpPr/>
              <p:nvPr/>
            </p:nvSpPr>
            <p:spPr>
              <a:xfrm>
                <a:off x="5522760" y="534744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2517840" y="3279240"/>
              <a:ext cx="604440" cy="632160"/>
              <a:chOff x="2517840" y="3279240"/>
              <a:chExt cx="604440" cy="632160"/>
            </a:xfrm>
          </p:grpSpPr>
          <p:grpSp>
            <p:nvGrpSpPr>
              <p:cNvPr id="353" name=""/>
              <p:cNvGrpSpPr/>
              <p:nvPr/>
            </p:nvGrpSpPr>
            <p:grpSpPr>
              <a:xfrm>
                <a:off x="2517840" y="3279240"/>
                <a:ext cx="604440" cy="632160"/>
                <a:chOff x="2517840" y="3279240"/>
                <a:chExt cx="604440" cy="63216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2517840" y="3279240"/>
                  <a:ext cx="604440" cy="63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7b7e7"/>
                    </a:gs>
                    <a:gs pos="100000">
                      <a:srgbClr val="355268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586960" y="3289680"/>
                  <a:ext cx="466200" cy="238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7b7e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"/>
              <p:cNvSpPr/>
              <p:nvPr/>
            </p:nvSpPr>
            <p:spPr>
              <a:xfrm>
                <a:off x="2637000" y="334944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 rot="18226800">
              <a:off x="5339160" y="5173560"/>
              <a:ext cx="119880" cy="121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18226800">
              <a:off x="5204880" y="5033160"/>
              <a:ext cx="119880" cy="121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7f7f7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3166560" y="3677040"/>
              <a:ext cx="369360" cy="237240"/>
              <a:chOff x="3166560" y="3677040"/>
              <a:chExt cx="369360" cy="237240"/>
            </a:xfrm>
          </p:grpSpPr>
          <p:sp>
            <p:nvSpPr>
              <p:cNvPr id="360" name=""/>
              <p:cNvSpPr/>
              <p:nvPr/>
            </p:nvSpPr>
            <p:spPr>
              <a:xfrm rot="18226800">
                <a:off x="3190320" y="3699720"/>
                <a:ext cx="120600" cy="122400"/>
              </a:xfrm>
              <a:prstGeom prst="ellipse">
                <a:avLst/>
              </a:prstGeom>
              <a:gradFill rotWithShape="0">
                <a:gsLst>
                  <a:gs pos="0">
                    <a:srgbClr val="77b7e7"/>
                  </a:gs>
                  <a:gs pos="100000">
                    <a:srgbClr val="446984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8226800">
                <a:off x="3391200" y="3769200"/>
                <a:ext cx="120600" cy="122040"/>
              </a:xfrm>
              <a:prstGeom prst="ellipse">
                <a:avLst/>
              </a:prstGeom>
              <a:gradFill rotWithShape="0">
                <a:gsLst>
                  <a:gs pos="0">
                    <a:srgbClr val="77b7e7"/>
                  </a:gs>
                  <a:gs pos="100000">
                    <a:srgbClr val="39586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4376160" y="2734560"/>
              <a:ext cx="168120" cy="426960"/>
              <a:chOff x="4376160" y="2734560"/>
              <a:chExt cx="168120" cy="426960"/>
            </a:xfrm>
          </p:grpSpPr>
          <p:sp>
            <p:nvSpPr>
              <p:cNvPr id="363" name=""/>
              <p:cNvSpPr/>
              <p:nvPr/>
            </p:nvSpPr>
            <p:spPr>
              <a:xfrm rot="18226800">
                <a:off x="4399920" y="2757600"/>
                <a:ext cx="120240" cy="121680"/>
              </a:xfrm>
              <a:prstGeom prst="ellipse">
                <a:avLst/>
              </a:prstGeom>
              <a:gradFill rotWithShape="0">
                <a:gsLst>
                  <a:gs pos="0">
                    <a:srgbClr val="61c13f"/>
                  </a:gs>
                  <a:gs pos="100000">
                    <a:srgbClr val="2b571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8226800">
                <a:off x="4399920" y="3016800"/>
                <a:ext cx="119880" cy="121680"/>
              </a:xfrm>
              <a:prstGeom prst="ellipse">
                <a:avLst/>
              </a:prstGeom>
              <a:gradFill rotWithShape="0">
                <a:gsLst>
                  <a:gs pos="0">
                    <a:srgbClr val="61c13f"/>
                  </a:gs>
                  <a:gs pos="100000">
                    <a:srgbClr val="2e5d1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 rot="18226800">
              <a:off x="5692320" y="3725280"/>
              <a:ext cx="119520" cy="121320"/>
            </a:xfrm>
            <a:prstGeom prst="ellipse">
              <a:avLst/>
            </a:prstGeom>
            <a:gradFill rotWithShape="0">
              <a:gsLst>
                <a:gs pos="0">
                  <a:srgbClr val="b1b1fe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18226800">
              <a:off x="5473800" y="3839400"/>
              <a:ext cx="119520" cy="121320"/>
            </a:xfrm>
            <a:prstGeom prst="ellipse">
              <a:avLst/>
            </a:prstGeom>
            <a:gradFill rotWithShape="0">
              <a:gsLst>
                <a:gs pos="0">
                  <a:srgbClr val="b1b1fe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38080" y="3419640"/>
              <a:ext cx="167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592800" y="1676520"/>
              <a:ext cx="167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549840" y="3432960"/>
              <a:ext cx="167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173600" y="5527800"/>
              <a:ext cx="167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12000" y="5527800"/>
              <a:ext cx="167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731520"/>
            <a:ext cx="8001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74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81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98468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89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6147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3322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3401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3462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815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57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845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288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403" name=""/>
            <p:cNvSpPr/>
            <p:nvPr/>
          </p:nvSpPr>
          <p:spPr>
            <a:xfrm>
              <a:off x="5943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994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994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6688080" y="1832040"/>
              <a:ext cx="642960" cy="642600"/>
              <a:chOff x="6688080" y="1832040"/>
              <a:chExt cx="642960" cy="642600"/>
            </a:xfrm>
          </p:grpSpPr>
          <p:sp>
            <p:nvSpPr>
              <p:cNvPr id="408" name=""/>
              <p:cNvSpPr/>
              <p:nvPr/>
            </p:nvSpPr>
            <p:spPr>
              <a:xfrm>
                <a:off x="6688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694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708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742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9814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1157400" y="5746680"/>
            <a:ext cx="6078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99ff"/>
                </a:solidFill>
                <a:uFillTx/>
                <a:latin typeface="Arial"/>
                <a:hlinkClick r:id="rId1"/>
              </a:rPr>
              <a:t>国外ppt模板下载</a:t>
            </a:r>
            <a:r>
              <a:rPr b="0" lang="zh-CN" sz="1800" spc="-1" strike="noStrike">
                <a:solidFill>
                  <a:srgbClr val="17347d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http://www.eeppt.com/moban/guowai/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731520"/>
            <a:ext cx="8001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20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4721760" y="3529440"/>
            <a:ext cx="1523160" cy="2421720"/>
            <a:chOff x="4721760" y="3529440"/>
            <a:chExt cx="1523160" cy="2421720"/>
          </a:xfrm>
        </p:grpSpPr>
        <p:grpSp>
          <p:nvGrpSpPr>
            <p:cNvPr id="423" name=""/>
            <p:cNvGrpSpPr/>
            <p:nvPr/>
          </p:nvGrpSpPr>
          <p:grpSpPr>
            <a:xfrm>
              <a:off x="4721760" y="3686760"/>
              <a:ext cx="1418400" cy="2264400"/>
              <a:chOff x="4721760" y="3686760"/>
              <a:chExt cx="1418400" cy="2264400"/>
            </a:xfrm>
          </p:grpSpPr>
          <p:sp>
            <p:nvSpPr>
              <p:cNvPr id="424" name=""/>
              <p:cNvSpPr/>
              <p:nvPr/>
            </p:nvSpPr>
            <p:spPr>
              <a:xfrm rot="3876600">
                <a:off x="429408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3876600">
                <a:off x="56599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5156640" y="3529440"/>
              <a:ext cx="1088280" cy="1737360"/>
              <a:chOff x="5156640" y="3529440"/>
              <a:chExt cx="1088280" cy="1737360"/>
            </a:xfrm>
          </p:grpSpPr>
          <p:sp>
            <p:nvSpPr>
              <p:cNvPr id="427" name=""/>
              <p:cNvSpPr/>
              <p:nvPr/>
            </p:nvSpPr>
            <p:spPr>
              <a:xfrm flipV="1" rot="3876600">
                <a:off x="482832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V="1" rot="3876600">
                <a:off x="586116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429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30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397040" y="277092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97040" y="277380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451760" y="2828880"/>
              <a:ext cx="99252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466880" y="2844360"/>
              <a:ext cx="961920" cy="992160"/>
              <a:chOff x="4466880" y="2844360"/>
              <a:chExt cx="961920" cy="992160"/>
            </a:xfrm>
          </p:grpSpPr>
          <p:sp>
            <p:nvSpPr>
              <p:cNvPr id="436" name=""/>
              <p:cNvSpPr/>
              <p:nvPr/>
            </p:nvSpPr>
            <p:spPr>
              <a:xfrm>
                <a:off x="4466880" y="2844360"/>
                <a:ext cx="96192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479120" y="2849760"/>
                <a:ext cx="93888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488840" y="2859120"/>
                <a:ext cx="89280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541400" y="2884680"/>
                <a:ext cx="79344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440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41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42" name="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3876600">
                <a:off x="762732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45" name="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V="1" rot="3876600">
                <a:off x="7828560" y="49564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sp>
        <p:nvSpPr>
          <p:cNvPr id="447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53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29028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2916720" y="3529440"/>
            <a:ext cx="1523160" cy="2421720"/>
            <a:chOff x="2916720" y="3529440"/>
            <a:chExt cx="1523160" cy="2421720"/>
          </a:xfrm>
        </p:grpSpPr>
        <p:grpSp>
          <p:nvGrpSpPr>
            <p:cNvPr id="458" name=""/>
            <p:cNvGrpSpPr/>
            <p:nvPr/>
          </p:nvGrpSpPr>
          <p:grpSpPr>
            <a:xfrm>
              <a:off x="2916720" y="3686760"/>
              <a:ext cx="1418400" cy="2264400"/>
              <a:chOff x="2916720" y="3686760"/>
              <a:chExt cx="1418400" cy="2264400"/>
            </a:xfrm>
          </p:grpSpPr>
          <p:sp>
            <p:nvSpPr>
              <p:cNvPr id="459" name=""/>
              <p:cNvSpPr/>
              <p:nvPr/>
            </p:nvSpPr>
            <p:spPr>
              <a:xfrm rot="3876600">
                <a:off x="248904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3876600">
                <a:off x="3854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3351600" y="3529440"/>
              <a:ext cx="1088280" cy="1737360"/>
              <a:chOff x="3351600" y="3529440"/>
              <a:chExt cx="1088280" cy="1737360"/>
            </a:xfrm>
          </p:grpSpPr>
          <p:sp>
            <p:nvSpPr>
              <p:cNvPr id="462" name=""/>
              <p:cNvSpPr/>
              <p:nvPr/>
            </p:nvSpPr>
            <p:spPr>
              <a:xfrm flipV="1" rot="3876600">
                <a:off x="302328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V="1" rot="3876600">
                <a:off x="405612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464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65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5938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5938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6481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2663640" y="2844360"/>
              <a:ext cx="960480" cy="992160"/>
              <a:chOff x="2663640" y="2844360"/>
              <a:chExt cx="960480" cy="992160"/>
            </a:xfrm>
          </p:grpSpPr>
          <p:sp>
            <p:nvSpPr>
              <p:cNvPr id="471" name=""/>
              <p:cNvSpPr/>
              <p:nvPr/>
            </p:nvSpPr>
            <p:spPr>
              <a:xfrm>
                <a:off x="26636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6758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6856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7378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475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76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77" name="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rot="3876600">
                <a:off x="210924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80" name="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 rot="3876600">
                <a:off x="2310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482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83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460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460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9003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915840" y="2844360"/>
              <a:ext cx="960480" cy="992160"/>
              <a:chOff x="915840" y="2844360"/>
              <a:chExt cx="960480" cy="992160"/>
            </a:xfrm>
          </p:grpSpPr>
          <p:sp>
            <p:nvSpPr>
              <p:cNvPr id="489" name=""/>
              <p:cNvSpPr/>
              <p:nvPr/>
            </p:nvSpPr>
            <p:spPr>
              <a:xfrm>
                <a:off x="9158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9280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9378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9900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sp>
        <p:nvSpPr>
          <p:cNvPr id="493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4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4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4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4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1101600" y="1828800"/>
            <a:ext cx="6056640" cy="407880"/>
            <a:chOff x="1101600" y="1828800"/>
            <a:chExt cx="6056640" cy="407880"/>
          </a:xfrm>
        </p:grpSpPr>
        <p:sp>
          <p:nvSpPr>
            <p:cNvPr id="502" name="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cc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cc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601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cc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39216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cc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cxnSp>
          <p:nvCxnSpPr>
            <p:cNvPr id="506" name=""/>
            <p:cNvCxnSpPr>
              <a:stCxn id="502" idx="3"/>
              <a:endCxn id="503" idx="1"/>
            </p:cNvCxnSpPr>
            <p:nvPr/>
          </p:nvCxnSpPr>
          <p:spPr>
            <a:xfrm>
              <a:off x="1837800" y="2052360"/>
              <a:ext cx="986760" cy="1080"/>
            </a:xfrm>
            <a:prstGeom prst="straightConnector1">
              <a:avLst/>
            </a:prstGeom>
            <a:ln w="9360">
              <a:solidFill>
                <a:srgbClr val="3366cc"/>
              </a:solidFill>
              <a:miter/>
              <a:tailEnd len="med" type="triangle" w="med"/>
            </a:ln>
          </p:spPr>
        </p:cxnSp>
        <p:cxnSp>
          <p:nvCxnSpPr>
            <p:cNvPr id="507" name=""/>
            <p:cNvCxnSpPr>
              <a:stCxn id="503" idx="3"/>
              <a:endCxn id="504" idx="1"/>
            </p:cNvCxnSpPr>
            <p:nvPr/>
          </p:nvCxnSpPr>
          <p:spPr>
            <a:xfrm>
              <a:off x="3592440" y="2052360"/>
              <a:ext cx="978480" cy="1080"/>
            </a:xfrm>
            <a:prstGeom prst="straightConnector1">
              <a:avLst/>
            </a:prstGeom>
            <a:ln w="9360">
              <a:solidFill>
                <a:srgbClr val="3366cc"/>
              </a:solidFill>
              <a:miter/>
              <a:tailEnd len="med" type="triangle" w="med"/>
            </a:ln>
          </p:spPr>
        </p:cxnSp>
        <p:cxnSp>
          <p:nvCxnSpPr>
            <p:cNvPr id="508" name="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3366cc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120" y="731520"/>
            <a:ext cx="8001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gress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990720" y="2133720"/>
            <a:ext cx="6858000" cy="3428640"/>
            <a:chOff x="990720" y="2133720"/>
            <a:chExt cx="6858000" cy="3428640"/>
          </a:xfrm>
        </p:grpSpPr>
        <p:sp>
          <p:nvSpPr>
            <p:cNvPr id="511" name=""/>
            <p:cNvSpPr/>
            <p:nvPr/>
          </p:nvSpPr>
          <p:spPr>
            <a:xfrm>
              <a:off x="5285520" y="2903040"/>
              <a:ext cx="2563200" cy="2659320"/>
            </a:xfrm>
            <a:custGeom>
              <a:avLst/>
              <a:gdLst>
                <a:gd name="textAreaLeft" fmla="*/ 0 w 2563200"/>
                <a:gd name="textAreaRight" fmla="*/ 2563560 w 256320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0d278"/>
                </a:gs>
                <a:gs pos="100000">
                  <a:srgbClr val="61c13f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138120" y="2903040"/>
              <a:ext cx="2701440" cy="265932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b7b7fe"/>
                </a:gs>
                <a:gs pos="100000">
                  <a:srgbClr val="9999ff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990720" y="2903040"/>
              <a:ext cx="2701440" cy="265932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fcbed"/>
                </a:gs>
                <a:gs pos="100000">
                  <a:srgbClr val="77b7e7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19844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fcbed"/>
                </a:gs>
                <a:gs pos="100000">
                  <a:srgbClr val="77b7e7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30696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7b7fe"/>
                </a:gs>
                <a:gs pos="100000">
                  <a:srgbClr val="9999f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42412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d278"/>
                </a:gs>
                <a:gs pos="100000">
                  <a:srgbClr val="61c13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09120" y="731520"/>
            <a:ext cx="8001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45454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775560" y="29052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77b7e7"/>
              </a:gs>
              <a:gs pos="100000">
                <a:srgbClr val="36546a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61c13f"/>
              </a:gs>
              <a:gs pos="100000">
                <a:srgbClr val="2c581d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46467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514600" y="1806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ny History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432160" y="549576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718160" y="4429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98440" y="35910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31520"/>
            <a:ext cx="8001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990720" y="2382840"/>
          <a:ext cx="746748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7347d"/>
                      </a:solidFill>
                    </a:lnR>
                    <a:lnT>
                      <a:noFill/>
                    </a:lnT>
                    <a:lnB w="5760">
                      <a:solidFill>
                        <a:srgbClr val="1734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61c13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61c13f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61c13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61c13f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61c13f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3366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3366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3366c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"/>
          <p:cNvGrpSpPr/>
          <p:nvPr/>
        </p:nvGrpSpPr>
        <p:grpSpPr>
          <a:xfrm>
            <a:off x="901080" y="755280"/>
            <a:ext cx="7379280" cy="5581080"/>
            <a:chOff x="901080" y="755280"/>
            <a:chExt cx="7379280" cy="5581080"/>
          </a:xfrm>
        </p:grpSpPr>
        <p:sp>
          <p:nvSpPr>
            <p:cNvPr id="537" name=""/>
            <p:cNvSpPr/>
            <p:nvPr/>
          </p:nvSpPr>
          <p:spPr>
            <a:xfrm>
              <a:off x="2438280" y="45417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9696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20601600">
              <a:off x="1712880" y="24282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20601600">
              <a:off x="1769400" y="2266560"/>
              <a:ext cx="556272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20601600">
              <a:off x="1685520" y="225216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bdbdfe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 rot="20602200">
              <a:off x="1734840" y="2252160"/>
              <a:ext cx="564336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77b7e7"/>
                </a:gs>
                <a:gs pos="100000">
                  <a:srgbClr val="527fa0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20601600">
              <a:off x="1692720" y="226332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6e6eb8"/>
                </a:gs>
                <a:gs pos="100000">
                  <a:srgbClr val="9999ff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 rot="20602200">
              <a:off x="1703160" y="2261880"/>
              <a:ext cx="5702040" cy="293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2c581d"/>
                </a:gs>
                <a:gs pos="100000">
                  <a:srgbClr val="61c13f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763960" y="36986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5656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20539200">
              <a:off x="1319400" y="1659240"/>
              <a:ext cx="6542640" cy="377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775040" y="40384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484848"/>
                </a:gs>
                <a:gs pos="100000">
                  <a:srgbClr val="9696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20601600">
              <a:off x="3230280" y="29808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eeeee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221200" y="366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26320" y="2441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955120" y="27460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650200" y="39654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440520" y="4651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694040" y="4254480"/>
              <a:ext cx="863640" cy="107928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9999ff">
                    <a:alpha val="19215"/>
                  </a:srgbClr>
                </a:gs>
                <a:gs pos="100000">
                  <a:srgbClr val="baba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20601600">
              <a:off x="3332160" y="3233520"/>
              <a:ext cx="2585880" cy="109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731520"/>
            <a:ext cx="8001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120" y="731520"/>
            <a:ext cx="8001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"/>
          <p:cNvSpPr/>
          <p:nvPr/>
        </p:nvSpPr>
        <p:spPr>
          <a:xfrm>
            <a:off x="1905120" y="238140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77b7e7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676520" y="161928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99ff"/>
              </a:gs>
              <a:gs pos="50000">
                <a:srgbClr val="bcbcfe"/>
              </a:gs>
              <a:gs pos="100000">
                <a:srgbClr val="9999ff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656160" y="299088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47d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914400" y="4254480"/>
            <a:ext cx="1579680" cy="2070000"/>
            <a:chOff x="914400" y="4254480"/>
            <a:chExt cx="1579680" cy="2070000"/>
          </a:xfrm>
        </p:grpSpPr>
        <p:grpSp>
          <p:nvGrpSpPr>
            <p:cNvPr id="561" name=""/>
            <p:cNvGrpSpPr/>
            <p:nvPr/>
          </p:nvGrpSpPr>
          <p:grpSpPr>
            <a:xfrm>
              <a:off x="914400" y="4254480"/>
              <a:ext cx="1486080" cy="1514520"/>
              <a:chOff x="914400" y="4254480"/>
              <a:chExt cx="1486080" cy="1514520"/>
            </a:xfrm>
          </p:grpSpPr>
          <p:grpSp>
            <p:nvGrpSpPr>
              <p:cNvPr id="562" name=""/>
              <p:cNvGrpSpPr/>
              <p:nvPr/>
            </p:nvGrpSpPr>
            <p:grpSpPr>
              <a:xfrm>
                <a:off x="914400" y="4254480"/>
                <a:ext cx="1486080" cy="1514520"/>
                <a:chOff x="914400" y="4254480"/>
                <a:chExt cx="1486080" cy="151452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914400" y="4254480"/>
                  <a:ext cx="148608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c13f"/>
                    </a:gs>
                    <a:gs pos="100000">
                      <a:srgbClr val="3d7a2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1084320" y="4279320"/>
                  <a:ext cx="1146240" cy="571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1c13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5" name=""/>
              <p:cNvSpPr/>
              <p:nvPr/>
            </p:nvSpPr>
            <p:spPr>
              <a:xfrm>
                <a:off x="1072440" y="502560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914400" y="588636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2819520" y="4254480"/>
            <a:ext cx="1617120" cy="2070000"/>
            <a:chOff x="2819520" y="4254480"/>
            <a:chExt cx="1617120" cy="2070000"/>
          </a:xfrm>
        </p:grpSpPr>
        <p:grpSp>
          <p:nvGrpSpPr>
            <p:cNvPr id="568" name=""/>
            <p:cNvGrpSpPr/>
            <p:nvPr/>
          </p:nvGrpSpPr>
          <p:grpSpPr>
            <a:xfrm>
              <a:off x="2819520" y="4254480"/>
              <a:ext cx="1523520" cy="1521000"/>
              <a:chOff x="2819520" y="4254480"/>
              <a:chExt cx="1523520" cy="1521000"/>
            </a:xfrm>
          </p:grpSpPr>
          <p:sp>
            <p:nvSpPr>
              <p:cNvPr id="569" name=""/>
              <p:cNvSpPr/>
              <p:nvPr/>
            </p:nvSpPr>
            <p:spPr>
              <a:xfrm>
                <a:off x="2819520" y="4254480"/>
                <a:ext cx="1523520" cy="1521000"/>
              </a:xfrm>
              <a:prstGeom prst="ellips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e4e8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993400" y="427968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9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>
              <a:off x="2895480" y="498456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857320" y="5886360"/>
              <a:ext cx="157932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4876920" y="4210200"/>
            <a:ext cx="1631880" cy="2113920"/>
            <a:chOff x="4876920" y="4210200"/>
            <a:chExt cx="1631880" cy="2113920"/>
          </a:xfrm>
        </p:grpSpPr>
        <p:grpSp>
          <p:nvGrpSpPr>
            <p:cNvPr id="574" name=""/>
            <p:cNvGrpSpPr/>
            <p:nvPr/>
          </p:nvGrpSpPr>
          <p:grpSpPr>
            <a:xfrm>
              <a:off x="4876920" y="4210200"/>
              <a:ext cx="1523880" cy="1520640"/>
              <a:chOff x="4876920" y="4210200"/>
              <a:chExt cx="1523880" cy="1520640"/>
            </a:xfrm>
          </p:grpSpPr>
          <p:sp>
            <p:nvSpPr>
              <p:cNvPr id="575" name=""/>
              <p:cNvSpPr/>
              <p:nvPr/>
            </p:nvSpPr>
            <p:spPr>
              <a:xfrm>
                <a:off x="4876920" y="421020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77b7e7"/>
                  </a:gs>
                  <a:gs pos="100000">
                    <a:srgbClr val="3c5d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051160" y="423540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77b7e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577" name=""/>
            <p:cNvSpPr/>
            <p:nvPr/>
          </p:nvSpPr>
          <p:spPr>
            <a:xfrm>
              <a:off x="4953240" y="49399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929480" y="588636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6781680" y="4210200"/>
            <a:ext cx="1579680" cy="2113920"/>
            <a:chOff x="6781680" y="4210200"/>
            <a:chExt cx="1579680" cy="2113920"/>
          </a:xfrm>
        </p:grpSpPr>
        <p:grpSp>
          <p:nvGrpSpPr>
            <p:cNvPr id="580" name=""/>
            <p:cNvGrpSpPr/>
            <p:nvPr/>
          </p:nvGrpSpPr>
          <p:grpSpPr>
            <a:xfrm>
              <a:off x="6781680" y="4210200"/>
              <a:ext cx="1523880" cy="1531440"/>
              <a:chOff x="6781680" y="4210200"/>
              <a:chExt cx="1523880" cy="1531440"/>
            </a:xfrm>
          </p:grpSpPr>
          <p:grpSp>
            <p:nvGrpSpPr>
              <p:cNvPr id="581" name=""/>
              <p:cNvGrpSpPr/>
              <p:nvPr/>
            </p:nvGrpSpPr>
            <p:grpSpPr>
              <a:xfrm>
                <a:off x="6781680" y="4210200"/>
                <a:ext cx="1523880" cy="1531440"/>
                <a:chOff x="6781680" y="4210200"/>
                <a:chExt cx="1523880" cy="153144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6781680" y="4210200"/>
                  <a:ext cx="1523880" cy="153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6955920" y="4235400"/>
                  <a:ext cx="1175400" cy="5778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4" name=""/>
              <p:cNvSpPr/>
              <p:nvPr/>
            </p:nvSpPr>
            <p:spPr>
              <a:xfrm>
                <a:off x="6924600" y="492408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6781680" y="588636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2643120" y="3166920"/>
            <a:ext cx="4343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61c13f"/>
                    </a:gs>
                  </a:gsLst>
                  <a:lin ang="1080000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61c13f"/>
                  </a:gs>
                </a:gsLst>
                <a:lin ang="1080000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731520"/>
            <a:ext cx="8001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-2422440" y="1474200"/>
            <a:ext cx="4824360" cy="4770360"/>
          </a:xfrm>
          <a:prstGeom prst="blockArc">
            <a:avLst>
              <a:gd name="adj1" fmla="val 10852167"/>
              <a:gd name="adj2" fmla="val 21547833"/>
              <a:gd name="adj3" fmla="val 1491"/>
            </a:avLst>
          </a:prstGeom>
          <a:gradFill rotWithShape="0">
            <a:gsLst>
              <a:gs pos="0">
                <a:srgbClr val="e1e1e1"/>
              </a:gs>
              <a:gs pos="50000">
                <a:srgbClr val="c0c0c0"/>
              </a:gs>
              <a:gs pos="100000">
                <a:srgbClr val="e1e1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rot="5400000">
            <a:off x="-2016720" y="1910520"/>
            <a:ext cx="4032000" cy="3929040"/>
          </a:xfrm>
          <a:prstGeom prst="blockArc">
            <a:avLst>
              <a:gd name="adj1" fmla="val 10800000"/>
              <a:gd name="adj2" fmla="val 0"/>
              <a:gd name="adj3" fmla="val 49741"/>
            </a:avLst>
          </a:prstGeom>
          <a:solidFill>
            <a:srgbClr val="77b7e7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2320" y="50990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47d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17680" y="42721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47d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38280" y="34592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47d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25909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47d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65440" y="1820880"/>
            <a:ext cx="4419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47d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447920" y="1909800"/>
            <a:ext cx="380880" cy="380880"/>
            <a:chOff x="1447920" y="1909800"/>
            <a:chExt cx="380880" cy="380880"/>
          </a:xfrm>
        </p:grpSpPr>
        <p:sp>
          <p:nvSpPr>
            <p:cNvPr id="103" name=""/>
            <p:cNvSpPr/>
            <p:nvPr/>
          </p:nvSpPr>
          <p:spPr>
            <a:xfrm>
              <a:off x="1447920" y="19098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69520" y="193104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525289"/>
                </a:gs>
                <a:gs pos="50000">
                  <a:srgbClr val="9999ff"/>
                </a:gs>
                <a:gs pos="100000">
                  <a:srgbClr val="52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981080" y="2697120"/>
            <a:ext cx="381240" cy="380880"/>
            <a:chOff x="1981080" y="2697120"/>
            <a:chExt cx="381240" cy="380880"/>
          </a:xfrm>
        </p:grpSpPr>
        <p:sp>
          <p:nvSpPr>
            <p:cNvPr id="110" name=""/>
            <p:cNvSpPr/>
            <p:nvPr/>
          </p:nvSpPr>
          <p:spPr>
            <a:xfrm>
              <a:off x="1981080" y="269712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02680" y="271836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4192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525289"/>
                </a:gs>
                <a:gs pos="50000">
                  <a:srgbClr val="9999ff"/>
                </a:gs>
                <a:gs pos="100000">
                  <a:srgbClr val="52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4192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225c31"/>
                </a:gs>
                <a:gs pos="100000">
                  <a:srgbClr val="48be6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133720" y="3535200"/>
            <a:ext cx="380880" cy="381240"/>
            <a:chOff x="2133720" y="3535200"/>
            <a:chExt cx="380880" cy="381240"/>
          </a:xfrm>
        </p:grpSpPr>
        <p:sp>
          <p:nvSpPr>
            <p:cNvPr id="117" name=""/>
            <p:cNvSpPr/>
            <p:nvPr/>
          </p:nvSpPr>
          <p:spPr>
            <a:xfrm>
              <a:off x="2133720" y="35352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55320" y="35564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2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525289"/>
                </a:gs>
                <a:gs pos="50000">
                  <a:srgbClr val="9999ff"/>
                </a:gs>
                <a:gs pos="100000">
                  <a:srgbClr val="52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0f566c"/>
                </a:gs>
                <a:gs pos="100000">
                  <a:srgbClr val="21b3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981080" y="4373640"/>
            <a:ext cx="381240" cy="380880"/>
            <a:chOff x="1981080" y="4373640"/>
            <a:chExt cx="381240" cy="380880"/>
          </a:xfrm>
        </p:grpSpPr>
        <p:sp>
          <p:nvSpPr>
            <p:cNvPr id="124" name=""/>
            <p:cNvSpPr/>
            <p:nvPr/>
          </p:nvSpPr>
          <p:spPr>
            <a:xfrm>
              <a:off x="1981080" y="43736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02680" y="439488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22480" y="4415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022480" y="4415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41920" y="44344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525289"/>
                </a:gs>
                <a:gs pos="50000">
                  <a:srgbClr val="9999ff"/>
                </a:gs>
                <a:gs pos="100000">
                  <a:srgbClr val="52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041920" y="44344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44316c"/>
                </a:gs>
                <a:gs pos="100000">
                  <a:srgbClr val="8d67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523880" y="5148360"/>
            <a:ext cx="355680" cy="380880"/>
            <a:chOff x="1523880" y="5148360"/>
            <a:chExt cx="355680" cy="380880"/>
          </a:xfrm>
        </p:grpSpPr>
        <p:sp>
          <p:nvSpPr>
            <p:cNvPr id="131" name=""/>
            <p:cNvSpPr/>
            <p:nvPr/>
          </p:nvSpPr>
          <p:spPr>
            <a:xfrm>
              <a:off x="1523880" y="514836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44040" y="516960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62400" y="5189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62400" y="5189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80760" y="5209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525289"/>
                </a:gs>
                <a:gs pos="50000">
                  <a:srgbClr val="9999ff"/>
                </a:gs>
                <a:gs pos="100000">
                  <a:srgbClr val="52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80760" y="5209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6d2d10"/>
                </a:gs>
                <a:gs pos="100000">
                  <a:srgbClr val="e35e2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731520"/>
            <a:ext cx="8001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ad684"/>
              </a:gs>
              <a:gs pos="100000">
                <a:srgbClr val="61c13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dddfe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8120" y="1628640"/>
            <a:ext cx="2998440" cy="1601280"/>
            <a:chOff x="3048120" y="1628640"/>
            <a:chExt cx="2998440" cy="1601280"/>
          </a:xfrm>
        </p:grpSpPr>
        <p:grpSp>
          <p:nvGrpSpPr>
            <p:cNvPr id="144" name=""/>
            <p:cNvGrpSpPr/>
            <p:nvPr/>
          </p:nvGrpSpPr>
          <p:grpSpPr>
            <a:xfrm>
              <a:off x="3048120" y="1771560"/>
              <a:ext cx="2998440" cy="1458360"/>
              <a:chOff x="3048120" y="1771560"/>
              <a:chExt cx="2998440" cy="1458360"/>
            </a:xfrm>
          </p:grpSpPr>
          <p:sp>
            <p:nvSpPr>
              <p:cNvPr id="145" name=""/>
              <p:cNvSpPr/>
              <p:nvPr/>
            </p:nvSpPr>
            <p:spPr>
              <a:xfrm>
                <a:off x="3080880" y="18180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4a4a7b"/>
                  </a:gs>
                  <a:gs pos="100000">
                    <a:srgbClr val="9999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048120" y="177156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d0d0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189240" y="162864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77b7e7"/>
                </a:gs>
                <a:gs pos="100000">
                  <a:srgbClr val="3654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24160" y="163656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cee4f5"/>
                </a:gs>
                <a:gs pos="100000">
                  <a:srgbClr val="77b7e7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51160" y="164916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77b7e7">
                    <a:alpha val="48235"/>
                  </a:srgbClr>
                </a:gs>
                <a:gs pos="100000">
                  <a:srgbClr val="5d90b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82920" y="167616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77b7e7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81040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731520"/>
            <a:ext cx="8001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870120" y="1734120"/>
            <a:ext cx="7066800" cy="4420080"/>
            <a:chOff x="870120" y="1734120"/>
            <a:chExt cx="7066800" cy="4420080"/>
          </a:xfrm>
        </p:grpSpPr>
        <p:sp>
          <p:nvSpPr>
            <p:cNvPr id="155" name=""/>
            <p:cNvSpPr/>
            <p:nvPr/>
          </p:nvSpPr>
          <p:spPr>
            <a:xfrm rot="20241600">
              <a:off x="1477440" y="2774880"/>
              <a:ext cx="5877000" cy="23378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3e3e3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20056200">
              <a:off x="4397040" y="2644560"/>
              <a:ext cx="1028520" cy="2937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20056200">
              <a:off x="6895440" y="2865240"/>
              <a:ext cx="1028520" cy="2937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20056200">
              <a:off x="3000960" y="5364360"/>
              <a:ext cx="1028880" cy="2937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20056200">
              <a:off x="5425920" y="4825440"/>
              <a:ext cx="1028880" cy="29340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20056200">
              <a:off x="2192400" y="3967560"/>
              <a:ext cx="1028520" cy="2937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820320" y="2057400"/>
              <a:ext cx="1101960" cy="106236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3434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64640" y="3327840"/>
              <a:ext cx="1100520" cy="1062360"/>
            </a:xfrm>
            <a:prstGeom prst="ellipse">
              <a:avLst/>
            </a:prstGeom>
            <a:gradFill rotWithShape="0">
              <a:gsLst>
                <a:gs pos="0">
                  <a:srgbClr val="77b7e7"/>
                </a:gs>
                <a:gs pos="100000">
                  <a:srgbClr val="2539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20640" y="4742640"/>
              <a:ext cx="1100880" cy="1062360"/>
            </a:xfrm>
            <a:prstGeom prst="ellipse">
              <a:avLst/>
            </a:prstGeom>
            <a:gradFill rotWithShape="0">
              <a:gsLst>
                <a:gs pos="0">
                  <a:srgbClr val="61c13f"/>
                </a:gs>
                <a:gs pos="100000">
                  <a:srgbClr val="22441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1320" y="4217400"/>
              <a:ext cx="1100880" cy="10623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444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369120" y="2247120"/>
              <a:ext cx="1040760" cy="10638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333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894320" y="37090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15880" y="2438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33360" y="26697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97600" y="45986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677320" y="51177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41960" y="3600360"/>
              <a:ext cx="222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7347d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644200" y="2438280"/>
              <a:ext cx="1568880" cy="12063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cxnSp>
          <p:nvCxnSpPr>
            <p:cNvPr id="173" name=""/>
            <p:cNvCxnSpPr/>
            <p:nvPr/>
          </p:nvCxnSpPr>
          <p:spPr>
            <a:xfrm flipH="1">
              <a:off x="990000" y="2437920"/>
              <a:ext cx="1665000" cy="1080"/>
            </a:xfrm>
            <a:prstGeom prst="straightConnector1">
              <a:avLst/>
            </a:prstGeom>
            <a:ln w="9360">
              <a:solidFill>
                <a:srgbClr val="17347d"/>
              </a:solidFill>
              <a:miter/>
            </a:ln>
          </p:spPr>
        </p:cxnSp>
        <p:sp>
          <p:nvSpPr>
            <p:cNvPr id="174" name=""/>
            <p:cNvSpPr/>
            <p:nvPr/>
          </p:nvSpPr>
          <p:spPr>
            <a:xfrm>
              <a:off x="870120" y="2057400"/>
              <a:ext cx="198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7347d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31520"/>
            <a:ext cx="8001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77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85858">
                    <a:alpha val="12156"/>
                  </a:srgbClr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85858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6546a"/>
                </a:gs>
                <a:gs pos="50000">
                  <a:srgbClr val="77b7e7"/>
                </a:gs>
                <a:gs pos="100000">
                  <a:srgbClr val="3654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6d6d6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64675"/>
                </a:gs>
                <a:gs pos="50000">
                  <a:srgbClr val="9999ff"/>
                </a:gs>
                <a:gs pos="100000">
                  <a:srgbClr val="4646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6d6d6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731520"/>
            <a:ext cx="8001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97" name="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198" name=""/>
              <p:cNvSpPr/>
              <p:nvPr/>
            </p:nvSpPr>
            <p:spPr>
              <a:xfrm flipH="1" rot="16200000">
                <a:off x="2927880" y="3258000"/>
                <a:ext cx="45900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ec2ea"/>
                  </a:gs>
                  <a:gs pos="100000">
                    <a:srgbClr val="33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 rot="5400000">
                <a:off x="5531040" y="3207240"/>
                <a:ext cx="459000" cy="297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ec2ea"/>
                  </a:gs>
                  <a:gs pos="100000">
                    <a:srgbClr val="3366cc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 rot="10800000">
                <a:off x="4236840" y="4609800"/>
                <a:ext cx="44388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ec2ea"/>
                  </a:gs>
                  <a:gs pos="100000">
                    <a:srgbClr val="3366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305880" y="2209680"/>
                <a:ext cx="23270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438360" y="2344680"/>
                <a:ext cx="206028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559680" y="2471040"/>
                <a:ext cx="181800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99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559680" y="2471040"/>
                <a:ext cx="181800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679200" y="2594520"/>
                <a:ext cx="1578960" cy="1631880"/>
              </a:xfrm>
              <a:prstGeom prst="ellipse">
                <a:avLst/>
              </a:prstGeom>
              <a:gradFill rotWithShape="0">
                <a:gsLst>
                  <a:gs pos="0">
                    <a:srgbClr val="525289"/>
                  </a:gs>
                  <a:gs pos="50000">
                    <a:srgbClr val="9999ff"/>
                  </a:gs>
                  <a:gs pos="100000">
                    <a:srgbClr val="52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679200" y="2594520"/>
                <a:ext cx="157896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5e"/>
                </a:gs>
                <a:gs pos="50000">
                  <a:srgbClr val="3366cc"/>
                </a:gs>
                <a:gs pos="100000">
                  <a:srgbClr val="172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5e"/>
                </a:gs>
                <a:gs pos="50000">
                  <a:srgbClr val="3366cc"/>
                </a:gs>
                <a:gs pos="100000">
                  <a:srgbClr val="172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5e"/>
                </a:gs>
                <a:gs pos="50000">
                  <a:srgbClr val="3366cc"/>
                </a:gs>
                <a:gs pos="100000">
                  <a:srgbClr val="172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6546a"/>
                </a:gs>
                <a:gs pos="50000">
                  <a:srgbClr val="77b7e7"/>
                </a:gs>
                <a:gs pos="100000">
                  <a:srgbClr val="3654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6546a"/>
                </a:gs>
                <a:gs pos="50000">
                  <a:srgbClr val="77b7e7"/>
                </a:gs>
                <a:gs pos="100000">
                  <a:srgbClr val="3654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6546a"/>
                </a:gs>
                <a:gs pos="50000">
                  <a:srgbClr val="77b7e7"/>
                </a:gs>
                <a:gs pos="100000">
                  <a:srgbClr val="3654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731520"/>
            <a:ext cx="8001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17347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17347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17347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17347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47d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47d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47d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47d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36" name=""/>
            <p:cNvSpPr/>
            <p:nvPr/>
          </p:nvSpPr>
          <p:spPr>
            <a:xfrm>
              <a:off x="7833960" y="2286000"/>
              <a:ext cx="57600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c581d"/>
                </a:gs>
                <a:gs pos="50000">
                  <a:srgbClr val="61c13f"/>
                </a:gs>
                <a:gs pos="100000">
                  <a:srgbClr val="2c58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61c1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254720" y="3117960"/>
              <a:ext cx="57564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64675"/>
                </a:gs>
                <a:gs pos="50000">
                  <a:srgbClr val="9999ff"/>
                </a:gs>
                <a:gs pos="100000">
                  <a:srgbClr val="4646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673680" y="394956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95880" y="4782960"/>
              <a:ext cx="5774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a1739"/>
                </a:gs>
                <a:gs pos="50000">
                  <a:srgbClr val="17347d"/>
                </a:gs>
                <a:gs pos="100000">
                  <a:srgbClr val="0a17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92000" y="4788000"/>
              <a:ext cx="408132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184200" y="2440080"/>
              <a:ext cx="1838160" cy="27223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079600" y="2827440"/>
              <a:ext cx="2766960" cy="304560"/>
            </a:xfrm>
            <a:prstGeom prst="rect">
              <a:avLst/>
            </a:prstGeom>
            <a:gradFill rotWithShape="0">
              <a:gsLst>
                <a:gs pos="0">
                  <a:srgbClr val="468b2d"/>
                </a:gs>
                <a:gs pos="50000">
                  <a:srgbClr val="61c13f"/>
                </a:gs>
                <a:gs pos="100000">
                  <a:srgbClr val="468b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244760" y="3657600"/>
              <a:ext cx="3015720" cy="298440"/>
            </a:xfrm>
            <a:prstGeom prst="rect">
              <a:avLst/>
            </a:prstGeom>
            <a:gradFill rotWithShape="0">
              <a:gsLst>
                <a:gs pos="0">
                  <a:srgbClr val="6e6eb8"/>
                </a:gs>
                <a:gs pos="50000">
                  <a:srgbClr val="9999ff"/>
                </a:gs>
                <a:gs pos="100000">
                  <a:srgbClr val="6e6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19280" y="3949560"/>
              <a:ext cx="3833280" cy="54468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c6c6c"/>
                </a:gs>
                <a:gs pos="50000">
                  <a:srgbClr val="969696"/>
                </a:gs>
                <a:gs pos="100000">
                  <a:srgbClr val="6c6c6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90920" y="532908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10255a"/>
                </a:gs>
                <a:gs pos="50000">
                  <a:srgbClr val="17347d"/>
                </a:gs>
                <a:gs pos="100000">
                  <a:srgbClr val="1025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731520"/>
            <a:ext cx="8001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77b7e7"/>
              </a:gs>
              <a:gs pos="100000">
                <a:srgbClr val="fefefe">
                  <a:alpha val="2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1c13f"/>
              </a:gs>
              <a:gs pos="100000">
                <a:srgbClr val="90d278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99ff"/>
              </a:gs>
              <a:gs pos="100000">
                <a:srgbClr val="b7b7f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47d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47d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cc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cc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cc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731520"/>
            <a:ext cx="8001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9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9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525289"/>
              </a:gs>
              <a:gs pos="50000">
                <a:srgbClr val="9999ff"/>
              </a:gs>
              <a:gs pos="100000">
                <a:srgbClr val="52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9999ff">
                  <a:alpha val="0"/>
                </a:srgbClr>
              </a:gs>
              <a:gs pos="100000">
                <a:srgbClr val="6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69696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69696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05050"/>
              </a:gs>
              <a:gs pos="50000">
                <a:srgbClr val="969696"/>
              </a:gs>
              <a:gs pos="100000">
                <a:srgbClr val="50505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969696">
                  <a:alpha val="0"/>
                </a:srgbClr>
              </a:gs>
              <a:gs pos="100000">
                <a:srgbClr val="5e5e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72" name="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518480" y="2038680"/>
              <a:ext cx="12592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77b7e7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36546a"/>
              </a:gs>
              <a:gs pos="100000">
                <a:srgbClr val="77b7e7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40627c"/>
              </a:gs>
              <a:gs pos="50000">
                <a:srgbClr val="77b7e7"/>
              </a:gs>
              <a:gs pos="100000">
                <a:srgbClr val="40627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77b7e7">
                  <a:alpha val="0"/>
                </a:srgbClr>
              </a:gs>
              <a:gs pos="100000">
                <a:srgbClr val="4b739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82" name="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8196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87" name="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45228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5T02:58:36Z</dcterms:modified>
  <cp:revision>5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