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3E6A-086A-4FAA-BE2D-C11A653A2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1E8-A9EC-4F03-8A71-FD69A72A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3D54-E8E7-4EC0-B2BA-B574A62F8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F7DB-005D-4E62-AD0D-2242B9F8E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95A8-4395-47B4-87E1-E0987439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FA1B-2B30-42E3-A946-D0AFD80C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4B3F-B62F-4BB7-82BD-8FC052C1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4596-56DD-48DB-81CA-CB5860FF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2A8C-EAA5-41D8-8F82-574ABA00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20A-D08E-41E4-8973-C374B73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5DFA-F06B-47D6-9620-E5B736EF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4B2F-E316-4ED5-B251-11A9D569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ABD9C-43E3-4068-8DC5-266DEE593C57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863A-35CA-4868-9969-7A3E4E25685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Oval 7"/>
          <p:cNvSpPr/>
          <p:nvPr/>
        </p:nvSpPr>
        <p:spPr>
          <a:xfrm>
            <a:off x="2565360" y="3859200"/>
            <a:ext cx="982800" cy="1033560"/>
          </a:xfrm>
          <a:prstGeom prst="ellipse">
            <a:avLst/>
          </a:prstGeom>
          <a:solidFill>
            <a:srgbClr val="938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2998800" y="4237200"/>
            <a:ext cx="982800" cy="1031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7"/>
          <p:cNvSpPr/>
          <p:nvPr/>
        </p:nvSpPr>
        <p:spPr>
          <a:xfrm>
            <a:off x="2901960" y="4340160"/>
            <a:ext cx="982800" cy="1032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6784920" y="2143080"/>
            <a:ext cx="982800" cy="1031760"/>
          </a:xfrm>
          <a:prstGeom prst="ellipse">
            <a:avLst/>
          </a:prstGeom>
          <a:solidFill>
            <a:srgbClr val="cc46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6534000" y="1622520"/>
            <a:ext cx="1122480" cy="11779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8"/>
          <p:cNvSpPr/>
          <p:nvPr/>
        </p:nvSpPr>
        <p:spPr>
          <a:xfrm>
            <a:off x="6703920" y="1616040"/>
            <a:ext cx="982800" cy="103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8"/>
          <p:cNvSpPr/>
          <p:nvPr/>
        </p:nvSpPr>
        <p:spPr>
          <a:xfrm>
            <a:off x="6578640" y="1717560"/>
            <a:ext cx="982800" cy="1030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9"/>
          <p:cNvSpPr/>
          <p:nvPr/>
        </p:nvSpPr>
        <p:spPr>
          <a:xfrm>
            <a:off x="5083200" y="3166920"/>
            <a:ext cx="1595520" cy="1675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9"/>
          <p:cNvSpPr/>
          <p:nvPr/>
        </p:nvSpPr>
        <p:spPr>
          <a:xfrm>
            <a:off x="5734080" y="3568680"/>
            <a:ext cx="1596960" cy="167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10"/>
          <p:cNvSpPr/>
          <p:nvPr/>
        </p:nvSpPr>
        <p:spPr>
          <a:xfrm>
            <a:off x="882720" y="2122560"/>
            <a:ext cx="1595520" cy="1674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1432080" y="1608120"/>
            <a:ext cx="1755720" cy="1841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0"/>
          <p:cNvSpPr/>
          <p:nvPr/>
        </p:nvSpPr>
        <p:spPr>
          <a:xfrm>
            <a:off x="1636560" y="1581120"/>
            <a:ext cx="1595520" cy="167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0"/>
          <p:cNvSpPr/>
          <p:nvPr/>
        </p:nvSpPr>
        <p:spPr>
          <a:xfrm>
            <a:off x="1563840" y="1827360"/>
            <a:ext cx="1430280" cy="15001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91"/>
          <p:cNvSpPr/>
          <p:nvPr/>
        </p:nvSpPr>
        <p:spPr>
          <a:xfrm>
            <a:off x="2055240" y="20638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Broadway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6"/>
          <p:cNvSpPr/>
          <p:nvPr/>
        </p:nvSpPr>
        <p:spPr>
          <a:xfrm>
            <a:off x="3994200" y="1847880"/>
            <a:ext cx="1131840" cy="11890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点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张海山锐线体简"/>
                <a:ea typeface="张海山锐线体简"/>
              </a:rPr>
              <a:t>输入文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4125960" y="1343160"/>
            <a:ext cx="1344600" cy="14112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6"/>
          <p:cNvSpPr/>
          <p:nvPr/>
        </p:nvSpPr>
        <p:spPr>
          <a:xfrm>
            <a:off x="4349880" y="1362240"/>
            <a:ext cx="1133280" cy="11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6"/>
          <p:cNvSpPr/>
          <p:nvPr/>
        </p:nvSpPr>
        <p:spPr>
          <a:xfrm>
            <a:off x="4314960" y="1525680"/>
            <a:ext cx="1020600" cy="1071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6"/>
          <p:cNvSpPr/>
          <p:nvPr/>
        </p:nvSpPr>
        <p:spPr>
          <a:xfrm>
            <a:off x="4495680" y="1663560"/>
            <a:ext cx="8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a5a5"/>
                </a:solidFill>
                <a:latin typeface="Broadway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97"/>
          <p:cNvSpPr/>
          <p:nvPr/>
        </p:nvSpPr>
        <p:spPr>
          <a:xfrm>
            <a:off x="6846840" y="18064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Broadway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8"/>
          <p:cNvSpPr/>
          <p:nvPr/>
        </p:nvSpPr>
        <p:spPr>
          <a:xfrm>
            <a:off x="3196080" y="44928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a5a5"/>
                </a:solidFill>
                <a:latin typeface="Broadway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9"/>
          <p:cNvSpPr/>
          <p:nvPr/>
        </p:nvSpPr>
        <p:spPr>
          <a:xfrm>
            <a:off x="6152400" y="40514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a5a5"/>
                </a:solidFill>
                <a:latin typeface="Broadway"/>
              </a:rPr>
              <a:t>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245"/>
          <p:cNvSpPr/>
          <p:nvPr/>
        </p:nvSpPr>
        <p:spPr>
          <a:xfrm>
            <a:off x="7505640" y="4672080"/>
            <a:ext cx="523800" cy="5238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101"/>
          <p:cNvGrpSpPr/>
          <p:nvPr/>
        </p:nvGrpSpPr>
        <p:grpSpPr>
          <a:xfrm>
            <a:off x="3392640" y="1917720"/>
            <a:ext cx="352440" cy="252360"/>
            <a:chOff x="3392640" y="1917720"/>
            <a:chExt cx="352440" cy="252360"/>
          </a:xfrm>
        </p:grpSpPr>
        <p:sp>
          <p:nvSpPr>
            <p:cNvPr id="67" name="Freeform 246"/>
            <p:cNvSpPr/>
            <p:nvPr/>
          </p:nvSpPr>
          <p:spPr>
            <a:xfrm>
              <a:off x="3392640" y="1929960"/>
              <a:ext cx="240480" cy="2401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247"/>
            <p:cNvSpPr/>
            <p:nvPr/>
          </p:nvSpPr>
          <p:spPr>
            <a:xfrm>
              <a:off x="3609720" y="1917720"/>
              <a:ext cx="135360" cy="135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Freeform 248"/>
          <p:cNvSpPr/>
          <p:nvPr/>
        </p:nvSpPr>
        <p:spPr>
          <a:xfrm>
            <a:off x="6075360" y="1568520"/>
            <a:ext cx="423720" cy="393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组合 105"/>
          <p:cNvGrpSpPr/>
          <p:nvPr/>
        </p:nvGrpSpPr>
        <p:grpSpPr>
          <a:xfrm>
            <a:off x="4176720" y="3303720"/>
            <a:ext cx="652320" cy="528480"/>
            <a:chOff x="4176720" y="3303720"/>
            <a:chExt cx="652320" cy="528480"/>
          </a:xfrm>
        </p:grpSpPr>
        <p:sp>
          <p:nvSpPr>
            <p:cNvPr id="71" name="Freeform 249"/>
            <p:cNvSpPr/>
            <p:nvPr/>
          </p:nvSpPr>
          <p:spPr>
            <a:xfrm>
              <a:off x="4176720" y="3303720"/>
              <a:ext cx="344520" cy="4762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250"/>
            <p:cNvSpPr/>
            <p:nvPr/>
          </p:nvSpPr>
          <p:spPr>
            <a:xfrm>
              <a:off x="4484520" y="3357360"/>
              <a:ext cx="344520" cy="4748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Freeform 251"/>
          <p:cNvSpPr/>
          <p:nvPr/>
        </p:nvSpPr>
        <p:spPr>
          <a:xfrm>
            <a:off x="1612800" y="4672080"/>
            <a:ext cx="540000" cy="70164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310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640" y="442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目录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CB57-C893-416C-A7BF-43A5124136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24:09Z</dcterms:modified>
  <cp:revision>108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Presentation">
    <vt:lpwstr>锐普图表</vt:lpwstr>
  </property>
</Properties>
</file>