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A47D-3FD8-4321-8D30-727BB136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809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3AA6-7676-463C-BF2B-BC829E42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32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0072-5943-438D-A66E-02BA8416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904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904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1A9-4956-400F-83AF-E91A476B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09B7-FD19-43A9-AF00-9BE66175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6323-DDF5-49C3-B9F7-E73ECC5A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2516-9F4D-4C31-9A13-B8B8CC3F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1FB7-90AF-4A7A-BD78-A9A2E74B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7B7A-8B09-4692-96B9-0C229211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83EA-9065-4617-98FE-FFF0A39E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4CC0-471D-430E-8E48-39DB47C0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C8A5-462E-49D2-86D4-F276A773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632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A388-2C54-4BF1-A375-A90CDE61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809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3397-92FB-46E5-8BBF-05E77A58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809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9676-253E-454C-A613-60A4FE4F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632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0CF1-1D7B-49C8-82E1-56A60625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216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904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216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904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FE77-F3E3-4540-A100-10770D29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D5CBC-4BAF-4D49-A3F1-64E9CA1C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4329C-E1CE-4EC9-B235-6A4B5CC7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17968-794F-4B08-B6EA-B6F0E7F4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042B0-AEA3-40EE-A809-B5C808FC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E74A9-B521-4472-B0B2-3AE30914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B2ED-6C8F-405A-A9DD-4D9D6390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5FF9F-89D3-4755-8CDB-D99551EB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D1B77-6281-4AE0-BE40-2CA091A2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5632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A4047-BF41-403E-98EE-9B391FEC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809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F9829-A52B-4219-BA45-03F942EF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809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744C2-BE51-43E4-B577-690AC19C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5632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CA24D-C509-4409-BD69-E8E4848C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216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7904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216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7904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04C5B-CB62-4714-B4F4-07D79260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3E61A-6B36-454A-80CE-EE8AB8CD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661AB-02B3-4F8F-A436-D9C2ABB7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73475-FE5B-4A9E-89D0-73FFB393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E78F-F566-4232-B223-E96C7718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59620-38C4-466E-80A7-797C634C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598A4-8449-4B7F-ABE0-09161417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F4C5D-24BB-4963-8DEE-F59A0903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34C6F-B96C-4572-9A7E-3F63FFA6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5632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93132-2511-4205-B795-23539E82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40809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427D6-C797-41C4-9424-C39ACE95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40809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451EF-A06B-4C0E-9131-33156685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5632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6B792-92B1-45DF-9355-824A4205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4216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7904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4216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7904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1132C-03F8-4CB2-9D2F-829C225B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8560-EBAC-4364-997B-E8D121B2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A1C7-5C99-4463-9892-4BDF7666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310C-CD22-4F87-BF8A-4A36947A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32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7708-1B0B-4630-86A1-7B9C4FAE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809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60BB-E888-407D-BF1D-280F9291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Eurostile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BBE1-E722-4B84-8F1A-6938DF005295}" type="slidenum">
              <a:rPr b="1" lang="zh-CN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2361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Eurostile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DCD5-C43D-45A9-9884-C6E0ECD5E490}" type="slidenum">
              <a:rPr b="0" lang="zh-CN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Eurostile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10D1-4BC7-4EF4-A134-76DC4D5F546C}" type="slidenum">
              <a:rPr b="1" lang="zh-CN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320" y="2361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Eurostile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B9FE-EA5D-4C14-8FC5-FAEC9DE322CC}" type="slidenum">
              <a:rPr b="0" lang="zh-CN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9760" y="99072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幼圆"/>
              </a:rPr>
              <a:t>和谐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幼圆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幼圆"/>
              </a:rPr>
              <a:t>免费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4360" y="120816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素材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Eurostile"/>
              </a:rPr>
              <a:t>使用规范说明</a:t>
            </a: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CCE05-57B9-4983-930B-8F00E881BF96}" type="slidenum">
              <a:t>3</a:t>
            </a:fld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23:01:1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6:42:39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