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473-67F7-4341-8B16-2369318E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1E8-5920-4A54-9ED8-D970A97E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785-3EC8-4C1F-A8A2-C0769C3B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703-E3ED-401B-9B38-6DD58DAE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6D4-B8E0-4C3F-A17C-D1E6E40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DCE-583A-4BE6-B079-A9713A9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486-552A-4017-AA91-414A8EFE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411-DD28-4C27-82DE-5EBC562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A78-7443-4971-BE54-2850BE33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056-1D7F-45E3-BDEB-0C04F96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B21-4B55-4849-A6F3-38DE9AE7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A4-535B-461F-ADA8-E0D8383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3200-DCD6-4E28-8EB4-3C7BCBEE6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26170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EV019-01"/>
          <p:cNvPicPr/>
          <p:nvPr/>
        </p:nvPicPr>
        <p:blipFill>
          <a:blip r:embed="rId1"/>
          <a:stretch/>
        </p:blipFill>
        <p:spPr>
          <a:xfrm>
            <a:off x="-1509840" y="-2712960"/>
            <a:ext cx="12163680" cy="1102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EV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357200" y="-1349280"/>
            <a:ext cx="11858400" cy="8415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574560" y="0"/>
            <a:ext cx="10294560" cy="6795720"/>
            <a:chOff x="-574560" y="0"/>
            <a:chExt cx="10294560" cy="6795720"/>
          </a:xfrm>
        </p:grpSpPr>
        <p:pic>
          <p:nvPicPr>
            <p:cNvPr id="44" name="Picture 23" descr="梦幻世界大图 点击还原"/>
            <p:cNvPicPr/>
            <p:nvPr/>
          </p:nvPicPr>
          <p:blipFill>
            <a:blip r:embed="rId4"/>
            <a:stretch/>
          </p:blipFill>
          <p:spPr>
            <a:xfrm>
              <a:off x="-574560" y="0"/>
              <a:ext cx="10294560" cy="67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4" descr="梦幻世界大图 点击还原"/>
            <p:cNvPicPr/>
            <p:nvPr/>
          </p:nvPicPr>
          <p:blipFill>
            <a:blip r:embed="rId5"/>
            <a:srcRect l="0" t="5778" r="66136" b="88150"/>
            <a:stretch/>
          </p:blipFill>
          <p:spPr>
            <a:xfrm>
              <a:off x="-558720" y="133560"/>
              <a:ext cx="37843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5" descr="梦幻世界大图 点击还原"/>
            <p:cNvPicPr/>
            <p:nvPr/>
          </p:nvPicPr>
          <p:blipFill>
            <a:blip r:embed="rId6"/>
            <a:srcRect l="34167" t="80247" r="63289" b="0"/>
            <a:stretch/>
          </p:blipFill>
          <p:spPr>
            <a:xfrm>
              <a:off x="3076560" y="5458680"/>
              <a:ext cx="2884320" cy="133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2506680" y="1155600"/>
            <a:ext cx="712800" cy="349200"/>
            <a:chOff x="2506680" y="1155600"/>
            <a:chExt cx="712800" cy="349200"/>
          </a:xfrm>
        </p:grpSpPr>
        <p:sp>
          <p:nvSpPr>
            <p:cNvPr id="48" name="Oval 32"/>
            <p:cNvSpPr/>
            <p:nvPr/>
          </p:nvSpPr>
          <p:spPr>
            <a:xfrm>
              <a:off x="2905200" y="115560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33"/>
            <p:cNvSpPr txBox="1"/>
            <p:nvPr/>
          </p:nvSpPr>
          <p:spPr>
            <a:xfrm>
              <a:off x="2506680" y="124452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GLOBAL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884920" y="1028880"/>
            <a:ext cx="712800" cy="349200"/>
            <a:chOff x="5884920" y="1028880"/>
            <a:chExt cx="712800" cy="349200"/>
          </a:xfrm>
        </p:grpSpPr>
        <p:sp>
          <p:nvSpPr>
            <p:cNvPr id="51" name="Oval 35"/>
            <p:cNvSpPr/>
            <p:nvPr/>
          </p:nvSpPr>
          <p:spPr>
            <a:xfrm>
              <a:off x="6283440" y="102888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36"/>
            <p:cNvSpPr txBox="1"/>
            <p:nvPr/>
          </p:nvSpPr>
          <p:spPr>
            <a:xfrm>
              <a:off x="5884920" y="111780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BUSIN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46760" y="4152960"/>
            <a:ext cx="712800" cy="349200"/>
            <a:chOff x="5846760" y="4152960"/>
            <a:chExt cx="712800" cy="349200"/>
          </a:xfrm>
        </p:grpSpPr>
        <p:sp>
          <p:nvSpPr>
            <p:cNvPr id="54" name="Oval 38"/>
            <p:cNvSpPr/>
            <p:nvPr/>
          </p:nvSpPr>
          <p:spPr>
            <a:xfrm>
              <a:off x="6245280" y="415296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WordArt 39"/>
            <p:cNvSpPr txBox="1"/>
            <p:nvPr/>
          </p:nvSpPr>
          <p:spPr>
            <a:xfrm>
              <a:off x="5846760" y="424188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SUCC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95280" y="451332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8280" y="9842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经典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20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8" dur="12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2 -0.02028 C 0.40295 0.095 0.41771 0.31472 0.34445 0.46416 C 0.27014 0.61222 0.13368 0.63666 0.04184 0.52 C -0.05104 0.40194 -0.06614 0.18555 0.00781 0.03639 C 0.08212 -0.11306 0.21684 -0.14195 0.30972 -0.02028 Z">
                                      <p:cBhvr>
                                        <p:cTn id="19" dur="3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0.53694 C -0.14809 0.65638 -0.28507 0.63083 -0.36042 0.48277 C -0.43386 0.33416 -0.41841 0.11666 -0.32709 -0.00167 C -0.23421 -0.12056 -0.09879 -0.09584 -0.02448 0.05194 C 0.05017 0.20111 0.03767 0.41861 -0.05695 0.53694 Z">
                                      <p:cBhvr>
                                        <p:cTn id="21" dur="3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-0.41472 C -0.33681 -0.58833 -0.20851 -0.66722 -0.09913 -0.5925 C 0.0092 -0.51444 0.05851 -0.31 0.01215 -0.13805 C -0.03594 0.03611 -0.16285 0.11472 -0.2717 0.03861 C -0.38073 -0.03833 -0.43281 -0.24 -0.38333 -0.41472 Z">
                                      <p:cBhvr>
                                        <p:cTn id="23" dur="3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05696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D85-6327-4712-801D-B312258A28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2:31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2:02:18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