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3C7-C9E4-4755-A245-BD0ECAF5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3D0-24EB-441F-B7E4-298A5FD3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05C-2EF7-40B2-A79A-B1094A62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710-A45B-4937-BD36-8B5562FD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A08-B22B-46EE-B897-E6EC3EE5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0EB-3AE4-421A-8281-A4E76833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0B3-5D9B-4623-B1E4-C75E3EBE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C43-B456-49BB-91B2-F8ACD7A6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945-4F04-4840-B75C-7A42B368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19F-962F-4996-AA55-46EDBDA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718-BC58-432E-871D-82271BD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5B9-515E-43A1-8118-B17182AE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B8B6-5E7E-4EAC-86F1-149D50BB114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750E-C7DA-4220-ABAA-A53EBA2FDF7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hyperlink" Target="http://www.eeppt.com/moban/jingpin/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360" y="765000"/>
            <a:ext cx="9190080" cy="5372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768"/>
          <p:cNvSpPr/>
          <p:nvPr/>
        </p:nvSpPr>
        <p:spPr>
          <a:xfrm>
            <a:off x="2048040" y="4637160"/>
            <a:ext cx="973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777777"/>
                </a:solidFill>
                <a:latin typeface="Dotum"/>
                <a:ea typeface="Dotum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771"/>
          <p:cNvSpPr/>
          <p:nvPr/>
        </p:nvSpPr>
        <p:spPr>
          <a:xfrm>
            <a:off x="401760" y="4637160"/>
            <a:ext cx="1017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777777"/>
                </a:solidFill>
                <a:latin typeface="Dotum"/>
                <a:ea typeface="Dotum"/>
              </a:rPr>
              <a:t>Comput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793"/>
          <p:cNvSpPr/>
          <p:nvPr/>
        </p:nvSpPr>
        <p:spPr>
          <a:xfrm>
            <a:off x="1249200" y="4637160"/>
            <a:ext cx="1043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777777"/>
                </a:solidFill>
                <a:latin typeface="Dotum"/>
                <a:ea typeface="Dotum"/>
              </a:rPr>
              <a:t>Watch TV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2713"/>
          <p:cNvSpPr/>
          <p:nvPr/>
        </p:nvSpPr>
        <p:spPr>
          <a:xfrm>
            <a:off x="3416400" y="4251240"/>
            <a:ext cx="2763720" cy="630360"/>
          </a:xfrm>
          <a:prstGeom prst="ellipse">
            <a:avLst/>
          </a:prstGeom>
          <a:solidFill>
            <a:srgbClr val="80808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731"/>
          <p:cNvSpPr/>
          <p:nvPr/>
        </p:nvSpPr>
        <p:spPr>
          <a:xfrm rot="19836000">
            <a:off x="3804840" y="3727080"/>
            <a:ext cx="647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2714"/>
          <p:cNvSpPr/>
          <p:nvPr/>
        </p:nvSpPr>
        <p:spPr>
          <a:xfrm>
            <a:off x="4057560" y="1801800"/>
            <a:ext cx="2249640" cy="133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715"/>
          <p:cNvSpPr/>
          <p:nvPr/>
        </p:nvSpPr>
        <p:spPr>
          <a:xfrm>
            <a:off x="4046400" y="3218040"/>
            <a:ext cx="2249640" cy="133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2716"/>
          <p:cNvSpPr/>
          <p:nvPr/>
        </p:nvSpPr>
        <p:spPr>
          <a:xfrm>
            <a:off x="3235320" y="1827360"/>
            <a:ext cx="1500120" cy="2665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98760" y="5711760"/>
            <a:ext cx="1440" cy="1800"/>
            <a:chOff x="1598760" y="5711760"/>
            <a:chExt cx="1440" cy="1800"/>
          </a:xfrm>
        </p:grpSpPr>
        <p:sp>
          <p:nvSpPr>
            <p:cNvPr id="52" name="Line 1557"/>
            <p:cNvSpPr/>
            <p:nvPr/>
          </p:nvSpPr>
          <p:spPr>
            <a:xfrm>
              <a:off x="1598760" y="57117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1598760" y="571176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598760" y="5711760"/>
            <a:ext cx="1440" cy="1800"/>
            <a:chOff x="1598760" y="5711760"/>
            <a:chExt cx="1440" cy="1800"/>
          </a:xfrm>
        </p:grpSpPr>
        <p:sp>
          <p:nvSpPr>
            <p:cNvPr id="55" name="Line 1558"/>
            <p:cNvSpPr/>
            <p:nvPr/>
          </p:nvSpPr>
          <p:spPr>
            <a:xfrm>
              <a:off x="1598760" y="57117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1598760" y="571176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386000" y="5873760"/>
            <a:ext cx="1440" cy="1440"/>
            <a:chOff x="1386000" y="5873760"/>
            <a:chExt cx="1440" cy="1440"/>
          </a:xfrm>
        </p:grpSpPr>
        <p:sp>
          <p:nvSpPr>
            <p:cNvPr id="58" name="Line 1561"/>
            <p:cNvSpPr/>
            <p:nvPr/>
          </p:nvSpPr>
          <p:spPr>
            <a:xfrm>
              <a:off x="1386000" y="5873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1386000" y="58737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386000" y="5873760"/>
            <a:ext cx="1440" cy="1440"/>
            <a:chOff x="1386000" y="5873760"/>
            <a:chExt cx="1440" cy="1440"/>
          </a:xfrm>
        </p:grpSpPr>
        <p:sp>
          <p:nvSpPr>
            <p:cNvPr id="61" name="Line 1562"/>
            <p:cNvSpPr/>
            <p:nvPr/>
          </p:nvSpPr>
          <p:spPr>
            <a:xfrm>
              <a:off x="1386000" y="5873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1386000" y="58737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373040" y="5788080"/>
            <a:ext cx="1800" cy="1440"/>
            <a:chOff x="1373040" y="5788080"/>
            <a:chExt cx="1800" cy="1440"/>
          </a:xfrm>
        </p:grpSpPr>
        <p:sp>
          <p:nvSpPr>
            <p:cNvPr id="64" name="Line 1565"/>
            <p:cNvSpPr/>
            <p:nvPr/>
          </p:nvSpPr>
          <p:spPr>
            <a:xfrm>
              <a:off x="1373040" y="57880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1373040" y="578808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373040" y="5788080"/>
            <a:ext cx="1800" cy="1440"/>
            <a:chOff x="1373040" y="5788080"/>
            <a:chExt cx="1800" cy="1440"/>
          </a:xfrm>
        </p:grpSpPr>
        <p:sp>
          <p:nvSpPr>
            <p:cNvPr id="67" name="Line 1566"/>
            <p:cNvSpPr/>
            <p:nvPr/>
          </p:nvSpPr>
          <p:spPr>
            <a:xfrm>
              <a:off x="1373040" y="578808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1373040" y="578808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63680" y="5721480"/>
            <a:ext cx="1440" cy="1440"/>
            <a:chOff x="1363680" y="5721480"/>
            <a:chExt cx="1440" cy="1440"/>
          </a:xfrm>
        </p:grpSpPr>
        <p:sp>
          <p:nvSpPr>
            <p:cNvPr id="70" name="Line 1568"/>
            <p:cNvSpPr/>
            <p:nvPr/>
          </p:nvSpPr>
          <p:spPr>
            <a:xfrm>
              <a:off x="1363680" y="5721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1363680" y="57214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363680" y="5721480"/>
            <a:ext cx="1440" cy="1440"/>
            <a:chOff x="1363680" y="5721480"/>
            <a:chExt cx="1440" cy="1440"/>
          </a:xfrm>
        </p:grpSpPr>
        <p:sp>
          <p:nvSpPr>
            <p:cNvPr id="73" name="Line 1569"/>
            <p:cNvSpPr/>
            <p:nvPr/>
          </p:nvSpPr>
          <p:spPr>
            <a:xfrm>
              <a:off x="1363680" y="5721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1363680" y="57214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382760" y="5721480"/>
            <a:ext cx="1440" cy="1440"/>
            <a:chOff x="1382760" y="5721480"/>
            <a:chExt cx="1440" cy="1440"/>
          </a:xfrm>
        </p:grpSpPr>
        <p:sp>
          <p:nvSpPr>
            <p:cNvPr id="76" name="Line 1571"/>
            <p:cNvSpPr/>
            <p:nvPr/>
          </p:nvSpPr>
          <p:spPr>
            <a:xfrm>
              <a:off x="1382760" y="5721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1382760" y="57214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382760" y="5721480"/>
            <a:ext cx="1440" cy="1440"/>
            <a:chOff x="1382760" y="5721480"/>
            <a:chExt cx="1440" cy="1440"/>
          </a:xfrm>
        </p:grpSpPr>
        <p:sp>
          <p:nvSpPr>
            <p:cNvPr id="79" name="Line 1572"/>
            <p:cNvSpPr/>
            <p:nvPr/>
          </p:nvSpPr>
          <p:spPr>
            <a:xfrm>
              <a:off x="1382760" y="572148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1382760" y="57214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373040" y="5727600"/>
            <a:ext cx="1800" cy="1800"/>
            <a:chOff x="1373040" y="5727600"/>
            <a:chExt cx="1800" cy="1800"/>
          </a:xfrm>
        </p:grpSpPr>
        <p:sp>
          <p:nvSpPr>
            <p:cNvPr id="82" name="Line 1574"/>
            <p:cNvSpPr/>
            <p:nvPr/>
          </p:nvSpPr>
          <p:spPr>
            <a:xfrm>
              <a:off x="1373040" y="5727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1373040" y="572760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373040" y="5727600"/>
            <a:ext cx="1800" cy="1800"/>
            <a:chOff x="1373040" y="5727600"/>
            <a:chExt cx="1800" cy="1800"/>
          </a:xfrm>
        </p:grpSpPr>
        <p:sp>
          <p:nvSpPr>
            <p:cNvPr id="85" name="Line 1575"/>
            <p:cNvSpPr/>
            <p:nvPr/>
          </p:nvSpPr>
          <p:spPr>
            <a:xfrm>
              <a:off x="1373040" y="572760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1373040" y="572760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398760" y="5856120"/>
            <a:ext cx="1800" cy="1800"/>
            <a:chOff x="3398760" y="5856120"/>
            <a:chExt cx="1800" cy="1800"/>
          </a:xfrm>
        </p:grpSpPr>
        <p:sp>
          <p:nvSpPr>
            <p:cNvPr id="88" name="Line 1612"/>
            <p:cNvSpPr/>
            <p:nvPr/>
          </p:nvSpPr>
          <p:spPr>
            <a:xfrm>
              <a:off x="3398760" y="585612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3398760" y="585612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398760" y="5856120"/>
            <a:ext cx="1800" cy="1800"/>
            <a:chOff x="3398760" y="5856120"/>
            <a:chExt cx="1800" cy="1800"/>
          </a:xfrm>
        </p:grpSpPr>
        <p:sp>
          <p:nvSpPr>
            <p:cNvPr id="91" name="Line 1613"/>
            <p:cNvSpPr/>
            <p:nvPr/>
          </p:nvSpPr>
          <p:spPr>
            <a:xfrm>
              <a:off x="3398760" y="585612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3398760" y="585612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186000" y="6018120"/>
            <a:ext cx="1800" cy="1800"/>
            <a:chOff x="3186000" y="6018120"/>
            <a:chExt cx="1800" cy="1800"/>
          </a:xfrm>
        </p:grpSpPr>
        <p:sp>
          <p:nvSpPr>
            <p:cNvPr id="94" name="Line 1616"/>
            <p:cNvSpPr/>
            <p:nvPr/>
          </p:nvSpPr>
          <p:spPr>
            <a:xfrm>
              <a:off x="3186000" y="601812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3186000" y="601812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186000" y="6018120"/>
            <a:ext cx="1800" cy="1800"/>
            <a:chOff x="3186000" y="6018120"/>
            <a:chExt cx="1800" cy="1800"/>
          </a:xfrm>
        </p:grpSpPr>
        <p:sp>
          <p:nvSpPr>
            <p:cNvPr id="97" name="Line 1617"/>
            <p:cNvSpPr/>
            <p:nvPr/>
          </p:nvSpPr>
          <p:spPr>
            <a:xfrm>
              <a:off x="3186000" y="601812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3186000" y="601812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173400" y="5932440"/>
            <a:ext cx="1440" cy="1800"/>
            <a:chOff x="3173400" y="5932440"/>
            <a:chExt cx="1440" cy="1800"/>
          </a:xfrm>
        </p:grpSpPr>
        <p:sp>
          <p:nvSpPr>
            <p:cNvPr id="100" name="Line 1620"/>
            <p:cNvSpPr/>
            <p:nvPr/>
          </p:nvSpPr>
          <p:spPr>
            <a:xfrm>
              <a:off x="3173400" y="593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3173400" y="59324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173400" y="5932440"/>
            <a:ext cx="1440" cy="1800"/>
            <a:chOff x="3173400" y="5932440"/>
            <a:chExt cx="1440" cy="1800"/>
          </a:xfrm>
        </p:grpSpPr>
        <p:sp>
          <p:nvSpPr>
            <p:cNvPr id="103" name="Line 1621"/>
            <p:cNvSpPr/>
            <p:nvPr/>
          </p:nvSpPr>
          <p:spPr>
            <a:xfrm>
              <a:off x="3173400" y="59324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173400" y="59324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164040" y="5865840"/>
            <a:ext cx="1440" cy="1440"/>
            <a:chOff x="3164040" y="5865840"/>
            <a:chExt cx="1440" cy="1440"/>
          </a:xfrm>
        </p:grpSpPr>
        <p:sp>
          <p:nvSpPr>
            <p:cNvPr id="106" name="Line 1623"/>
            <p:cNvSpPr/>
            <p:nvPr/>
          </p:nvSpPr>
          <p:spPr>
            <a:xfrm>
              <a:off x="3164040" y="58658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164040" y="58658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164040" y="5865840"/>
            <a:ext cx="1440" cy="1440"/>
            <a:chOff x="3164040" y="5865840"/>
            <a:chExt cx="1440" cy="1440"/>
          </a:xfrm>
        </p:grpSpPr>
        <p:sp>
          <p:nvSpPr>
            <p:cNvPr id="109" name="Line 1624"/>
            <p:cNvSpPr/>
            <p:nvPr/>
          </p:nvSpPr>
          <p:spPr>
            <a:xfrm>
              <a:off x="3164040" y="58658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3164040" y="58658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173400" y="5872320"/>
            <a:ext cx="1440" cy="1440"/>
            <a:chOff x="3173400" y="5872320"/>
            <a:chExt cx="1440" cy="1440"/>
          </a:xfrm>
        </p:grpSpPr>
        <p:sp>
          <p:nvSpPr>
            <p:cNvPr id="112" name="Line 1629"/>
            <p:cNvSpPr/>
            <p:nvPr/>
          </p:nvSpPr>
          <p:spPr>
            <a:xfrm>
              <a:off x="3173400" y="587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3173400" y="5872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73400" y="5872320"/>
            <a:ext cx="1440" cy="1440"/>
            <a:chOff x="3173400" y="5872320"/>
            <a:chExt cx="1440" cy="1440"/>
          </a:xfrm>
        </p:grpSpPr>
        <p:sp>
          <p:nvSpPr>
            <p:cNvPr id="115" name="Line 1630"/>
            <p:cNvSpPr/>
            <p:nvPr/>
          </p:nvSpPr>
          <p:spPr>
            <a:xfrm>
              <a:off x="3173400" y="5872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3173400" y="5872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7" name="AutoShape 2730"/>
          <p:cNvCxnSpPr/>
          <p:nvPr/>
        </p:nvCxnSpPr>
        <p:spPr>
          <a:xfrm flipV="1">
            <a:off x="5540400" y="1009440"/>
            <a:ext cx="1836000" cy="792720"/>
          </a:xfrm>
          <a:prstGeom prst="bentConnector3">
            <a:avLst>
              <a:gd name="adj1" fmla="val 156"/>
            </a:avLst>
          </a:prstGeom>
          <a:ln cap="rnd" w="19080">
            <a:solidFill>
              <a:srgbClr val="008000"/>
            </a:solidFill>
            <a:custDash>
              <a:ds d="100000" sp="1000"/>
            </a:custDash>
            <a:miter/>
            <a:tailEnd len="med" type="oval" w="med"/>
          </a:ln>
        </p:spPr>
      </p:cxnSp>
      <p:cxnSp>
        <p:nvCxnSpPr>
          <p:cNvPr id="118" name="AutoShape 2732"/>
          <p:cNvCxnSpPr/>
          <p:nvPr/>
        </p:nvCxnSpPr>
        <p:spPr>
          <a:xfrm rot="10800000">
            <a:off x="1939320" y="1872360"/>
            <a:ext cx="1296000" cy="1288440"/>
          </a:xfrm>
          <a:prstGeom prst="bentConnector3">
            <a:avLst>
              <a:gd name="adj1" fmla="val 24256"/>
            </a:avLst>
          </a:prstGeom>
          <a:ln cap="rnd" w="19080">
            <a:solidFill>
              <a:srgbClr val="ff6600"/>
            </a:solidFill>
            <a:custDash>
              <a:ds d="100000" sp="1000"/>
            </a:custDash>
            <a:miter/>
            <a:tailEnd len="med" type="oval" w="med"/>
          </a:ln>
        </p:spPr>
      </p:cxnSp>
      <p:cxnSp>
        <p:nvCxnSpPr>
          <p:cNvPr id="119" name="AutoShape 2733"/>
          <p:cNvCxnSpPr/>
          <p:nvPr/>
        </p:nvCxnSpPr>
        <p:spPr>
          <a:xfrm>
            <a:off x="5288040" y="4538520"/>
            <a:ext cx="3132720" cy="937440"/>
          </a:xfrm>
          <a:prstGeom prst="bentConnector3">
            <a:avLst>
              <a:gd name="adj1" fmla="val 42064"/>
            </a:avLst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tailEnd len="med" type="oval" w="med"/>
          </a:ln>
        </p:spPr>
      </p:cxnSp>
      <p:pic>
        <p:nvPicPr>
          <p:cNvPr id="120" name="Object 2734" descr=""/>
          <p:cNvPicPr/>
          <p:nvPr/>
        </p:nvPicPr>
        <p:blipFill>
          <a:blip r:embed="rId3"/>
          <a:stretch/>
        </p:blipFill>
        <p:spPr>
          <a:xfrm>
            <a:off x="1687680" y="2019240"/>
            <a:ext cx="1223640" cy="127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735"/>
          <p:cNvSpPr/>
          <p:nvPr/>
        </p:nvSpPr>
        <p:spPr>
          <a:xfrm>
            <a:off x="942120" y="162864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Dotum"/>
                <a:ea typeface="Dotum"/>
              </a:rPr>
              <a:t>YELLOW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36"/>
          <p:cNvSpPr/>
          <p:nvPr/>
        </p:nvSpPr>
        <p:spPr>
          <a:xfrm>
            <a:off x="963720" y="2287440"/>
            <a:ext cx="863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Over time, we will b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adding new sec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dealing with food, win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Di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37"/>
          <p:cNvSpPr/>
          <p:nvPr/>
        </p:nvSpPr>
        <p:spPr>
          <a:xfrm>
            <a:off x="1121760" y="1814400"/>
            <a:ext cx="266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Arial Black"/>
                <a:ea typeface="Gulim"/>
              </a:rPr>
              <a:t>9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739"/>
          <p:cNvSpPr/>
          <p:nvPr/>
        </p:nvSpPr>
        <p:spPr>
          <a:xfrm>
            <a:off x="3578400" y="2811600"/>
            <a:ext cx="777600" cy="782640"/>
          </a:xfrm>
          <a:prstGeom prst="pie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2741"/>
          <p:cNvSpPr/>
          <p:nvPr/>
        </p:nvSpPr>
        <p:spPr>
          <a:xfrm>
            <a:off x="4740120" y="3435480"/>
            <a:ext cx="792360" cy="788760"/>
          </a:xfrm>
          <a:prstGeom prst="pie">
            <a:avLst/>
          </a:prstGeom>
          <a:solidFill>
            <a:srgbClr val="003366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742"/>
          <p:cNvSpPr/>
          <p:nvPr/>
        </p:nvSpPr>
        <p:spPr>
          <a:xfrm>
            <a:off x="4768920" y="1965240"/>
            <a:ext cx="785880" cy="790560"/>
          </a:xfrm>
          <a:prstGeom prst="pie">
            <a:avLst/>
          </a:prstGeom>
          <a:solidFill>
            <a:srgbClr val="0033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43"/>
          <p:cNvSpPr/>
          <p:nvPr/>
        </p:nvSpPr>
        <p:spPr>
          <a:xfrm>
            <a:off x="3462120" y="35370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rebuchet MS"/>
                <a:ea typeface="Gulim"/>
              </a:rPr>
              <a:t>Media</a:t>
            </a:r>
            <a:r>
              <a:rPr b="0" lang="en-US" sz="1400" spc="-1" strike="noStrike">
                <a:solidFill>
                  <a:srgbClr val="808080"/>
                </a:solidFill>
                <a:latin typeface="Trebuchet MS"/>
                <a:ea typeface="Gulim"/>
              </a:rPr>
              <a:t> _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46"/>
          <p:cNvSpPr/>
          <p:nvPr/>
        </p:nvSpPr>
        <p:spPr>
          <a:xfrm>
            <a:off x="3673080" y="4159080"/>
            <a:ext cx="28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rebuchet MS"/>
                <a:ea typeface="Gulim"/>
              </a:rPr>
              <a:t>Media</a:t>
            </a:r>
            <a:r>
              <a:rPr b="0" lang="en-US" sz="1400" spc="-1" strike="noStrike">
                <a:solidFill>
                  <a:srgbClr val="000099"/>
                </a:solidFill>
                <a:latin typeface="Trebuchet MS"/>
                <a:ea typeface="Gulim"/>
              </a:rPr>
              <a:t> _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47"/>
          <p:cNvSpPr/>
          <p:nvPr/>
        </p:nvSpPr>
        <p:spPr>
          <a:xfrm>
            <a:off x="3769920" y="2703600"/>
            <a:ext cx="28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rebuchet MS"/>
                <a:ea typeface="Gulim"/>
              </a:rPr>
              <a:t>Media</a:t>
            </a:r>
            <a:r>
              <a:rPr b="0" lang="en-US" sz="1400" spc="-1" strike="noStrike">
                <a:solidFill>
                  <a:srgbClr val="003300"/>
                </a:solidFill>
                <a:latin typeface="Trebuchet MS"/>
                <a:ea typeface="Gulim"/>
              </a:rPr>
              <a:t> _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748"/>
          <p:cNvSpPr/>
          <p:nvPr/>
        </p:nvSpPr>
        <p:spPr>
          <a:xfrm>
            <a:off x="-75600" y="2147760"/>
            <a:ext cx="27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00"/>
                </a:solidFill>
                <a:latin typeface="Dotum"/>
                <a:ea typeface="Dotum"/>
              </a:rPr>
              <a:t>COMP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49"/>
          <p:cNvSpPr/>
          <p:nvPr/>
        </p:nvSpPr>
        <p:spPr>
          <a:xfrm>
            <a:off x="5448960" y="765000"/>
            <a:ext cx="29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Dotum"/>
                <a:ea typeface="Dotum"/>
              </a:rPr>
              <a:t>GREE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ject 2750" descr=""/>
          <p:cNvPicPr/>
          <p:nvPr/>
        </p:nvPicPr>
        <p:blipFill>
          <a:blip r:embed="rId4"/>
          <a:stretch/>
        </p:blipFill>
        <p:spPr>
          <a:xfrm>
            <a:off x="5710320" y="1082520"/>
            <a:ext cx="1224000" cy="127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751"/>
          <p:cNvSpPr/>
          <p:nvPr/>
        </p:nvSpPr>
        <p:spPr>
          <a:xfrm>
            <a:off x="5565240" y="947880"/>
            <a:ext cx="833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Arial Black"/>
                <a:ea typeface="Gulim"/>
              </a:rPr>
              <a:t>3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753"/>
          <p:cNvGrpSpPr/>
          <p:nvPr/>
        </p:nvGrpSpPr>
        <p:grpSpPr>
          <a:xfrm>
            <a:off x="6754320" y="1193760"/>
            <a:ext cx="1164960" cy="730080"/>
            <a:chOff x="6754320" y="1193760"/>
            <a:chExt cx="1164960" cy="730080"/>
          </a:xfrm>
        </p:grpSpPr>
        <p:sp>
          <p:nvSpPr>
            <p:cNvPr id="135" name="Text Box 2744"/>
            <p:cNvSpPr/>
            <p:nvPr/>
          </p:nvSpPr>
          <p:spPr>
            <a:xfrm>
              <a:off x="6755400" y="1343160"/>
              <a:ext cx="116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Online Shopping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Shop for million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of name br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Gulim"/>
                  <a:ea typeface="Gulim"/>
                </a:rPr>
                <a:t>products at discou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752"/>
            <p:cNvSpPr/>
            <p:nvPr/>
          </p:nvSpPr>
          <p:spPr>
            <a:xfrm>
              <a:off x="6754320" y="1193760"/>
              <a:ext cx="82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Dotum"/>
                  <a:ea typeface="Dotum"/>
                </a:rPr>
                <a:t>WATCH T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895320" y="2090880"/>
            <a:ext cx="792360" cy="360"/>
            <a:chOff x="895320" y="2090880"/>
            <a:chExt cx="792360" cy="360"/>
          </a:xfrm>
        </p:grpSpPr>
        <p:sp>
          <p:nvSpPr>
            <p:cNvPr id="138" name="Line 2757"/>
            <p:cNvSpPr/>
            <p:nvPr/>
          </p:nvSpPr>
          <p:spPr>
            <a:xfrm>
              <a:off x="895320" y="2090880"/>
              <a:ext cx="792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895320" y="2090880"/>
              <a:ext cx="7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966960" y="2162160"/>
            <a:ext cx="742680" cy="360"/>
            <a:chOff x="966960" y="2162160"/>
            <a:chExt cx="742680" cy="360"/>
          </a:xfrm>
        </p:grpSpPr>
        <p:sp>
          <p:nvSpPr>
            <p:cNvPr id="141" name="Line 2758"/>
            <p:cNvSpPr/>
            <p:nvPr/>
          </p:nvSpPr>
          <p:spPr>
            <a:xfrm>
              <a:off x="966960" y="2162160"/>
              <a:ext cx="74268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966960" y="2162160"/>
              <a:ext cx="742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840360" y="1204920"/>
            <a:ext cx="743040" cy="360"/>
            <a:chOff x="6840360" y="1204920"/>
            <a:chExt cx="743040" cy="360"/>
          </a:xfrm>
        </p:grpSpPr>
        <p:sp>
          <p:nvSpPr>
            <p:cNvPr id="144" name="Line 2760"/>
            <p:cNvSpPr/>
            <p:nvPr/>
          </p:nvSpPr>
          <p:spPr>
            <a:xfrm>
              <a:off x="6840360" y="1204920"/>
              <a:ext cx="743040" cy="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840360" y="1204920"/>
              <a:ext cx="743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Object 2761" descr=""/>
          <p:cNvPicPr/>
          <p:nvPr/>
        </p:nvPicPr>
        <p:blipFill>
          <a:blip r:embed="rId5"/>
          <a:stretch/>
        </p:blipFill>
        <p:spPr>
          <a:xfrm>
            <a:off x="6540480" y="4284720"/>
            <a:ext cx="1224000" cy="127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762"/>
          <p:cNvSpPr/>
          <p:nvPr/>
        </p:nvSpPr>
        <p:spPr>
          <a:xfrm>
            <a:off x="6724080" y="5043600"/>
            <a:ext cx="266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Arial Black"/>
                <a:ea typeface="Gulim"/>
              </a:rPr>
              <a:t>5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763"/>
          <p:cNvSpPr/>
          <p:nvPr/>
        </p:nvSpPr>
        <p:spPr>
          <a:xfrm>
            <a:off x="4798080" y="4299120"/>
            <a:ext cx="27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Dotum"/>
                <a:ea typeface="Dotum"/>
              </a:rPr>
              <a:t>BLU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764"/>
          <p:cNvSpPr/>
          <p:nvPr/>
        </p:nvSpPr>
        <p:spPr>
          <a:xfrm>
            <a:off x="7577280" y="3819600"/>
            <a:ext cx="9363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More than 800 great buildings from around the world and across history are listed below and illustrated on this web site and the Great Building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677000" y="3684600"/>
            <a:ext cx="706680" cy="360"/>
            <a:chOff x="7677000" y="3684600"/>
            <a:chExt cx="706680" cy="360"/>
          </a:xfrm>
        </p:grpSpPr>
        <p:sp>
          <p:nvSpPr>
            <p:cNvPr id="151" name="Line 2765"/>
            <p:cNvSpPr/>
            <p:nvPr/>
          </p:nvSpPr>
          <p:spPr>
            <a:xfrm>
              <a:off x="7677000" y="3684600"/>
              <a:ext cx="706680" cy="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7677000" y="3684600"/>
              <a:ext cx="70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182680" y="4873680"/>
            <a:ext cx="750960" cy="1440"/>
            <a:chOff x="2182680" y="4873680"/>
            <a:chExt cx="750960" cy="1440"/>
          </a:xfrm>
        </p:grpSpPr>
        <p:sp>
          <p:nvSpPr>
            <p:cNvPr id="154" name="Line 2770"/>
            <p:cNvSpPr/>
            <p:nvPr/>
          </p:nvSpPr>
          <p:spPr>
            <a:xfrm flipV="1">
              <a:off x="2182680" y="4873680"/>
              <a:ext cx="750960" cy="1440"/>
            </a:xfrm>
            <a:prstGeom prst="line">
              <a:avLst/>
            </a:prstGeom>
            <a:ln cap="rnd" w="1584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 rot="10800000">
              <a:off x="2182680" y="4873680"/>
              <a:ext cx="750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88880" y="4870440"/>
            <a:ext cx="750960" cy="1440"/>
            <a:chOff x="488880" y="4870440"/>
            <a:chExt cx="750960" cy="1440"/>
          </a:xfrm>
        </p:grpSpPr>
        <p:sp>
          <p:nvSpPr>
            <p:cNvPr id="157" name="Line 2773"/>
            <p:cNvSpPr/>
            <p:nvPr/>
          </p:nvSpPr>
          <p:spPr>
            <a:xfrm flipV="1">
              <a:off x="488880" y="4870440"/>
              <a:ext cx="750960" cy="1440"/>
            </a:xfrm>
            <a:prstGeom prst="line">
              <a:avLst/>
            </a:prstGeom>
            <a:ln cap="rnd" w="1584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 rot="10800000">
              <a:off x="488880" y="4870440"/>
              <a:ext cx="750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2779"/>
          <p:cNvSpPr/>
          <p:nvPr/>
        </p:nvSpPr>
        <p:spPr>
          <a:xfrm>
            <a:off x="390600" y="4626000"/>
            <a:ext cx="2643120" cy="777960"/>
          </a:xfrm>
          <a:prstGeom prst="rect">
            <a:avLst/>
          </a:prstGeom>
          <a:noFill/>
          <a:ln cap="rnd" w="2232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780"/>
          <p:cNvSpPr/>
          <p:nvPr/>
        </p:nvSpPr>
        <p:spPr>
          <a:xfrm>
            <a:off x="399960" y="5691240"/>
            <a:ext cx="2633760" cy="64764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50600" y="5474880"/>
            <a:ext cx="1800" cy="203400"/>
            <a:chOff x="2550600" y="5474880"/>
            <a:chExt cx="1800" cy="203400"/>
          </a:xfrm>
        </p:grpSpPr>
        <p:sp>
          <p:nvSpPr>
            <p:cNvPr id="162" name="Line 2784"/>
            <p:cNvSpPr/>
            <p:nvPr/>
          </p:nvSpPr>
          <p:spPr>
            <a:xfrm flipH="1" flipV="1">
              <a:off x="2550600" y="5474880"/>
              <a:ext cx="1800" cy="203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 rot="10800000">
              <a:off x="2550600" y="5474880"/>
              <a:ext cx="1800" cy="2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33680" y="5474880"/>
            <a:ext cx="1440" cy="203400"/>
            <a:chOff x="1633680" y="5474880"/>
            <a:chExt cx="1440" cy="203400"/>
          </a:xfrm>
        </p:grpSpPr>
        <p:sp>
          <p:nvSpPr>
            <p:cNvPr id="165" name="Line 2785"/>
            <p:cNvSpPr/>
            <p:nvPr/>
          </p:nvSpPr>
          <p:spPr>
            <a:xfrm flipH="1" flipV="1">
              <a:off x="1633680" y="5474880"/>
              <a:ext cx="1440" cy="203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 rot="10800000">
              <a:off x="1633680" y="5474880"/>
              <a:ext cx="1440" cy="2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88680" y="5474880"/>
            <a:ext cx="360" cy="203400"/>
            <a:chOff x="688680" y="5474880"/>
            <a:chExt cx="360" cy="203400"/>
          </a:xfrm>
        </p:grpSpPr>
        <p:sp>
          <p:nvSpPr>
            <p:cNvPr id="168" name="Line 2786"/>
            <p:cNvSpPr/>
            <p:nvPr/>
          </p:nvSpPr>
          <p:spPr>
            <a:xfrm flipV="1">
              <a:off x="689040" y="5474880"/>
              <a:ext cx="0" cy="203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 rot="10800000">
              <a:off x="688680" y="5474880"/>
              <a:ext cx="360" cy="2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334880" y="4871520"/>
            <a:ext cx="750960" cy="1800"/>
            <a:chOff x="1334880" y="4871520"/>
            <a:chExt cx="750960" cy="1800"/>
          </a:xfrm>
        </p:grpSpPr>
        <p:sp>
          <p:nvSpPr>
            <p:cNvPr id="171" name="Line 2791"/>
            <p:cNvSpPr/>
            <p:nvPr/>
          </p:nvSpPr>
          <p:spPr>
            <a:xfrm flipV="1">
              <a:off x="1335240" y="4871520"/>
              <a:ext cx="750600" cy="1800"/>
            </a:xfrm>
            <a:prstGeom prst="line">
              <a:avLst/>
            </a:prstGeom>
            <a:ln cap="rnd" w="1584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1334880" y="4871520"/>
              <a:ext cx="750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2794"/>
          <p:cNvSpPr/>
          <p:nvPr/>
        </p:nvSpPr>
        <p:spPr>
          <a:xfrm>
            <a:off x="6666120" y="3683160"/>
            <a:ext cx="262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ff"/>
                </a:solidFill>
                <a:latin typeface="Dotum"/>
                <a:ea typeface="Dotum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795"/>
          <p:cNvSpPr/>
          <p:nvPr/>
        </p:nvSpPr>
        <p:spPr>
          <a:xfrm>
            <a:off x="-434520" y="4944960"/>
            <a:ext cx="248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 Black"/>
                <a:ea typeface="Gulim"/>
              </a:rPr>
              <a:t>$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96"/>
          <p:cNvSpPr/>
          <p:nvPr/>
        </p:nvSpPr>
        <p:spPr>
          <a:xfrm>
            <a:off x="437040" y="4944960"/>
            <a:ext cx="248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 Black"/>
                <a:ea typeface="Gulim"/>
              </a:rPr>
              <a:t>$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97"/>
          <p:cNvSpPr/>
          <p:nvPr/>
        </p:nvSpPr>
        <p:spPr>
          <a:xfrm>
            <a:off x="1278720" y="4944960"/>
            <a:ext cx="248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Arial Black"/>
                <a:ea typeface="Gulim"/>
              </a:rPr>
              <a:t>$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98"/>
          <p:cNvSpPr/>
          <p:nvPr/>
        </p:nvSpPr>
        <p:spPr>
          <a:xfrm>
            <a:off x="304200" y="5772240"/>
            <a:ext cx="277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More than 800 great buildings from around the worl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and across history are listed below and illustrated 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ulim"/>
                <a:ea typeface="Gulim"/>
              </a:rPr>
              <a:t>this web site and the Great Buildings Collec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00"/>
          <p:cNvSpPr/>
          <p:nvPr/>
        </p:nvSpPr>
        <p:spPr>
          <a:xfrm>
            <a:off x="-603000" y="4356000"/>
            <a:ext cx="385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otum"/>
                <a:ea typeface="Dotum"/>
              </a:rPr>
              <a:t>SUMMARY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63086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38520" y="98100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精美商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B1F-5B79-4B67-BA67-2144ACD75E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6T07:16:41Z</dcterms:modified>
  <cp:revision>10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