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2C0-EBCB-4228-93AF-3BE78142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C8B-C237-4E53-A83F-06DBC5A9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35E-D6A2-4C6E-B7BA-14925EB4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4A4-9A20-41D8-85DA-5F8C7349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79E-1159-4A44-9ED7-D3F02385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F59-0111-41D6-A429-BE2F77BF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846-86CA-4230-BE69-9C7D2DB9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221-34A1-4DA8-8B87-575AAAEA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67E-F5F2-4857-BD1D-60FFCD6F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EEA-EBE0-4334-ADC8-BD4C3C5D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582-8959-4710-B614-6B355DE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C5C-9FAA-4256-9C71-332B290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6E56-3674-4646-B9C7-9540E06E6AD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2DAA-8F7D-45E6-9318-55223B1DAC2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箭头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836640"/>
            <a:ext cx="9001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168120" y="2755800"/>
            <a:ext cx="6132600" cy="391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9720" y="62499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1560" y="1314360"/>
            <a:ext cx="47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箭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图表素材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C03-88C8-4BD0-A8F3-D9B3695CD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21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3:27:13Z</dcterms:modified>
  <cp:revision>8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