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90E2-7BD4-42E2-8D74-91D33F9F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61FB-73A5-4D5E-A1A8-7AB4DE9A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2AA9-478B-4D30-A9CC-7C24DF59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45F7-3FDC-461A-92B8-CF98EF65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D68C-C427-4178-9231-E72880B3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AE7B-23AA-4A25-8649-E38F5EDC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1604-A565-49B8-98DE-EA928BC2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374A-21E4-4497-AB01-AFEB2533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45A8-2786-45C2-981E-C4E0F93D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103-3804-42EC-9AB4-3EA68490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5D1A-05A5-41AC-A26B-AB62D2EA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41B5-9B08-48E3-8E77-4431B6BE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70E7-85B9-497D-B002-6D166099222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557F-23A0-45E6-AEB3-B2FFB9788C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jianzhu (1)"/>
          <p:cNvPicPr/>
          <p:nvPr/>
        </p:nvPicPr>
        <p:blipFill>
          <a:blip r:embed="rId1"/>
          <a:stretch/>
        </p:blipFill>
        <p:spPr>
          <a:xfrm>
            <a:off x="1646280" y="1600200"/>
            <a:ext cx="5851440" cy="3657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8080" y="549360"/>
            <a:ext cx="362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建筑设计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背景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B360-B1EF-4A9B-9259-9FD01C934A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jianzhu (2)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jianzhu (3)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jianzhu (4)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jianzhu (9)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jianzhu (11)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jianzhu (13)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jianzhu (14)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jianzhu (15)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15:39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