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E89B-C76C-404C-8B55-1525FC5F0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E88E-E30B-4421-B814-45D0BC18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74F4-8778-4723-A8AD-BB35FE4CC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781D-3B29-491B-A880-DAEB7479C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6605-5270-4426-80D1-27F627DA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E337-AFFF-426D-AE36-65B7B912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6B05-904A-48F3-811D-37B948A1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B8C1-1A0E-4ECF-8C24-6567695C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58A7-731C-45DC-8A6F-A7513744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0A7C-3AE1-449B-B6D0-D3C2CAA1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4949-CCF0-440E-A3EE-C3A79493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64BE-3DC5-46EE-8EC1-3085259B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B8B3-236E-42C8-96E5-12D13C98643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59FD-1E46-4E92-94AE-D76F5AD9E8E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55640" y="3213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19400" y="549360"/>
            <a:ext cx="31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卡通小人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素材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Administrator\Desktop\素材图片1\3D小人开会系列ppt素材图片\www.51pptmoban.com (38)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4360" y="652608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21F0-AF0B-4A89-979D-EEF4C26E63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Administrator\Desktop\素材图片1\3D小人开会系列ppt素材图片\www.51pptmoban.com (40)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5T07:54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7:43:49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