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152F-A2B3-4BE8-82A0-0A8ADB00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6096-A31B-427D-B38E-E26EBBDC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3557-9FDD-4E88-8F91-188E4281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CCEF-6131-43DC-B57D-5F50CE7A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581B-1D18-43DB-804C-408B806D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3D35-8ECC-45FB-A0E1-3AE0FB53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F5C7-7BFE-4963-94D1-11C0D6B4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BB57-CAF9-479C-B616-3A7FFDE1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DB15-39C3-4DD4-8707-4C0AD770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03AA-E431-41B2-9AC1-EB219E8A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82F0-A9F7-46CA-AB94-7B395BBC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537-2523-43EE-BCA2-2BF9DF14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E285-42C6-40FA-B16D-0266C4192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8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竹林背景"/>
          <p:cNvPicPr/>
          <p:nvPr/>
        </p:nvPicPr>
        <p:blipFill>
          <a:blip r:embed="rId1"/>
          <a:stretch/>
        </p:blipFill>
        <p:spPr>
          <a:xfrm>
            <a:off x="0" y="56196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竹林模糊背景"/>
          <p:cNvPicPr/>
          <p:nvPr/>
        </p:nvPicPr>
        <p:blipFill>
          <a:blip r:embed="rId2"/>
          <a:stretch/>
        </p:blipFill>
        <p:spPr>
          <a:xfrm>
            <a:off x="-76320" y="533520"/>
            <a:ext cx="9271080" cy="5794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9" descr="竹子12"/>
          <p:cNvPicPr/>
          <p:nvPr/>
        </p:nvPicPr>
        <p:blipFill>
          <a:blip r:embed="rId3"/>
          <a:stretch/>
        </p:blipFill>
        <p:spPr>
          <a:xfrm>
            <a:off x="-76320" y="533520"/>
            <a:ext cx="2344680" cy="5790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10"/>
          <p:cNvPicPr/>
          <p:nvPr/>
        </p:nvPicPr>
        <p:blipFill>
          <a:blip r:embed="rId4"/>
          <a:stretch/>
        </p:blipFill>
        <p:spPr>
          <a:xfrm>
            <a:off x="-28440" y="561960"/>
            <a:ext cx="2268360" cy="3247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竹子14"/>
          <p:cNvPicPr/>
          <p:nvPr/>
        </p:nvPicPr>
        <p:blipFill>
          <a:blip r:embed="rId5"/>
          <a:stretch/>
        </p:blipFill>
        <p:spPr>
          <a:xfrm>
            <a:off x="6756480" y="533520"/>
            <a:ext cx="2844720" cy="5867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8" descr="竹子11"/>
          <p:cNvPicPr/>
          <p:nvPr/>
        </p:nvPicPr>
        <p:blipFill>
          <a:blip r:embed="rId6"/>
          <a:stretch/>
        </p:blipFill>
        <p:spPr>
          <a:xfrm>
            <a:off x="5343480" y="3124080"/>
            <a:ext cx="2505240" cy="327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6" descr="zhuye"/>
          <p:cNvPicPr/>
          <p:nvPr/>
        </p:nvPicPr>
        <p:blipFill>
          <a:blip r:embed="rId7"/>
          <a:stretch/>
        </p:blipFill>
        <p:spPr>
          <a:xfrm>
            <a:off x="457200" y="-512640"/>
            <a:ext cx="304920" cy="260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7" descr="zhuye2"/>
          <p:cNvPicPr/>
          <p:nvPr/>
        </p:nvPicPr>
        <p:blipFill>
          <a:blip r:embed="rId8"/>
          <a:stretch/>
        </p:blipFill>
        <p:spPr>
          <a:xfrm>
            <a:off x="3581280" y="-474840"/>
            <a:ext cx="438120" cy="257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8" descr="zhuye2"/>
          <p:cNvPicPr/>
          <p:nvPr/>
        </p:nvPicPr>
        <p:blipFill>
          <a:blip r:embed="rId9"/>
          <a:stretch/>
        </p:blipFill>
        <p:spPr>
          <a:xfrm>
            <a:off x="2133720" y="-430200"/>
            <a:ext cx="361800" cy="212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9" descr="zhuye"/>
          <p:cNvPicPr/>
          <p:nvPr/>
        </p:nvPicPr>
        <p:blipFill>
          <a:blip r:embed="rId10"/>
          <a:stretch/>
        </p:blipFill>
        <p:spPr>
          <a:xfrm flipH="1" rot="19031400">
            <a:off x="2539800" y="-674640"/>
            <a:ext cx="266400" cy="226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zhuye"/>
          <p:cNvPicPr/>
          <p:nvPr/>
        </p:nvPicPr>
        <p:blipFill>
          <a:blip r:embed="rId11"/>
          <a:stretch/>
        </p:blipFill>
        <p:spPr>
          <a:xfrm flipH="1" rot="19028400">
            <a:off x="4878000" y="-810360"/>
            <a:ext cx="190440" cy="16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1" descr="zhuye2"/>
          <p:cNvPicPr/>
          <p:nvPr/>
        </p:nvPicPr>
        <p:blipFill>
          <a:blip r:embed="rId12"/>
          <a:stretch/>
        </p:blipFill>
        <p:spPr>
          <a:xfrm>
            <a:off x="5734080" y="-685800"/>
            <a:ext cx="438120" cy="257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2" descr="zhuye"/>
          <p:cNvPicPr/>
          <p:nvPr/>
        </p:nvPicPr>
        <p:blipFill>
          <a:blip r:embed="rId13"/>
          <a:stretch/>
        </p:blipFill>
        <p:spPr>
          <a:xfrm rot="2571000">
            <a:off x="7072200" y="-720360"/>
            <a:ext cx="343080" cy="291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3" descr="zhuye"/>
          <p:cNvPicPr/>
          <p:nvPr/>
        </p:nvPicPr>
        <p:blipFill>
          <a:blip r:embed="rId14"/>
          <a:stretch/>
        </p:blipFill>
        <p:spPr>
          <a:xfrm rot="2571000">
            <a:off x="914040" y="-568080"/>
            <a:ext cx="343080" cy="292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4" descr="zhuye2"/>
          <p:cNvPicPr/>
          <p:nvPr/>
        </p:nvPicPr>
        <p:blipFill>
          <a:blip r:embed="rId15"/>
          <a:stretch/>
        </p:blipFill>
        <p:spPr>
          <a:xfrm>
            <a:off x="7562880" y="-533520"/>
            <a:ext cx="438120" cy="2574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1"/>
          <p:cNvGrpSpPr/>
          <p:nvPr/>
        </p:nvGrpSpPr>
        <p:grpSpPr>
          <a:xfrm>
            <a:off x="-152280" y="-228600"/>
            <a:ext cx="9524880" cy="7400880"/>
            <a:chOff x="-152280" y="-228600"/>
            <a:chExt cx="9524880" cy="7400880"/>
          </a:xfrm>
        </p:grpSpPr>
        <p:sp>
          <p:nvSpPr>
            <p:cNvPr id="57" name="Rectangle 22"/>
            <p:cNvSpPr/>
            <p:nvPr/>
          </p:nvSpPr>
          <p:spPr>
            <a:xfrm>
              <a:off x="-152280" y="-228600"/>
              <a:ext cx="9524880" cy="838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3"/>
            <p:cNvSpPr/>
            <p:nvPr/>
          </p:nvSpPr>
          <p:spPr>
            <a:xfrm>
              <a:off x="-152280" y="6334200"/>
              <a:ext cx="9524880" cy="838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46"/>
          <p:cNvSpPr/>
          <p:nvPr/>
        </p:nvSpPr>
        <p:spPr>
          <a:xfrm>
            <a:off x="1475280" y="6308640"/>
            <a:ext cx="56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站长素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.CHINAZ.COM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站长素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.CHINA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6553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5600" y="914400"/>
            <a:ext cx="32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绿灰色竹子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5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10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4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52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4444E-006 L 0.61302 0.55 E">
                                      <p:cBhvr>
                                        <p:cTn id="20" dur="2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8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6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67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12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30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9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2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6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8" repeatCount="indefinite">
                                  <p:stCondLst>
                                    <p:cond delay="6700"/>
                                  </p:stCondLst>
                                  <p:childTnLst>
                                    <p:animRot by="43200000">
                                      <p:cBhvr>
                                        <p:cTn id="4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56647E-006 C 0.02326 0.07029 0.04653 0.14081 0.10538 0.25919 C 0.16424 0.37757 0.24861 0.59375 0.35278 0.70959 C 0.45694 0.82543 0.65 0.87052 0.73073 0.95398 C 0.8118 1.03745 0.825 1.12416 0.83819 1.21086 E">
                                      <p:cBhvr>
                                        <p:cTn id="45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-21599760">
                                      <p:cBhvr>
                                        <p:cTn id="4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05556E-006 7.91908E-006 C 0.02379 0.15746 0.04757 0.31515 0.09097 0.4407 C 0.13438 0.56625 0.18038 0.62914 0.26007 0.75307 C 0.33976 0.877 0.45434 1.03053 0.5691 1.18405 E">
                                      <p:cBhvr>
                                        <p:cTn id="49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 repeatCount="indefinite">
                                  <p:stCondLst>
                                    <p:cond delay="700"/>
                                  </p:stCondLst>
                                  <p:childTnLst>
                                    <p:animRot by="21600000">
                                      <p:cBhvr>
                                        <p:cTn id="51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1.66667E-006 -4.39306E-006 C 0.00573 0.15538 0.01146 0.31122 0.02205 0.43538 C 0.03264 0.55931 0.04375 0.62151 0.06319 0.74405 C 0.08264 0.86636 0.11059 1.01804 0.13854 1.16995 E">
                                      <p:cBhvr>
                                        <p:cTn id="53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 repeatCount="indefinite">
                                  <p:stCondLst>
                                    <p:cond delay="2500"/>
                                  </p:stCondLst>
                                  <p:childTnLst>
                                    <p:animRot by="-23999760">
                                      <p:cBhvr>
                                        <p:cTn id="55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 repeatCount="indefinite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2.77778E-007 1.21387E-006 C 0.04583 0.12647 0.09184 0.25295 0.14184 0.40925 C 0.19184 0.56555 0.24791 0.81295 0.3 0.93711 C 0.35208 1.06127 0.4033 1.10798 0.45451 1.15491 E">
                                      <p:cBhvr>
                                        <p:cTn id="57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 repeatCount="indefinite">
                                  <p:stCondLst>
                                    <p:cond delay="4600"/>
                                  </p:stCondLst>
                                  <p:childTnLst>
                                    <p:animRot by="24000000">
                                      <p:cBhvr>
                                        <p:cTn id="5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 repeatCount="indefinite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6.94444E-006 -6.93642E-006 C 0.02378 0.17479 0.04774 0.34959 0.08715 0.54728 C 0.12656 0.74497 0.18142 0.96578 0.23628 1.18658 E">
                                      <p:cBhvr>
                                        <p:cTn id="61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8" repeatCount="indefinite">
                                  <p:stCondLst>
                                    <p:cond delay="1700"/>
                                  </p:stCondLst>
                                  <p:childTnLst>
                                    <p:animRot by="-21599760">
                                      <p:cBhvr>
                                        <p:cTn id="63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 repeatCount="indefinite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05556E-006 7.91908E-006 C 0.02379 0.15746 0.04757 0.31515 0.09097 0.4407 C 0.13438 0.56625 0.18038 0.62914 0.26007 0.75307 C 0.33976 0.877 0.45434 1.03053 0.5691 1.18405 E">
                                      <p:cBhvr>
                                        <p:cTn id="65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 repeatCount="indefinite">
                                  <p:stCondLst>
                                    <p:cond delay="4200"/>
                                  </p:stCondLst>
                                  <p:childTnLst>
                                    <p:animRot by="24000000">
                                      <p:cBhvr>
                                        <p:cTn id="6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 repeatCount="indefinite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2.5E-006 -5.78035E-007 C 0.00573 0.1822 0.01163 0.36462 0.02118 0.57087 C 0.0309 0.77711 0.04427 1.0074 0.05781 1.23792 E">
                                      <p:cBhvr>
                                        <p:cTn id="69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24000000">
                                      <p:cBhvr>
                                        <p:cTn id="7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38778E-017 2.89017E-006 C -0.00191 0.17063 -0.00382 0.34173 -0.00694 0.53503 C -0.01007 0.72832 -0.01441 0.94404 -0.01875 1.16023 E">
                                      <p:cBhvr>
                                        <p:cTn id="73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760">
                                      <p:cBhvr>
                                        <p:cTn id="75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5.20231E-007 C 0.02326 0.11584 0.0467 0.23191 0.05642 0.37526 C 0.06614 0.51908 0.04722 0.73341 0.05816 0.8622 C 0.0691 0.99098 0.09548 1.06937 0.12187 1.14775 E">
                                      <p:cBhvr>
                                        <p:cTn id="77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44C-672C-47C2-BC9C-482883B893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7T12:39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35:45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