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15C6-F02D-45D6-867E-98E5E25D7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6340-3F80-4993-9329-D1D7B595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FB64-AD3A-4057-B864-1A0920375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DE3F-4306-4250-B7D3-6DFF06D5A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A63C-4B77-417D-B0FA-5C4B0915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DB81-1E77-477E-A4E9-8470F43F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9EFE-4969-4E9C-A6A5-28E08B50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4B03-1F08-4D92-BCAB-CC9395F1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1C4F-49F0-48A7-A9EC-974C88DF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B7E7-B2B6-4448-B970-E61458B1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92C5-676A-4ADD-A107-C7BF2CBC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8EA3-7CEE-451D-BFE7-999601C1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2962-99F5-48D6-8A93-8255B380756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615A-1B1E-4451-89F7-E2C4C3745A3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shangwu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5705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6920" y="2079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63840" y="1320840"/>
            <a:ext cx="34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蓝色商务科技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3"/>
          <p:cNvGrpSpPr/>
          <p:nvPr/>
        </p:nvGrpSpPr>
        <p:grpSpPr>
          <a:xfrm>
            <a:off x="2324160" y="1995480"/>
            <a:ext cx="4495680" cy="719280"/>
            <a:chOff x="2324160" y="1995480"/>
            <a:chExt cx="4495680" cy="719280"/>
          </a:xfrm>
        </p:grpSpPr>
        <p:sp>
          <p:nvSpPr>
            <p:cNvPr id="46" name="圆角矩形 5"/>
            <p:cNvSpPr/>
            <p:nvPr/>
          </p:nvSpPr>
          <p:spPr>
            <a:xfrm>
              <a:off x="2324160" y="2052720"/>
              <a:ext cx="4495680" cy="604440"/>
            </a:xfrm>
            <a:prstGeom prst="roundRect">
              <a:avLst>
                <a:gd name="adj" fmla="val 16667"/>
              </a:avLst>
            </a:prstGeom>
            <a:solidFill>
              <a:srgbClr val="c5d8f1">
                <a:alpha val="25000"/>
              </a:srgbClr>
            </a:solidFill>
            <a:ln w="19080">
              <a:solidFill>
                <a:srgbClr val="17365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标题 1"/>
            <p:cNvSpPr/>
            <p:nvPr/>
          </p:nvSpPr>
          <p:spPr>
            <a:xfrm>
              <a:off x="3126960" y="1995480"/>
              <a:ext cx="289008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6"/>
          <p:cNvGrpSpPr/>
          <p:nvPr/>
        </p:nvGrpSpPr>
        <p:grpSpPr>
          <a:xfrm>
            <a:off x="2324160" y="2967120"/>
            <a:ext cx="4495680" cy="718920"/>
            <a:chOff x="2324160" y="2967120"/>
            <a:chExt cx="4495680" cy="718920"/>
          </a:xfrm>
        </p:grpSpPr>
        <p:sp>
          <p:nvSpPr>
            <p:cNvPr id="49" name="圆角矩形 8"/>
            <p:cNvSpPr/>
            <p:nvPr/>
          </p:nvSpPr>
          <p:spPr>
            <a:xfrm>
              <a:off x="2324160" y="3024360"/>
              <a:ext cx="4495680" cy="604080"/>
            </a:xfrm>
            <a:prstGeom prst="roundRect">
              <a:avLst>
                <a:gd name="adj" fmla="val 16667"/>
              </a:avLst>
            </a:prstGeom>
            <a:solidFill>
              <a:srgbClr val="c5d8f1">
                <a:alpha val="25000"/>
              </a:srgbClr>
            </a:solidFill>
            <a:ln w="19080">
              <a:solidFill>
                <a:srgbClr val="17365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标题 1"/>
            <p:cNvSpPr/>
            <p:nvPr/>
          </p:nvSpPr>
          <p:spPr>
            <a:xfrm>
              <a:off x="3126960" y="2967120"/>
              <a:ext cx="28900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9"/>
          <p:cNvGrpSpPr/>
          <p:nvPr/>
        </p:nvGrpSpPr>
        <p:grpSpPr>
          <a:xfrm>
            <a:off x="2324160" y="3940200"/>
            <a:ext cx="4495680" cy="717480"/>
            <a:chOff x="2324160" y="3940200"/>
            <a:chExt cx="4495680" cy="717480"/>
          </a:xfrm>
        </p:grpSpPr>
        <p:sp>
          <p:nvSpPr>
            <p:cNvPr id="52" name="圆角矩形 11"/>
            <p:cNvSpPr/>
            <p:nvPr/>
          </p:nvSpPr>
          <p:spPr>
            <a:xfrm>
              <a:off x="2324160" y="3997440"/>
              <a:ext cx="4495680" cy="602640"/>
            </a:xfrm>
            <a:prstGeom prst="roundRect">
              <a:avLst>
                <a:gd name="adj" fmla="val 16667"/>
              </a:avLst>
            </a:prstGeom>
            <a:solidFill>
              <a:srgbClr val="c5d8f1">
                <a:alpha val="25000"/>
              </a:srgbClr>
            </a:solidFill>
            <a:ln w="19080">
              <a:solidFill>
                <a:srgbClr val="17365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标题 1"/>
            <p:cNvSpPr/>
            <p:nvPr/>
          </p:nvSpPr>
          <p:spPr>
            <a:xfrm>
              <a:off x="3126960" y="3940200"/>
              <a:ext cx="28900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755640" y="2708280"/>
            <a:ext cx="6251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商务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BE95-1F1D-40C2-ADB6-C8DD3736B5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79"/>
          <p:cNvSpPr/>
          <p:nvPr/>
        </p:nvSpPr>
        <p:spPr>
          <a:xfrm>
            <a:off x="1825560" y="3484440"/>
            <a:ext cx="6782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4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标题 1"/>
          <p:cNvSpPr/>
          <p:nvPr/>
        </p:nvSpPr>
        <p:spPr>
          <a:xfrm>
            <a:off x="2459160" y="1994040"/>
            <a:ext cx="37861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您的支持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2:10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02:27:42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