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529-E540-4F5F-BE76-049BEEBC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62A-6888-4D02-B77B-F651EEB1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8AC-E7C4-4BDA-BE51-79489A11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4FA-562E-4AFE-BD87-D5B926E5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33BE-EE8E-46E1-97D3-C3488786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8471-54D4-48F4-92AD-457A3950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ADDF-36C2-4181-9E87-BB47CFB5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19B9-D1B5-4405-B675-4F0106DE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A4CD-723E-4E71-A6D8-B1AF030F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9800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E8D1-ECD1-421C-AA2F-1D01A339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FDE4-6502-4F35-AED3-20F0335F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475-EAE5-4221-9696-9F2E9F94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EB9F-AC69-496B-AF05-E8B50A58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51D4-1DD1-4711-AEF7-18B84FF3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9CC9-49B7-472F-9974-BFCE55C3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4AEE-F1B3-46DB-9E60-69DB0543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164B-EEFC-45A5-B375-A77585CE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B986-CC21-4D7F-ACFC-9767C3F5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EAB0-0CBB-4F7C-8D72-C3AA0D76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6C29-DF61-4A95-810E-3259FEE1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3BBC-89CA-4FE7-91C3-17D44F53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B170-A09B-46E8-B18A-F8F92836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318-C8EA-4D44-BAE7-B2168520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19800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A3F9-71E7-417B-8F07-0647D019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6F4C-F371-4CD5-B87A-5716C9A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48BB-0E1A-4491-BB10-D9332204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8A80-022C-4808-ADF0-E0474EE9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774D-CF0C-46AE-9539-67BAC698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1AF7-EBD2-4CB3-9952-A0A620D5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6709E-214D-4257-BA17-14B81A33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6FE-C4F5-4E59-834D-79324DF5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6DB-0B36-4A42-90B2-A7CD8E58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9800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BC6-B66E-496E-A81A-D20E3BF4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E02-B351-47E5-A1BE-047A68D8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01A-D742-4A2C-839A-A75441D1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C3D-6B54-4F31-86EF-C5B27CDF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4240" y="65160"/>
            <a:ext cx="1716120" cy="5235480"/>
          </a:xfrm>
          <a:prstGeom prst="rect">
            <a:avLst/>
          </a:prstGeom>
          <a:gradFill rotWithShape="0">
            <a:gsLst>
              <a:gs pos="0">
                <a:srgbClr val="026e94"/>
              </a:gs>
              <a:gs pos="100000">
                <a:srgbClr val="2682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5148360" y="1484280"/>
            <a:ext cx="3744720" cy="3816000"/>
            <a:chOff x="5148360" y="1484280"/>
            <a:chExt cx="3744720" cy="3816000"/>
          </a:xfrm>
        </p:grpSpPr>
        <p:sp>
          <p:nvSpPr>
            <p:cNvPr id="2" name="AutoShape 4"/>
            <p:cNvSpPr/>
            <p:nvPr/>
          </p:nvSpPr>
          <p:spPr>
            <a:xfrm>
              <a:off x="5148360" y="1489680"/>
              <a:ext cx="3744720" cy="3764160"/>
            </a:xfrm>
            <a:custGeom>
              <a:avLst/>
              <a:gdLst>
                <a:gd name="textAreaLeft" fmla="*/ 548640 w 3744720"/>
                <a:gd name="textAreaRight" fmla="*/ 3196080 w 3744720"/>
                <a:gd name="textAreaTop" fmla="*/ 551160 h 3764160"/>
                <a:gd name="textAreaBottom" fmla="*/ 3213000 h 376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5708160" y="4558320"/>
              <a:ext cx="446760" cy="34200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346440" y="2656800"/>
              <a:ext cx="577440" cy="264348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846120" y="2611800"/>
              <a:ext cx="589680" cy="25750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185600" y="2411280"/>
              <a:ext cx="825480" cy="266328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8055360" y="2694600"/>
              <a:ext cx="464760" cy="2095200"/>
            </a:xfrm>
            <a:custGeom>
              <a:avLst/>
              <a:gdLst/>
              <a:ahLst/>
              <a:rect l="l" t="t" r="r" b="b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5698440" y="3338280"/>
              <a:ext cx="788040" cy="180900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7048080" y="1649520"/>
              <a:ext cx="900720" cy="26928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7257240" y="2025360"/>
              <a:ext cx="693360" cy="11484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873480" y="1484280"/>
              <a:ext cx="280440" cy="34632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6613200" y="1519200"/>
              <a:ext cx="92160" cy="40248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5877360" y="2670840"/>
              <a:ext cx="2320560" cy="85104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5298120" y="2864160"/>
              <a:ext cx="3543840" cy="1541160"/>
            </a:xfrm>
            <a:custGeom>
              <a:avLst/>
              <a:gdLst/>
              <a:ahLst/>
              <a:rect l="l" t="t" r="r" b="b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6089040" y="4026960"/>
              <a:ext cx="2697840" cy="990000"/>
            </a:xfrm>
            <a:custGeom>
              <a:avLst/>
              <a:gdLst/>
              <a:ahLst/>
              <a:rect l="l" t="t" r="r" b="b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7086600" y="1763280"/>
              <a:ext cx="1751400" cy="1425960"/>
            </a:xfrm>
            <a:custGeom>
              <a:avLst/>
              <a:gdLst/>
              <a:ahLst/>
              <a:rect l="l" t="t" r="r" b="b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7375320" y="1774440"/>
              <a:ext cx="287640" cy="26352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6873480" y="1701720"/>
              <a:ext cx="620280" cy="48780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976800" y="1582560"/>
              <a:ext cx="239040" cy="21852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5148360" y="1592280"/>
              <a:ext cx="2008440" cy="25102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6466320" y="4815000"/>
              <a:ext cx="549720" cy="413640"/>
            </a:xfrm>
            <a:custGeom>
              <a:avLst/>
              <a:gdLst/>
              <a:ahLst/>
              <a:rect l="l" t="t" r="r" b="b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6336720" y="4698720"/>
              <a:ext cx="543240" cy="183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5361480" y="4132440"/>
              <a:ext cx="183960" cy="24912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未知"/>
            <p:cNvSpPr/>
            <p:nvPr/>
          </p:nvSpPr>
          <p:spPr>
            <a:xfrm>
              <a:off x="5540400" y="4018320"/>
              <a:ext cx="109800" cy="36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未知"/>
            <p:cNvSpPr/>
            <p:nvPr/>
          </p:nvSpPr>
          <p:spPr>
            <a:xfrm>
              <a:off x="5705280" y="3728160"/>
              <a:ext cx="354960" cy="31392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AutoShape 28"/>
            <p:cNvSpPr/>
            <p:nvPr/>
          </p:nvSpPr>
          <p:spPr>
            <a:xfrm rot="10800000">
              <a:off x="6210000" y="1820520"/>
              <a:ext cx="1117080" cy="855360"/>
            </a:xfrm>
            <a:custGeom>
              <a:avLst/>
              <a:gdLst>
                <a:gd name="textAreaLeft" fmla="*/ 163440 w 1117080"/>
                <a:gd name="textAreaRight" fmla="*/ 953640 w 1117080"/>
                <a:gd name="textAreaTop" fmla="*/ 124560 h 855360"/>
                <a:gd name="textAreaBottom" fmla="*/ 730800 h 85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" name="Rectangle 29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gradFill rotWithShape="0">
            <a:gsLst>
              <a:gs pos="0">
                <a:srgbClr val="0a2b4b"/>
              </a:gs>
              <a:gs pos="100000">
                <a:srgbClr val="0f3d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" name="Group 30"/>
          <p:cNvGrpSpPr/>
          <p:nvPr/>
        </p:nvGrpSpPr>
        <p:grpSpPr>
          <a:xfrm>
            <a:off x="0" y="0"/>
            <a:ext cx="9158400" cy="6858000"/>
            <a:chOff x="0" y="0"/>
            <a:chExt cx="9158400" cy="6858000"/>
          </a:xfrm>
        </p:grpSpPr>
        <p:sp>
          <p:nvSpPr>
            <p:cNvPr id="29" name="AutoShape 31"/>
            <p:cNvSpPr/>
            <p:nvPr/>
          </p:nvSpPr>
          <p:spPr>
            <a:xfrm>
              <a:off x="38160" y="38160"/>
              <a:ext cx="9077400" cy="6781680"/>
            </a:xfrm>
            <a:prstGeom prst="roundRect">
              <a:avLst>
                <a:gd name="adj" fmla="val 6014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 rot="10800000">
              <a:off x="8701200" y="64008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 rot="5400000">
              <a:off x="87012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 rot="16200000">
              <a:off x="0" y="64008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" name="Text Box 41"/>
          <p:cNvSpPr/>
          <p:nvPr/>
        </p:nvSpPr>
        <p:spPr>
          <a:xfrm>
            <a:off x="594720" y="380880"/>
            <a:ext cx="5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公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徽标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4404-D094-4DFA-A7EE-FBE5E495C9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5259240" y="2178000"/>
            <a:ext cx="3906720" cy="4751280"/>
            <a:chOff x="5259240" y="2178000"/>
            <a:chExt cx="3906720" cy="4751280"/>
          </a:xfrm>
        </p:grpSpPr>
        <p:sp>
          <p:nvSpPr>
            <p:cNvPr id="77" name="未知"/>
            <p:cNvSpPr/>
            <p:nvPr/>
          </p:nvSpPr>
          <p:spPr>
            <a:xfrm>
              <a:off x="6018120" y="6005520"/>
              <a:ext cx="563400" cy="42696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6823080" y="3638520"/>
              <a:ext cx="726840" cy="329076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7451640" y="3581280"/>
              <a:ext cx="743040" cy="32068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7878600" y="3332160"/>
              <a:ext cx="1039680" cy="331632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6006960" y="4486320"/>
              <a:ext cx="992160" cy="225252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7705440" y="2384280"/>
              <a:ext cx="1135080" cy="33516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7968960" y="2852640"/>
              <a:ext cx="873360" cy="14292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7486560" y="2178000"/>
              <a:ext cx="352440" cy="43164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7157880" y="2220840"/>
              <a:ext cx="117360" cy="50184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6230880" y="3655800"/>
              <a:ext cx="2923920" cy="105912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02240" y="5029200"/>
              <a:ext cx="3609720" cy="785880"/>
            </a:xfrm>
            <a:custGeom>
              <a:avLst/>
              <a:gdLst/>
              <a:ahLst/>
              <a:rect l="l" t="t" r="r" b="b"/>
              <a:pathLst>
                <a:path w="2274" h="495">
                  <a:moveTo>
                    <a:pt x="52" y="54"/>
                  </a:moveTo>
                  <a:cubicBezTo>
                    <a:pt x="1" y="0"/>
                    <a:pt x="0" y="17"/>
                    <a:pt x="61" y="63"/>
                  </a:cubicBezTo>
                  <a:cubicBezTo>
                    <a:pt x="121" y="109"/>
                    <a:pt x="277" y="273"/>
                    <a:pt x="418" y="333"/>
                  </a:cubicBezTo>
                  <a:cubicBezTo>
                    <a:pt x="560" y="393"/>
                    <a:pt x="730" y="412"/>
                    <a:pt x="910" y="423"/>
                  </a:cubicBezTo>
                  <a:cubicBezTo>
                    <a:pt x="1090" y="434"/>
                    <a:pt x="1301" y="437"/>
                    <a:pt x="1500" y="396"/>
                  </a:cubicBezTo>
                  <a:cubicBezTo>
                    <a:pt x="1698" y="356"/>
                    <a:pt x="1971" y="236"/>
                    <a:pt x="2099" y="180"/>
                  </a:cubicBezTo>
                  <a:cubicBezTo>
                    <a:pt x="2227" y="124"/>
                    <a:pt x="2260" y="52"/>
                    <a:pt x="2267" y="61"/>
                  </a:cubicBezTo>
                  <a:cubicBezTo>
                    <a:pt x="2274" y="70"/>
                    <a:pt x="2264" y="170"/>
                    <a:pt x="2139" y="235"/>
                  </a:cubicBezTo>
                  <a:cubicBezTo>
                    <a:pt x="2014" y="300"/>
                    <a:pt x="1720" y="409"/>
                    <a:pt x="1518" y="451"/>
                  </a:cubicBezTo>
                  <a:cubicBezTo>
                    <a:pt x="1316" y="493"/>
                    <a:pt x="1110" y="495"/>
                    <a:pt x="928" y="486"/>
                  </a:cubicBezTo>
                  <a:cubicBezTo>
                    <a:pt x="746" y="477"/>
                    <a:pt x="558" y="442"/>
                    <a:pt x="427" y="396"/>
                  </a:cubicBezTo>
                  <a:cubicBezTo>
                    <a:pt x="296" y="351"/>
                    <a:pt x="204" y="273"/>
                    <a:pt x="142" y="216"/>
                  </a:cubicBezTo>
                  <a:cubicBezTo>
                    <a:pt x="79" y="159"/>
                    <a:pt x="70" y="88"/>
                    <a:pt x="52" y="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6499080" y="5958000"/>
              <a:ext cx="2651040" cy="618840"/>
            </a:xfrm>
            <a:custGeom>
              <a:avLst/>
              <a:gdLst/>
              <a:ahLst/>
              <a:rect l="l" t="t" r="r" b="b"/>
              <a:pathLst>
                <a:path w="1670" h="390">
                  <a:moveTo>
                    <a:pt x="7" y="254"/>
                  </a:moveTo>
                  <a:cubicBezTo>
                    <a:pt x="14" y="246"/>
                    <a:pt x="48" y="286"/>
                    <a:pt x="140" y="298"/>
                  </a:cubicBezTo>
                  <a:cubicBezTo>
                    <a:pt x="232" y="310"/>
                    <a:pt x="420" y="328"/>
                    <a:pt x="559" y="325"/>
                  </a:cubicBezTo>
                  <a:cubicBezTo>
                    <a:pt x="698" y="322"/>
                    <a:pt x="814" y="319"/>
                    <a:pt x="971" y="280"/>
                  </a:cubicBezTo>
                  <a:cubicBezTo>
                    <a:pt x="1127" y="240"/>
                    <a:pt x="1391" y="136"/>
                    <a:pt x="1498" y="90"/>
                  </a:cubicBezTo>
                  <a:cubicBezTo>
                    <a:pt x="1605" y="44"/>
                    <a:pt x="1586" y="12"/>
                    <a:pt x="1611" y="6"/>
                  </a:cubicBezTo>
                  <a:cubicBezTo>
                    <a:pt x="1636" y="0"/>
                    <a:pt x="1670" y="26"/>
                    <a:pt x="1648" y="52"/>
                  </a:cubicBezTo>
                  <a:cubicBezTo>
                    <a:pt x="1626" y="78"/>
                    <a:pt x="1585" y="116"/>
                    <a:pt x="1480" y="163"/>
                  </a:cubicBezTo>
                  <a:cubicBezTo>
                    <a:pt x="1375" y="210"/>
                    <a:pt x="1166" y="296"/>
                    <a:pt x="1016" y="334"/>
                  </a:cubicBezTo>
                  <a:cubicBezTo>
                    <a:pt x="865" y="371"/>
                    <a:pt x="731" y="386"/>
                    <a:pt x="578" y="388"/>
                  </a:cubicBezTo>
                  <a:cubicBezTo>
                    <a:pt x="424" y="390"/>
                    <a:pt x="191" y="366"/>
                    <a:pt x="96" y="344"/>
                  </a:cubicBezTo>
                  <a:cubicBezTo>
                    <a:pt x="1" y="321"/>
                    <a:pt x="0" y="262"/>
                    <a:pt x="7" y="2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754760" y="2525760"/>
              <a:ext cx="1335240" cy="1776240"/>
            </a:xfrm>
            <a:custGeom>
              <a:avLst/>
              <a:gdLst/>
              <a:ahLst/>
              <a:rect l="l" t="t" r="r" b="b"/>
              <a:pathLst>
                <a:path w="841" h="1119">
                  <a:moveTo>
                    <a:pt x="281" y="269"/>
                  </a:moveTo>
                  <a:lnTo>
                    <a:pt x="281" y="314"/>
                  </a:lnTo>
                  <a:lnTo>
                    <a:pt x="247" y="332"/>
                  </a:lnTo>
                  <a:lnTo>
                    <a:pt x="253" y="290"/>
                  </a:lnTo>
                  <a:lnTo>
                    <a:pt x="218" y="314"/>
                  </a:lnTo>
                  <a:lnTo>
                    <a:pt x="209" y="379"/>
                  </a:lnTo>
                  <a:lnTo>
                    <a:pt x="151" y="391"/>
                  </a:lnTo>
                  <a:lnTo>
                    <a:pt x="118" y="417"/>
                  </a:lnTo>
                  <a:lnTo>
                    <a:pt x="83" y="417"/>
                  </a:lnTo>
                  <a:lnTo>
                    <a:pt x="77" y="382"/>
                  </a:lnTo>
                  <a:lnTo>
                    <a:pt x="45" y="382"/>
                  </a:lnTo>
                  <a:lnTo>
                    <a:pt x="45" y="414"/>
                  </a:lnTo>
                  <a:lnTo>
                    <a:pt x="13" y="420"/>
                  </a:lnTo>
                  <a:lnTo>
                    <a:pt x="15" y="448"/>
                  </a:lnTo>
                  <a:lnTo>
                    <a:pt x="59" y="448"/>
                  </a:lnTo>
                  <a:lnTo>
                    <a:pt x="148" y="448"/>
                  </a:lnTo>
                  <a:lnTo>
                    <a:pt x="103" y="538"/>
                  </a:lnTo>
                  <a:lnTo>
                    <a:pt x="45" y="554"/>
                  </a:lnTo>
                  <a:cubicBezTo>
                    <a:pt x="29" y="563"/>
                    <a:pt x="16" y="580"/>
                    <a:pt x="10" y="595"/>
                  </a:cubicBezTo>
                  <a:cubicBezTo>
                    <a:pt x="4" y="610"/>
                    <a:pt x="0" y="631"/>
                    <a:pt x="7" y="645"/>
                  </a:cubicBezTo>
                  <a:lnTo>
                    <a:pt x="48" y="684"/>
                  </a:lnTo>
                  <a:lnTo>
                    <a:pt x="45" y="743"/>
                  </a:lnTo>
                  <a:lnTo>
                    <a:pt x="74" y="752"/>
                  </a:lnTo>
                  <a:lnTo>
                    <a:pt x="83" y="784"/>
                  </a:lnTo>
                  <a:lnTo>
                    <a:pt x="45" y="782"/>
                  </a:lnTo>
                  <a:lnTo>
                    <a:pt x="16" y="811"/>
                  </a:lnTo>
                  <a:lnTo>
                    <a:pt x="118" y="826"/>
                  </a:lnTo>
                  <a:lnTo>
                    <a:pt x="192" y="790"/>
                  </a:lnTo>
                  <a:lnTo>
                    <a:pt x="162" y="962"/>
                  </a:lnTo>
                  <a:lnTo>
                    <a:pt x="80" y="1054"/>
                  </a:lnTo>
                  <a:cubicBezTo>
                    <a:pt x="64" y="1079"/>
                    <a:pt x="48" y="1101"/>
                    <a:pt x="65" y="1110"/>
                  </a:cubicBezTo>
                  <a:cubicBezTo>
                    <a:pt x="83" y="1119"/>
                    <a:pt x="99" y="1109"/>
                    <a:pt x="115" y="1086"/>
                  </a:cubicBezTo>
                  <a:lnTo>
                    <a:pt x="189" y="944"/>
                  </a:lnTo>
                  <a:lnTo>
                    <a:pt x="236" y="851"/>
                  </a:lnTo>
                  <a:lnTo>
                    <a:pt x="281" y="851"/>
                  </a:lnTo>
                  <a:lnTo>
                    <a:pt x="288" y="805"/>
                  </a:lnTo>
                  <a:lnTo>
                    <a:pt x="250" y="782"/>
                  </a:lnTo>
                  <a:lnTo>
                    <a:pt x="244" y="722"/>
                  </a:lnTo>
                  <a:lnTo>
                    <a:pt x="281" y="716"/>
                  </a:lnTo>
                  <a:lnTo>
                    <a:pt x="281" y="761"/>
                  </a:lnTo>
                  <a:lnTo>
                    <a:pt x="391" y="687"/>
                  </a:lnTo>
                  <a:cubicBezTo>
                    <a:pt x="444" y="675"/>
                    <a:pt x="538" y="678"/>
                    <a:pt x="596" y="687"/>
                  </a:cubicBezTo>
                  <a:cubicBezTo>
                    <a:pt x="655" y="696"/>
                    <a:pt x="712" y="724"/>
                    <a:pt x="746" y="743"/>
                  </a:cubicBezTo>
                  <a:cubicBezTo>
                    <a:pt x="780" y="762"/>
                    <a:pt x="786" y="906"/>
                    <a:pt x="802" y="799"/>
                  </a:cubicBezTo>
                  <a:lnTo>
                    <a:pt x="841" y="98"/>
                  </a:lnTo>
                  <a:lnTo>
                    <a:pt x="693" y="0"/>
                  </a:lnTo>
                  <a:lnTo>
                    <a:pt x="649" y="0"/>
                  </a:lnTo>
                  <a:lnTo>
                    <a:pt x="714" y="80"/>
                  </a:lnTo>
                  <a:lnTo>
                    <a:pt x="679" y="90"/>
                  </a:lnTo>
                  <a:lnTo>
                    <a:pt x="620" y="24"/>
                  </a:lnTo>
                  <a:lnTo>
                    <a:pt x="508" y="15"/>
                  </a:lnTo>
                  <a:lnTo>
                    <a:pt x="482" y="50"/>
                  </a:lnTo>
                  <a:lnTo>
                    <a:pt x="458" y="92"/>
                  </a:lnTo>
                  <a:lnTo>
                    <a:pt x="426" y="151"/>
                  </a:lnTo>
                  <a:lnTo>
                    <a:pt x="420" y="187"/>
                  </a:lnTo>
                  <a:lnTo>
                    <a:pt x="690" y="184"/>
                  </a:lnTo>
                  <a:lnTo>
                    <a:pt x="696" y="231"/>
                  </a:lnTo>
                  <a:lnTo>
                    <a:pt x="614" y="287"/>
                  </a:lnTo>
                  <a:lnTo>
                    <a:pt x="620" y="337"/>
                  </a:lnTo>
                  <a:lnTo>
                    <a:pt x="561" y="394"/>
                  </a:lnTo>
                  <a:lnTo>
                    <a:pt x="552" y="358"/>
                  </a:lnTo>
                  <a:lnTo>
                    <a:pt x="494" y="361"/>
                  </a:lnTo>
                  <a:cubicBezTo>
                    <a:pt x="470" y="354"/>
                    <a:pt x="438" y="335"/>
                    <a:pt x="413" y="314"/>
                  </a:cubicBezTo>
                  <a:lnTo>
                    <a:pt x="347" y="240"/>
                  </a:lnTo>
                  <a:lnTo>
                    <a:pt x="277" y="231"/>
                  </a:lnTo>
                  <a:lnTo>
                    <a:pt x="281" y="314"/>
                  </a:ln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8118360" y="2539800"/>
              <a:ext cx="361800" cy="32724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7486560" y="2448000"/>
              <a:ext cx="780840" cy="60804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7616520" y="2300400"/>
              <a:ext cx="300240" cy="27288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313240" y="2313000"/>
              <a:ext cx="2530440" cy="31258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6810120" y="6180120"/>
              <a:ext cx="684360" cy="228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1440" y="5475240"/>
              <a:ext cx="231840" cy="31104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5806800" y="5334120"/>
              <a:ext cx="138240" cy="45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6014880" y="4971960"/>
              <a:ext cx="447840" cy="39060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24"/>
            <p:cNvSpPr/>
            <p:nvPr/>
          </p:nvSpPr>
          <p:spPr>
            <a:xfrm rot="10800000">
              <a:off x="6651000" y="2596680"/>
              <a:ext cx="1406520" cy="1065240"/>
            </a:xfrm>
            <a:custGeom>
              <a:avLst/>
              <a:gdLst>
                <a:gd name="textAreaLeft" fmla="*/ 206280 w 1406520"/>
                <a:gd name="textAreaRight" fmla="*/ 1200240 w 1406520"/>
                <a:gd name="textAreaTop" fmla="*/ 155520 h 1065240"/>
                <a:gd name="textAreaBottom" fmla="*/ 90972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5259240" y="2193840"/>
              <a:ext cx="3906720" cy="4653000"/>
            </a:xfrm>
            <a:custGeom>
              <a:avLst/>
              <a:gdLst/>
              <a:ahLst/>
              <a:rect l="l" t="t" r="r" b="b"/>
              <a:pathLst>
                <a:path w="2461" h="2931">
                  <a:moveTo>
                    <a:pt x="2429" y="282"/>
                  </a:moveTo>
                  <a:cubicBezTo>
                    <a:pt x="2326" y="236"/>
                    <a:pt x="2074" y="70"/>
                    <a:pt x="1844" y="35"/>
                  </a:cubicBezTo>
                  <a:cubicBezTo>
                    <a:pt x="1613" y="0"/>
                    <a:pt x="1282" y="6"/>
                    <a:pt x="1047" y="72"/>
                  </a:cubicBezTo>
                  <a:cubicBezTo>
                    <a:pt x="812" y="138"/>
                    <a:pt x="597" y="271"/>
                    <a:pt x="434" y="428"/>
                  </a:cubicBezTo>
                  <a:cubicBezTo>
                    <a:pt x="271" y="585"/>
                    <a:pt x="140" y="807"/>
                    <a:pt x="70" y="1013"/>
                  </a:cubicBezTo>
                  <a:cubicBezTo>
                    <a:pt x="0" y="1219"/>
                    <a:pt x="0" y="1477"/>
                    <a:pt x="15" y="1663"/>
                  </a:cubicBezTo>
                  <a:cubicBezTo>
                    <a:pt x="30" y="1849"/>
                    <a:pt x="88" y="1987"/>
                    <a:pt x="161" y="2129"/>
                  </a:cubicBezTo>
                  <a:cubicBezTo>
                    <a:pt x="234" y="2271"/>
                    <a:pt x="340" y="2402"/>
                    <a:pt x="454" y="2513"/>
                  </a:cubicBezTo>
                  <a:cubicBezTo>
                    <a:pt x="568" y="2624"/>
                    <a:pt x="727" y="2732"/>
                    <a:pt x="847" y="2796"/>
                  </a:cubicBezTo>
                  <a:cubicBezTo>
                    <a:pt x="967" y="2860"/>
                    <a:pt x="1054" y="2876"/>
                    <a:pt x="1176" y="2897"/>
                  </a:cubicBezTo>
                  <a:cubicBezTo>
                    <a:pt x="1298" y="2918"/>
                    <a:pt x="1462" y="2922"/>
                    <a:pt x="1578" y="2924"/>
                  </a:cubicBezTo>
                  <a:cubicBezTo>
                    <a:pt x="1694" y="2926"/>
                    <a:pt x="1765" y="2931"/>
                    <a:pt x="1871" y="2910"/>
                  </a:cubicBezTo>
                  <a:cubicBezTo>
                    <a:pt x="1976" y="2889"/>
                    <a:pt x="2118" y="2846"/>
                    <a:pt x="2209" y="2796"/>
                  </a:cubicBezTo>
                  <a:cubicBezTo>
                    <a:pt x="2300" y="2746"/>
                    <a:pt x="2383" y="2656"/>
                    <a:pt x="2420" y="2613"/>
                  </a:cubicBezTo>
                  <a:cubicBezTo>
                    <a:pt x="2457" y="2570"/>
                    <a:pt x="2461" y="2522"/>
                    <a:pt x="2429" y="2540"/>
                  </a:cubicBezTo>
                  <a:cubicBezTo>
                    <a:pt x="2397" y="2558"/>
                    <a:pt x="2316" y="2670"/>
                    <a:pt x="2228" y="2723"/>
                  </a:cubicBezTo>
                  <a:cubicBezTo>
                    <a:pt x="2140" y="2776"/>
                    <a:pt x="2012" y="2829"/>
                    <a:pt x="1899" y="2860"/>
                  </a:cubicBezTo>
                  <a:cubicBezTo>
                    <a:pt x="1785" y="2891"/>
                    <a:pt x="1670" y="2903"/>
                    <a:pt x="1550" y="2906"/>
                  </a:cubicBezTo>
                  <a:cubicBezTo>
                    <a:pt x="1430" y="2909"/>
                    <a:pt x="1303" y="2915"/>
                    <a:pt x="1175" y="2879"/>
                  </a:cubicBezTo>
                  <a:cubicBezTo>
                    <a:pt x="1047" y="2843"/>
                    <a:pt x="889" y="2746"/>
                    <a:pt x="783" y="2687"/>
                  </a:cubicBezTo>
                  <a:cubicBezTo>
                    <a:pt x="677" y="2628"/>
                    <a:pt x="630" y="2623"/>
                    <a:pt x="536" y="2522"/>
                  </a:cubicBezTo>
                  <a:cubicBezTo>
                    <a:pt x="442" y="2421"/>
                    <a:pt x="283" y="2302"/>
                    <a:pt x="216" y="2083"/>
                  </a:cubicBezTo>
                  <a:cubicBezTo>
                    <a:pt x="149" y="1864"/>
                    <a:pt x="146" y="1391"/>
                    <a:pt x="134" y="1205"/>
                  </a:cubicBezTo>
                  <a:cubicBezTo>
                    <a:pt x="122" y="1019"/>
                    <a:pt x="84" y="1091"/>
                    <a:pt x="143" y="968"/>
                  </a:cubicBezTo>
                  <a:cubicBezTo>
                    <a:pt x="202" y="845"/>
                    <a:pt x="334" y="605"/>
                    <a:pt x="489" y="465"/>
                  </a:cubicBezTo>
                  <a:cubicBezTo>
                    <a:pt x="644" y="325"/>
                    <a:pt x="854" y="191"/>
                    <a:pt x="1075" y="127"/>
                  </a:cubicBezTo>
                  <a:cubicBezTo>
                    <a:pt x="1296" y="63"/>
                    <a:pt x="1607" y="56"/>
                    <a:pt x="1815" y="81"/>
                  </a:cubicBezTo>
                  <a:cubicBezTo>
                    <a:pt x="2024" y="106"/>
                    <a:pt x="2225" y="231"/>
                    <a:pt x="2325" y="279"/>
                  </a:cubicBezTo>
                  <a:cubicBezTo>
                    <a:pt x="2425" y="327"/>
                    <a:pt x="2399" y="368"/>
                    <a:pt x="2416" y="370"/>
                  </a:cubicBezTo>
                  <a:cubicBezTo>
                    <a:pt x="2433" y="372"/>
                    <a:pt x="2427" y="306"/>
                    <a:pt x="2429" y="291"/>
                  </a:cubicBezTo>
                  <a:cubicBezTo>
                    <a:pt x="2431" y="276"/>
                    <a:pt x="2429" y="284"/>
                    <a:pt x="2429" y="282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Rectangle 26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0f3d6b"/>
              </a:gs>
              <a:gs pos="100000">
                <a:srgbClr val="0a29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0" y="981000"/>
            <a:ext cx="1187280" cy="589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9"/>
          <p:cNvGrpSpPr/>
          <p:nvPr/>
        </p:nvGrpSpPr>
        <p:grpSpPr>
          <a:xfrm>
            <a:off x="5237280" y="2106720"/>
            <a:ext cx="3906720" cy="4751280"/>
            <a:chOff x="5237280" y="2106720"/>
            <a:chExt cx="3906720" cy="4751280"/>
          </a:xfrm>
        </p:grpSpPr>
        <p:sp>
          <p:nvSpPr>
            <p:cNvPr id="103" name="未知"/>
            <p:cNvSpPr/>
            <p:nvPr/>
          </p:nvSpPr>
          <p:spPr>
            <a:xfrm>
              <a:off x="5996160" y="5934240"/>
              <a:ext cx="563400" cy="42696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801120" y="3567240"/>
              <a:ext cx="726840" cy="329076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7429680" y="3510000"/>
              <a:ext cx="743040" cy="32068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7856640" y="3260880"/>
              <a:ext cx="1039680" cy="331632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5985000" y="4415040"/>
              <a:ext cx="992160" cy="225252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7683480" y="2313000"/>
              <a:ext cx="1135080" cy="33516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7947000" y="2781360"/>
              <a:ext cx="873360" cy="14292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464600" y="2106720"/>
              <a:ext cx="352440" cy="43164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135920" y="2149560"/>
              <a:ext cx="117360" cy="50184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6208920" y="3584520"/>
              <a:ext cx="2923920" cy="105912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5480280" y="4957920"/>
              <a:ext cx="3609720" cy="785880"/>
            </a:xfrm>
            <a:custGeom>
              <a:avLst/>
              <a:gdLst/>
              <a:ahLst/>
              <a:rect l="l" t="t" r="r" b="b"/>
              <a:pathLst>
                <a:path w="2274" h="495">
                  <a:moveTo>
                    <a:pt x="52" y="54"/>
                  </a:moveTo>
                  <a:cubicBezTo>
                    <a:pt x="1" y="0"/>
                    <a:pt x="0" y="17"/>
                    <a:pt x="61" y="63"/>
                  </a:cubicBezTo>
                  <a:cubicBezTo>
                    <a:pt x="121" y="109"/>
                    <a:pt x="277" y="273"/>
                    <a:pt x="418" y="333"/>
                  </a:cubicBezTo>
                  <a:cubicBezTo>
                    <a:pt x="560" y="393"/>
                    <a:pt x="730" y="412"/>
                    <a:pt x="910" y="423"/>
                  </a:cubicBezTo>
                  <a:cubicBezTo>
                    <a:pt x="1090" y="434"/>
                    <a:pt x="1301" y="437"/>
                    <a:pt x="1500" y="396"/>
                  </a:cubicBezTo>
                  <a:cubicBezTo>
                    <a:pt x="1698" y="356"/>
                    <a:pt x="1971" y="236"/>
                    <a:pt x="2099" y="180"/>
                  </a:cubicBezTo>
                  <a:cubicBezTo>
                    <a:pt x="2227" y="124"/>
                    <a:pt x="2260" y="52"/>
                    <a:pt x="2267" y="61"/>
                  </a:cubicBezTo>
                  <a:cubicBezTo>
                    <a:pt x="2274" y="70"/>
                    <a:pt x="2264" y="170"/>
                    <a:pt x="2139" y="235"/>
                  </a:cubicBezTo>
                  <a:cubicBezTo>
                    <a:pt x="2014" y="300"/>
                    <a:pt x="1720" y="409"/>
                    <a:pt x="1518" y="451"/>
                  </a:cubicBezTo>
                  <a:cubicBezTo>
                    <a:pt x="1316" y="493"/>
                    <a:pt x="1110" y="495"/>
                    <a:pt x="928" y="486"/>
                  </a:cubicBezTo>
                  <a:cubicBezTo>
                    <a:pt x="746" y="477"/>
                    <a:pt x="558" y="442"/>
                    <a:pt x="427" y="396"/>
                  </a:cubicBezTo>
                  <a:cubicBezTo>
                    <a:pt x="296" y="351"/>
                    <a:pt x="204" y="273"/>
                    <a:pt x="142" y="216"/>
                  </a:cubicBezTo>
                  <a:cubicBezTo>
                    <a:pt x="79" y="159"/>
                    <a:pt x="70" y="88"/>
                    <a:pt x="52" y="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6477120" y="5886720"/>
              <a:ext cx="2651040" cy="618840"/>
            </a:xfrm>
            <a:custGeom>
              <a:avLst/>
              <a:gdLst/>
              <a:ahLst/>
              <a:rect l="l" t="t" r="r" b="b"/>
              <a:pathLst>
                <a:path w="1670" h="390">
                  <a:moveTo>
                    <a:pt x="7" y="254"/>
                  </a:moveTo>
                  <a:cubicBezTo>
                    <a:pt x="14" y="246"/>
                    <a:pt x="48" y="286"/>
                    <a:pt x="140" y="298"/>
                  </a:cubicBezTo>
                  <a:cubicBezTo>
                    <a:pt x="232" y="310"/>
                    <a:pt x="420" y="328"/>
                    <a:pt x="559" y="325"/>
                  </a:cubicBezTo>
                  <a:cubicBezTo>
                    <a:pt x="698" y="322"/>
                    <a:pt x="814" y="319"/>
                    <a:pt x="971" y="280"/>
                  </a:cubicBezTo>
                  <a:cubicBezTo>
                    <a:pt x="1127" y="240"/>
                    <a:pt x="1391" y="136"/>
                    <a:pt x="1498" y="90"/>
                  </a:cubicBezTo>
                  <a:cubicBezTo>
                    <a:pt x="1605" y="44"/>
                    <a:pt x="1586" y="12"/>
                    <a:pt x="1611" y="6"/>
                  </a:cubicBezTo>
                  <a:cubicBezTo>
                    <a:pt x="1636" y="0"/>
                    <a:pt x="1670" y="26"/>
                    <a:pt x="1648" y="52"/>
                  </a:cubicBezTo>
                  <a:cubicBezTo>
                    <a:pt x="1626" y="78"/>
                    <a:pt x="1585" y="116"/>
                    <a:pt x="1480" y="163"/>
                  </a:cubicBezTo>
                  <a:cubicBezTo>
                    <a:pt x="1375" y="210"/>
                    <a:pt x="1166" y="296"/>
                    <a:pt x="1016" y="334"/>
                  </a:cubicBezTo>
                  <a:cubicBezTo>
                    <a:pt x="865" y="371"/>
                    <a:pt x="731" y="386"/>
                    <a:pt x="578" y="388"/>
                  </a:cubicBezTo>
                  <a:cubicBezTo>
                    <a:pt x="424" y="390"/>
                    <a:pt x="191" y="366"/>
                    <a:pt x="96" y="344"/>
                  </a:cubicBezTo>
                  <a:cubicBezTo>
                    <a:pt x="1" y="321"/>
                    <a:pt x="0" y="262"/>
                    <a:pt x="7" y="2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732800" y="2454480"/>
              <a:ext cx="1335240" cy="1776240"/>
            </a:xfrm>
            <a:custGeom>
              <a:avLst/>
              <a:gdLst/>
              <a:ahLst/>
              <a:rect l="l" t="t" r="r" b="b"/>
              <a:pathLst>
                <a:path w="841" h="1119">
                  <a:moveTo>
                    <a:pt x="281" y="269"/>
                  </a:moveTo>
                  <a:lnTo>
                    <a:pt x="281" y="314"/>
                  </a:lnTo>
                  <a:lnTo>
                    <a:pt x="247" y="332"/>
                  </a:lnTo>
                  <a:lnTo>
                    <a:pt x="253" y="290"/>
                  </a:lnTo>
                  <a:lnTo>
                    <a:pt x="218" y="314"/>
                  </a:lnTo>
                  <a:lnTo>
                    <a:pt x="209" y="379"/>
                  </a:lnTo>
                  <a:lnTo>
                    <a:pt x="151" y="391"/>
                  </a:lnTo>
                  <a:lnTo>
                    <a:pt x="118" y="417"/>
                  </a:lnTo>
                  <a:lnTo>
                    <a:pt x="83" y="417"/>
                  </a:lnTo>
                  <a:lnTo>
                    <a:pt x="77" y="382"/>
                  </a:lnTo>
                  <a:lnTo>
                    <a:pt x="45" y="382"/>
                  </a:lnTo>
                  <a:lnTo>
                    <a:pt x="45" y="414"/>
                  </a:lnTo>
                  <a:lnTo>
                    <a:pt x="13" y="420"/>
                  </a:lnTo>
                  <a:lnTo>
                    <a:pt x="15" y="448"/>
                  </a:lnTo>
                  <a:lnTo>
                    <a:pt x="59" y="448"/>
                  </a:lnTo>
                  <a:lnTo>
                    <a:pt x="148" y="448"/>
                  </a:lnTo>
                  <a:lnTo>
                    <a:pt x="103" y="538"/>
                  </a:lnTo>
                  <a:lnTo>
                    <a:pt x="45" y="554"/>
                  </a:lnTo>
                  <a:cubicBezTo>
                    <a:pt x="29" y="563"/>
                    <a:pt x="16" y="580"/>
                    <a:pt x="10" y="595"/>
                  </a:cubicBezTo>
                  <a:cubicBezTo>
                    <a:pt x="4" y="610"/>
                    <a:pt x="0" y="631"/>
                    <a:pt x="7" y="645"/>
                  </a:cubicBezTo>
                  <a:lnTo>
                    <a:pt x="48" y="684"/>
                  </a:lnTo>
                  <a:lnTo>
                    <a:pt x="45" y="743"/>
                  </a:lnTo>
                  <a:lnTo>
                    <a:pt x="74" y="752"/>
                  </a:lnTo>
                  <a:lnTo>
                    <a:pt x="83" y="784"/>
                  </a:lnTo>
                  <a:lnTo>
                    <a:pt x="45" y="782"/>
                  </a:lnTo>
                  <a:lnTo>
                    <a:pt x="16" y="811"/>
                  </a:lnTo>
                  <a:lnTo>
                    <a:pt x="118" y="826"/>
                  </a:lnTo>
                  <a:lnTo>
                    <a:pt x="192" y="790"/>
                  </a:lnTo>
                  <a:lnTo>
                    <a:pt x="162" y="962"/>
                  </a:lnTo>
                  <a:lnTo>
                    <a:pt x="80" y="1054"/>
                  </a:lnTo>
                  <a:cubicBezTo>
                    <a:pt x="64" y="1079"/>
                    <a:pt x="48" y="1101"/>
                    <a:pt x="65" y="1110"/>
                  </a:cubicBezTo>
                  <a:cubicBezTo>
                    <a:pt x="83" y="1119"/>
                    <a:pt x="99" y="1109"/>
                    <a:pt x="115" y="1086"/>
                  </a:cubicBezTo>
                  <a:lnTo>
                    <a:pt x="189" y="944"/>
                  </a:lnTo>
                  <a:lnTo>
                    <a:pt x="236" y="851"/>
                  </a:lnTo>
                  <a:lnTo>
                    <a:pt x="281" y="851"/>
                  </a:lnTo>
                  <a:lnTo>
                    <a:pt x="288" y="805"/>
                  </a:lnTo>
                  <a:lnTo>
                    <a:pt x="250" y="782"/>
                  </a:lnTo>
                  <a:lnTo>
                    <a:pt x="244" y="722"/>
                  </a:lnTo>
                  <a:lnTo>
                    <a:pt x="281" y="716"/>
                  </a:lnTo>
                  <a:lnTo>
                    <a:pt x="281" y="761"/>
                  </a:lnTo>
                  <a:lnTo>
                    <a:pt x="391" y="687"/>
                  </a:lnTo>
                  <a:cubicBezTo>
                    <a:pt x="444" y="675"/>
                    <a:pt x="538" y="678"/>
                    <a:pt x="596" y="687"/>
                  </a:cubicBezTo>
                  <a:cubicBezTo>
                    <a:pt x="655" y="696"/>
                    <a:pt x="712" y="724"/>
                    <a:pt x="746" y="743"/>
                  </a:cubicBezTo>
                  <a:cubicBezTo>
                    <a:pt x="780" y="762"/>
                    <a:pt x="786" y="906"/>
                    <a:pt x="802" y="799"/>
                  </a:cubicBezTo>
                  <a:lnTo>
                    <a:pt x="841" y="98"/>
                  </a:lnTo>
                  <a:lnTo>
                    <a:pt x="693" y="0"/>
                  </a:lnTo>
                  <a:lnTo>
                    <a:pt x="649" y="0"/>
                  </a:lnTo>
                  <a:lnTo>
                    <a:pt x="714" y="80"/>
                  </a:lnTo>
                  <a:lnTo>
                    <a:pt x="679" y="90"/>
                  </a:lnTo>
                  <a:lnTo>
                    <a:pt x="620" y="24"/>
                  </a:lnTo>
                  <a:lnTo>
                    <a:pt x="508" y="15"/>
                  </a:lnTo>
                  <a:lnTo>
                    <a:pt x="482" y="50"/>
                  </a:lnTo>
                  <a:lnTo>
                    <a:pt x="458" y="92"/>
                  </a:lnTo>
                  <a:lnTo>
                    <a:pt x="426" y="151"/>
                  </a:lnTo>
                  <a:lnTo>
                    <a:pt x="420" y="187"/>
                  </a:lnTo>
                  <a:lnTo>
                    <a:pt x="690" y="184"/>
                  </a:lnTo>
                  <a:lnTo>
                    <a:pt x="696" y="231"/>
                  </a:lnTo>
                  <a:lnTo>
                    <a:pt x="614" y="287"/>
                  </a:lnTo>
                  <a:lnTo>
                    <a:pt x="620" y="337"/>
                  </a:lnTo>
                  <a:lnTo>
                    <a:pt x="561" y="394"/>
                  </a:lnTo>
                  <a:lnTo>
                    <a:pt x="552" y="358"/>
                  </a:lnTo>
                  <a:lnTo>
                    <a:pt x="494" y="361"/>
                  </a:lnTo>
                  <a:cubicBezTo>
                    <a:pt x="470" y="354"/>
                    <a:pt x="438" y="335"/>
                    <a:pt x="413" y="314"/>
                  </a:cubicBezTo>
                  <a:lnTo>
                    <a:pt x="347" y="240"/>
                  </a:lnTo>
                  <a:lnTo>
                    <a:pt x="277" y="231"/>
                  </a:lnTo>
                  <a:lnTo>
                    <a:pt x="281" y="314"/>
                  </a:ln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8096400" y="2468520"/>
              <a:ext cx="361800" cy="32724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464600" y="2376720"/>
              <a:ext cx="780840" cy="60804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594560" y="2229120"/>
              <a:ext cx="300240" cy="27288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5291280" y="2241720"/>
              <a:ext cx="2530440" cy="31258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6788160" y="6108840"/>
              <a:ext cx="684360" cy="228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5559480" y="5403960"/>
              <a:ext cx="231840" cy="31104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5784840" y="5262840"/>
              <a:ext cx="138240" cy="45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5992920" y="4900680"/>
              <a:ext cx="447840" cy="39060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51"/>
            <p:cNvSpPr/>
            <p:nvPr/>
          </p:nvSpPr>
          <p:spPr>
            <a:xfrm rot="10800000">
              <a:off x="6629040" y="2525400"/>
              <a:ext cx="1406520" cy="1065240"/>
            </a:xfrm>
            <a:custGeom>
              <a:avLst/>
              <a:gdLst>
                <a:gd name="textAreaLeft" fmla="*/ 206280 w 1406520"/>
                <a:gd name="textAreaRight" fmla="*/ 1200240 w 1406520"/>
                <a:gd name="textAreaTop" fmla="*/ 155520 h 1065240"/>
                <a:gd name="textAreaBottom" fmla="*/ 90972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5237280" y="2122560"/>
              <a:ext cx="3906720" cy="4653000"/>
            </a:xfrm>
            <a:custGeom>
              <a:avLst/>
              <a:gdLst/>
              <a:ahLst/>
              <a:rect l="l" t="t" r="r" b="b"/>
              <a:pathLst>
                <a:path w="2461" h="2931">
                  <a:moveTo>
                    <a:pt x="2429" y="282"/>
                  </a:moveTo>
                  <a:cubicBezTo>
                    <a:pt x="2326" y="236"/>
                    <a:pt x="2074" y="70"/>
                    <a:pt x="1844" y="35"/>
                  </a:cubicBezTo>
                  <a:cubicBezTo>
                    <a:pt x="1613" y="0"/>
                    <a:pt x="1282" y="6"/>
                    <a:pt x="1047" y="72"/>
                  </a:cubicBezTo>
                  <a:cubicBezTo>
                    <a:pt x="812" y="138"/>
                    <a:pt x="597" y="271"/>
                    <a:pt x="434" y="428"/>
                  </a:cubicBezTo>
                  <a:cubicBezTo>
                    <a:pt x="271" y="585"/>
                    <a:pt x="140" y="807"/>
                    <a:pt x="70" y="1013"/>
                  </a:cubicBezTo>
                  <a:cubicBezTo>
                    <a:pt x="0" y="1219"/>
                    <a:pt x="0" y="1477"/>
                    <a:pt x="15" y="1663"/>
                  </a:cubicBezTo>
                  <a:cubicBezTo>
                    <a:pt x="30" y="1849"/>
                    <a:pt x="88" y="1987"/>
                    <a:pt x="161" y="2129"/>
                  </a:cubicBezTo>
                  <a:cubicBezTo>
                    <a:pt x="234" y="2271"/>
                    <a:pt x="340" y="2402"/>
                    <a:pt x="454" y="2513"/>
                  </a:cubicBezTo>
                  <a:cubicBezTo>
                    <a:pt x="568" y="2624"/>
                    <a:pt x="727" y="2732"/>
                    <a:pt x="847" y="2796"/>
                  </a:cubicBezTo>
                  <a:cubicBezTo>
                    <a:pt x="967" y="2860"/>
                    <a:pt x="1054" y="2876"/>
                    <a:pt x="1176" y="2897"/>
                  </a:cubicBezTo>
                  <a:cubicBezTo>
                    <a:pt x="1298" y="2918"/>
                    <a:pt x="1462" y="2922"/>
                    <a:pt x="1578" y="2924"/>
                  </a:cubicBezTo>
                  <a:cubicBezTo>
                    <a:pt x="1694" y="2926"/>
                    <a:pt x="1765" y="2931"/>
                    <a:pt x="1871" y="2910"/>
                  </a:cubicBezTo>
                  <a:cubicBezTo>
                    <a:pt x="1976" y="2889"/>
                    <a:pt x="2118" y="2846"/>
                    <a:pt x="2209" y="2796"/>
                  </a:cubicBezTo>
                  <a:cubicBezTo>
                    <a:pt x="2300" y="2746"/>
                    <a:pt x="2383" y="2656"/>
                    <a:pt x="2420" y="2613"/>
                  </a:cubicBezTo>
                  <a:cubicBezTo>
                    <a:pt x="2457" y="2570"/>
                    <a:pt x="2461" y="2522"/>
                    <a:pt x="2429" y="2540"/>
                  </a:cubicBezTo>
                  <a:cubicBezTo>
                    <a:pt x="2397" y="2558"/>
                    <a:pt x="2316" y="2670"/>
                    <a:pt x="2228" y="2723"/>
                  </a:cubicBezTo>
                  <a:cubicBezTo>
                    <a:pt x="2140" y="2776"/>
                    <a:pt x="2012" y="2829"/>
                    <a:pt x="1899" y="2860"/>
                  </a:cubicBezTo>
                  <a:cubicBezTo>
                    <a:pt x="1785" y="2891"/>
                    <a:pt x="1670" y="2903"/>
                    <a:pt x="1550" y="2906"/>
                  </a:cubicBezTo>
                  <a:cubicBezTo>
                    <a:pt x="1430" y="2909"/>
                    <a:pt x="1303" y="2915"/>
                    <a:pt x="1175" y="2879"/>
                  </a:cubicBezTo>
                  <a:cubicBezTo>
                    <a:pt x="1047" y="2843"/>
                    <a:pt x="889" y="2746"/>
                    <a:pt x="783" y="2687"/>
                  </a:cubicBezTo>
                  <a:cubicBezTo>
                    <a:pt x="677" y="2628"/>
                    <a:pt x="630" y="2623"/>
                    <a:pt x="536" y="2522"/>
                  </a:cubicBezTo>
                  <a:cubicBezTo>
                    <a:pt x="442" y="2421"/>
                    <a:pt x="283" y="2302"/>
                    <a:pt x="216" y="2083"/>
                  </a:cubicBezTo>
                  <a:cubicBezTo>
                    <a:pt x="149" y="1864"/>
                    <a:pt x="146" y="1391"/>
                    <a:pt x="134" y="1205"/>
                  </a:cubicBezTo>
                  <a:cubicBezTo>
                    <a:pt x="122" y="1019"/>
                    <a:pt x="84" y="1091"/>
                    <a:pt x="143" y="968"/>
                  </a:cubicBezTo>
                  <a:cubicBezTo>
                    <a:pt x="202" y="845"/>
                    <a:pt x="334" y="605"/>
                    <a:pt x="489" y="465"/>
                  </a:cubicBezTo>
                  <a:cubicBezTo>
                    <a:pt x="644" y="325"/>
                    <a:pt x="854" y="191"/>
                    <a:pt x="1075" y="127"/>
                  </a:cubicBezTo>
                  <a:cubicBezTo>
                    <a:pt x="1296" y="63"/>
                    <a:pt x="1607" y="56"/>
                    <a:pt x="1815" y="81"/>
                  </a:cubicBezTo>
                  <a:cubicBezTo>
                    <a:pt x="2024" y="106"/>
                    <a:pt x="2225" y="231"/>
                    <a:pt x="2325" y="279"/>
                  </a:cubicBezTo>
                  <a:cubicBezTo>
                    <a:pt x="2425" y="327"/>
                    <a:pt x="2399" y="368"/>
                    <a:pt x="2416" y="370"/>
                  </a:cubicBezTo>
                  <a:cubicBezTo>
                    <a:pt x="2433" y="372"/>
                    <a:pt x="2427" y="306"/>
                    <a:pt x="2429" y="291"/>
                  </a:cubicBezTo>
                  <a:cubicBezTo>
                    <a:pt x="2431" y="276"/>
                    <a:pt x="2429" y="284"/>
                    <a:pt x="2429" y="282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Group 53"/>
          <p:cNvGrpSpPr/>
          <p:nvPr/>
        </p:nvGrpSpPr>
        <p:grpSpPr>
          <a:xfrm>
            <a:off x="0" y="0"/>
            <a:ext cx="9158400" cy="6858000"/>
            <a:chOff x="0" y="0"/>
            <a:chExt cx="9158400" cy="6858000"/>
          </a:xfrm>
        </p:grpSpPr>
        <p:sp>
          <p:nvSpPr>
            <p:cNvPr id="127" name="AutoShape 54"/>
            <p:cNvSpPr/>
            <p:nvPr/>
          </p:nvSpPr>
          <p:spPr>
            <a:xfrm>
              <a:off x="38160" y="38160"/>
              <a:ext cx="9077400" cy="6781680"/>
            </a:xfrm>
            <a:prstGeom prst="roundRect">
              <a:avLst>
                <a:gd name="adj" fmla="val 6014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 rot="10800000">
              <a:off x="8701200" y="64008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 rot="5400000">
              <a:off x="87012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 rot="16200000">
              <a:off x="0" y="64008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Line 62"/>
          <p:cNvSpPr/>
          <p:nvPr/>
        </p:nvSpPr>
        <p:spPr>
          <a:xfrm>
            <a:off x="324000" y="6386400"/>
            <a:ext cx="849600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4"/>
          </p:nvPr>
        </p:nvSpPr>
        <p:spPr>
          <a:xfrm>
            <a:off x="456840" y="6438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5"/>
          </p:nvPr>
        </p:nvSpPr>
        <p:spPr>
          <a:xfrm>
            <a:off x="3124080" y="64386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6"/>
          </p:nvPr>
        </p:nvSpPr>
        <p:spPr>
          <a:xfrm>
            <a:off x="6552720" y="6438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4102-8A89-480A-9F01-A5580275B7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5259240" y="2178000"/>
            <a:ext cx="3906720" cy="4751280"/>
            <a:chOff x="5259240" y="2178000"/>
            <a:chExt cx="3906720" cy="4751280"/>
          </a:xfrm>
        </p:grpSpPr>
        <p:sp>
          <p:nvSpPr>
            <p:cNvPr id="175" name="未知"/>
            <p:cNvSpPr/>
            <p:nvPr/>
          </p:nvSpPr>
          <p:spPr>
            <a:xfrm>
              <a:off x="6018120" y="6005520"/>
              <a:ext cx="563400" cy="42696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6823080" y="3638520"/>
              <a:ext cx="726840" cy="329076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7451640" y="3581280"/>
              <a:ext cx="743040" cy="32068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7878600" y="3332160"/>
              <a:ext cx="1039680" cy="331632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6006960" y="4486320"/>
              <a:ext cx="992160" cy="225252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7705440" y="2384280"/>
              <a:ext cx="1135080" cy="33516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7968960" y="2852640"/>
              <a:ext cx="873360" cy="14292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7486560" y="2178000"/>
              <a:ext cx="352440" cy="43164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7157880" y="2220840"/>
              <a:ext cx="117360" cy="50184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6230880" y="3655800"/>
              <a:ext cx="2923920" cy="105912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5502240" y="5029200"/>
              <a:ext cx="3609720" cy="785880"/>
            </a:xfrm>
            <a:custGeom>
              <a:avLst/>
              <a:gdLst/>
              <a:ahLst/>
              <a:rect l="l" t="t" r="r" b="b"/>
              <a:pathLst>
                <a:path w="2274" h="495">
                  <a:moveTo>
                    <a:pt x="52" y="54"/>
                  </a:moveTo>
                  <a:cubicBezTo>
                    <a:pt x="1" y="0"/>
                    <a:pt x="0" y="17"/>
                    <a:pt x="61" y="63"/>
                  </a:cubicBezTo>
                  <a:cubicBezTo>
                    <a:pt x="121" y="109"/>
                    <a:pt x="277" y="273"/>
                    <a:pt x="418" y="333"/>
                  </a:cubicBezTo>
                  <a:cubicBezTo>
                    <a:pt x="560" y="393"/>
                    <a:pt x="730" y="412"/>
                    <a:pt x="910" y="423"/>
                  </a:cubicBezTo>
                  <a:cubicBezTo>
                    <a:pt x="1090" y="434"/>
                    <a:pt x="1301" y="437"/>
                    <a:pt x="1500" y="396"/>
                  </a:cubicBezTo>
                  <a:cubicBezTo>
                    <a:pt x="1698" y="356"/>
                    <a:pt x="1971" y="236"/>
                    <a:pt x="2099" y="180"/>
                  </a:cubicBezTo>
                  <a:cubicBezTo>
                    <a:pt x="2227" y="124"/>
                    <a:pt x="2260" y="52"/>
                    <a:pt x="2267" y="61"/>
                  </a:cubicBezTo>
                  <a:cubicBezTo>
                    <a:pt x="2274" y="70"/>
                    <a:pt x="2264" y="170"/>
                    <a:pt x="2139" y="235"/>
                  </a:cubicBezTo>
                  <a:cubicBezTo>
                    <a:pt x="2014" y="300"/>
                    <a:pt x="1720" y="409"/>
                    <a:pt x="1518" y="451"/>
                  </a:cubicBezTo>
                  <a:cubicBezTo>
                    <a:pt x="1316" y="493"/>
                    <a:pt x="1110" y="495"/>
                    <a:pt x="928" y="486"/>
                  </a:cubicBezTo>
                  <a:cubicBezTo>
                    <a:pt x="746" y="477"/>
                    <a:pt x="558" y="442"/>
                    <a:pt x="427" y="396"/>
                  </a:cubicBezTo>
                  <a:cubicBezTo>
                    <a:pt x="296" y="351"/>
                    <a:pt x="204" y="273"/>
                    <a:pt x="142" y="216"/>
                  </a:cubicBezTo>
                  <a:cubicBezTo>
                    <a:pt x="79" y="159"/>
                    <a:pt x="70" y="88"/>
                    <a:pt x="52" y="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6499080" y="5958000"/>
              <a:ext cx="2651040" cy="618840"/>
            </a:xfrm>
            <a:custGeom>
              <a:avLst/>
              <a:gdLst/>
              <a:ahLst/>
              <a:rect l="l" t="t" r="r" b="b"/>
              <a:pathLst>
                <a:path w="1670" h="390">
                  <a:moveTo>
                    <a:pt x="7" y="254"/>
                  </a:moveTo>
                  <a:cubicBezTo>
                    <a:pt x="14" y="246"/>
                    <a:pt x="48" y="286"/>
                    <a:pt x="140" y="298"/>
                  </a:cubicBezTo>
                  <a:cubicBezTo>
                    <a:pt x="232" y="310"/>
                    <a:pt x="420" y="328"/>
                    <a:pt x="559" y="325"/>
                  </a:cubicBezTo>
                  <a:cubicBezTo>
                    <a:pt x="698" y="322"/>
                    <a:pt x="814" y="319"/>
                    <a:pt x="971" y="280"/>
                  </a:cubicBezTo>
                  <a:cubicBezTo>
                    <a:pt x="1127" y="240"/>
                    <a:pt x="1391" y="136"/>
                    <a:pt x="1498" y="90"/>
                  </a:cubicBezTo>
                  <a:cubicBezTo>
                    <a:pt x="1605" y="44"/>
                    <a:pt x="1586" y="12"/>
                    <a:pt x="1611" y="6"/>
                  </a:cubicBezTo>
                  <a:cubicBezTo>
                    <a:pt x="1636" y="0"/>
                    <a:pt x="1670" y="26"/>
                    <a:pt x="1648" y="52"/>
                  </a:cubicBezTo>
                  <a:cubicBezTo>
                    <a:pt x="1626" y="78"/>
                    <a:pt x="1585" y="116"/>
                    <a:pt x="1480" y="163"/>
                  </a:cubicBezTo>
                  <a:cubicBezTo>
                    <a:pt x="1375" y="210"/>
                    <a:pt x="1166" y="296"/>
                    <a:pt x="1016" y="334"/>
                  </a:cubicBezTo>
                  <a:cubicBezTo>
                    <a:pt x="865" y="371"/>
                    <a:pt x="731" y="386"/>
                    <a:pt x="578" y="388"/>
                  </a:cubicBezTo>
                  <a:cubicBezTo>
                    <a:pt x="424" y="390"/>
                    <a:pt x="191" y="366"/>
                    <a:pt x="96" y="344"/>
                  </a:cubicBezTo>
                  <a:cubicBezTo>
                    <a:pt x="1" y="321"/>
                    <a:pt x="0" y="262"/>
                    <a:pt x="7" y="2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7754760" y="2525760"/>
              <a:ext cx="1335240" cy="1776240"/>
            </a:xfrm>
            <a:custGeom>
              <a:avLst/>
              <a:gdLst/>
              <a:ahLst/>
              <a:rect l="l" t="t" r="r" b="b"/>
              <a:pathLst>
                <a:path w="841" h="1119">
                  <a:moveTo>
                    <a:pt x="281" y="269"/>
                  </a:moveTo>
                  <a:lnTo>
                    <a:pt x="281" y="314"/>
                  </a:lnTo>
                  <a:lnTo>
                    <a:pt x="247" y="332"/>
                  </a:lnTo>
                  <a:lnTo>
                    <a:pt x="253" y="290"/>
                  </a:lnTo>
                  <a:lnTo>
                    <a:pt x="218" y="314"/>
                  </a:lnTo>
                  <a:lnTo>
                    <a:pt x="209" y="379"/>
                  </a:lnTo>
                  <a:lnTo>
                    <a:pt x="151" y="391"/>
                  </a:lnTo>
                  <a:lnTo>
                    <a:pt x="118" y="417"/>
                  </a:lnTo>
                  <a:lnTo>
                    <a:pt x="83" y="417"/>
                  </a:lnTo>
                  <a:lnTo>
                    <a:pt x="77" y="382"/>
                  </a:lnTo>
                  <a:lnTo>
                    <a:pt x="45" y="382"/>
                  </a:lnTo>
                  <a:lnTo>
                    <a:pt x="45" y="414"/>
                  </a:lnTo>
                  <a:lnTo>
                    <a:pt x="13" y="420"/>
                  </a:lnTo>
                  <a:lnTo>
                    <a:pt x="15" y="448"/>
                  </a:lnTo>
                  <a:lnTo>
                    <a:pt x="59" y="448"/>
                  </a:lnTo>
                  <a:lnTo>
                    <a:pt x="148" y="448"/>
                  </a:lnTo>
                  <a:lnTo>
                    <a:pt x="103" y="538"/>
                  </a:lnTo>
                  <a:lnTo>
                    <a:pt x="45" y="554"/>
                  </a:lnTo>
                  <a:cubicBezTo>
                    <a:pt x="29" y="563"/>
                    <a:pt x="16" y="580"/>
                    <a:pt x="10" y="595"/>
                  </a:cubicBezTo>
                  <a:cubicBezTo>
                    <a:pt x="4" y="610"/>
                    <a:pt x="0" y="631"/>
                    <a:pt x="7" y="645"/>
                  </a:cubicBezTo>
                  <a:lnTo>
                    <a:pt x="48" y="684"/>
                  </a:lnTo>
                  <a:lnTo>
                    <a:pt x="45" y="743"/>
                  </a:lnTo>
                  <a:lnTo>
                    <a:pt x="74" y="752"/>
                  </a:lnTo>
                  <a:lnTo>
                    <a:pt x="83" y="784"/>
                  </a:lnTo>
                  <a:lnTo>
                    <a:pt x="45" y="782"/>
                  </a:lnTo>
                  <a:lnTo>
                    <a:pt x="16" y="811"/>
                  </a:lnTo>
                  <a:lnTo>
                    <a:pt x="118" y="826"/>
                  </a:lnTo>
                  <a:lnTo>
                    <a:pt x="192" y="790"/>
                  </a:lnTo>
                  <a:lnTo>
                    <a:pt x="162" y="962"/>
                  </a:lnTo>
                  <a:lnTo>
                    <a:pt x="80" y="1054"/>
                  </a:lnTo>
                  <a:cubicBezTo>
                    <a:pt x="64" y="1079"/>
                    <a:pt x="48" y="1101"/>
                    <a:pt x="65" y="1110"/>
                  </a:cubicBezTo>
                  <a:cubicBezTo>
                    <a:pt x="83" y="1119"/>
                    <a:pt x="99" y="1109"/>
                    <a:pt x="115" y="1086"/>
                  </a:cubicBezTo>
                  <a:lnTo>
                    <a:pt x="189" y="944"/>
                  </a:lnTo>
                  <a:lnTo>
                    <a:pt x="236" y="851"/>
                  </a:lnTo>
                  <a:lnTo>
                    <a:pt x="281" y="851"/>
                  </a:lnTo>
                  <a:lnTo>
                    <a:pt x="288" y="805"/>
                  </a:lnTo>
                  <a:lnTo>
                    <a:pt x="250" y="782"/>
                  </a:lnTo>
                  <a:lnTo>
                    <a:pt x="244" y="722"/>
                  </a:lnTo>
                  <a:lnTo>
                    <a:pt x="281" y="716"/>
                  </a:lnTo>
                  <a:lnTo>
                    <a:pt x="281" y="761"/>
                  </a:lnTo>
                  <a:lnTo>
                    <a:pt x="391" y="687"/>
                  </a:lnTo>
                  <a:cubicBezTo>
                    <a:pt x="444" y="675"/>
                    <a:pt x="538" y="678"/>
                    <a:pt x="596" y="687"/>
                  </a:cubicBezTo>
                  <a:cubicBezTo>
                    <a:pt x="655" y="696"/>
                    <a:pt x="712" y="724"/>
                    <a:pt x="746" y="743"/>
                  </a:cubicBezTo>
                  <a:cubicBezTo>
                    <a:pt x="780" y="762"/>
                    <a:pt x="786" y="906"/>
                    <a:pt x="802" y="799"/>
                  </a:cubicBezTo>
                  <a:lnTo>
                    <a:pt x="841" y="98"/>
                  </a:lnTo>
                  <a:lnTo>
                    <a:pt x="693" y="0"/>
                  </a:lnTo>
                  <a:lnTo>
                    <a:pt x="649" y="0"/>
                  </a:lnTo>
                  <a:lnTo>
                    <a:pt x="714" y="80"/>
                  </a:lnTo>
                  <a:lnTo>
                    <a:pt x="679" y="90"/>
                  </a:lnTo>
                  <a:lnTo>
                    <a:pt x="620" y="24"/>
                  </a:lnTo>
                  <a:lnTo>
                    <a:pt x="508" y="15"/>
                  </a:lnTo>
                  <a:lnTo>
                    <a:pt x="482" y="50"/>
                  </a:lnTo>
                  <a:lnTo>
                    <a:pt x="458" y="92"/>
                  </a:lnTo>
                  <a:lnTo>
                    <a:pt x="426" y="151"/>
                  </a:lnTo>
                  <a:lnTo>
                    <a:pt x="420" y="187"/>
                  </a:lnTo>
                  <a:lnTo>
                    <a:pt x="690" y="184"/>
                  </a:lnTo>
                  <a:lnTo>
                    <a:pt x="696" y="231"/>
                  </a:lnTo>
                  <a:lnTo>
                    <a:pt x="614" y="287"/>
                  </a:lnTo>
                  <a:lnTo>
                    <a:pt x="620" y="337"/>
                  </a:lnTo>
                  <a:lnTo>
                    <a:pt x="561" y="394"/>
                  </a:lnTo>
                  <a:lnTo>
                    <a:pt x="552" y="358"/>
                  </a:lnTo>
                  <a:lnTo>
                    <a:pt x="494" y="361"/>
                  </a:lnTo>
                  <a:cubicBezTo>
                    <a:pt x="470" y="354"/>
                    <a:pt x="438" y="335"/>
                    <a:pt x="413" y="314"/>
                  </a:cubicBezTo>
                  <a:lnTo>
                    <a:pt x="347" y="240"/>
                  </a:lnTo>
                  <a:lnTo>
                    <a:pt x="277" y="231"/>
                  </a:lnTo>
                  <a:lnTo>
                    <a:pt x="281" y="314"/>
                  </a:ln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8118360" y="2539800"/>
              <a:ext cx="361800" cy="32724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7486560" y="2448000"/>
              <a:ext cx="780840" cy="60804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7616520" y="2300400"/>
              <a:ext cx="300240" cy="27288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313240" y="2313000"/>
              <a:ext cx="2530440" cy="31258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6810120" y="6180120"/>
              <a:ext cx="684360" cy="228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5581440" y="5475240"/>
              <a:ext cx="231840" cy="31104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06800" y="5334120"/>
              <a:ext cx="138240" cy="45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6014880" y="4971960"/>
              <a:ext cx="447840" cy="39060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24"/>
            <p:cNvSpPr/>
            <p:nvPr/>
          </p:nvSpPr>
          <p:spPr>
            <a:xfrm rot="10800000">
              <a:off x="6651000" y="2596680"/>
              <a:ext cx="1406520" cy="1065240"/>
            </a:xfrm>
            <a:custGeom>
              <a:avLst/>
              <a:gdLst>
                <a:gd name="textAreaLeft" fmla="*/ 206280 w 1406520"/>
                <a:gd name="textAreaRight" fmla="*/ 1200240 w 1406520"/>
                <a:gd name="textAreaTop" fmla="*/ 155520 h 1065240"/>
                <a:gd name="textAreaBottom" fmla="*/ 90972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5259240" y="2193840"/>
              <a:ext cx="3906720" cy="4653000"/>
            </a:xfrm>
            <a:custGeom>
              <a:avLst/>
              <a:gdLst/>
              <a:ahLst/>
              <a:rect l="l" t="t" r="r" b="b"/>
              <a:pathLst>
                <a:path w="2461" h="2931">
                  <a:moveTo>
                    <a:pt x="2429" y="282"/>
                  </a:moveTo>
                  <a:cubicBezTo>
                    <a:pt x="2326" y="236"/>
                    <a:pt x="2074" y="70"/>
                    <a:pt x="1844" y="35"/>
                  </a:cubicBezTo>
                  <a:cubicBezTo>
                    <a:pt x="1613" y="0"/>
                    <a:pt x="1282" y="6"/>
                    <a:pt x="1047" y="72"/>
                  </a:cubicBezTo>
                  <a:cubicBezTo>
                    <a:pt x="812" y="138"/>
                    <a:pt x="597" y="271"/>
                    <a:pt x="434" y="428"/>
                  </a:cubicBezTo>
                  <a:cubicBezTo>
                    <a:pt x="271" y="585"/>
                    <a:pt x="140" y="807"/>
                    <a:pt x="70" y="1013"/>
                  </a:cubicBezTo>
                  <a:cubicBezTo>
                    <a:pt x="0" y="1219"/>
                    <a:pt x="0" y="1477"/>
                    <a:pt x="15" y="1663"/>
                  </a:cubicBezTo>
                  <a:cubicBezTo>
                    <a:pt x="30" y="1849"/>
                    <a:pt x="88" y="1987"/>
                    <a:pt x="161" y="2129"/>
                  </a:cubicBezTo>
                  <a:cubicBezTo>
                    <a:pt x="234" y="2271"/>
                    <a:pt x="340" y="2402"/>
                    <a:pt x="454" y="2513"/>
                  </a:cubicBezTo>
                  <a:cubicBezTo>
                    <a:pt x="568" y="2624"/>
                    <a:pt x="727" y="2732"/>
                    <a:pt x="847" y="2796"/>
                  </a:cubicBezTo>
                  <a:cubicBezTo>
                    <a:pt x="967" y="2860"/>
                    <a:pt x="1054" y="2876"/>
                    <a:pt x="1176" y="2897"/>
                  </a:cubicBezTo>
                  <a:cubicBezTo>
                    <a:pt x="1298" y="2918"/>
                    <a:pt x="1462" y="2922"/>
                    <a:pt x="1578" y="2924"/>
                  </a:cubicBezTo>
                  <a:cubicBezTo>
                    <a:pt x="1694" y="2926"/>
                    <a:pt x="1765" y="2931"/>
                    <a:pt x="1871" y="2910"/>
                  </a:cubicBezTo>
                  <a:cubicBezTo>
                    <a:pt x="1976" y="2889"/>
                    <a:pt x="2118" y="2846"/>
                    <a:pt x="2209" y="2796"/>
                  </a:cubicBezTo>
                  <a:cubicBezTo>
                    <a:pt x="2300" y="2746"/>
                    <a:pt x="2383" y="2656"/>
                    <a:pt x="2420" y="2613"/>
                  </a:cubicBezTo>
                  <a:cubicBezTo>
                    <a:pt x="2457" y="2570"/>
                    <a:pt x="2461" y="2522"/>
                    <a:pt x="2429" y="2540"/>
                  </a:cubicBezTo>
                  <a:cubicBezTo>
                    <a:pt x="2397" y="2558"/>
                    <a:pt x="2316" y="2670"/>
                    <a:pt x="2228" y="2723"/>
                  </a:cubicBezTo>
                  <a:cubicBezTo>
                    <a:pt x="2140" y="2776"/>
                    <a:pt x="2012" y="2829"/>
                    <a:pt x="1899" y="2860"/>
                  </a:cubicBezTo>
                  <a:cubicBezTo>
                    <a:pt x="1785" y="2891"/>
                    <a:pt x="1670" y="2903"/>
                    <a:pt x="1550" y="2906"/>
                  </a:cubicBezTo>
                  <a:cubicBezTo>
                    <a:pt x="1430" y="2909"/>
                    <a:pt x="1303" y="2915"/>
                    <a:pt x="1175" y="2879"/>
                  </a:cubicBezTo>
                  <a:cubicBezTo>
                    <a:pt x="1047" y="2843"/>
                    <a:pt x="889" y="2746"/>
                    <a:pt x="783" y="2687"/>
                  </a:cubicBezTo>
                  <a:cubicBezTo>
                    <a:pt x="677" y="2628"/>
                    <a:pt x="630" y="2623"/>
                    <a:pt x="536" y="2522"/>
                  </a:cubicBezTo>
                  <a:cubicBezTo>
                    <a:pt x="442" y="2421"/>
                    <a:pt x="283" y="2302"/>
                    <a:pt x="216" y="2083"/>
                  </a:cubicBezTo>
                  <a:cubicBezTo>
                    <a:pt x="149" y="1864"/>
                    <a:pt x="146" y="1391"/>
                    <a:pt x="134" y="1205"/>
                  </a:cubicBezTo>
                  <a:cubicBezTo>
                    <a:pt x="122" y="1019"/>
                    <a:pt x="84" y="1091"/>
                    <a:pt x="143" y="968"/>
                  </a:cubicBezTo>
                  <a:cubicBezTo>
                    <a:pt x="202" y="845"/>
                    <a:pt x="334" y="605"/>
                    <a:pt x="489" y="465"/>
                  </a:cubicBezTo>
                  <a:cubicBezTo>
                    <a:pt x="644" y="325"/>
                    <a:pt x="854" y="191"/>
                    <a:pt x="1075" y="127"/>
                  </a:cubicBezTo>
                  <a:cubicBezTo>
                    <a:pt x="1296" y="63"/>
                    <a:pt x="1607" y="56"/>
                    <a:pt x="1815" y="81"/>
                  </a:cubicBezTo>
                  <a:cubicBezTo>
                    <a:pt x="2024" y="106"/>
                    <a:pt x="2225" y="231"/>
                    <a:pt x="2325" y="279"/>
                  </a:cubicBezTo>
                  <a:cubicBezTo>
                    <a:pt x="2425" y="327"/>
                    <a:pt x="2399" y="368"/>
                    <a:pt x="2416" y="370"/>
                  </a:cubicBezTo>
                  <a:cubicBezTo>
                    <a:pt x="2433" y="372"/>
                    <a:pt x="2427" y="306"/>
                    <a:pt x="2429" y="291"/>
                  </a:cubicBezTo>
                  <a:cubicBezTo>
                    <a:pt x="2431" y="276"/>
                    <a:pt x="2429" y="284"/>
                    <a:pt x="2429" y="282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Rectangle 26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0f3d6b"/>
              </a:gs>
              <a:gs pos="100000">
                <a:srgbClr val="0a29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0" y="981000"/>
            <a:ext cx="1187280" cy="589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29"/>
          <p:cNvGrpSpPr/>
          <p:nvPr/>
        </p:nvGrpSpPr>
        <p:grpSpPr>
          <a:xfrm>
            <a:off x="5237280" y="2106720"/>
            <a:ext cx="3906720" cy="4751280"/>
            <a:chOff x="5237280" y="2106720"/>
            <a:chExt cx="3906720" cy="4751280"/>
          </a:xfrm>
        </p:grpSpPr>
        <p:sp>
          <p:nvSpPr>
            <p:cNvPr id="201" name="未知"/>
            <p:cNvSpPr/>
            <p:nvPr/>
          </p:nvSpPr>
          <p:spPr>
            <a:xfrm>
              <a:off x="5996160" y="5934240"/>
              <a:ext cx="563400" cy="42696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6801120" y="3567240"/>
              <a:ext cx="726840" cy="329076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7429680" y="3510000"/>
              <a:ext cx="743040" cy="32068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7856640" y="3260880"/>
              <a:ext cx="1039680" cy="331632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985000" y="4415040"/>
              <a:ext cx="992160" cy="225252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7683480" y="2313000"/>
              <a:ext cx="1135080" cy="33516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7947000" y="2781360"/>
              <a:ext cx="873360" cy="14292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7464600" y="2106720"/>
              <a:ext cx="352440" cy="43164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135920" y="2149560"/>
              <a:ext cx="117360" cy="50184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6208920" y="3584520"/>
              <a:ext cx="2923920" cy="105912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5480280" y="4957920"/>
              <a:ext cx="3609720" cy="785880"/>
            </a:xfrm>
            <a:custGeom>
              <a:avLst/>
              <a:gdLst/>
              <a:ahLst/>
              <a:rect l="l" t="t" r="r" b="b"/>
              <a:pathLst>
                <a:path w="2274" h="495">
                  <a:moveTo>
                    <a:pt x="52" y="54"/>
                  </a:moveTo>
                  <a:cubicBezTo>
                    <a:pt x="1" y="0"/>
                    <a:pt x="0" y="17"/>
                    <a:pt x="61" y="63"/>
                  </a:cubicBezTo>
                  <a:cubicBezTo>
                    <a:pt x="121" y="109"/>
                    <a:pt x="277" y="273"/>
                    <a:pt x="418" y="333"/>
                  </a:cubicBezTo>
                  <a:cubicBezTo>
                    <a:pt x="560" y="393"/>
                    <a:pt x="730" y="412"/>
                    <a:pt x="910" y="423"/>
                  </a:cubicBezTo>
                  <a:cubicBezTo>
                    <a:pt x="1090" y="434"/>
                    <a:pt x="1301" y="437"/>
                    <a:pt x="1500" y="396"/>
                  </a:cubicBezTo>
                  <a:cubicBezTo>
                    <a:pt x="1698" y="356"/>
                    <a:pt x="1971" y="236"/>
                    <a:pt x="2099" y="180"/>
                  </a:cubicBezTo>
                  <a:cubicBezTo>
                    <a:pt x="2227" y="124"/>
                    <a:pt x="2260" y="52"/>
                    <a:pt x="2267" y="61"/>
                  </a:cubicBezTo>
                  <a:cubicBezTo>
                    <a:pt x="2274" y="70"/>
                    <a:pt x="2264" y="170"/>
                    <a:pt x="2139" y="235"/>
                  </a:cubicBezTo>
                  <a:cubicBezTo>
                    <a:pt x="2014" y="300"/>
                    <a:pt x="1720" y="409"/>
                    <a:pt x="1518" y="451"/>
                  </a:cubicBezTo>
                  <a:cubicBezTo>
                    <a:pt x="1316" y="493"/>
                    <a:pt x="1110" y="495"/>
                    <a:pt x="928" y="486"/>
                  </a:cubicBezTo>
                  <a:cubicBezTo>
                    <a:pt x="746" y="477"/>
                    <a:pt x="558" y="442"/>
                    <a:pt x="427" y="396"/>
                  </a:cubicBezTo>
                  <a:cubicBezTo>
                    <a:pt x="296" y="351"/>
                    <a:pt x="204" y="273"/>
                    <a:pt x="142" y="216"/>
                  </a:cubicBezTo>
                  <a:cubicBezTo>
                    <a:pt x="79" y="159"/>
                    <a:pt x="70" y="88"/>
                    <a:pt x="52" y="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6477120" y="5886720"/>
              <a:ext cx="2651040" cy="618840"/>
            </a:xfrm>
            <a:custGeom>
              <a:avLst/>
              <a:gdLst/>
              <a:ahLst/>
              <a:rect l="l" t="t" r="r" b="b"/>
              <a:pathLst>
                <a:path w="1670" h="390">
                  <a:moveTo>
                    <a:pt x="7" y="254"/>
                  </a:moveTo>
                  <a:cubicBezTo>
                    <a:pt x="14" y="246"/>
                    <a:pt x="48" y="286"/>
                    <a:pt x="140" y="298"/>
                  </a:cubicBezTo>
                  <a:cubicBezTo>
                    <a:pt x="232" y="310"/>
                    <a:pt x="420" y="328"/>
                    <a:pt x="559" y="325"/>
                  </a:cubicBezTo>
                  <a:cubicBezTo>
                    <a:pt x="698" y="322"/>
                    <a:pt x="814" y="319"/>
                    <a:pt x="971" y="280"/>
                  </a:cubicBezTo>
                  <a:cubicBezTo>
                    <a:pt x="1127" y="240"/>
                    <a:pt x="1391" y="136"/>
                    <a:pt x="1498" y="90"/>
                  </a:cubicBezTo>
                  <a:cubicBezTo>
                    <a:pt x="1605" y="44"/>
                    <a:pt x="1586" y="12"/>
                    <a:pt x="1611" y="6"/>
                  </a:cubicBezTo>
                  <a:cubicBezTo>
                    <a:pt x="1636" y="0"/>
                    <a:pt x="1670" y="26"/>
                    <a:pt x="1648" y="52"/>
                  </a:cubicBezTo>
                  <a:cubicBezTo>
                    <a:pt x="1626" y="78"/>
                    <a:pt x="1585" y="116"/>
                    <a:pt x="1480" y="163"/>
                  </a:cubicBezTo>
                  <a:cubicBezTo>
                    <a:pt x="1375" y="210"/>
                    <a:pt x="1166" y="296"/>
                    <a:pt x="1016" y="334"/>
                  </a:cubicBezTo>
                  <a:cubicBezTo>
                    <a:pt x="865" y="371"/>
                    <a:pt x="731" y="386"/>
                    <a:pt x="578" y="388"/>
                  </a:cubicBezTo>
                  <a:cubicBezTo>
                    <a:pt x="424" y="390"/>
                    <a:pt x="191" y="366"/>
                    <a:pt x="96" y="344"/>
                  </a:cubicBezTo>
                  <a:cubicBezTo>
                    <a:pt x="1" y="321"/>
                    <a:pt x="0" y="262"/>
                    <a:pt x="7" y="2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732800" y="2454480"/>
              <a:ext cx="1335240" cy="1776240"/>
            </a:xfrm>
            <a:custGeom>
              <a:avLst/>
              <a:gdLst/>
              <a:ahLst/>
              <a:rect l="l" t="t" r="r" b="b"/>
              <a:pathLst>
                <a:path w="841" h="1119">
                  <a:moveTo>
                    <a:pt x="281" y="269"/>
                  </a:moveTo>
                  <a:lnTo>
                    <a:pt x="281" y="314"/>
                  </a:lnTo>
                  <a:lnTo>
                    <a:pt x="247" y="332"/>
                  </a:lnTo>
                  <a:lnTo>
                    <a:pt x="253" y="290"/>
                  </a:lnTo>
                  <a:lnTo>
                    <a:pt x="218" y="314"/>
                  </a:lnTo>
                  <a:lnTo>
                    <a:pt x="209" y="379"/>
                  </a:lnTo>
                  <a:lnTo>
                    <a:pt x="151" y="391"/>
                  </a:lnTo>
                  <a:lnTo>
                    <a:pt x="118" y="417"/>
                  </a:lnTo>
                  <a:lnTo>
                    <a:pt x="83" y="417"/>
                  </a:lnTo>
                  <a:lnTo>
                    <a:pt x="77" y="382"/>
                  </a:lnTo>
                  <a:lnTo>
                    <a:pt x="45" y="382"/>
                  </a:lnTo>
                  <a:lnTo>
                    <a:pt x="45" y="414"/>
                  </a:lnTo>
                  <a:lnTo>
                    <a:pt x="13" y="420"/>
                  </a:lnTo>
                  <a:lnTo>
                    <a:pt x="15" y="448"/>
                  </a:lnTo>
                  <a:lnTo>
                    <a:pt x="59" y="448"/>
                  </a:lnTo>
                  <a:lnTo>
                    <a:pt x="148" y="448"/>
                  </a:lnTo>
                  <a:lnTo>
                    <a:pt x="103" y="538"/>
                  </a:lnTo>
                  <a:lnTo>
                    <a:pt x="45" y="554"/>
                  </a:lnTo>
                  <a:cubicBezTo>
                    <a:pt x="29" y="563"/>
                    <a:pt x="16" y="580"/>
                    <a:pt x="10" y="595"/>
                  </a:cubicBezTo>
                  <a:cubicBezTo>
                    <a:pt x="4" y="610"/>
                    <a:pt x="0" y="631"/>
                    <a:pt x="7" y="645"/>
                  </a:cubicBezTo>
                  <a:lnTo>
                    <a:pt x="48" y="684"/>
                  </a:lnTo>
                  <a:lnTo>
                    <a:pt x="45" y="743"/>
                  </a:lnTo>
                  <a:lnTo>
                    <a:pt x="74" y="752"/>
                  </a:lnTo>
                  <a:lnTo>
                    <a:pt x="83" y="784"/>
                  </a:lnTo>
                  <a:lnTo>
                    <a:pt x="45" y="782"/>
                  </a:lnTo>
                  <a:lnTo>
                    <a:pt x="16" y="811"/>
                  </a:lnTo>
                  <a:lnTo>
                    <a:pt x="118" y="826"/>
                  </a:lnTo>
                  <a:lnTo>
                    <a:pt x="192" y="790"/>
                  </a:lnTo>
                  <a:lnTo>
                    <a:pt x="162" y="962"/>
                  </a:lnTo>
                  <a:lnTo>
                    <a:pt x="80" y="1054"/>
                  </a:lnTo>
                  <a:cubicBezTo>
                    <a:pt x="64" y="1079"/>
                    <a:pt x="48" y="1101"/>
                    <a:pt x="65" y="1110"/>
                  </a:cubicBezTo>
                  <a:cubicBezTo>
                    <a:pt x="83" y="1119"/>
                    <a:pt x="99" y="1109"/>
                    <a:pt x="115" y="1086"/>
                  </a:cubicBezTo>
                  <a:lnTo>
                    <a:pt x="189" y="944"/>
                  </a:lnTo>
                  <a:lnTo>
                    <a:pt x="236" y="851"/>
                  </a:lnTo>
                  <a:lnTo>
                    <a:pt x="281" y="851"/>
                  </a:lnTo>
                  <a:lnTo>
                    <a:pt x="288" y="805"/>
                  </a:lnTo>
                  <a:lnTo>
                    <a:pt x="250" y="782"/>
                  </a:lnTo>
                  <a:lnTo>
                    <a:pt x="244" y="722"/>
                  </a:lnTo>
                  <a:lnTo>
                    <a:pt x="281" y="716"/>
                  </a:lnTo>
                  <a:lnTo>
                    <a:pt x="281" y="761"/>
                  </a:lnTo>
                  <a:lnTo>
                    <a:pt x="391" y="687"/>
                  </a:lnTo>
                  <a:cubicBezTo>
                    <a:pt x="444" y="675"/>
                    <a:pt x="538" y="678"/>
                    <a:pt x="596" y="687"/>
                  </a:cubicBezTo>
                  <a:cubicBezTo>
                    <a:pt x="655" y="696"/>
                    <a:pt x="712" y="724"/>
                    <a:pt x="746" y="743"/>
                  </a:cubicBezTo>
                  <a:cubicBezTo>
                    <a:pt x="780" y="762"/>
                    <a:pt x="786" y="906"/>
                    <a:pt x="802" y="799"/>
                  </a:cubicBezTo>
                  <a:lnTo>
                    <a:pt x="841" y="98"/>
                  </a:lnTo>
                  <a:lnTo>
                    <a:pt x="693" y="0"/>
                  </a:lnTo>
                  <a:lnTo>
                    <a:pt x="649" y="0"/>
                  </a:lnTo>
                  <a:lnTo>
                    <a:pt x="714" y="80"/>
                  </a:lnTo>
                  <a:lnTo>
                    <a:pt x="679" y="90"/>
                  </a:lnTo>
                  <a:lnTo>
                    <a:pt x="620" y="24"/>
                  </a:lnTo>
                  <a:lnTo>
                    <a:pt x="508" y="15"/>
                  </a:lnTo>
                  <a:lnTo>
                    <a:pt x="482" y="50"/>
                  </a:lnTo>
                  <a:lnTo>
                    <a:pt x="458" y="92"/>
                  </a:lnTo>
                  <a:lnTo>
                    <a:pt x="426" y="151"/>
                  </a:lnTo>
                  <a:lnTo>
                    <a:pt x="420" y="187"/>
                  </a:lnTo>
                  <a:lnTo>
                    <a:pt x="690" y="184"/>
                  </a:lnTo>
                  <a:lnTo>
                    <a:pt x="696" y="231"/>
                  </a:lnTo>
                  <a:lnTo>
                    <a:pt x="614" y="287"/>
                  </a:lnTo>
                  <a:lnTo>
                    <a:pt x="620" y="337"/>
                  </a:lnTo>
                  <a:lnTo>
                    <a:pt x="561" y="394"/>
                  </a:lnTo>
                  <a:lnTo>
                    <a:pt x="552" y="358"/>
                  </a:lnTo>
                  <a:lnTo>
                    <a:pt x="494" y="361"/>
                  </a:lnTo>
                  <a:cubicBezTo>
                    <a:pt x="470" y="354"/>
                    <a:pt x="438" y="335"/>
                    <a:pt x="413" y="314"/>
                  </a:cubicBezTo>
                  <a:lnTo>
                    <a:pt x="347" y="240"/>
                  </a:lnTo>
                  <a:lnTo>
                    <a:pt x="277" y="231"/>
                  </a:lnTo>
                  <a:lnTo>
                    <a:pt x="281" y="314"/>
                  </a:ln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8096400" y="2468520"/>
              <a:ext cx="361800" cy="32724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7464600" y="2376720"/>
              <a:ext cx="780840" cy="60804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7594560" y="2229120"/>
              <a:ext cx="300240" cy="27288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5291280" y="2241720"/>
              <a:ext cx="2530440" cy="31258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6788160" y="6108840"/>
              <a:ext cx="684360" cy="228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559480" y="5403960"/>
              <a:ext cx="231840" cy="31104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5784840" y="5262840"/>
              <a:ext cx="138240" cy="45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5992920" y="4900680"/>
              <a:ext cx="447840" cy="39060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51"/>
            <p:cNvSpPr/>
            <p:nvPr/>
          </p:nvSpPr>
          <p:spPr>
            <a:xfrm rot="10800000">
              <a:off x="6629040" y="2525400"/>
              <a:ext cx="1406520" cy="1065240"/>
            </a:xfrm>
            <a:custGeom>
              <a:avLst/>
              <a:gdLst>
                <a:gd name="textAreaLeft" fmla="*/ 206280 w 1406520"/>
                <a:gd name="textAreaRight" fmla="*/ 1200240 w 1406520"/>
                <a:gd name="textAreaTop" fmla="*/ 155520 h 1065240"/>
                <a:gd name="textAreaBottom" fmla="*/ 90972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5237280" y="2122560"/>
              <a:ext cx="3906720" cy="4653000"/>
            </a:xfrm>
            <a:custGeom>
              <a:avLst/>
              <a:gdLst/>
              <a:ahLst/>
              <a:rect l="l" t="t" r="r" b="b"/>
              <a:pathLst>
                <a:path w="2461" h="2931">
                  <a:moveTo>
                    <a:pt x="2429" y="282"/>
                  </a:moveTo>
                  <a:cubicBezTo>
                    <a:pt x="2326" y="236"/>
                    <a:pt x="2074" y="70"/>
                    <a:pt x="1844" y="35"/>
                  </a:cubicBezTo>
                  <a:cubicBezTo>
                    <a:pt x="1613" y="0"/>
                    <a:pt x="1282" y="6"/>
                    <a:pt x="1047" y="72"/>
                  </a:cubicBezTo>
                  <a:cubicBezTo>
                    <a:pt x="812" y="138"/>
                    <a:pt x="597" y="271"/>
                    <a:pt x="434" y="428"/>
                  </a:cubicBezTo>
                  <a:cubicBezTo>
                    <a:pt x="271" y="585"/>
                    <a:pt x="140" y="807"/>
                    <a:pt x="70" y="1013"/>
                  </a:cubicBezTo>
                  <a:cubicBezTo>
                    <a:pt x="0" y="1219"/>
                    <a:pt x="0" y="1477"/>
                    <a:pt x="15" y="1663"/>
                  </a:cubicBezTo>
                  <a:cubicBezTo>
                    <a:pt x="30" y="1849"/>
                    <a:pt x="88" y="1987"/>
                    <a:pt x="161" y="2129"/>
                  </a:cubicBezTo>
                  <a:cubicBezTo>
                    <a:pt x="234" y="2271"/>
                    <a:pt x="340" y="2402"/>
                    <a:pt x="454" y="2513"/>
                  </a:cubicBezTo>
                  <a:cubicBezTo>
                    <a:pt x="568" y="2624"/>
                    <a:pt x="727" y="2732"/>
                    <a:pt x="847" y="2796"/>
                  </a:cubicBezTo>
                  <a:cubicBezTo>
                    <a:pt x="967" y="2860"/>
                    <a:pt x="1054" y="2876"/>
                    <a:pt x="1176" y="2897"/>
                  </a:cubicBezTo>
                  <a:cubicBezTo>
                    <a:pt x="1298" y="2918"/>
                    <a:pt x="1462" y="2922"/>
                    <a:pt x="1578" y="2924"/>
                  </a:cubicBezTo>
                  <a:cubicBezTo>
                    <a:pt x="1694" y="2926"/>
                    <a:pt x="1765" y="2931"/>
                    <a:pt x="1871" y="2910"/>
                  </a:cubicBezTo>
                  <a:cubicBezTo>
                    <a:pt x="1976" y="2889"/>
                    <a:pt x="2118" y="2846"/>
                    <a:pt x="2209" y="2796"/>
                  </a:cubicBezTo>
                  <a:cubicBezTo>
                    <a:pt x="2300" y="2746"/>
                    <a:pt x="2383" y="2656"/>
                    <a:pt x="2420" y="2613"/>
                  </a:cubicBezTo>
                  <a:cubicBezTo>
                    <a:pt x="2457" y="2570"/>
                    <a:pt x="2461" y="2522"/>
                    <a:pt x="2429" y="2540"/>
                  </a:cubicBezTo>
                  <a:cubicBezTo>
                    <a:pt x="2397" y="2558"/>
                    <a:pt x="2316" y="2670"/>
                    <a:pt x="2228" y="2723"/>
                  </a:cubicBezTo>
                  <a:cubicBezTo>
                    <a:pt x="2140" y="2776"/>
                    <a:pt x="2012" y="2829"/>
                    <a:pt x="1899" y="2860"/>
                  </a:cubicBezTo>
                  <a:cubicBezTo>
                    <a:pt x="1785" y="2891"/>
                    <a:pt x="1670" y="2903"/>
                    <a:pt x="1550" y="2906"/>
                  </a:cubicBezTo>
                  <a:cubicBezTo>
                    <a:pt x="1430" y="2909"/>
                    <a:pt x="1303" y="2915"/>
                    <a:pt x="1175" y="2879"/>
                  </a:cubicBezTo>
                  <a:cubicBezTo>
                    <a:pt x="1047" y="2843"/>
                    <a:pt x="889" y="2746"/>
                    <a:pt x="783" y="2687"/>
                  </a:cubicBezTo>
                  <a:cubicBezTo>
                    <a:pt x="677" y="2628"/>
                    <a:pt x="630" y="2623"/>
                    <a:pt x="536" y="2522"/>
                  </a:cubicBezTo>
                  <a:cubicBezTo>
                    <a:pt x="442" y="2421"/>
                    <a:pt x="283" y="2302"/>
                    <a:pt x="216" y="2083"/>
                  </a:cubicBezTo>
                  <a:cubicBezTo>
                    <a:pt x="149" y="1864"/>
                    <a:pt x="146" y="1391"/>
                    <a:pt x="134" y="1205"/>
                  </a:cubicBezTo>
                  <a:cubicBezTo>
                    <a:pt x="122" y="1019"/>
                    <a:pt x="84" y="1091"/>
                    <a:pt x="143" y="968"/>
                  </a:cubicBezTo>
                  <a:cubicBezTo>
                    <a:pt x="202" y="845"/>
                    <a:pt x="334" y="605"/>
                    <a:pt x="489" y="465"/>
                  </a:cubicBezTo>
                  <a:cubicBezTo>
                    <a:pt x="644" y="325"/>
                    <a:pt x="854" y="191"/>
                    <a:pt x="1075" y="127"/>
                  </a:cubicBezTo>
                  <a:cubicBezTo>
                    <a:pt x="1296" y="63"/>
                    <a:pt x="1607" y="56"/>
                    <a:pt x="1815" y="81"/>
                  </a:cubicBezTo>
                  <a:cubicBezTo>
                    <a:pt x="2024" y="106"/>
                    <a:pt x="2225" y="231"/>
                    <a:pt x="2325" y="279"/>
                  </a:cubicBezTo>
                  <a:cubicBezTo>
                    <a:pt x="2425" y="327"/>
                    <a:pt x="2399" y="368"/>
                    <a:pt x="2416" y="370"/>
                  </a:cubicBezTo>
                  <a:cubicBezTo>
                    <a:pt x="2433" y="372"/>
                    <a:pt x="2427" y="306"/>
                    <a:pt x="2429" y="291"/>
                  </a:cubicBezTo>
                  <a:cubicBezTo>
                    <a:pt x="2431" y="276"/>
                    <a:pt x="2429" y="284"/>
                    <a:pt x="2429" y="282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Group 53"/>
          <p:cNvGrpSpPr/>
          <p:nvPr/>
        </p:nvGrpSpPr>
        <p:grpSpPr>
          <a:xfrm>
            <a:off x="0" y="0"/>
            <a:ext cx="9158400" cy="6858000"/>
            <a:chOff x="0" y="0"/>
            <a:chExt cx="9158400" cy="6858000"/>
          </a:xfrm>
        </p:grpSpPr>
        <p:sp>
          <p:nvSpPr>
            <p:cNvPr id="225" name="AutoShape 54"/>
            <p:cNvSpPr/>
            <p:nvPr/>
          </p:nvSpPr>
          <p:spPr>
            <a:xfrm>
              <a:off x="38160" y="38160"/>
              <a:ext cx="9077400" cy="6781680"/>
            </a:xfrm>
            <a:prstGeom prst="roundRect">
              <a:avLst>
                <a:gd name="adj" fmla="val 6014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 rot="10800000">
              <a:off x="8701200" y="64008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 rot="5400000">
              <a:off x="87012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 rot="16200000">
              <a:off x="0" y="64008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Line 62"/>
          <p:cNvSpPr/>
          <p:nvPr/>
        </p:nvSpPr>
        <p:spPr>
          <a:xfrm>
            <a:off x="324000" y="6386400"/>
            <a:ext cx="849600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438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4386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438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FA10-07A5-4FB0-B0D6-4D9D0CF54DDC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81080" y="2130120"/>
            <a:ext cx="647712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ffff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5410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2286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67960" y="1143000"/>
            <a:ext cx="3308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蓝色商务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  <a:ea typeface="宋体"/>
              </a:rPr>
              <a:t>日程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1905120" y="1981080"/>
            <a:ext cx="5410080" cy="53352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1905120" y="2819520"/>
            <a:ext cx="5410080" cy="53316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4540b"/>
              </a:gs>
              <a:gs pos="50000">
                <a:srgbClr val="71b517"/>
              </a:gs>
              <a:gs pos="100000">
                <a:srgbClr val="34540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1905120" y="3657600"/>
            <a:ext cx="5410080" cy="53352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3486a"/>
              </a:gs>
              <a:gs pos="50000">
                <a:srgbClr val="4c9ce4"/>
              </a:gs>
              <a:gs pos="100000">
                <a:srgbClr val="23486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1905120" y="4495680"/>
            <a:ext cx="5410080" cy="53352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93762"/>
              </a:gs>
              <a:gs pos="50000">
                <a:srgbClr val="5976d3"/>
              </a:gs>
              <a:gs pos="100000">
                <a:srgbClr val="293762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  <a:ea typeface="宋体"/>
              </a:rPr>
              <a:t> 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  <a:ea typeface="宋体"/>
              </a:rPr>
              <a:t>循环图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 rot="20241600">
            <a:off x="1077480" y="246168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4c9ce4"/>
              </a:gs>
              <a:gs pos="100000">
                <a:srgbClr val="aed2f3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>
            <a:off x="3809880" y="16002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c9ce4"/>
              </a:gs>
              <a:gs pos="100000">
                <a:srgbClr val="1a36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1295280" y="3124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04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2178000" y="482112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71b517"/>
              </a:gs>
              <a:gs pos="100000">
                <a:srgbClr val="28410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4952880" y="4191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359d7"/>
              </a:gs>
              <a:gs pos="100000">
                <a:srgbClr val="6231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6781680" y="18288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5976d3"/>
              </a:gs>
              <a:gs pos="100000">
                <a:srgbClr val="1f29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640160" y="3657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231800" y="2057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7163640" y="233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5373720" y="4648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2552760" y="5272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429000" y="35863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循环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473200" y="18874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6"/>
          <p:cNvCxnSpPr/>
          <p:nvPr/>
        </p:nvCxnSpPr>
        <p:spPr>
          <a:xfrm flipH="1">
            <a:off x="456840" y="188712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6" name="Text Box 17"/>
          <p:cNvSpPr/>
          <p:nvPr/>
        </p:nvSpPr>
        <p:spPr>
          <a:xfrm>
            <a:off x="1014840" y="144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  <a:ea typeface="宋体"/>
              </a:rPr>
              <a:t>流程图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93762"/>
              </a:gs>
              <a:gs pos="100000">
                <a:srgbClr val="5976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3486a"/>
              </a:gs>
              <a:gs pos="100000">
                <a:srgbClr val="4c9ce4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3486a"/>
              </a:gs>
              <a:gs pos="100000">
                <a:srgbClr val="4c9ce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3762"/>
              </a:gs>
              <a:gs pos="100000">
                <a:srgbClr val="5976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  <a:ea typeface="宋体"/>
              </a:rPr>
              <a:t>框图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310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c9ce4"/>
                </a:gs>
                <a:gs pos="100000">
                  <a:srgbClr val="2348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Group 9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312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1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2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13344"/>
                  </a:gs>
                  <a:gs pos="50000">
                    <a:srgbClr val="026e94"/>
                  </a:gs>
                  <a:gs pos="100000">
                    <a:srgbClr val="013344"/>
                  </a:gs>
                </a:gsLst>
                <a:lin ang="5400000"/>
              </a:gradFill>
              <a:ln w="12600">
                <a:solidFill>
                  <a:srgbClr val="026e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3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13344"/>
                  </a:gs>
                  <a:gs pos="50000">
                    <a:srgbClr val="026e94"/>
                  </a:gs>
                  <a:gs pos="100000">
                    <a:srgbClr val="0133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Rectangle 14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1b517"/>
                </a:gs>
                <a:gs pos="100000">
                  <a:srgbClr val="34540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Group 15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318" name="Oval 16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7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18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13344"/>
                  </a:gs>
                  <a:gs pos="50000">
                    <a:srgbClr val="026e94"/>
                  </a:gs>
                  <a:gs pos="100000">
                    <a:srgbClr val="013344"/>
                  </a:gs>
                </a:gsLst>
                <a:lin ang="5400000"/>
              </a:gradFill>
              <a:ln w="12600">
                <a:solidFill>
                  <a:srgbClr val="026e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19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13344"/>
                  </a:gs>
                  <a:gs pos="50000">
                    <a:srgbClr val="026e94"/>
                  </a:gs>
                  <a:gs pos="100000">
                    <a:srgbClr val="0133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Rectangle 20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4c9ce4"/>
                </a:gs>
                <a:gs pos="100000">
                  <a:srgbClr val="2348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21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324" name="Oval 22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23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4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13344"/>
                  </a:gs>
                  <a:gs pos="50000">
                    <a:srgbClr val="026e94"/>
                  </a:gs>
                  <a:gs pos="100000">
                    <a:srgbClr val="013344"/>
                  </a:gs>
                </a:gsLst>
                <a:lin ang="5400000"/>
              </a:gradFill>
              <a:ln w="12600">
                <a:solidFill>
                  <a:srgbClr val="026e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5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13344"/>
                  </a:gs>
                  <a:gs pos="50000">
                    <a:srgbClr val="026e94"/>
                  </a:gs>
                  <a:gs pos="100000">
                    <a:srgbClr val="0133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Rectangle 26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71b517"/>
                </a:gs>
                <a:gs pos="100000">
                  <a:srgbClr val="34540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27"/>
          <p:cNvSpPr/>
          <p:nvPr/>
        </p:nvSpPr>
        <p:spPr>
          <a:xfrm>
            <a:off x="159804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335052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495072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30"/>
          <p:cNvSpPr/>
          <p:nvPr/>
        </p:nvSpPr>
        <p:spPr>
          <a:xfrm>
            <a:off x="670356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160452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2"/>
          <p:cNvSpPr/>
          <p:nvPr/>
        </p:nvSpPr>
        <p:spPr>
          <a:xfrm>
            <a:off x="335700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33"/>
          <p:cNvSpPr/>
          <p:nvPr/>
        </p:nvSpPr>
        <p:spPr>
          <a:xfrm>
            <a:off x="510948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686232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c9ce4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  <a:ea typeface="宋体"/>
              </a:rPr>
              <a:t>表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85800" y="1685880"/>
          <a:ext cx="7620120" cy="371484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28D31-18A8-4E32-85DC-3A801C9777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  <a:ea typeface="宋体"/>
              </a:rPr>
              <a:t>三维饼图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026e94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"/>
          <p:cNvSpPr/>
          <p:nvPr/>
        </p:nvSpPr>
        <p:spPr>
          <a:xfrm rot="20601600">
            <a:off x="1461960" y="20649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 rot="20601600">
            <a:off x="1517400" y="190332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rc 6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rc 7"/>
          <p:cNvSpPr/>
          <p:nvPr/>
        </p:nvSpPr>
        <p:spPr>
          <a:xfrm rot="20601600">
            <a:off x="4167360" y="198108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rc 8"/>
          <p:cNvSpPr/>
          <p:nvPr/>
        </p:nvSpPr>
        <p:spPr>
          <a:xfrm flipH="1" rot="20602200">
            <a:off x="1599480" y="3276360"/>
            <a:ext cx="2876400" cy="162972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bd9f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rc 9"/>
          <p:cNvSpPr/>
          <p:nvPr/>
        </p:nvSpPr>
        <p:spPr>
          <a:xfrm rot="20601600">
            <a:off x="3409920" y="170964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f4a7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rc 10"/>
          <p:cNvSpPr/>
          <p:nvPr/>
        </p:nvSpPr>
        <p:spPr>
          <a:xfrm flipH="1" rot="20602200">
            <a:off x="1371240" y="236196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214f69"/>
              </a:gs>
              <a:gs pos="100000">
                <a:srgbClr val="47abe3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未知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未知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13"/>
          <p:cNvGrpSpPr/>
          <p:nvPr/>
        </p:nvGrpSpPr>
        <p:grpSpPr>
          <a:xfrm>
            <a:off x="3988800" y="2648160"/>
            <a:ext cx="3251520" cy="2231280"/>
            <a:chOff x="3988800" y="2648160"/>
            <a:chExt cx="3251520" cy="2231280"/>
          </a:xfrm>
        </p:grpSpPr>
        <p:sp>
          <p:nvSpPr>
            <p:cNvPr id="355" name="Arc 14"/>
            <p:cNvSpPr/>
            <p:nvPr/>
          </p:nvSpPr>
          <p:spPr>
            <a:xfrm rot="20712600">
              <a:off x="4102200" y="3003120"/>
              <a:ext cx="2949120" cy="127152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 rot="20712600">
              <a:off x="4186080" y="319212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a6198"/>
                </a:gs>
              </a:gsLst>
              <a:lin ang="89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 rot="20712600">
              <a:off x="5562000" y="33602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17"/>
          <p:cNvGrpSpPr/>
          <p:nvPr/>
        </p:nvGrpSpPr>
        <p:grpSpPr>
          <a:xfrm>
            <a:off x="4482360" y="2474640"/>
            <a:ext cx="3270960" cy="2463840"/>
            <a:chOff x="4482360" y="2474640"/>
            <a:chExt cx="3270960" cy="2463840"/>
          </a:xfrm>
        </p:grpSpPr>
        <p:sp>
          <p:nvSpPr>
            <p:cNvPr id="359" name="未知"/>
            <p:cNvSpPr/>
            <p:nvPr/>
          </p:nvSpPr>
          <p:spPr>
            <a:xfrm rot="20601600">
              <a:off x="6073560" y="32634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Arc 19"/>
            <p:cNvSpPr/>
            <p:nvPr/>
          </p:nvSpPr>
          <p:spPr>
            <a:xfrm rot="20539200">
              <a:off x="4625640" y="2882520"/>
              <a:ext cx="2905200" cy="139716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 rot="20601600">
              <a:off x="4757760" y="3093480"/>
              <a:ext cx="1332000" cy="16891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Oval 21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22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solidFill>
            <a:srgbClr val="026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5871600" y="243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4271400" y="1981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2442600" y="2743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221400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3966480" y="426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5947920" y="3429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914400" y="4038480"/>
            <a:ext cx="1512720" cy="1511280"/>
            <a:chOff x="914400" y="4038480"/>
            <a:chExt cx="1512720" cy="1511280"/>
          </a:xfrm>
        </p:grpSpPr>
        <p:sp>
          <p:nvSpPr>
            <p:cNvPr id="371" name="Oval 3"/>
            <p:cNvSpPr/>
            <p:nvPr/>
          </p:nvSpPr>
          <p:spPr>
            <a:xfrm>
              <a:off x="91440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4c9ce4"/>
                </a:gs>
                <a:gs pos="50000">
                  <a:srgbClr val="ffffff"/>
                </a:gs>
                <a:gs pos="100000">
                  <a:srgbClr val="4c9ce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4"/>
            <p:cNvSpPr/>
            <p:nvPr/>
          </p:nvSpPr>
          <p:spPr>
            <a:xfrm>
              <a:off x="91440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4c9ce4"/>
                </a:gs>
                <a:gs pos="100000">
                  <a:srgbClr val="82bae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5"/>
            <p:cNvSpPr/>
            <p:nvPr/>
          </p:nvSpPr>
          <p:spPr>
            <a:xfrm>
              <a:off x="101340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c9ce4"/>
                </a:gs>
                <a:gs pos="50000">
                  <a:srgbClr val="29547b"/>
                </a:gs>
                <a:gs pos="100000">
                  <a:srgbClr val="4c9ce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6"/>
            <p:cNvSpPr/>
            <p:nvPr/>
          </p:nvSpPr>
          <p:spPr>
            <a:xfrm>
              <a:off x="101340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254c6f"/>
                </a:gs>
                <a:gs pos="100000">
                  <a:srgbClr val="4c9ce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7"/>
            <p:cNvSpPr/>
            <p:nvPr/>
          </p:nvSpPr>
          <p:spPr>
            <a:xfrm>
              <a:off x="107928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23486a"/>
                </a:gs>
                <a:gs pos="100000">
                  <a:srgbClr val="4c9c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  <a:ea typeface="宋体"/>
              </a:rPr>
              <a:t>市场分析图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463760" y="23144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cffff"/>
              </a:gs>
              <a:gs pos="100000">
                <a:srgbClr val="ee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Group 10"/>
          <p:cNvGrpSpPr/>
          <p:nvPr/>
        </p:nvGrpSpPr>
        <p:grpSpPr>
          <a:xfrm>
            <a:off x="4486320" y="4038480"/>
            <a:ext cx="1512720" cy="1511280"/>
            <a:chOff x="4486320" y="4038480"/>
            <a:chExt cx="1512720" cy="1511280"/>
          </a:xfrm>
        </p:grpSpPr>
        <p:sp>
          <p:nvSpPr>
            <p:cNvPr id="379" name="Oval 11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50000">
                  <a:srgbClr val="ffffff"/>
                </a:gs>
                <a:gs pos="100000">
                  <a:srgbClr val="0066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6da7e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3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50000">
                  <a:srgbClr val="00376e"/>
                </a:gs>
                <a:gs pos="100000">
                  <a:srgbClr val="0066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4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003263"/>
                </a:gs>
                <a:gs pos="100000">
                  <a:srgbClr val="0066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465120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002f5e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16"/>
          <p:cNvGrpSpPr/>
          <p:nvPr/>
        </p:nvGrpSpPr>
        <p:grpSpPr>
          <a:xfrm>
            <a:off x="6359400" y="4038480"/>
            <a:ext cx="1513080" cy="1511280"/>
            <a:chOff x="6359400" y="4038480"/>
            <a:chExt cx="1513080" cy="1511280"/>
          </a:xfrm>
        </p:grpSpPr>
        <p:sp>
          <p:nvSpPr>
            <p:cNvPr id="385" name="Oval 17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5976d3"/>
                </a:gs>
                <a:gs pos="50000">
                  <a:srgbClr val="ffffff"/>
                </a:gs>
                <a:gs pos="100000">
                  <a:srgbClr val="5976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8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5976d3"/>
                </a:gs>
                <a:gs pos="100000">
                  <a:srgbClr val="90a4e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9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976d3"/>
                </a:gs>
                <a:gs pos="50000">
                  <a:srgbClr val="304072"/>
                </a:gs>
                <a:gs pos="100000">
                  <a:srgbClr val="5976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20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2b3967"/>
                </a:gs>
                <a:gs pos="100000">
                  <a:srgbClr val="5976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21"/>
            <p:cNvSpPr/>
            <p:nvPr/>
          </p:nvSpPr>
          <p:spPr>
            <a:xfrm>
              <a:off x="6524280" y="4203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293762"/>
                </a:gs>
                <a:gs pos="100000">
                  <a:srgbClr val="5976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22"/>
          <p:cNvGrpSpPr/>
          <p:nvPr/>
        </p:nvGrpSpPr>
        <p:grpSpPr>
          <a:xfrm>
            <a:off x="2687760" y="4038480"/>
            <a:ext cx="1512720" cy="1511280"/>
            <a:chOff x="2687760" y="4038480"/>
            <a:chExt cx="1512720" cy="1511280"/>
          </a:xfrm>
        </p:grpSpPr>
        <p:sp>
          <p:nvSpPr>
            <p:cNvPr id="391" name="Oval 23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1b517"/>
                </a:gs>
                <a:gs pos="50000">
                  <a:srgbClr val="ffffff"/>
                </a:gs>
                <a:gs pos="100000">
                  <a:srgbClr val="71b51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24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1b517"/>
                </a:gs>
                <a:gs pos="100000">
                  <a:srgbClr val="9ccb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25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1b517"/>
                </a:gs>
                <a:gs pos="50000">
                  <a:srgbClr val="3d620c"/>
                </a:gs>
                <a:gs pos="100000">
                  <a:srgbClr val="71b5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26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7580b"/>
                </a:gs>
                <a:gs pos="100000">
                  <a:srgbClr val="71b51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27"/>
            <p:cNvSpPr/>
            <p:nvPr/>
          </p:nvSpPr>
          <p:spPr>
            <a:xfrm>
              <a:off x="285264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4540b"/>
                </a:gs>
                <a:gs pos="100000">
                  <a:srgbClr val="71b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AutoShape 28"/>
          <p:cNvSpPr/>
          <p:nvPr/>
        </p:nvSpPr>
        <p:spPr>
          <a:xfrm>
            <a:off x="1905120" y="16765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26e94"/>
              </a:gs>
              <a:gs pos="50000">
                <a:srgbClr val="013344"/>
              </a:gs>
              <a:gs pos="100000">
                <a:srgbClr val="026e94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9"/>
          <p:cNvSpPr/>
          <p:nvPr/>
        </p:nvSpPr>
        <p:spPr>
          <a:xfrm>
            <a:off x="1375920" y="46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30"/>
          <p:cNvSpPr/>
          <p:nvPr/>
        </p:nvSpPr>
        <p:spPr>
          <a:xfrm>
            <a:off x="5033520" y="46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1"/>
          <p:cNvSpPr/>
          <p:nvPr/>
        </p:nvSpPr>
        <p:spPr>
          <a:xfrm>
            <a:off x="3204720" y="46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2"/>
          <p:cNvSpPr/>
          <p:nvPr/>
        </p:nvSpPr>
        <p:spPr>
          <a:xfrm>
            <a:off x="6938280" y="4648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0T03:06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2:27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011368032052</vt:lpwstr>
  </property>
</Properties>
</file>