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9A6-DEA9-437A-8CCC-4258B8F8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F18-B3DF-47FA-BA68-79F5E0D1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3FD-A016-42EB-BAB2-28DBE83B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6DD-C176-49FB-A92D-445098BA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38E-9183-4FD3-ADF2-7CA31731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B8F-B497-4431-A2A1-F8DE85B3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CADD-C7ED-4A16-BBBE-663CA5E1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C23-9E80-470C-B3CB-8D77C2B6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8C2-D6C7-484E-BB4C-FAA39B1F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6DE-5BF2-4FEC-9B00-42081A2F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87A-B092-421B-A383-BD4AFA79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045-C546-4667-AFC1-D90C6DC2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ED35-A349-463E-8D26-0AE0B1D8E5D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3EEE-7DB0-4418-9F60-F38AD91464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701640" y="5003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1b5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2079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9880" y="98424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蓝色商务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460245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6024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6024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413-CF3B-40A8-8FC0-F3E98F9DA3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矩形 7"/>
          <p:cNvSpPr/>
          <p:nvPr/>
        </p:nvSpPr>
        <p:spPr>
          <a:xfrm>
            <a:off x="4430880" y="6568920"/>
            <a:ext cx="282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c000"/>
                </a:solidFill>
                <a:latin typeface="微软雅黑"/>
                <a:ea typeface="微软雅黑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3024360" y="1339920"/>
            <a:ext cx="53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经典繁仿黑"/>
                <a:ea typeface="经典繁仿黑"/>
              </a:rPr>
              <a:t>感谢你的聆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735280" y="2276640"/>
            <a:ext cx="558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6524640" y="558972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23:11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2:26:42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