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C29-B236-4C3C-87DF-3A4D5FD2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3A6-6B59-4B70-AE92-47B86AA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487-02D4-43C0-81F1-6AB4FE88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57C-45C7-4AD6-B7D7-A09F86DA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D49-54D9-4DDD-AB59-D135FAE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4C0-B3E6-4955-BF7A-9494A3BB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507-B6C4-4F06-AC4D-5243FA1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4A2-051C-46A9-A651-AAD33AC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717-3661-49D8-AF0C-1A1DB74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8FA-684B-4F4F-9C62-D27E8CF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9D2-02F6-4DCB-9122-3A06678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8C0-1B92-4C9D-AC5B-D0DF0B5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36F-722B-4E74-9B51-35D8DE4A9C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D85-07FD-4E24-93A6-4967730558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减号 19"/>
          <p:cNvSpPr/>
          <p:nvPr/>
        </p:nvSpPr>
        <p:spPr>
          <a:xfrm>
            <a:off x="-960480" y="442800"/>
            <a:ext cx="15762240" cy="35424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减号 20"/>
          <p:cNvSpPr/>
          <p:nvPr/>
        </p:nvSpPr>
        <p:spPr>
          <a:xfrm rot="16200000">
            <a:off x="-3657960" y="3005640"/>
            <a:ext cx="9561240" cy="30780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减号 21"/>
          <p:cNvSpPr/>
          <p:nvPr/>
        </p:nvSpPr>
        <p:spPr>
          <a:xfrm rot="16200000">
            <a:off x="4968720" y="5537160"/>
            <a:ext cx="13652640" cy="2793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减号 22"/>
          <p:cNvSpPr/>
          <p:nvPr/>
        </p:nvSpPr>
        <p:spPr>
          <a:xfrm>
            <a:off x="-1928880" y="5970600"/>
            <a:ext cx="15762240" cy="35388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3" descr=""/>
          <p:cNvPicPr/>
          <p:nvPr/>
        </p:nvPicPr>
        <p:blipFill>
          <a:blip r:embed="rId1"/>
          <a:srcRect l="0" t="0" r="0" b="5828"/>
          <a:stretch/>
        </p:blipFill>
        <p:spPr>
          <a:xfrm>
            <a:off x="1216080" y="679320"/>
            <a:ext cx="8483400" cy="54324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24"/>
          <p:cNvSpPr/>
          <p:nvPr/>
        </p:nvSpPr>
        <p:spPr>
          <a:xfrm>
            <a:off x="10369440" y="139068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华文楷体"/>
                <a:ea typeface="华文楷体"/>
              </a:rPr>
              <a:t>你若放下一定强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5349960" y="6324480"/>
            <a:ext cx="61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华文楷体"/>
                <a:ea typeface="华文楷体"/>
              </a:rPr>
              <a:t>制作人：吉娃娃</a:t>
            </a:r>
            <a:r>
              <a:rPr b="0" lang="en-US" sz="20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5000" y="34416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励志唯美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200"/>
                            </p:stCondLst>
                            <p:childTnLst>
                              <p:par>
                                <p:cTn id="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2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减号 4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8" descr=""/>
          <p:cNvPicPr/>
          <p:nvPr/>
        </p:nvPicPr>
        <p:blipFill>
          <a:blip r:embed="rId1"/>
          <a:stretch/>
        </p:blipFill>
        <p:spPr>
          <a:xfrm>
            <a:off x="2147760" y="2187720"/>
            <a:ext cx="8278920" cy="4206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"/>
          <p:cNvSpPr/>
          <p:nvPr/>
        </p:nvSpPr>
        <p:spPr>
          <a:xfrm>
            <a:off x="1371600" y="61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怀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"/>
          <p:cNvSpPr/>
          <p:nvPr/>
        </p:nvSpPr>
        <p:spPr>
          <a:xfrm>
            <a:off x="3394080" y="146052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心存疑虑，做事难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1892160" y="2154240"/>
            <a:ext cx="7767720" cy="4262400"/>
          </a:xfrm>
          <a:prstGeom prst="rect">
            <a:avLst/>
          </a:prstGeom>
          <a:ln w="0">
            <a:noFill/>
          </a:ln>
        </p:spPr>
      </p:pic>
      <p:sp>
        <p:nvSpPr>
          <p:cNvPr id="51" name="减号 4"/>
          <p:cNvSpPr/>
          <p:nvPr/>
        </p:nvSpPr>
        <p:spPr>
          <a:xfrm>
            <a:off x="5594400" y="1806480"/>
            <a:ext cx="71834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816120" y="3556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面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"/>
          <p:cNvSpPr/>
          <p:nvPr/>
        </p:nvSpPr>
        <p:spPr>
          <a:xfrm>
            <a:off x="2749680" y="14000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有时候我们低头，是为了看准自己走的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减号 4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6" descr=""/>
          <p:cNvPicPr/>
          <p:nvPr/>
        </p:nvPicPr>
        <p:blipFill>
          <a:blip r:embed="rId1"/>
          <a:srcRect l="0" t="0" r="0" b="5798"/>
          <a:stretch/>
        </p:blipFill>
        <p:spPr>
          <a:xfrm>
            <a:off x="2049480" y="2187720"/>
            <a:ext cx="8023320" cy="420192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7"/>
          <p:cNvSpPr/>
          <p:nvPr/>
        </p:nvSpPr>
        <p:spPr>
          <a:xfrm>
            <a:off x="1238400" y="434880"/>
            <a:ext cx="28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3387600" y="14241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累与不累，全取决于自己的心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"/>
          <p:cNvPicPr/>
          <p:nvPr/>
        </p:nvPicPr>
        <p:blipFill>
          <a:blip r:embed="rId1"/>
          <a:stretch/>
        </p:blipFill>
        <p:spPr>
          <a:xfrm>
            <a:off x="2257560" y="2124000"/>
            <a:ext cx="7653240" cy="4303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6"/>
          <p:cNvSpPr/>
          <p:nvPr/>
        </p:nvSpPr>
        <p:spPr>
          <a:xfrm>
            <a:off x="1268280" y="49536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"/>
          <p:cNvSpPr/>
          <p:nvPr/>
        </p:nvSpPr>
        <p:spPr>
          <a:xfrm>
            <a:off x="3378240" y="143208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努力改变你的心态，调节你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" descr=""/>
          <p:cNvPicPr/>
          <p:nvPr/>
        </p:nvPicPr>
        <p:blipFill>
          <a:blip r:embed="rId1"/>
          <a:stretch/>
        </p:blipFill>
        <p:spPr>
          <a:xfrm>
            <a:off x="1946160" y="2187720"/>
            <a:ext cx="8555040" cy="42019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6"/>
          <p:cNvSpPr/>
          <p:nvPr/>
        </p:nvSpPr>
        <p:spPr>
          <a:xfrm>
            <a:off x="1193760" y="38412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自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3505320" y="137808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自卑从你的字典里删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911-6520-4027-AEF3-1F74F28BC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1549440" y="615960"/>
            <a:ext cx="35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懒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9" descr=""/>
          <p:cNvPicPr/>
          <p:nvPr/>
        </p:nvPicPr>
        <p:blipFill>
          <a:blip r:embed="rId1"/>
          <a:stretch/>
        </p:blipFill>
        <p:spPr>
          <a:xfrm>
            <a:off x="2190600" y="2174760"/>
            <a:ext cx="8266320" cy="422604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0"/>
          <p:cNvSpPr/>
          <p:nvPr/>
        </p:nvSpPr>
        <p:spPr>
          <a:xfrm>
            <a:off x="3462480" y="145404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若干年后的你，一定会感谢现在拼命的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" descr=""/>
          <p:cNvPicPr/>
          <p:nvPr/>
        </p:nvPicPr>
        <p:blipFill>
          <a:blip r:embed="rId1"/>
          <a:stretch/>
        </p:blipFill>
        <p:spPr>
          <a:xfrm>
            <a:off x="2182680" y="2212920"/>
            <a:ext cx="8199720" cy="418788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6"/>
          <p:cNvSpPr/>
          <p:nvPr/>
        </p:nvSpPr>
        <p:spPr>
          <a:xfrm>
            <a:off x="1389240" y="566640"/>
            <a:ext cx="40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3538440" y="1274760"/>
            <a:ext cx="87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不要总是以为生活辜负了你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其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                              </a:t>
            </a: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你跟别人拥有的一样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5" descr=""/>
          <p:cNvPicPr/>
          <p:nvPr/>
        </p:nvPicPr>
        <p:blipFill>
          <a:blip r:embed="rId1"/>
          <a:stretch/>
        </p:blipFill>
        <p:spPr>
          <a:xfrm>
            <a:off x="1917720" y="2181240"/>
            <a:ext cx="8283600" cy="42148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"/>
          <p:cNvSpPr/>
          <p:nvPr/>
        </p:nvSpPr>
        <p:spPr>
          <a:xfrm>
            <a:off x="1386000" y="685800"/>
            <a:ext cx="29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狭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3662280" y="151272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心宽，天地就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8:3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2:49:2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