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9B0B-22DB-4520-A73E-1589EF50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BD6F-2ADB-4F94-9122-33D26078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B3CA-DE99-4BA2-BAA4-8B16DE0C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426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99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426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99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373D-F9F9-4555-9483-504C1F0C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63D5E-FE30-4F0F-8007-F00053B03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B8337-439F-4A54-9D75-0F344E1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30D1-8574-41BD-939A-BDED41A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B5AA-A095-47C5-A18B-B29ABDA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BF77-4919-41CD-94F5-BBF9AC9D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AB1E-9AED-4468-B3EA-BFA9E4E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1A10-B365-4B86-BA33-73BC449F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AD38-769E-4947-87CE-AB47877F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6E5C-F8D1-4F5E-9D4A-E0F039E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569BF-6262-40C0-816C-12306E1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EFE93-1333-4963-96E3-590B9122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4837A-72B7-4FE1-AB46-DC63C57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426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99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426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99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F0FEC-A442-4566-9EC9-8AE679A27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181F-C592-4B55-B08F-E702507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67AB-1B44-4FD7-8A7C-BB87D6E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5225-6B0A-47E0-9A03-906CD621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C80E-7BC4-4EB8-82A4-4007DC5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2250-DB27-4A22-9FF1-83DE213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92A5-07C8-4ED5-9F35-3B8EF30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D519-E64B-4986-88AA-33C26DF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A88-2587-48C6-81E6-E48F5259E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5c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244f94"/>
              </a:gs>
              <a:gs pos="100000">
                <a:srgbClr val="1024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EB3-1167-4147-991B-43AF58BB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f9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f9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3200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1800" y="2209680"/>
            <a:ext cx="27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免费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图表素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flipH="1" flipV="1" rot="5400000">
            <a:off x="3271320" y="314856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 rot="16490400">
            <a:off x="3271680" y="3171240"/>
            <a:ext cx="2279880" cy="22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964320" y="4038480"/>
            <a:ext cx="1624320" cy="1481040"/>
            <a:chOff x="3964320" y="4038480"/>
            <a:chExt cx="1624320" cy="1481040"/>
          </a:xfrm>
        </p:grpSpPr>
        <p:grpSp>
          <p:nvGrpSpPr>
            <p:cNvPr id="353" name=""/>
            <p:cNvGrpSpPr/>
            <p:nvPr/>
          </p:nvGrpSpPr>
          <p:grpSpPr>
            <a:xfrm>
              <a:off x="4338720" y="4038480"/>
              <a:ext cx="1249920" cy="1466280"/>
              <a:chOff x="4338720" y="4038480"/>
              <a:chExt cx="1249920" cy="1466280"/>
            </a:xfrm>
          </p:grpSpPr>
          <p:sp>
            <p:nvSpPr>
              <p:cNvPr id="354" name="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2344200">
                <a:off x="4940280" y="422208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 rot="2640000">
                <a:off x="4861800" y="430920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3172200">
                <a:off x="4764600" y="4410000"/>
                <a:ext cx="29772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964320" y="4442040"/>
              <a:ext cx="1569960" cy="1077480"/>
              <a:chOff x="3964320" y="4442040"/>
              <a:chExt cx="1569960" cy="1077480"/>
            </a:xfrm>
          </p:grpSpPr>
          <p:sp>
            <p:nvSpPr>
              <p:cNvPr id="359" name=""/>
              <p:cNvSpPr/>
              <p:nvPr/>
            </p:nvSpPr>
            <p:spPr>
              <a:xfrm flipH="1" flipV="1" rot="2881800">
                <a:off x="4831920" y="43513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 rot="3697200">
                <a:off x="4675680" y="44812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 rot="3993000">
                <a:off x="457020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 rot="4525200">
                <a:off x="4441680" y="4586040"/>
                <a:ext cx="2988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DD58-593F-4AE5-AAE7-14F81856EC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未知"/>
          <p:cNvSpPr/>
          <p:nvPr/>
        </p:nvSpPr>
        <p:spPr>
          <a:xfrm>
            <a:off x="5208480" y="2743200"/>
            <a:ext cx="2136960" cy="2971800"/>
          </a:xfrm>
          <a:custGeom>
            <a:avLst/>
            <a:gdLst/>
            <a:ahLst/>
            <a:rect l="l" t="t" r="r" b="b"/>
            <a:pathLst>
              <a:path w="1302" h="1872">
                <a:moveTo>
                  <a:pt x="8" y="537"/>
                </a:moveTo>
                <a:lnTo>
                  <a:pt x="0" y="1872"/>
                </a:lnTo>
                <a:lnTo>
                  <a:pt x="1302" y="1872"/>
                </a:lnTo>
                <a:lnTo>
                  <a:pt x="1302" y="0"/>
                </a:lnTo>
                <a:lnTo>
                  <a:pt x="8" y="537"/>
                </a:lnTo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3133800" y="3124080"/>
            <a:ext cx="2084400" cy="2590920"/>
          </a:xfrm>
          <a:custGeom>
            <a:avLst/>
            <a:gdLst/>
            <a:ahLst/>
            <a:rect l="l" t="t" r="r" b="b"/>
            <a:pathLst>
              <a:path w="1313" h="1632">
                <a:moveTo>
                  <a:pt x="0" y="433"/>
                </a:moveTo>
                <a:lnTo>
                  <a:pt x="0" y="1632"/>
                </a:lnTo>
                <a:lnTo>
                  <a:pt x="1313" y="1632"/>
                </a:lnTo>
                <a:lnTo>
                  <a:pt x="1313" y="0"/>
                </a:lnTo>
                <a:lnTo>
                  <a:pt x="0" y="433"/>
                </a:lnTo>
                <a:close/>
              </a:path>
            </a:pathLst>
          </a:cu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>
            <a:off x="923760" y="3352680"/>
            <a:ext cx="2219400" cy="259092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576"/>
                </a:moveTo>
                <a:lnTo>
                  <a:pt x="0" y="1632"/>
                </a:lnTo>
                <a:lnTo>
                  <a:pt x="1440" y="1632"/>
                </a:lnTo>
                <a:lnTo>
                  <a:pt x="1440" y="0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108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46880" y="3160800"/>
            <a:ext cx="0" cy="280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22880" y="5638680"/>
            <a:ext cx="21430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5638680"/>
            <a:ext cx="211140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5638680"/>
            <a:ext cx="22096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f4d62"/>
              </a:gs>
              <a:gs pos="50000">
                <a:srgbClr val="44a9d6"/>
              </a:gs>
              <a:gs pos="100000">
                <a:srgbClr val="1f4d6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767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5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9fd196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fd196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129" name="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accaf1"/>
              </a:gs>
            </a:gsLst>
            <a:lin ang="1080000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177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05520" y="30481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181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" y="60958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193" name="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198" name="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211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96720" y="2433600"/>
              <a:ext cx="2183040" cy="3601440"/>
              <a:chOff x="396720" y="2433600"/>
              <a:chExt cx="2183040" cy="36014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868680" y="3347640"/>
                <a:ext cx="1711080" cy="2687400"/>
                <a:chOff x="868680" y="3347640"/>
                <a:chExt cx="1711080" cy="268740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868680" y="3527280"/>
                  <a:ext cx="1582560" cy="2507760"/>
                  <a:chOff x="868680" y="3527280"/>
                  <a:chExt cx="1582560" cy="2507760"/>
                </a:xfrm>
              </p:grpSpPr>
              <p:sp>
                <p:nvSpPr>
                  <p:cNvPr id="216" name="未知"/>
                  <p:cNvSpPr/>
                  <p:nvPr/>
                </p:nvSpPr>
                <p:spPr>
                  <a:xfrm rot="3876600">
                    <a:off x="405000" y="450072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未知"/>
                  <p:cNvSpPr/>
                  <p:nvPr/>
                </p:nvSpPr>
                <p:spPr>
                  <a:xfrm rot="3876600">
                    <a:off x="1913760" y="547164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1365480" y="3347640"/>
                  <a:ext cx="1214280" cy="1924200"/>
                  <a:chOff x="1365480" y="3347640"/>
                  <a:chExt cx="1214280" cy="1924200"/>
                </a:xfrm>
              </p:grpSpPr>
              <p:sp>
                <p:nvSpPr>
                  <p:cNvPr id="219" name="未知"/>
                  <p:cNvSpPr/>
                  <p:nvPr/>
                </p:nvSpPr>
                <p:spPr>
                  <a:xfrm flipV="1" rot="3876600">
                    <a:off x="1009440" y="409428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未知"/>
                  <p:cNvSpPr/>
                  <p:nvPr/>
                </p:nvSpPr>
                <p:spPr>
                  <a:xfrm flipV="1" rot="3876600">
                    <a:off x="2149200" y="484812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396720" y="2433600"/>
                <a:ext cx="1446840" cy="1443240"/>
                <a:chOff x="396720" y="2433600"/>
                <a:chExt cx="1446840" cy="1443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96720" y="243360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6720" y="243360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92480" y="252720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2480" y="253044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54760" y="259128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72040" y="2608560"/>
                  <a:ext cx="1096200" cy="1094760"/>
                  <a:chOff x="572040" y="2608560"/>
                  <a:chExt cx="1096200" cy="10947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572040" y="260856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86080" y="261468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97240" y="262512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57000" y="265284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"/>
              <p:cNvSpPr/>
              <p:nvPr/>
            </p:nvSpPr>
            <p:spPr>
              <a:xfrm rot="3925800">
                <a:off x="902520" y="4382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3925800">
                <a:off x="1400040" y="4084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379600" y="2433600"/>
              <a:ext cx="2183040" cy="3601440"/>
              <a:chOff x="2379600" y="2433600"/>
              <a:chExt cx="2183040" cy="3601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851560" y="3347640"/>
                <a:ext cx="1711080" cy="2687400"/>
                <a:chOff x="2851560" y="3347640"/>
                <a:chExt cx="1711080" cy="268740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2851560" y="3527280"/>
                  <a:ext cx="1582560" cy="2507760"/>
                  <a:chOff x="2851560" y="3527280"/>
                  <a:chExt cx="1582560" cy="2507760"/>
                </a:xfrm>
              </p:grpSpPr>
              <p:sp>
                <p:nvSpPr>
                  <p:cNvPr id="237" name="未知"/>
                  <p:cNvSpPr/>
                  <p:nvPr/>
                </p:nvSpPr>
                <p:spPr>
                  <a:xfrm rot="3876600">
                    <a:off x="2387880" y="450072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未知"/>
                  <p:cNvSpPr/>
                  <p:nvPr/>
                </p:nvSpPr>
                <p:spPr>
                  <a:xfrm rot="3876600">
                    <a:off x="3896640" y="547164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348360" y="3347640"/>
                  <a:ext cx="1214280" cy="1924200"/>
                  <a:chOff x="3348360" y="3347640"/>
                  <a:chExt cx="1214280" cy="1924200"/>
                </a:xfrm>
              </p:grpSpPr>
              <p:sp>
                <p:nvSpPr>
                  <p:cNvPr id="240" name="未知"/>
                  <p:cNvSpPr/>
                  <p:nvPr/>
                </p:nvSpPr>
                <p:spPr>
                  <a:xfrm flipV="1" rot="3876600">
                    <a:off x="2992320" y="409428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未知"/>
                  <p:cNvSpPr/>
                  <p:nvPr/>
                </p:nvSpPr>
                <p:spPr>
                  <a:xfrm flipV="1" rot="3876600">
                    <a:off x="4132080" y="484812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2379600" y="2433600"/>
                <a:ext cx="1446840" cy="1443240"/>
                <a:chOff x="2379600" y="2433600"/>
                <a:chExt cx="1446840" cy="1443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379600" y="243360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79600" y="243360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475360" y="252720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75360" y="253044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37640" y="259128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2554920" y="2608560"/>
                  <a:ext cx="1096200" cy="1094760"/>
                  <a:chOff x="2554920" y="2608560"/>
                  <a:chExt cx="1096200" cy="1094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2554920" y="260856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68960" y="261468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80120" y="262512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639880" y="265284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rot="3925800">
                <a:off x="2879640" y="4382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3925800">
                <a:off x="3376800" y="4084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427640" y="2433600"/>
              <a:ext cx="2182680" cy="3601440"/>
              <a:chOff x="4427640" y="2433600"/>
              <a:chExt cx="2182680" cy="360144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4899240" y="3347640"/>
                <a:ext cx="1711080" cy="2687400"/>
                <a:chOff x="4899240" y="3347640"/>
                <a:chExt cx="1711080" cy="2687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4899240" y="3527280"/>
                  <a:ext cx="1582560" cy="2507760"/>
                  <a:chOff x="4899240" y="3527280"/>
                  <a:chExt cx="1582560" cy="2507760"/>
                </a:xfrm>
              </p:grpSpPr>
              <p:sp>
                <p:nvSpPr>
                  <p:cNvPr id="258" name="未知"/>
                  <p:cNvSpPr/>
                  <p:nvPr/>
                </p:nvSpPr>
                <p:spPr>
                  <a:xfrm rot="3876600">
                    <a:off x="4435560" y="450072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未知"/>
                  <p:cNvSpPr/>
                  <p:nvPr/>
                </p:nvSpPr>
                <p:spPr>
                  <a:xfrm rot="3876600">
                    <a:off x="5944320" y="547164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396040" y="3347640"/>
                  <a:ext cx="1214280" cy="1924200"/>
                  <a:chOff x="5396040" y="3347640"/>
                  <a:chExt cx="1214280" cy="1924200"/>
                </a:xfrm>
              </p:grpSpPr>
              <p:sp>
                <p:nvSpPr>
                  <p:cNvPr id="261" name="未知"/>
                  <p:cNvSpPr/>
                  <p:nvPr/>
                </p:nvSpPr>
                <p:spPr>
                  <a:xfrm flipV="1" rot="3876600">
                    <a:off x="5040000" y="409428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未知"/>
                  <p:cNvSpPr/>
                  <p:nvPr/>
                </p:nvSpPr>
                <p:spPr>
                  <a:xfrm flipV="1" rot="3876600">
                    <a:off x="6179760" y="484812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427640" y="2433600"/>
                <a:ext cx="1446480" cy="1443240"/>
                <a:chOff x="4427640" y="2433600"/>
                <a:chExt cx="1446480" cy="1443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427640" y="243360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27640" y="243360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523400" y="252720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523400" y="253044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585680" y="2591280"/>
                  <a:ext cx="113040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4602960" y="2608560"/>
                  <a:ext cx="1095840" cy="1094760"/>
                  <a:chOff x="4602960" y="2608560"/>
                  <a:chExt cx="1095840" cy="10947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4602960" y="2608560"/>
                    <a:ext cx="109584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617000" y="2614680"/>
                    <a:ext cx="106956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628160" y="2625120"/>
                    <a:ext cx="101700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687920" y="2652840"/>
                    <a:ext cx="90396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 rot="3925800">
                <a:off x="4936680" y="4382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3925800">
                <a:off x="5434200" y="4084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442200" y="2274840"/>
              <a:ext cx="2400840" cy="3832560"/>
              <a:chOff x="6442200" y="2274840"/>
              <a:chExt cx="2400840" cy="38325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7133400" y="3420720"/>
                <a:ext cx="1709640" cy="2686680"/>
                <a:chOff x="7133400" y="3420720"/>
                <a:chExt cx="1709640" cy="26866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7133400" y="3600360"/>
                  <a:ext cx="1581840" cy="2507040"/>
                  <a:chOff x="7133400" y="3600360"/>
                  <a:chExt cx="1581840" cy="2507040"/>
                </a:xfrm>
              </p:grpSpPr>
              <p:sp>
                <p:nvSpPr>
                  <p:cNvPr id="279" name="未知"/>
                  <p:cNvSpPr/>
                  <p:nvPr/>
                </p:nvSpPr>
                <p:spPr>
                  <a:xfrm rot="3876600">
                    <a:off x="6669360" y="4573800"/>
                    <a:ext cx="250956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未知"/>
                  <p:cNvSpPr/>
                  <p:nvPr/>
                </p:nvSpPr>
                <p:spPr>
                  <a:xfrm rot="3876600">
                    <a:off x="8177760" y="554472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629120" y="3420720"/>
                  <a:ext cx="1213920" cy="1923840"/>
                  <a:chOff x="7629120" y="3420720"/>
                  <a:chExt cx="1213920" cy="1923840"/>
                </a:xfrm>
              </p:grpSpPr>
              <p:sp>
                <p:nvSpPr>
                  <p:cNvPr id="282" name="未知"/>
                  <p:cNvSpPr/>
                  <p:nvPr/>
                </p:nvSpPr>
                <p:spPr>
                  <a:xfrm flipV="1" rot="3876600">
                    <a:off x="7273080" y="4167720"/>
                    <a:ext cx="192564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未知"/>
                  <p:cNvSpPr/>
                  <p:nvPr/>
                </p:nvSpPr>
                <p:spPr>
                  <a:xfrm flipV="1" rot="3876600">
                    <a:off x="8413200" y="492084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"/>
              <p:cNvSpPr/>
              <p:nvPr/>
            </p:nvSpPr>
            <p:spPr>
              <a:xfrm>
                <a:off x="6442200" y="2274840"/>
                <a:ext cx="1737720" cy="1731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42200" y="2274840"/>
                <a:ext cx="1737720" cy="1731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58480" y="238752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59920" y="239076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633360" y="2464200"/>
                <a:ext cx="1358280" cy="135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6653880" y="2484720"/>
                <a:ext cx="1316880" cy="1312920"/>
                <a:chOff x="6653880" y="2484720"/>
                <a:chExt cx="1316880" cy="131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653880" y="2484720"/>
                  <a:ext cx="1316880" cy="131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70800" y="2491920"/>
                  <a:ext cx="1285200" cy="12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84120" y="2504520"/>
                  <a:ext cx="1222200" cy="119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55760" y="2538000"/>
                  <a:ext cx="1086480" cy="97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3925800">
                <a:off x="7151040" y="4541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3925800">
                <a:off x="7649280" y="42433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96" idx="3"/>
              <a:endCxn id="297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7" idx="3"/>
              <a:endCxn id="298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8" idx="3"/>
              <a:endCxn id="299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305" name="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306" name=""/>
              <p:cNvSpPr/>
              <p:nvPr/>
            </p:nvSpPr>
            <p:spPr>
              <a:xfrm>
                <a:off x="4341600" y="3156480"/>
                <a:ext cx="2363760" cy="248184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6124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088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40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1712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6976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481400" y="1788120"/>
            <a:ext cx="5938200" cy="4001040"/>
            <a:chOff x="1481400" y="1788120"/>
            <a:chExt cx="5938200" cy="4001040"/>
          </a:xfrm>
        </p:grpSpPr>
        <p:sp>
          <p:nvSpPr>
            <p:cNvPr id="318" name="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601600">
              <a:off x="1725480" y="2529360"/>
              <a:ext cx="4951800" cy="239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20602200">
              <a:off x="1713960" y="2513880"/>
              <a:ext cx="4995720" cy="236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601600">
              <a:off x="1726920" y="2529360"/>
              <a:ext cx="4931640" cy="232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20602200">
              <a:off x="1711080" y="2504880"/>
              <a:ext cx="4950000" cy="231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539200">
              <a:off x="1742400" y="2555640"/>
              <a:ext cx="5434920" cy="243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601600">
              <a:off x="3160080" y="3312720"/>
              <a:ext cx="2245680" cy="893160"/>
            </a:xfrm>
            <a:prstGeom prst="ellipse">
              <a:avLst/>
            </a:prstGeom>
            <a:gradFill rotWithShape="0">
              <a:gsLst>
                <a:gs pos="0">
                  <a:srgbClr val="244f94"/>
                </a:gs>
                <a:gs pos="100000">
                  <a:srgbClr val="10244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9" name="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1" name="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5" name="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7" name="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7:15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0e08000000000001024140</vt:lpwstr>
  </property>
</Properties>
</file>