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ED2-059F-4D1C-AF24-D3F40EB1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9800" y="421020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947-4D48-43C3-8F5D-E44A719E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9556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728-3DF7-4BC7-9707-AA3A7A3E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748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05520" y="180648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980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0748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05520" y="4210200"/>
            <a:ext cx="23785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36F-D6AE-443C-9935-E8EC32FF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D82-4E30-438D-9D6D-13DB96DC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E7C-A8B4-43D5-A45C-25D99E5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E92-B200-4887-AE45-776A1D3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AD2-EABE-44F7-8556-66B70E8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9800" y="314280"/>
            <a:ext cx="712440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0A1-1D38-48F6-9636-1E01BC4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DBC-319C-4493-8F86-7EBA5B8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95560" y="421020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8F1-1975-4A03-84C1-E65EB31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5560" y="1806480"/>
            <a:ext cx="3605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9800" y="4210200"/>
            <a:ext cx="7387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2FB-39F9-4106-B6B7-4773BC3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55"/>
          <p:cNvSpPr/>
          <p:nvPr/>
        </p:nvSpPr>
        <p:spPr>
          <a:xfrm>
            <a:off x="-68400" y="4041720"/>
            <a:ext cx="1743120" cy="1909800"/>
          </a:xfrm>
          <a:prstGeom prst="wedgeRectCallout">
            <a:avLst>
              <a:gd name="adj1" fmla="val -13921"/>
              <a:gd name="adj2" fmla="val 63694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ular Callout 52"/>
          <p:cNvSpPr/>
          <p:nvPr/>
        </p:nvSpPr>
        <p:spPr>
          <a:xfrm>
            <a:off x="520560" y="109548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ular Callout 51"/>
          <p:cNvSpPr/>
          <p:nvPr/>
        </p:nvSpPr>
        <p:spPr>
          <a:xfrm>
            <a:off x="1879560" y="282600"/>
            <a:ext cx="190836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val 53"/>
          <p:cNvSpPr/>
          <p:nvPr/>
        </p:nvSpPr>
        <p:spPr>
          <a:xfrm>
            <a:off x="520560" y="5729400"/>
            <a:ext cx="1909800" cy="11937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val 129"/>
          <p:cNvSpPr/>
          <p:nvPr/>
        </p:nvSpPr>
        <p:spPr>
          <a:xfrm>
            <a:off x="-44280" y="-58680"/>
            <a:ext cx="1447560" cy="1674720"/>
          </a:xfrm>
          <a:prstGeom prst="wedgeRectCallout">
            <a:avLst>
              <a:gd name="adj1" fmla="val -10481"/>
              <a:gd name="adj2" fmla="val 62958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ular Callout 130"/>
          <p:cNvSpPr/>
          <p:nvPr/>
        </p:nvSpPr>
        <p:spPr>
          <a:xfrm>
            <a:off x="923760" y="-160200"/>
            <a:ext cx="1909800" cy="1908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2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ular Callout 131"/>
          <p:cNvSpPr/>
          <p:nvPr/>
        </p:nvSpPr>
        <p:spPr>
          <a:xfrm>
            <a:off x="0" y="66024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132"/>
          <p:cNvSpPr/>
          <p:nvPr/>
        </p:nvSpPr>
        <p:spPr>
          <a:xfrm>
            <a:off x="7497720" y="-58680"/>
            <a:ext cx="1693800" cy="1674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133"/>
          <p:cNvSpPr/>
          <p:nvPr/>
        </p:nvSpPr>
        <p:spPr>
          <a:xfrm>
            <a:off x="6118200" y="-58680"/>
            <a:ext cx="1908360" cy="1703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34"/>
          <p:cNvSpPr/>
          <p:nvPr/>
        </p:nvSpPr>
        <p:spPr>
          <a:xfrm>
            <a:off x="7494480" y="1095480"/>
            <a:ext cx="1697040" cy="1909800"/>
          </a:xfrm>
          <a:prstGeom prst="wedgeRectCallout">
            <a:avLst>
              <a:gd name="adj1" fmla="val -12222"/>
              <a:gd name="adj2" fmla="val 63328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35"/>
          <p:cNvSpPr/>
          <p:nvPr/>
        </p:nvSpPr>
        <p:spPr>
          <a:xfrm>
            <a:off x="8056440" y="5140440"/>
            <a:ext cx="1138320" cy="1758960"/>
          </a:xfrm>
          <a:prstGeom prst="wedgeRectCallout">
            <a:avLst>
              <a:gd name="adj1" fmla="val 4759"/>
              <a:gd name="adj2" fmla="val 59694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ular Callout 136"/>
          <p:cNvSpPr/>
          <p:nvPr/>
        </p:nvSpPr>
        <p:spPr>
          <a:xfrm>
            <a:off x="6661080" y="436248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137"/>
          <p:cNvSpPr/>
          <p:nvPr/>
        </p:nvSpPr>
        <p:spPr>
          <a:xfrm>
            <a:off x="-68400" y="4948200"/>
            <a:ext cx="1352520" cy="1909800"/>
          </a:xfrm>
          <a:prstGeom prst="wedgeRectCallout">
            <a:avLst>
              <a:gd name="adj1" fmla="val 370"/>
              <a:gd name="adj2" fmla="val 60634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Rectangular Callout 138"/>
          <p:cNvSpPr/>
          <p:nvPr/>
        </p:nvSpPr>
        <p:spPr>
          <a:xfrm>
            <a:off x="708120" y="4791240"/>
            <a:ext cx="1909800" cy="1908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Rectangular Callout 139"/>
          <p:cNvSpPr/>
          <p:nvPr/>
        </p:nvSpPr>
        <p:spPr>
          <a:xfrm>
            <a:off x="6118200" y="784080"/>
            <a:ext cx="190836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Rectangular Callout 140"/>
          <p:cNvSpPr/>
          <p:nvPr/>
        </p:nvSpPr>
        <p:spPr>
          <a:xfrm>
            <a:off x="6459480" y="5140440"/>
            <a:ext cx="1909800" cy="190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117"/>
          <p:cNvSpPr/>
          <p:nvPr/>
        </p:nvSpPr>
        <p:spPr>
          <a:xfrm>
            <a:off x="8397720" y="598320"/>
            <a:ext cx="793800" cy="1252800"/>
          </a:xfrm>
          <a:prstGeom prst="wedgeRectCallout">
            <a:avLst>
              <a:gd name="adj1" fmla="val 5652"/>
              <a:gd name="adj2" fmla="val 59500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Rectangular Callout 118"/>
          <p:cNvSpPr/>
          <p:nvPr/>
        </p:nvSpPr>
        <p:spPr>
          <a:xfrm>
            <a:off x="6350040" y="206280"/>
            <a:ext cx="1041480" cy="10414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Rectangular Callout 119"/>
          <p:cNvSpPr/>
          <p:nvPr/>
        </p:nvSpPr>
        <p:spPr>
          <a:xfrm>
            <a:off x="6872400" y="1450800"/>
            <a:ext cx="1217520" cy="12178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Rectangular Callout 120"/>
          <p:cNvSpPr/>
          <p:nvPr/>
        </p:nvSpPr>
        <p:spPr>
          <a:xfrm>
            <a:off x="7219800" y="2049480"/>
            <a:ext cx="1041480" cy="10414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Rectangular Callout 121"/>
          <p:cNvSpPr/>
          <p:nvPr/>
        </p:nvSpPr>
        <p:spPr>
          <a:xfrm>
            <a:off x="7750080" y="2662200"/>
            <a:ext cx="720720" cy="720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123"/>
          <p:cNvSpPr/>
          <p:nvPr/>
        </p:nvSpPr>
        <p:spPr>
          <a:xfrm>
            <a:off x="1501920" y="-98280"/>
            <a:ext cx="1030320" cy="4572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Rectangular Callout 125"/>
          <p:cNvSpPr/>
          <p:nvPr/>
        </p:nvSpPr>
        <p:spPr>
          <a:xfrm>
            <a:off x="277920" y="4321080"/>
            <a:ext cx="1396800" cy="1397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126"/>
          <p:cNvSpPr/>
          <p:nvPr/>
        </p:nvSpPr>
        <p:spPr>
          <a:xfrm>
            <a:off x="5791320" y="6489720"/>
            <a:ext cx="1116000" cy="444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127"/>
          <p:cNvSpPr/>
          <p:nvPr/>
        </p:nvSpPr>
        <p:spPr>
          <a:xfrm>
            <a:off x="6127920" y="6408720"/>
            <a:ext cx="1236600" cy="525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128"/>
          <p:cNvSpPr/>
          <p:nvPr/>
        </p:nvSpPr>
        <p:spPr>
          <a:xfrm>
            <a:off x="7577280" y="6408720"/>
            <a:ext cx="1211040" cy="525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Rectangular Callout 96"/>
          <p:cNvSpPr/>
          <p:nvPr/>
        </p:nvSpPr>
        <p:spPr>
          <a:xfrm>
            <a:off x="11160" y="4941720"/>
            <a:ext cx="611280" cy="6112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97"/>
          <p:cNvSpPr/>
          <p:nvPr/>
        </p:nvSpPr>
        <p:spPr>
          <a:xfrm>
            <a:off x="-68400" y="6172200"/>
            <a:ext cx="776520" cy="7509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98"/>
          <p:cNvSpPr/>
          <p:nvPr/>
        </p:nvSpPr>
        <p:spPr>
          <a:xfrm>
            <a:off x="-68400" y="5159520"/>
            <a:ext cx="561960" cy="896760"/>
          </a:xfrm>
          <a:prstGeom prst="wedgeRectCallout">
            <a:avLst>
              <a:gd name="adj1" fmla="val 6060"/>
              <a:gd name="adj2" fmla="val 59412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Rectangular Callout 100"/>
          <p:cNvSpPr/>
          <p:nvPr/>
        </p:nvSpPr>
        <p:spPr>
          <a:xfrm>
            <a:off x="474840" y="836640"/>
            <a:ext cx="909360" cy="9111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Rectangular Callout 101"/>
          <p:cNvSpPr/>
          <p:nvPr/>
        </p:nvSpPr>
        <p:spPr>
          <a:xfrm>
            <a:off x="318960" y="1452600"/>
            <a:ext cx="773280" cy="772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104"/>
          <p:cNvSpPr/>
          <p:nvPr/>
        </p:nvSpPr>
        <p:spPr>
          <a:xfrm>
            <a:off x="7302600" y="-58680"/>
            <a:ext cx="911160" cy="7477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105"/>
          <p:cNvSpPr/>
          <p:nvPr/>
        </p:nvSpPr>
        <p:spPr>
          <a:xfrm>
            <a:off x="8718480" y="-58680"/>
            <a:ext cx="473040" cy="611280"/>
          </a:xfrm>
          <a:prstGeom prst="wedgeRectCallout">
            <a:avLst>
              <a:gd name="adj1" fmla="val -4111"/>
              <a:gd name="adj2" fmla="val 61592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Rectangular Callout 106"/>
          <p:cNvSpPr/>
          <p:nvPr/>
        </p:nvSpPr>
        <p:spPr>
          <a:xfrm>
            <a:off x="7748640" y="282600"/>
            <a:ext cx="1128600" cy="11286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107"/>
          <p:cNvSpPr/>
          <p:nvPr/>
        </p:nvSpPr>
        <p:spPr>
          <a:xfrm>
            <a:off x="8915400" y="749160"/>
            <a:ext cx="276120" cy="908280"/>
          </a:xfrm>
          <a:prstGeom prst="wedgeRectCallout">
            <a:avLst>
              <a:gd name="adj1" fmla="val 28611"/>
              <a:gd name="adj2" fmla="val 54578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Rectangular Callout 108"/>
          <p:cNvSpPr/>
          <p:nvPr/>
        </p:nvSpPr>
        <p:spPr>
          <a:xfrm>
            <a:off x="7591320" y="728640"/>
            <a:ext cx="968400" cy="9698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Rectangular Callout 109"/>
          <p:cNvSpPr/>
          <p:nvPr/>
        </p:nvSpPr>
        <p:spPr>
          <a:xfrm>
            <a:off x="7470720" y="1327320"/>
            <a:ext cx="608040" cy="6076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Rectangular Callout 110"/>
          <p:cNvSpPr/>
          <p:nvPr/>
        </p:nvSpPr>
        <p:spPr>
          <a:xfrm>
            <a:off x="7629480" y="5611680"/>
            <a:ext cx="739800" cy="7383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Rectangular Callout 111"/>
          <p:cNvSpPr/>
          <p:nvPr/>
        </p:nvSpPr>
        <p:spPr>
          <a:xfrm>
            <a:off x="6972480" y="5241960"/>
            <a:ext cx="739440" cy="73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Rectangular Callout 112"/>
          <p:cNvSpPr/>
          <p:nvPr/>
        </p:nvSpPr>
        <p:spPr>
          <a:xfrm>
            <a:off x="7494480" y="4927680"/>
            <a:ext cx="738360" cy="739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Rectangular Callout 113"/>
          <p:cNvSpPr/>
          <p:nvPr/>
        </p:nvSpPr>
        <p:spPr>
          <a:xfrm>
            <a:off x="8229600" y="5667480"/>
            <a:ext cx="604800" cy="6048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ular Callout 114"/>
          <p:cNvSpPr/>
          <p:nvPr/>
        </p:nvSpPr>
        <p:spPr>
          <a:xfrm>
            <a:off x="8078760" y="4097160"/>
            <a:ext cx="554040" cy="5540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ular Callout 115"/>
          <p:cNvSpPr/>
          <p:nvPr/>
        </p:nvSpPr>
        <p:spPr>
          <a:xfrm>
            <a:off x="8412120" y="5057640"/>
            <a:ext cx="554040" cy="5540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16"/>
          <p:cNvSpPr/>
          <p:nvPr/>
        </p:nvSpPr>
        <p:spPr>
          <a:xfrm>
            <a:off x="8688240" y="4791240"/>
            <a:ext cx="503280" cy="552240"/>
          </a:xfrm>
          <a:prstGeom prst="wedgeRectCallout">
            <a:avLst>
              <a:gd name="adj1" fmla="val -13657"/>
              <a:gd name="adj2" fmla="val 63638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9800" y="314280"/>
            <a:ext cx="7124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387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436800" y="644976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7FD1-F27E-4BA5-842E-675C1AFE2F02}" type="datetime">
              <a:rPr b="0" lang="zh-CN" sz="9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1181160" y="6449760"/>
            <a:ext cx="52560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572760" y="6449760"/>
            <a:ext cx="6080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0F9-63AE-4D35-AFB7-B2E1AEAC689A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54"/>
          <p:cNvSpPr/>
          <p:nvPr/>
        </p:nvSpPr>
        <p:spPr>
          <a:xfrm>
            <a:off x="1582560" y="5454720"/>
            <a:ext cx="1909800" cy="146844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ular Callout 56"/>
          <p:cNvSpPr/>
          <p:nvPr/>
        </p:nvSpPr>
        <p:spPr>
          <a:xfrm>
            <a:off x="8570880" y="3382920"/>
            <a:ext cx="306360" cy="3063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ular Callout 57"/>
          <p:cNvSpPr/>
          <p:nvPr/>
        </p:nvSpPr>
        <p:spPr>
          <a:xfrm>
            <a:off x="8397720" y="3537000"/>
            <a:ext cx="306720" cy="304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ular Callout 58"/>
          <p:cNvSpPr/>
          <p:nvPr/>
        </p:nvSpPr>
        <p:spPr>
          <a:xfrm>
            <a:off x="8609040" y="3689280"/>
            <a:ext cx="306360" cy="30492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ular Callout 59"/>
          <p:cNvSpPr/>
          <p:nvPr/>
        </p:nvSpPr>
        <p:spPr>
          <a:xfrm>
            <a:off x="155520" y="2698920"/>
            <a:ext cx="466920" cy="46656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ular Callout 60"/>
          <p:cNvSpPr/>
          <p:nvPr/>
        </p:nvSpPr>
        <p:spPr>
          <a:xfrm>
            <a:off x="474840" y="3166920"/>
            <a:ext cx="458640" cy="459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ular Callout 61"/>
          <p:cNvSpPr/>
          <p:nvPr/>
        </p:nvSpPr>
        <p:spPr>
          <a:xfrm>
            <a:off x="270000" y="3382920"/>
            <a:ext cx="352440" cy="35100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62"/>
          <p:cNvSpPr/>
          <p:nvPr/>
        </p:nvSpPr>
        <p:spPr>
          <a:xfrm>
            <a:off x="-84240" y="2581200"/>
            <a:ext cx="1359000" cy="1909800"/>
          </a:xfrm>
          <a:prstGeom prst="wedgeRectCallout">
            <a:avLst>
              <a:gd name="adj1" fmla="val 138"/>
              <a:gd name="adj2" fmla="val 60680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ular Callout 63"/>
          <p:cNvSpPr/>
          <p:nvPr/>
        </p:nvSpPr>
        <p:spPr>
          <a:xfrm>
            <a:off x="6172200" y="2395440"/>
            <a:ext cx="1219320" cy="1217880"/>
          </a:xfrm>
          <a:prstGeom prst="wedgeRectCallout">
            <a:avLst>
              <a:gd name="adj1" fmla="val -19995"/>
              <a:gd name="adj2" fmla="val 64999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2"/>
          <p:cNvSpPr/>
          <p:nvPr/>
        </p:nvSpPr>
        <p:spPr>
          <a:xfrm>
            <a:off x="0" y="41400"/>
            <a:ext cx="1044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模板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2"/>
              </a:rPr>
              <a:t>www.1ppt.com/moba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行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模板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3"/>
              </a:rPr>
              <a:t>www.1ppt.com/hangye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节日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模板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4"/>
              </a:rPr>
              <a:t>www.1ppt.com/jieri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素材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5"/>
              </a:rPr>
              <a:t>www.1ppt.com/sucai/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背景图片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6"/>
              </a:rPr>
              <a:t>www.1ppt.com/beijing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图表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7"/>
              </a:rPr>
              <a:t>www.1ppt.com/tubiao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优秀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8"/>
              </a:rPr>
              <a:t>www.1ppt.com/xiazai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  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教程： 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9"/>
              </a:rPr>
              <a:t>www.1ppt.com/powerpoint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Word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教程： 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0"/>
              </a:rPr>
              <a:t>www.1ppt.com/word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        Excel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教程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1"/>
              </a:rPr>
              <a:t>www.1ppt.com/excel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2"/>
              </a:rPr>
              <a:t>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资料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3"/>
              </a:rPr>
              <a:t>www.1ppt.com/ziliao/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课件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4"/>
              </a:rPr>
              <a:t>www.1ppt.com/kejia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Calibri"/>
              </a:rPr>
              <a:t>范文下载：</a:t>
            </a:r>
            <a:r>
              <a:rPr b="0" lang="en-US" sz="200" spc="-1" strike="noStrike" u="sng">
                <a:solidFill>
                  <a:srgbClr val="004c99"/>
                </a:solidFill>
                <a:uFillTx/>
                <a:latin typeface="Calibri"/>
                <a:ea typeface="Calibri"/>
                <a:hlinkClick r:id="rId15"/>
              </a:rPr>
              <a:t>www.1ppt.com/fanwen/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Calibri"/>
              </a:rPr>
              <a:t>          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6240" y="4190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6686640" y="3251160"/>
            <a:ext cx="2336760" cy="816840"/>
            <a:chOff x="6686640" y="3251160"/>
            <a:chExt cx="2336760" cy="816840"/>
          </a:xfrm>
        </p:grpSpPr>
        <p:sp>
          <p:nvSpPr>
            <p:cNvPr id="97" name="Isosceles Triangle 5"/>
            <p:cNvSpPr/>
            <p:nvPr/>
          </p:nvSpPr>
          <p:spPr>
            <a:xfrm flipV="1" rot="10800000">
              <a:off x="8151840" y="352368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sosceles Triangle 6"/>
            <p:cNvSpPr/>
            <p:nvPr/>
          </p:nvSpPr>
          <p:spPr>
            <a:xfrm flipV="1" rot="10800000">
              <a:off x="7519320" y="374328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Isosceles Triangle 7"/>
            <p:cNvSpPr/>
            <p:nvPr/>
          </p:nvSpPr>
          <p:spPr>
            <a:xfrm flipV="1" rot="10800000">
              <a:off x="8056440" y="3267000"/>
              <a:ext cx="468000" cy="19224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Isosceles Triangle 8"/>
            <p:cNvSpPr/>
            <p:nvPr/>
          </p:nvSpPr>
          <p:spPr>
            <a:xfrm flipV="1" rot="10800000">
              <a:off x="8789400" y="3458520"/>
              <a:ext cx="234000" cy="9612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Isosceles Triangle 9"/>
            <p:cNvSpPr/>
            <p:nvPr/>
          </p:nvSpPr>
          <p:spPr>
            <a:xfrm flipV="1" rot="10800000">
              <a:off x="6686640" y="3251160"/>
              <a:ext cx="1974960" cy="8121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3"/>
          <p:cNvSpPr/>
          <p:nvPr/>
        </p:nvSpPr>
        <p:spPr>
          <a:xfrm>
            <a:off x="0" y="0"/>
            <a:ext cx="1000080" cy="3333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440" y="870120"/>
            <a:ext cx="71247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9117"/>
                </a:solidFill>
                <a:latin typeface="华文细黑"/>
                <a:ea typeface="华文细黑"/>
              </a:rPr>
              <a:t>LOG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36440" y="64929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6760" y="638280"/>
            <a:ext cx="39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欧美简洁大气商务科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1AF-0377-4C75-A338-52870B7B4C94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0E1-F748-424E-9A64-D0745348779B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398600" y="1309680"/>
            <a:ext cx="53974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5e00"/>
                </a:solidFill>
                <a:latin typeface="Calibri"/>
              </a:rPr>
              <a:t>Go Deep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4c99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4DC-F046-436C-A8A0-47C1AFAAD339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62A-A1BE-45F3-B9E4-846573DAFC08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7171"/>
                </a:solidFill>
                <a:latin typeface="Calibri"/>
              </a:rPr>
              <a:t>Big News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440" y="1806480"/>
            <a:ext cx="7388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SunTrust Banks, Inc. : March 09, 2012 </a:t>
            </a:r>
            <a:br>
              <a:rPr sz="1800"/>
            </a:b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SunTrust Names Anil Cheriyan New Chief Information Offic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TLANTA, March 9, 2012/PRNewswire/ -- SunTrust Banks, Inc. (NYSE: STI) today announced that Anil Cheriyan has been named the Company's new Chief Information Officer.  He will join SunTrust on 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April 2, 2012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, and report to Chairman and Chief Executive Officer William H. Rogers, J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Mr. Cheriyan succeeds Tim Sullivan, who has served as Chief Information Officer since 2003 and is retiring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48AA-91CB-4A3A-9913-DD7CFE4A236F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4c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049-758F-4865-934C-58C99FAE65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938-F8AE-486B-9CBC-DB82CF69ACE8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441240" y="1240920"/>
            <a:ext cx="4249800" cy="45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e24a19"/>
                </a:solidFill>
                <a:latin typeface="Calibri"/>
              </a:rPr>
              <a:t>84%</a:t>
            </a:r>
            <a:r>
              <a:rPr b="0" lang="en-US" sz="4800" spc="-1" strike="noStrike">
                <a:solidFill>
                  <a:srgbClr val="e24a1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f the time an executive will take a meeting when someone from inside their organization (a </a:t>
            </a:r>
            <a:r>
              <a:rPr b="0" lang="en-US" sz="3200" spc="-1" strike="noStrike" u="sng">
                <a:solidFill>
                  <a:srgbClr val="595959"/>
                </a:solidFill>
                <a:uFillTx/>
                <a:latin typeface="Calibri"/>
              </a:rPr>
              <a:t>credible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sponsor) makes the introdu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TextBox 16"/>
          <p:cNvSpPr/>
          <p:nvPr/>
        </p:nvSpPr>
        <p:spPr>
          <a:xfrm>
            <a:off x="345960" y="58420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5e00"/>
                </a:solidFill>
                <a:latin typeface="Calibri"/>
              </a:rPr>
              <a:t>Source: Selling to the C-Su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0" y="6743880"/>
            <a:ext cx="9144000" cy="114120"/>
          </a:xfrm>
          <a:prstGeom prst="rect">
            <a:avLst/>
          </a:prstGeom>
          <a:gradFill rotWithShape="0">
            <a:gsLst>
              <a:gs pos="0">
                <a:srgbClr val="e89117"/>
              </a:gs>
              <a:gs pos="100000">
                <a:srgbClr val="94210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7086600" y="4952880"/>
            <a:ext cx="20574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8160" y="56844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5e00"/>
                </a:solidFill>
                <a:latin typeface="A-OTF MainichiNewspapersM Pro L"/>
                <a:ea typeface="A-OTF MainichiNewspapersM Pro L"/>
              </a:rPr>
              <a:t>Are you ready to move the conversation forward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3" name="Group 6"/>
          <p:cNvGrpSpPr/>
          <p:nvPr/>
        </p:nvGrpSpPr>
        <p:grpSpPr>
          <a:xfrm>
            <a:off x="6296040" y="5935680"/>
            <a:ext cx="2336760" cy="816840"/>
            <a:chOff x="6296040" y="5935680"/>
            <a:chExt cx="2336760" cy="816840"/>
          </a:xfrm>
        </p:grpSpPr>
        <p:sp>
          <p:nvSpPr>
            <p:cNvPr id="504" name="Isosceles Triangle 7"/>
            <p:cNvSpPr/>
            <p:nvPr/>
          </p:nvSpPr>
          <p:spPr>
            <a:xfrm flipV="1" rot="10800000">
              <a:off x="7761240" y="620820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Isosceles Triangle 8"/>
            <p:cNvSpPr/>
            <p:nvPr/>
          </p:nvSpPr>
          <p:spPr>
            <a:xfrm flipV="1" rot="10800000">
              <a:off x="7128720" y="6427800"/>
              <a:ext cx="789480" cy="32436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Isosceles Triangle 9"/>
            <p:cNvSpPr/>
            <p:nvPr/>
          </p:nvSpPr>
          <p:spPr>
            <a:xfrm flipV="1" rot="10800000">
              <a:off x="7665840" y="5951520"/>
              <a:ext cx="468000" cy="19224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Isosceles Triangle 10"/>
            <p:cNvSpPr/>
            <p:nvPr/>
          </p:nvSpPr>
          <p:spPr>
            <a:xfrm flipV="1" rot="10800000">
              <a:off x="8398800" y="6143040"/>
              <a:ext cx="234000" cy="9612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Isosceles Triangle 11"/>
            <p:cNvSpPr/>
            <p:nvPr/>
          </p:nvSpPr>
          <p:spPr>
            <a:xfrm flipV="1" rot="10800000">
              <a:off x="6296040" y="5935680"/>
              <a:ext cx="1974960" cy="8121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9" name="Picture 12" descr=""/>
          <p:cNvPicPr/>
          <p:nvPr/>
        </p:nvPicPr>
        <p:blipFill>
          <a:blip r:embed="rId2"/>
          <a:stretch/>
        </p:blipFill>
        <p:spPr>
          <a:xfrm>
            <a:off x="5497560" y="797040"/>
            <a:ext cx="3573360" cy="35971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4c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954-727C-4EE0-BE68-69A76861AB5B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rcRect l="6583" t="0" r="0" b="18898"/>
          <a:stretch/>
        </p:blipFill>
        <p:spPr>
          <a:xfrm>
            <a:off x="762120" y="3313080"/>
            <a:ext cx="3862440" cy="2236680"/>
          </a:xfrm>
          <a:prstGeom prst="rect">
            <a:avLst/>
          </a:prstGeom>
          <a:ln w="9360">
            <a:solidFill>
              <a:srgbClr val="b14600"/>
            </a:solidFill>
            <a:miter/>
          </a:ln>
        </p:spPr>
      </p:pic>
      <p:sp>
        <p:nvSpPr>
          <p:cNvPr id="135" name=""/>
          <p:cNvSpPr txBox="1"/>
          <p:nvPr/>
        </p:nvSpPr>
        <p:spPr>
          <a:xfrm>
            <a:off x="762120" y="1095120"/>
            <a:ext cx="707688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Buyers complete </a:t>
            </a:r>
            <a:r>
              <a:rPr b="1" lang="en-US" sz="4400" spc="-1" strike="noStrike">
                <a:solidFill>
                  <a:srgbClr val="ed5e00"/>
                </a:solidFill>
                <a:latin typeface="DFMingLight-B5"/>
                <a:ea typeface="DFMingLight-B5"/>
              </a:rPr>
              <a:t>80%</a:t>
            </a:r>
            <a:r>
              <a:rPr b="1" lang="en-US" sz="3600" spc="-1" strike="noStrike">
                <a:solidFill>
                  <a:srgbClr val="ed5e00"/>
                </a:solidFill>
                <a:latin typeface="DFMingLight-B5"/>
                <a:ea typeface="DFMingLight-B5"/>
              </a:rPr>
              <a:t> </a:t>
            </a:r>
            <a:r>
              <a:rPr b="0" lang="en-US" sz="32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of the buying cycle before interacting with s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—</a:t>
            </a:r>
            <a:r>
              <a:rPr b="0" lang="en-US" sz="1800" spc="-1" strike="noStrike">
                <a:solidFill>
                  <a:srgbClr val="595959"/>
                </a:solidFill>
                <a:latin typeface="DFMingLight-B5"/>
                <a:ea typeface="DFMingLight-B5"/>
              </a:rPr>
              <a:t>Source: HBR, Gartn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6" name="Group 31"/>
          <p:cNvGrpSpPr/>
          <p:nvPr/>
        </p:nvGrpSpPr>
        <p:grpSpPr>
          <a:xfrm>
            <a:off x="1198080" y="3313800"/>
            <a:ext cx="1282680" cy="448560"/>
            <a:chOff x="1198080" y="3313800"/>
            <a:chExt cx="1282680" cy="448560"/>
          </a:xfrm>
        </p:grpSpPr>
        <p:sp>
          <p:nvSpPr>
            <p:cNvPr id="137" name="Isosceles Triangle 32"/>
            <p:cNvSpPr/>
            <p:nvPr/>
          </p:nvSpPr>
          <p:spPr>
            <a:xfrm flipV="1">
              <a:off x="1242720" y="3434040"/>
              <a:ext cx="433440" cy="178200"/>
            </a:xfrm>
            <a:prstGeom prst="triangle">
              <a:avLst>
                <a:gd name="adj" fmla="val 50000"/>
              </a:avLst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33"/>
            <p:cNvSpPr/>
            <p:nvPr/>
          </p:nvSpPr>
          <p:spPr>
            <a:xfrm flipV="1">
              <a:off x="1590120" y="3313440"/>
              <a:ext cx="433440" cy="17820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Isosceles Triangle 34"/>
            <p:cNvSpPr/>
            <p:nvPr/>
          </p:nvSpPr>
          <p:spPr>
            <a:xfrm flipV="1">
              <a:off x="1472400" y="3648600"/>
              <a:ext cx="256680" cy="10548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Isosceles Triangle 35"/>
            <p:cNvSpPr/>
            <p:nvPr/>
          </p:nvSpPr>
          <p:spPr>
            <a:xfrm flipV="1">
              <a:off x="1198080" y="3595320"/>
              <a:ext cx="128160" cy="525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36"/>
            <p:cNvSpPr/>
            <p:nvPr/>
          </p:nvSpPr>
          <p:spPr>
            <a:xfrm flipV="1">
              <a:off x="1396440" y="3315960"/>
              <a:ext cx="1084320" cy="44640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Isosceles Triangle 37"/>
          <p:cNvSpPr/>
          <p:nvPr/>
        </p:nvSpPr>
        <p:spPr>
          <a:xfrm flipV="1" rot="16200000">
            <a:off x="487440" y="4694400"/>
            <a:ext cx="844560" cy="295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29121"/>
              </a:gs>
              <a:gs pos="100000">
                <a:srgbClr val="ce3000"/>
              </a:gs>
            </a:gsLst>
            <a:lin ang="21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7960-90BF-4398-B9D3-1B1DD2061868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16"/>
          <p:cNvSpPr/>
          <p:nvPr/>
        </p:nvSpPr>
        <p:spPr>
          <a:xfrm flipH="1">
            <a:off x="1767600" y="6005520"/>
            <a:ext cx="90828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429080" y="1695600"/>
            <a:ext cx="4529160" cy="2768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4828680"/>
            <a:ext cx="712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7171"/>
                </a:solidFill>
                <a:latin typeface="DFGangBiW2-B5"/>
                <a:ea typeface="DFGangBiW2-B5"/>
              </a:rPr>
              <a:t>Today’s Buy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3440" y="1014480"/>
            <a:ext cx="50864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Leverages the social we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Does their own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Owns the buying pro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Is impat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Avoids ri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DFPGirlW3-B5"/>
                <a:ea typeface="DFPGirlW3-B5"/>
              </a:rPr>
              <a:t>Expects immediate val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1FA3-5571-455C-9D18-714D03182AC5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16"/>
          <p:cNvSpPr/>
          <p:nvPr/>
        </p:nvSpPr>
        <p:spPr>
          <a:xfrm>
            <a:off x="157320" y="5891040"/>
            <a:ext cx="5029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0" y="3986280"/>
            <a:ext cx="1438200" cy="157464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53"/>
          <p:cNvSpPr/>
          <p:nvPr/>
        </p:nvSpPr>
        <p:spPr>
          <a:xfrm>
            <a:off x="2021040" y="5423040"/>
            <a:ext cx="1909440" cy="11937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35"/>
          <p:cNvSpPr/>
          <p:nvPr/>
        </p:nvSpPr>
        <p:spPr>
          <a:xfrm>
            <a:off x="8056440" y="5140440"/>
            <a:ext cx="1138320" cy="1758960"/>
          </a:xfrm>
          <a:prstGeom prst="wedgeRoundRectCallout">
            <a:avLst>
              <a:gd name="adj1" fmla="val 4759"/>
              <a:gd name="adj2" fmla="val 59694"/>
              <a:gd name="adj3" fmla="val 16667"/>
            </a:avLst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ular Callout 11"/>
          <p:cNvSpPr/>
          <p:nvPr/>
        </p:nvSpPr>
        <p:spPr>
          <a:xfrm>
            <a:off x="6526080" y="4594320"/>
            <a:ext cx="1677960" cy="16779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33012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ular Callout 12"/>
          <p:cNvSpPr/>
          <p:nvPr/>
        </p:nvSpPr>
        <p:spPr>
          <a:xfrm>
            <a:off x="708120" y="4791240"/>
            <a:ext cx="1909800" cy="1908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13"/>
          <p:cNvSpPr/>
          <p:nvPr/>
        </p:nvSpPr>
        <p:spPr>
          <a:xfrm>
            <a:off x="6459480" y="514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26"/>
          <p:cNvSpPr/>
          <p:nvPr/>
        </p:nvSpPr>
        <p:spPr>
          <a:xfrm>
            <a:off x="5791320" y="6489720"/>
            <a:ext cx="11160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27"/>
          <p:cNvSpPr/>
          <p:nvPr/>
        </p:nvSpPr>
        <p:spPr>
          <a:xfrm>
            <a:off x="6127920" y="6408720"/>
            <a:ext cx="1236600" cy="525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ed Rectangular Callout 17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97"/>
          <p:cNvSpPr/>
          <p:nvPr/>
        </p:nvSpPr>
        <p:spPr>
          <a:xfrm>
            <a:off x="1165320" y="5902200"/>
            <a:ext cx="777960" cy="7495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98"/>
          <p:cNvSpPr/>
          <p:nvPr/>
        </p:nvSpPr>
        <p:spPr>
          <a:xfrm>
            <a:off x="800280" y="5405400"/>
            <a:ext cx="563400" cy="897120"/>
          </a:xfrm>
          <a:prstGeom prst="wedgeRoundRectCallout">
            <a:avLst>
              <a:gd name="adj1" fmla="val 6060"/>
              <a:gd name="adj2" fmla="val 59412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ounded Rectangular Callout 21"/>
          <p:cNvSpPr/>
          <p:nvPr/>
        </p:nvSpPr>
        <p:spPr>
          <a:xfrm>
            <a:off x="7629480" y="5611680"/>
            <a:ext cx="739800" cy="73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ounded Rectangular Callout 22"/>
          <p:cNvSpPr/>
          <p:nvPr/>
        </p:nvSpPr>
        <p:spPr>
          <a:xfrm>
            <a:off x="6972480" y="5241960"/>
            <a:ext cx="73944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ounded Rectangular Callout 23"/>
          <p:cNvSpPr/>
          <p:nvPr/>
        </p:nvSpPr>
        <p:spPr>
          <a:xfrm>
            <a:off x="8229600" y="566748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16"/>
          <p:cNvSpPr/>
          <p:nvPr/>
        </p:nvSpPr>
        <p:spPr>
          <a:xfrm>
            <a:off x="7027920" y="6014880"/>
            <a:ext cx="50328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ounded Rectangular Callout 27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ular Callout 28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ular Callout 29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ular Callout 30"/>
          <p:cNvSpPr/>
          <p:nvPr/>
        </p:nvSpPr>
        <p:spPr>
          <a:xfrm>
            <a:off x="630360" y="3625920"/>
            <a:ext cx="315720" cy="3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ular Callout 31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ounded Rectangular Callout 32"/>
          <p:cNvSpPr/>
          <p:nvPr/>
        </p:nvSpPr>
        <p:spPr>
          <a:xfrm>
            <a:off x="7905600" y="3813120"/>
            <a:ext cx="466920" cy="468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ounded Rectangular Callout 33"/>
          <p:cNvSpPr/>
          <p:nvPr/>
        </p:nvSpPr>
        <p:spPr>
          <a:xfrm>
            <a:off x="8224920" y="4281480"/>
            <a:ext cx="458640" cy="458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34"/>
          <p:cNvSpPr/>
          <p:nvPr/>
        </p:nvSpPr>
        <p:spPr>
          <a:xfrm>
            <a:off x="8020080" y="4497480"/>
            <a:ext cx="352440" cy="3524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ular Callout 35"/>
          <p:cNvSpPr/>
          <p:nvPr/>
        </p:nvSpPr>
        <p:spPr>
          <a:xfrm>
            <a:off x="8389800" y="444816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ular Callout 36"/>
          <p:cNvSpPr/>
          <p:nvPr/>
        </p:nvSpPr>
        <p:spPr>
          <a:xfrm>
            <a:off x="7750080" y="4594320"/>
            <a:ext cx="67176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16"/>
          <p:cNvSpPr/>
          <p:nvPr/>
        </p:nvSpPr>
        <p:spPr>
          <a:xfrm flipH="1">
            <a:off x="1767600" y="6005520"/>
            <a:ext cx="90828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00200" y="898560"/>
            <a:ext cx="4087800" cy="48322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92280" y="2762280"/>
            <a:ext cx="71262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d5e00"/>
                </a:solidFill>
                <a:latin typeface="Calibri"/>
              </a:rPr>
              <a:t>Sales is Often Disconnecte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FA9-A106-4E1F-B75C-73BFF07B6363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845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4920" y="31428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5e00"/>
                </a:solidFill>
                <a:latin typeface="Calibri"/>
                <a:ea typeface="MS PGothic"/>
              </a:rPr>
              <a:t>Use Social to Connect on a Personal Leve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3F1-4A51-4194-B081-5A9A31446330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0" y="476280"/>
            <a:ext cx="9144000" cy="580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6CE-DCE5-4385-9910-FF74FED1404D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0" y="6267600"/>
            <a:ext cx="9144000" cy="59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traight Connector 6"/>
          <p:cNvSpPr/>
          <p:nvPr/>
        </p:nvSpPr>
        <p:spPr>
          <a:xfrm>
            <a:off x="0" y="6267600"/>
            <a:ext cx="9144000" cy="0"/>
          </a:xfrm>
          <a:prstGeom prst="line">
            <a:avLst/>
          </a:prstGeom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4572000" y="1085760"/>
            <a:ext cx="4189320" cy="4238640"/>
            <a:chOff x="4572000" y="1085760"/>
            <a:chExt cx="4189320" cy="4238640"/>
          </a:xfrm>
        </p:grpSpPr>
        <p:sp>
          <p:nvSpPr>
            <p:cNvPr id="273" name="Oval 9"/>
            <p:cNvSpPr/>
            <p:nvPr/>
          </p:nvSpPr>
          <p:spPr>
            <a:xfrm>
              <a:off x="5555160" y="1085760"/>
              <a:ext cx="2223000" cy="2248920"/>
            </a:xfrm>
            <a:prstGeom prst="ellipse">
              <a:avLst/>
            </a:prstGeom>
            <a:solidFill>
              <a:srgbClr val="fedd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5811480" y="1388520"/>
              <a:ext cx="1710000" cy="7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Busines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cum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6538320" y="2080440"/>
              <a:ext cx="2223000" cy="2248920"/>
            </a:xfrm>
            <a:prstGeom prst="ellipse">
              <a:avLst/>
            </a:prstGeom>
            <a:solidFill>
              <a:srgbClr val="c4d73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7735320" y="2340000"/>
              <a:ext cx="85500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ocial Media Savv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5555160" y="3075480"/>
              <a:ext cx="2223000" cy="2248920"/>
            </a:xfrm>
            <a:prstGeom prst="ellipse">
              <a:avLst/>
            </a:prstGeom>
            <a:solidFill>
              <a:srgbClr val="ffa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811480" y="4308120"/>
              <a:ext cx="1710000" cy="7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le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ki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5"/>
            <p:cNvSpPr/>
            <p:nvPr/>
          </p:nvSpPr>
          <p:spPr>
            <a:xfrm>
              <a:off x="4572000" y="2080440"/>
              <a:ext cx="2223000" cy="2248920"/>
            </a:xfrm>
            <a:prstGeom prst="ellipse">
              <a:avLst/>
            </a:prstGeom>
            <a:solidFill>
              <a:srgbClr val="ed5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4743000" y="2340000"/>
              <a:ext cx="85500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ople Ski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ccess Require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2" name="Group 18"/>
          <p:cNvGrpSpPr/>
          <p:nvPr/>
        </p:nvGrpSpPr>
        <p:grpSpPr>
          <a:xfrm>
            <a:off x="-635400" y="5777640"/>
            <a:ext cx="1929240" cy="576360"/>
            <a:chOff x="-635400" y="5777640"/>
            <a:chExt cx="1929240" cy="576360"/>
          </a:xfrm>
        </p:grpSpPr>
        <p:sp>
          <p:nvSpPr>
            <p:cNvPr id="283" name="Isosceles Triangle 6"/>
            <p:cNvSpPr/>
            <p:nvPr/>
          </p:nvSpPr>
          <p:spPr>
            <a:xfrm flipV="1" rot="10800000">
              <a:off x="574560" y="5970240"/>
              <a:ext cx="651600" cy="228600"/>
            </a:xfrm>
            <a:prstGeom prst="triangle">
              <a:avLst>
                <a:gd name="adj" fmla="val 50000"/>
              </a:avLst>
            </a:pr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Isosceles Triangle 7"/>
            <p:cNvSpPr/>
            <p:nvPr/>
          </p:nvSpPr>
          <p:spPr>
            <a:xfrm flipV="1" rot="10800000">
              <a:off x="52560" y="6125040"/>
              <a:ext cx="651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Isosceles Triangle 8"/>
            <p:cNvSpPr/>
            <p:nvPr/>
          </p:nvSpPr>
          <p:spPr>
            <a:xfrm flipV="1" rot="10800000">
              <a:off x="495360" y="5789520"/>
              <a:ext cx="386280" cy="1353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e891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Isosceles Triangle 9"/>
            <p:cNvSpPr/>
            <p:nvPr/>
          </p:nvSpPr>
          <p:spPr>
            <a:xfrm flipV="1" rot="10800000">
              <a:off x="1100880" y="5925240"/>
              <a:ext cx="192960" cy="6768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Isosceles Triangle 11"/>
            <p:cNvSpPr/>
            <p:nvPr/>
          </p:nvSpPr>
          <p:spPr>
            <a:xfrm flipV="1" rot="10800000">
              <a:off x="-635400" y="5777280"/>
              <a:ext cx="1630440" cy="572760"/>
            </a:xfrm>
            <a:prstGeom prst="triangle">
              <a:avLst>
                <a:gd name="adj" fmla="val 50000"/>
              </a:avLst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1601"/>
            </a:gs>
            <a:gs pos="100000">
              <a:srgbClr val="3d0e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1A0-05C7-40D3-A02E-F4FC1F87F353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ounded Rectangular Callout 99"/>
          <p:cNvSpPr/>
          <p:nvPr/>
        </p:nvSpPr>
        <p:spPr>
          <a:xfrm>
            <a:off x="4257720" y="4600440"/>
            <a:ext cx="1909800" cy="190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6e45">
              <a:alpha val="1000"/>
            </a:srgbClr>
          </a:solidFill>
          <a:ln cap="rnd" w="330120">
            <a:solidFill>
              <a:srgbClr val="b1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5"/>
          <p:cNvSpPr/>
          <p:nvPr/>
        </p:nvSpPr>
        <p:spPr>
          <a:xfrm>
            <a:off x="2787480" y="4952880"/>
            <a:ext cx="1438560" cy="1575000"/>
          </a:xfrm>
          <a:prstGeom prst="wedgeRoundRectCallout">
            <a:avLst>
              <a:gd name="adj1" fmla="val -13930"/>
              <a:gd name="adj2" fmla="val 63699"/>
              <a:gd name="adj3" fmla="val 16667"/>
            </a:avLst>
          </a:prstGeom>
          <a:solidFill>
            <a:srgbClr val="fdc51b">
              <a:alpha val="7000"/>
            </a:srgbClr>
          </a:solidFill>
          <a:ln cap="rnd" w="33012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437160" y="6450120"/>
            <a:ext cx="2133720" cy="331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ounded Rectangular Callout 98"/>
          <p:cNvSpPr/>
          <p:nvPr/>
        </p:nvSpPr>
        <p:spPr>
          <a:xfrm>
            <a:off x="981000" y="6067440"/>
            <a:ext cx="604800" cy="604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942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116"/>
          <p:cNvSpPr/>
          <p:nvPr/>
        </p:nvSpPr>
        <p:spPr>
          <a:xfrm>
            <a:off x="6543720" y="5854680"/>
            <a:ext cx="504720" cy="554040"/>
          </a:xfrm>
          <a:prstGeom prst="wedgeRoundRectCallout">
            <a:avLst>
              <a:gd name="adj1" fmla="val -13657"/>
              <a:gd name="adj2" fmla="val 63638"/>
              <a:gd name="adj3" fmla="val 16667"/>
            </a:avLst>
          </a:prstGeom>
          <a:solidFill>
            <a:srgbClr val="fd6e45">
              <a:alpha val="5000"/>
            </a:srgbClr>
          </a:solidFill>
          <a:ln cap="rnd" w="63360">
            <a:solidFill>
              <a:srgbClr val="f5d3a1">
                <a:alpha val="1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ounded Rectangular Callout 103"/>
          <p:cNvSpPr/>
          <p:nvPr/>
        </p:nvSpPr>
        <p:spPr>
          <a:xfrm>
            <a:off x="8102520" y="4013280"/>
            <a:ext cx="1041480" cy="10414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dc51b">
              <a:alpha val="10000"/>
            </a:srgbClr>
          </a:solidFill>
          <a:ln cap="rnd" w="17784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26"/>
          <p:cNvSpPr/>
          <p:nvPr/>
        </p:nvSpPr>
        <p:spPr>
          <a:xfrm>
            <a:off x="5775480" y="6524640"/>
            <a:ext cx="1114200" cy="444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942102">
              <a:alpha val="5000"/>
            </a:srgbClr>
          </a:solidFill>
          <a:ln cap="rnd" w="177840">
            <a:solidFill>
              <a:srgbClr val="942102">
                <a:alpha val="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ounded Rectangular Callout 105"/>
          <p:cNvSpPr/>
          <p:nvPr/>
        </p:nvSpPr>
        <p:spPr>
          <a:xfrm>
            <a:off x="11160" y="4941720"/>
            <a:ext cx="611280" cy="611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ounded Rectangular Callout 106"/>
          <p:cNvSpPr/>
          <p:nvPr/>
        </p:nvSpPr>
        <p:spPr>
          <a:xfrm>
            <a:off x="7881840" y="2138400"/>
            <a:ext cx="1128960" cy="11286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07"/>
          <p:cNvSpPr/>
          <p:nvPr/>
        </p:nvSpPr>
        <p:spPr>
          <a:xfrm>
            <a:off x="8915400" y="749160"/>
            <a:ext cx="276120" cy="908280"/>
          </a:xfrm>
          <a:prstGeom prst="wedgeRoundRectCallout">
            <a:avLst>
              <a:gd name="adj1" fmla="val 28611"/>
              <a:gd name="adj2" fmla="val 54578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ounded Rectangular Callout 108"/>
          <p:cNvSpPr/>
          <p:nvPr/>
        </p:nvSpPr>
        <p:spPr>
          <a:xfrm>
            <a:off x="7804080" y="2735280"/>
            <a:ext cx="970200" cy="969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ounded Rectangular Callout 109"/>
          <p:cNvSpPr/>
          <p:nvPr/>
        </p:nvSpPr>
        <p:spPr>
          <a:xfrm>
            <a:off x="8304120" y="177012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ounded Rectangular Callout 110"/>
          <p:cNvSpPr/>
          <p:nvPr/>
        </p:nvSpPr>
        <p:spPr>
          <a:xfrm flipH="1">
            <a:off x="8177040" y="587520"/>
            <a:ext cx="811440" cy="8096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11"/>
          <p:cNvSpPr/>
          <p:nvPr/>
        </p:nvSpPr>
        <p:spPr>
          <a:xfrm>
            <a:off x="6943680" y="5861160"/>
            <a:ext cx="73980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ounded Rectangular Callout 112"/>
          <p:cNvSpPr/>
          <p:nvPr/>
        </p:nvSpPr>
        <p:spPr>
          <a:xfrm>
            <a:off x="7494480" y="4927680"/>
            <a:ext cx="738360" cy="7398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ounded Rectangular Callout 113"/>
          <p:cNvSpPr/>
          <p:nvPr/>
        </p:nvSpPr>
        <p:spPr>
          <a:xfrm>
            <a:off x="8078760" y="409716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ounded Rectangular Callout 114"/>
          <p:cNvSpPr/>
          <p:nvPr/>
        </p:nvSpPr>
        <p:spPr>
          <a:xfrm>
            <a:off x="8412120" y="5057640"/>
            <a:ext cx="554040" cy="554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ounded Rectangular Callout 116"/>
          <p:cNvSpPr/>
          <p:nvPr/>
        </p:nvSpPr>
        <p:spPr>
          <a:xfrm>
            <a:off x="7748640" y="3605040"/>
            <a:ext cx="306360" cy="3067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ounded Rectangular Callout 117"/>
          <p:cNvSpPr/>
          <p:nvPr/>
        </p:nvSpPr>
        <p:spPr>
          <a:xfrm>
            <a:off x="8694720" y="2301840"/>
            <a:ext cx="306360" cy="3063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ounded Rectangular Callout 118"/>
          <p:cNvSpPr/>
          <p:nvPr/>
        </p:nvSpPr>
        <p:spPr>
          <a:xfrm>
            <a:off x="8609040" y="3689280"/>
            <a:ext cx="306360" cy="3049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ounded Rectangular Callout 119"/>
          <p:cNvSpPr/>
          <p:nvPr/>
        </p:nvSpPr>
        <p:spPr>
          <a:xfrm>
            <a:off x="155520" y="2698920"/>
            <a:ext cx="466920" cy="46656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ounded Rectangular Callout 120"/>
          <p:cNvSpPr/>
          <p:nvPr/>
        </p:nvSpPr>
        <p:spPr>
          <a:xfrm>
            <a:off x="474840" y="3166920"/>
            <a:ext cx="458640" cy="459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ounded Rectangular Callout 121"/>
          <p:cNvSpPr/>
          <p:nvPr/>
        </p:nvSpPr>
        <p:spPr>
          <a:xfrm>
            <a:off x="270000" y="3382920"/>
            <a:ext cx="352440" cy="35100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6336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ounded Rectangular Callout 123"/>
          <p:cNvSpPr/>
          <p:nvPr/>
        </p:nvSpPr>
        <p:spPr>
          <a:xfrm>
            <a:off x="639720" y="3333600"/>
            <a:ext cx="608040" cy="6080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ounded Rectangular Callout 124"/>
          <p:cNvSpPr/>
          <p:nvPr/>
        </p:nvSpPr>
        <p:spPr>
          <a:xfrm>
            <a:off x="0" y="3479760"/>
            <a:ext cx="671400" cy="825480"/>
          </a:xfrm>
          <a:prstGeom prst="wedgeRoundRectCallout">
            <a:avLst>
              <a:gd name="adj1" fmla="val -6824"/>
              <a:gd name="adj2" fmla="val 62175"/>
              <a:gd name="adj3" fmla="val 16667"/>
            </a:avLst>
          </a:prstGeom>
          <a:solidFill>
            <a:srgbClr val="ffe181">
              <a:alpha val="5000"/>
            </a:srgbClr>
          </a:solidFill>
          <a:ln cap="rnd" w="12600">
            <a:solidFill>
              <a:srgbClr val="f5d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314280"/>
            <a:ext cx="7124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5e00"/>
                </a:solidFill>
                <a:latin typeface="CoventryScriptFLF"/>
                <a:ea typeface="CoventryScriptFLF"/>
              </a:rPr>
              <a:t>An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83880" y="1523520"/>
            <a:ext cx="479124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Have a pl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Define your prosp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Pick the RIGHT t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Implement consistent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d5e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-OTF MainichiNewspapersM Pro L"/>
                <a:ea typeface="A-OTF MainichiNewspapersM Pro L"/>
              </a:rPr>
              <a:t>Measure and tr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121"/>
            </a:gs>
            <a:gs pos="100000">
              <a:srgbClr val="ce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4"/>
          <p:cNvSpPr/>
          <p:nvPr/>
        </p:nvSpPr>
        <p:spPr>
          <a:xfrm>
            <a:off x="573120" y="6450120"/>
            <a:ext cx="60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11EB-8B45-43FC-BE57-AC9813E56BCF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2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8:4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