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14A-672D-470F-9D23-03F4B9BF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9BD-2C53-475B-9521-EE65535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3EC-4196-4EAA-9CDE-01D0ED7B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1AF-0C89-47E4-B0BD-ED21C56B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63B-F5E1-4163-B3F5-7A307181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03E-5294-45BB-9413-12E5CCC1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B34-1C59-4331-9F4C-8C0DDC6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9FC-17E7-4C7F-AC92-FBDA9A7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CB1-38B2-4FDC-9532-6CCA48C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7A0-F7EF-4394-8DB9-893398D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2B8-11A2-4F55-91C8-ABCDEFDF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893-A521-4334-B70C-CC66CE42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0" y="1403280"/>
            <a:ext cx="9144000" cy="5454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-4680" y="6372360"/>
            <a:ext cx="914220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-4680" y="1289160"/>
            <a:ext cx="9142200" cy="9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F0A-D67F-4A56-9F5B-44BD406D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808080">
                  <a:alpha val="78039"/>
                </a:srgbClr>
              </a:gs>
              <a:gs pos="100000">
                <a:srgbClr val="cbcbcb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-4680" y="6372360"/>
            <a:ext cx="9142200" cy="52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-4680" y="1289160"/>
            <a:ext cx="9142200" cy="9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6327720" y="1415880"/>
            <a:ext cx="2816280" cy="5442120"/>
          </a:xfrm>
          <a:prstGeom prst="rect">
            <a:avLst/>
          </a:prstGeom>
          <a:gradFill rotWithShape="0">
            <a:gsLst>
              <a:gs pos="0">
                <a:srgbClr val="171f35"/>
              </a:gs>
              <a:gs pos="100000">
                <a:srgbClr val="344b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434343">
                  <a:alpha val="78039"/>
                </a:srgbClr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欧美精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-3240" y="1976400"/>
            <a:ext cx="8760600" cy="4378320"/>
            <a:chOff x="-3240" y="1976400"/>
            <a:chExt cx="8760600" cy="4378320"/>
          </a:xfrm>
        </p:grpSpPr>
        <p:grpSp>
          <p:nvGrpSpPr>
            <p:cNvPr id="238" name=""/>
            <p:cNvGrpSpPr/>
            <p:nvPr/>
          </p:nvGrpSpPr>
          <p:grpSpPr>
            <a:xfrm>
              <a:off x="-3240" y="3133800"/>
              <a:ext cx="6804000" cy="3220920"/>
              <a:chOff x="-3240" y="3133800"/>
              <a:chExt cx="6804000" cy="3220920"/>
            </a:xfrm>
          </p:grpSpPr>
          <p:sp>
            <p:nvSpPr>
              <p:cNvPr id="239" name="Freeform 472"/>
              <p:cNvSpPr/>
              <p:nvPr/>
            </p:nvSpPr>
            <p:spPr>
              <a:xfrm>
                <a:off x="-3240" y="3133800"/>
                <a:ext cx="6804000" cy="322092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73"/>
              <p:cNvSpPr/>
              <p:nvPr/>
            </p:nvSpPr>
            <p:spPr>
              <a:xfrm>
                <a:off x="-1800" y="3549600"/>
                <a:ext cx="5694480" cy="236232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4"/>
              <p:cNvSpPr/>
              <p:nvPr/>
            </p:nvSpPr>
            <p:spPr>
              <a:xfrm>
                <a:off x="344160" y="3819600"/>
                <a:ext cx="4611960" cy="179244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5"/>
              <p:cNvSpPr/>
              <p:nvPr/>
            </p:nvSpPr>
            <p:spPr>
              <a:xfrm>
                <a:off x="990000" y="4059360"/>
                <a:ext cx="3320640" cy="128592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673800" y="1976400"/>
              <a:ext cx="5083560" cy="1615680"/>
              <a:chOff x="3673800" y="1976400"/>
              <a:chExt cx="5083560" cy="16156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938400" y="1976400"/>
                <a:ext cx="4818960" cy="1615680"/>
                <a:chOff x="3938400" y="1976400"/>
                <a:chExt cx="4818960" cy="1615680"/>
              </a:xfrm>
            </p:grpSpPr>
            <p:sp>
              <p:nvSpPr>
                <p:cNvPr id="245" name="Freeform 603"/>
                <p:cNvSpPr/>
                <p:nvPr/>
              </p:nvSpPr>
              <p:spPr>
                <a:xfrm>
                  <a:off x="3938400" y="1989000"/>
                  <a:ext cx="4818960" cy="1111320"/>
                </a:xfrm>
                <a:prstGeom prst="pie">
                  <a:avLst/>
                </a:prstGeom>
                <a:noFill/>
                <a:ln w="25560">
                  <a:solidFill>
                    <a:srgbClr val="c0c0c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967000" y="1976400"/>
                  <a:ext cx="2430720" cy="1615680"/>
                  <a:chOff x="5967000" y="1976400"/>
                  <a:chExt cx="2430720" cy="1615680"/>
                </a:xfrm>
              </p:grpSpPr>
              <p:sp>
                <p:nvSpPr>
                  <p:cNvPr id="247" name="Text Box 610"/>
                  <p:cNvSpPr/>
                  <p:nvPr/>
                </p:nvSpPr>
                <p:spPr>
                  <a:xfrm>
                    <a:off x="5967000" y="1976400"/>
                    <a:ext cx="2068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Add text in here too Add text in her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Text Box 622"/>
                  <p:cNvSpPr/>
                  <p:nvPr/>
                </p:nvSpPr>
                <p:spPr>
                  <a:xfrm>
                    <a:off x="5968080" y="2451240"/>
                    <a:ext cx="2429640" cy="1140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3673800" y="3073320"/>
                <a:ext cx="240840" cy="241200"/>
                <a:chOff x="3673800" y="3073320"/>
                <a:chExt cx="240840" cy="241200"/>
              </a:xfrm>
            </p:grpSpPr>
            <p:sp>
              <p:nvSpPr>
                <p:cNvPr id="250" name="Oval 542"/>
                <p:cNvSpPr/>
                <p:nvPr/>
              </p:nvSpPr>
              <p:spPr>
                <a:xfrm>
                  <a:off x="3673800" y="3073320"/>
                  <a:ext cx="2408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0000"/>
                    </a:gs>
                    <a:gs pos="100000">
                      <a:srgbClr val="7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543"/>
                <p:cNvSpPr/>
                <p:nvPr/>
              </p:nvSpPr>
              <p:spPr>
                <a:xfrm>
                  <a:off x="3676680" y="307656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0000"/>
                    </a:gs>
                    <a:gs pos="100000">
                      <a:srgbClr val="86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544"/>
                <p:cNvSpPr/>
                <p:nvPr/>
              </p:nvSpPr>
              <p:spPr>
                <a:xfrm>
                  <a:off x="3681360" y="3079800"/>
                  <a:ext cx="22500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87058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545"/>
                <p:cNvSpPr/>
                <p:nvPr/>
              </p:nvSpPr>
              <p:spPr>
                <a:xfrm>
                  <a:off x="3755880" y="3095640"/>
                  <a:ext cx="759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1541160" y="4257720"/>
              <a:ext cx="2218320" cy="898560"/>
              <a:chOff x="1541160" y="4257720"/>
              <a:chExt cx="2218320" cy="898560"/>
            </a:xfrm>
          </p:grpSpPr>
          <p:sp>
            <p:nvSpPr>
              <p:cNvPr id="255" name="Freeform 477"/>
              <p:cNvSpPr/>
              <p:nvPr/>
            </p:nvSpPr>
            <p:spPr>
              <a:xfrm>
                <a:off x="2272680" y="4398840"/>
                <a:ext cx="756360" cy="757440"/>
              </a:xfrm>
              <a:prstGeom prst="pie">
                <a:avLst/>
              </a:prstGeom>
              <a:gradFill rotWithShape="0">
                <a:gsLst>
                  <a:gs pos="0">
                    <a:srgbClr val="00c4f2"/>
                  </a:gs>
                  <a:gs pos="100000">
                    <a:srgbClr val="004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82"/>
              <p:cNvSpPr/>
              <p:nvPr/>
            </p:nvSpPr>
            <p:spPr>
              <a:xfrm>
                <a:off x="2284920" y="4410000"/>
                <a:ext cx="732960" cy="733680"/>
              </a:xfrm>
              <a:prstGeom prst="pie">
                <a:avLst/>
              </a:prstGeom>
              <a:gradFill rotWithShape="0">
                <a:gsLst>
                  <a:gs pos="0">
                    <a:srgbClr val="21d5ff"/>
                  </a:gs>
                  <a:gs pos="100000">
                    <a:srgbClr val="004f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76"/>
              <p:cNvSpPr/>
              <p:nvPr/>
            </p:nvSpPr>
            <p:spPr>
              <a:xfrm>
                <a:off x="1541160" y="4257720"/>
                <a:ext cx="2218320" cy="85896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9"/>
              <p:cNvSpPr/>
              <p:nvPr/>
            </p:nvSpPr>
            <p:spPr>
              <a:xfrm>
                <a:off x="2005920" y="4419720"/>
                <a:ext cx="1288440" cy="498240"/>
              </a:xfrm>
              <a:prstGeom prst="pie">
                <a:avLst/>
              </a:prstGeom>
              <a:noFill/>
              <a:ln w="6480">
                <a:solidFill>
                  <a:srgbClr val="c4c4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0"/>
              <p:cNvSpPr/>
              <p:nvPr/>
            </p:nvSpPr>
            <p:spPr>
              <a:xfrm>
                <a:off x="2272680" y="4395960"/>
                <a:ext cx="756360" cy="519120"/>
              </a:xfrm>
              <a:prstGeom prst="pie">
                <a:avLst/>
              </a:prstGeom>
              <a:gradFill rotWithShape="0">
                <a:gsLst>
                  <a:gs pos="0">
                    <a:srgbClr val="00a8d0"/>
                  </a:gs>
                  <a:gs pos="100000">
                    <a:srgbClr val="157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83"/>
              <p:cNvSpPr/>
              <p:nvPr/>
            </p:nvSpPr>
            <p:spPr>
              <a:xfrm>
                <a:off x="2275920" y="4407120"/>
                <a:ext cx="745200" cy="502920"/>
              </a:xfrm>
              <a:prstGeom prst="pie">
                <a:avLst/>
              </a:prstGeom>
              <a:gradFill rotWithShape="0">
                <a:gsLst>
                  <a:gs pos="0">
                    <a:srgbClr val="21d5ff"/>
                  </a:gs>
                  <a:gs pos="100000">
                    <a:srgbClr val="117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84"/>
              <p:cNvSpPr/>
              <p:nvPr/>
            </p:nvSpPr>
            <p:spPr>
              <a:xfrm>
                <a:off x="2284920" y="4405320"/>
                <a:ext cx="736200" cy="534960"/>
              </a:xfrm>
              <a:prstGeom prst="pie">
                <a:avLst/>
              </a:prstGeom>
              <a:gradFill rotWithShape="0">
                <a:gsLst>
                  <a:gs pos="0">
                    <a:srgbClr val="00c7f6">
                      <a:alpha val="76078"/>
                    </a:srgbClr>
                  </a:gs>
                  <a:gs pos="100000">
                    <a:srgbClr val="1171ff">
                      <a:alpha val="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85"/>
              <p:cNvSpPr/>
              <p:nvPr/>
            </p:nvSpPr>
            <p:spPr>
              <a:xfrm>
                <a:off x="2353320" y="4403880"/>
                <a:ext cx="590040" cy="149040"/>
              </a:xfrm>
              <a:prstGeom prst="pie">
                <a:avLst/>
              </a:prstGeom>
              <a:gradFill rotWithShape="0">
                <a:gsLst>
                  <a:gs pos="0">
                    <a:srgbClr val="cdf5ff">
                      <a:alpha val="70196"/>
                    </a:srgbClr>
                  </a:gs>
                  <a:gs pos="100000">
                    <a:srgbClr val="00c7f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86"/>
              <p:cNvSpPr/>
              <p:nvPr/>
            </p:nvSpPr>
            <p:spPr>
              <a:xfrm>
                <a:off x="2583360" y="4416480"/>
                <a:ext cx="139320" cy="13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95294"/>
                    </a:srgbClr>
                  </a:gs>
                  <a:gs pos="100000">
                    <a:srgbClr val="00c7f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1"/>
              <p:cNvSpPr/>
              <p:nvPr/>
            </p:nvSpPr>
            <p:spPr>
              <a:xfrm>
                <a:off x="2193120" y="4675320"/>
                <a:ext cx="9201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Premi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desig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183560" y="3789360"/>
              <a:ext cx="4573800" cy="1661760"/>
              <a:chOff x="4183560" y="3789360"/>
              <a:chExt cx="4573800" cy="16617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4183560" y="4464000"/>
                <a:ext cx="240840" cy="241200"/>
                <a:chOff x="4183560" y="4464000"/>
                <a:chExt cx="240840" cy="241200"/>
              </a:xfrm>
            </p:grpSpPr>
            <p:sp>
              <p:nvSpPr>
                <p:cNvPr id="267" name="Oval 547"/>
                <p:cNvSpPr/>
                <p:nvPr/>
              </p:nvSpPr>
              <p:spPr>
                <a:xfrm>
                  <a:off x="4183560" y="4464000"/>
                  <a:ext cx="240840" cy="241200"/>
                </a:xfrm>
                <a:prstGeom prst="ellipse">
                  <a:avLst/>
                </a:prstGeom>
                <a:solidFill>
                  <a:srgbClr val="fe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548"/>
                <p:cNvSpPr/>
                <p:nvPr/>
              </p:nvSpPr>
              <p:spPr>
                <a:xfrm>
                  <a:off x="4186440" y="446724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b57"/>
                    </a:gs>
                    <a:gs pos="100000">
                      <a:srgbClr val="ff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49"/>
                <p:cNvSpPr/>
                <p:nvPr/>
              </p:nvSpPr>
              <p:spPr>
                <a:xfrm>
                  <a:off x="4197600" y="4470480"/>
                  <a:ext cx="212400" cy="7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2156"/>
                      </a:srgbClr>
                    </a:gs>
                    <a:gs pos="100000">
                      <a:srgbClr val="ffbb5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550"/>
                <p:cNvSpPr/>
                <p:nvPr/>
              </p:nvSpPr>
              <p:spPr>
                <a:xfrm>
                  <a:off x="4264200" y="4487760"/>
                  <a:ext cx="759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310280" y="3789360"/>
                <a:ext cx="4447080" cy="1661760"/>
                <a:chOff x="4310280" y="3789360"/>
                <a:chExt cx="4447080" cy="1661760"/>
              </a:xfrm>
            </p:grpSpPr>
            <p:sp>
              <p:nvSpPr>
                <p:cNvPr id="272" name="Freeform 605"/>
                <p:cNvSpPr/>
                <p:nvPr/>
              </p:nvSpPr>
              <p:spPr>
                <a:xfrm>
                  <a:off x="4310280" y="3789360"/>
                  <a:ext cx="4447080" cy="782640"/>
                </a:xfrm>
                <a:prstGeom prst="pie">
                  <a:avLst/>
                </a:prstGeom>
                <a:noFill/>
                <a:ln w="25560">
                  <a:solidFill>
                    <a:srgbClr val="c0c0c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5967000" y="3835440"/>
                  <a:ext cx="2430720" cy="1615680"/>
                  <a:chOff x="5967000" y="3835440"/>
                  <a:chExt cx="2430720" cy="1615680"/>
                </a:xfrm>
              </p:grpSpPr>
              <p:sp>
                <p:nvSpPr>
                  <p:cNvPr id="274" name="Text Box 623"/>
                  <p:cNvSpPr/>
                  <p:nvPr/>
                </p:nvSpPr>
                <p:spPr>
                  <a:xfrm>
                    <a:off x="5967000" y="3835440"/>
                    <a:ext cx="2068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6600"/>
                        </a:solidFill>
                        <a:latin typeface="Arial"/>
                      </a:rPr>
                      <a:t>Add text in here too Add text in her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Text Box 624"/>
                  <p:cNvSpPr/>
                  <p:nvPr/>
                </p:nvSpPr>
                <p:spPr>
                  <a:xfrm>
                    <a:off x="5968080" y="4310280"/>
                    <a:ext cx="2429640" cy="1140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 add text in here 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Add text in her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2191680" y="3408480"/>
              <a:ext cx="1143720" cy="279000"/>
              <a:chOff x="2191680" y="3408480"/>
              <a:chExt cx="1143720" cy="2790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2191680" y="3411360"/>
                <a:ext cx="240840" cy="240840"/>
                <a:chOff x="2191680" y="3411360"/>
                <a:chExt cx="240840" cy="240840"/>
              </a:xfrm>
            </p:grpSpPr>
            <p:sp>
              <p:nvSpPr>
                <p:cNvPr id="278" name="Oval 537"/>
                <p:cNvSpPr/>
                <p:nvPr/>
              </p:nvSpPr>
              <p:spPr>
                <a:xfrm>
                  <a:off x="2191680" y="3411360"/>
                  <a:ext cx="240840" cy="24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4747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538"/>
                <p:cNvSpPr/>
                <p:nvPr/>
              </p:nvSpPr>
              <p:spPr>
                <a:xfrm>
                  <a:off x="2194560" y="3414240"/>
                  <a:ext cx="2343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d3d3"/>
                    </a:gs>
                    <a:gs pos="100000">
                      <a:srgbClr val="5c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539"/>
                <p:cNvSpPr/>
                <p:nvPr/>
              </p:nvSpPr>
              <p:spPr>
                <a:xfrm>
                  <a:off x="2210400" y="3417480"/>
                  <a:ext cx="202680" cy="58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540"/>
                <p:cNvSpPr/>
                <p:nvPr/>
              </p:nvSpPr>
              <p:spPr>
                <a:xfrm>
                  <a:off x="2277000" y="3430080"/>
                  <a:ext cx="759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Text Box 631"/>
              <p:cNvSpPr/>
              <p:nvPr/>
            </p:nvSpPr>
            <p:spPr>
              <a:xfrm>
                <a:off x="2391480" y="3408480"/>
                <a:ext cx="943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96520" y="4205160"/>
              <a:ext cx="1156680" cy="279000"/>
              <a:chOff x="3296520" y="4205160"/>
              <a:chExt cx="1156680" cy="2790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296520" y="4222800"/>
                <a:ext cx="240840" cy="241200"/>
                <a:chOff x="3296520" y="4222800"/>
                <a:chExt cx="240840" cy="241200"/>
              </a:xfrm>
            </p:grpSpPr>
            <p:sp>
              <p:nvSpPr>
                <p:cNvPr id="285" name="Oval 532"/>
                <p:cNvSpPr/>
                <p:nvPr/>
              </p:nvSpPr>
              <p:spPr>
                <a:xfrm>
                  <a:off x="3296520" y="4222800"/>
                  <a:ext cx="2408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4747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33"/>
                <p:cNvSpPr/>
                <p:nvPr/>
              </p:nvSpPr>
              <p:spPr>
                <a:xfrm>
                  <a:off x="3299400" y="422604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d3d3"/>
                    </a:gs>
                    <a:gs pos="100000">
                      <a:srgbClr val="5c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534"/>
                <p:cNvSpPr/>
                <p:nvPr/>
              </p:nvSpPr>
              <p:spPr>
                <a:xfrm>
                  <a:off x="3315240" y="4229280"/>
                  <a:ext cx="202680" cy="5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535"/>
                <p:cNvSpPr/>
                <p:nvPr/>
              </p:nvSpPr>
              <p:spPr>
                <a:xfrm>
                  <a:off x="3381840" y="4241880"/>
                  <a:ext cx="759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632"/>
              <p:cNvSpPr/>
              <p:nvPr/>
            </p:nvSpPr>
            <p:spPr>
              <a:xfrm>
                <a:off x="3508920" y="4205160"/>
                <a:ext cx="94428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117240" y="4641840"/>
              <a:ext cx="1145160" cy="280440"/>
              <a:chOff x="3117240" y="4641840"/>
              <a:chExt cx="1145160" cy="28044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117240" y="4641840"/>
                <a:ext cx="240840" cy="241200"/>
                <a:chOff x="3117240" y="4641840"/>
                <a:chExt cx="240840" cy="241200"/>
              </a:xfrm>
            </p:grpSpPr>
            <p:sp>
              <p:nvSpPr>
                <p:cNvPr id="292" name="Oval 527"/>
                <p:cNvSpPr/>
                <p:nvPr/>
              </p:nvSpPr>
              <p:spPr>
                <a:xfrm>
                  <a:off x="3117240" y="4641840"/>
                  <a:ext cx="2408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4747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28"/>
                <p:cNvSpPr/>
                <p:nvPr/>
              </p:nvSpPr>
              <p:spPr>
                <a:xfrm>
                  <a:off x="3120120" y="464508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d3d3"/>
                    </a:gs>
                    <a:gs pos="100000">
                      <a:srgbClr val="5c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529"/>
                <p:cNvSpPr/>
                <p:nvPr/>
              </p:nvSpPr>
              <p:spPr>
                <a:xfrm>
                  <a:off x="3135960" y="4648320"/>
                  <a:ext cx="202680" cy="5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530"/>
                <p:cNvSpPr/>
                <p:nvPr/>
              </p:nvSpPr>
              <p:spPr>
                <a:xfrm>
                  <a:off x="3202560" y="4660920"/>
                  <a:ext cx="759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633"/>
              <p:cNvSpPr/>
              <p:nvPr/>
            </p:nvSpPr>
            <p:spPr>
              <a:xfrm>
                <a:off x="3318480" y="4643280"/>
                <a:ext cx="943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584880" y="5348160"/>
              <a:ext cx="1156680" cy="280440"/>
              <a:chOff x="3584880" y="5348160"/>
              <a:chExt cx="1156680" cy="2804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584880" y="5348160"/>
                <a:ext cx="240840" cy="241200"/>
                <a:chOff x="3584880" y="5348160"/>
                <a:chExt cx="240840" cy="241200"/>
              </a:xfrm>
            </p:grpSpPr>
            <p:sp>
              <p:nvSpPr>
                <p:cNvPr id="299" name="Oval 522"/>
                <p:cNvSpPr/>
                <p:nvPr/>
              </p:nvSpPr>
              <p:spPr>
                <a:xfrm>
                  <a:off x="3584880" y="5348160"/>
                  <a:ext cx="2408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4747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523"/>
                <p:cNvSpPr/>
                <p:nvPr/>
              </p:nvSpPr>
              <p:spPr>
                <a:xfrm>
                  <a:off x="3587760" y="535140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d3d3"/>
                    </a:gs>
                    <a:gs pos="100000">
                      <a:srgbClr val="5c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524"/>
                <p:cNvSpPr/>
                <p:nvPr/>
              </p:nvSpPr>
              <p:spPr>
                <a:xfrm>
                  <a:off x="3603600" y="5354640"/>
                  <a:ext cx="202680" cy="5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525"/>
                <p:cNvSpPr/>
                <p:nvPr/>
              </p:nvSpPr>
              <p:spPr>
                <a:xfrm>
                  <a:off x="3670200" y="5367240"/>
                  <a:ext cx="759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Text Box 634"/>
              <p:cNvSpPr/>
              <p:nvPr/>
            </p:nvSpPr>
            <p:spPr>
              <a:xfrm>
                <a:off x="3797280" y="5349600"/>
                <a:ext cx="94428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956600" y="5759280"/>
              <a:ext cx="1148760" cy="280440"/>
              <a:chOff x="1956600" y="5759280"/>
              <a:chExt cx="1148760" cy="2804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1956600" y="5759280"/>
                <a:ext cx="240840" cy="241200"/>
                <a:chOff x="1956600" y="5759280"/>
                <a:chExt cx="240840" cy="241200"/>
              </a:xfrm>
            </p:grpSpPr>
            <p:sp>
              <p:nvSpPr>
                <p:cNvPr id="306" name="Oval 487"/>
                <p:cNvSpPr/>
                <p:nvPr/>
              </p:nvSpPr>
              <p:spPr>
                <a:xfrm>
                  <a:off x="1956600" y="5759280"/>
                  <a:ext cx="2408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4747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489"/>
                <p:cNvSpPr/>
                <p:nvPr/>
              </p:nvSpPr>
              <p:spPr>
                <a:xfrm>
                  <a:off x="1959480" y="5762520"/>
                  <a:ext cx="2343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d3d3"/>
                    </a:gs>
                    <a:gs pos="100000">
                      <a:srgbClr val="5c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491"/>
                <p:cNvSpPr/>
                <p:nvPr/>
              </p:nvSpPr>
              <p:spPr>
                <a:xfrm>
                  <a:off x="1975320" y="5765760"/>
                  <a:ext cx="202680" cy="5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dbdbd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492"/>
                <p:cNvSpPr/>
                <p:nvPr/>
              </p:nvSpPr>
              <p:spPr>
                <a:xfrm>
                  <a:off x="2041920" y="5778360"/>
                  <a:ext cx="759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00c7f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635"/>
              <p:cNvSpPr/>
              <p:nvPr/>
            </p:nvSpPr>
            <p:spPr>
              <a:xfrm>
                <a:off x="2161080" y="5760720"/>
                <a:ext cx="94428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8680" y="2573280"/>
            <a:ext cx="9047160" cy="4746960"/>
            <a:chOff x="58680" y="2573280"/>
            <a:chExt cx="9047160" cy="4746960"/>
          </a:xfrm>
        </p:grpSpPr>
        <p:grpSp>
          <p:nvGrpSpPr>
            <p:cNvPr id="314" name=""/>
            <p:cNvGrpSpPr/>
            <p:nvPr/>
          </p:nvGrpSpPr>
          <p:grpSpPr>
            <a:xfrm>
              <a:off x="60120" y="2573280"/>
              <a:ext cx="9045720" cy="1757520"/>
              <a:chOff x="60120" y="2573280"/>
              <a:chExt cx="9045720" cy="1757520"/>
            </a:xfrm>
          </p:grpSpPr>
          <p:sp>
            <p:nvSpPr>
              <p:cNvPr id="315" name="Rectangle 7"/>
              <p:cNvSpPr/>
              <p:nvPr/>
            </p:nvSpPr>
            <p:spPr>
              <a:xfrm>
                <a:off x="60120" y="2573280"/>
                <a:ext cx="977760" cy="1757520"/>
              </a:xfrm>
              <a:prstGeom prst="rect">
                <a:avLst/>
              </a:prstGeom>
              <a:solidFill>
                <a:srgbClr val="4d4d4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>
                <a:off x="7446600" y="2573280"/>
                <a:ext cx="1659240" cy="1757520"/>
              </a:xfrm>
              <a:prstGeom prst="pie">
                <a:avLst/>
              </a:prstGeom>
              <a:solidFill>
                <a:srgbClr val="4d4d4d"/>
              </a:solidFill>
              <a:ln w="7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1062000" y="2573280"/>
                <a:ext cx="1693800" cy="1757520"/>
                <a:chOff x="1062000" y="2573280"/>
                <a:chExt cx="1693800" cy="17575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1096920" y="2573280"/>
                  <a:ext cx="1658880" cy="1757520"/>
                  <a:chOff x="1096920" y="2573280"/>
                  <a:chExt cx="1658880" cy="1757520"/>
                </a:xfrm>
              </p:grpSpPr>
              <p:sp>
                <p:nvSpPr>
                  <p:cNvPr id="319" name="Freeform 8"/>
                  <p:cNvSpPr/>
                  <p:nvPr/>
                </p:nvSpPr>
                <p:spPr>
                  <a:xfrm>
                    <a:off x="1096920" y="2573280"/>
                    <a:ext cx="1658880" cy="1757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f11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5"/>
                  <p:cNvSpPr/>
                  <p:nvPr/>
                </p:nvSpPr>
                <p:spPr>
                  <a:xfrm>
                    <a:off x="1096920" y="2576520"/>
                    <a:ext cx="1654200" cy="87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Text Box 123"/>
                <p:cNvSpPr/>
                <p:nvPr/>
              </p:nvSpPr>
              <p:spPr>
                <a:xfrm>
                  <a:off x="1062000" y="327816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365200" y="2573280"/>
                <a:ext cx="1845720" cy="1757520"/>
                <a:chOff x="2365200" y="2573280"/>
                <a:chExt cx="1845720" cy="175752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2365200" y="2573280"/>
                  <a:ext cx="1661760" cy="1757520"/>
                  <a:chOff x="2365200" y="2573280"/>
                  <a:chExt cx="1661760" cy="1757520"/>
                </a:xfrm>
              </p:grpSpPr>
              <p:sp>
                <p:nvSpPr>
                  <p:cNvPr id="324" name="Freeform 9"/>
                  <p:cNvSpPr/>
                  <p:nvPr/>
                </p:nvSpPr>
                <p:spPr>
                  <a:xfrm>
                    <a:off x="2365200" y="2573280"/>
                    <a:ext cx="1661760" cy="1757520"/>
                  </a:xfrm>
                  <a:prstGeom prst="pie">
                    <a:avLst/>
                  </a:prstGeom>
                  <a:solidFill>
                    <a:srgbClr val="9b9b9b"/>
                  </a:solidFill>
                  <a:ln w="12600">
                    <a:solidFill>
                      <a:srgbClr val="56565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6"/>
                  <p:cNvSpPr/>
                  <p:nvPr/>
                </p:nvSpPr>
                <p:spPr>
                  <a:xfrm>
                    <a:off x="2365200" y="2573280"/>
                    <a:ext cx="1661760" cy="87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3a3a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Text Box 125"/>
                <p:cNvSpPr/>
                <p:nvPr/>
              </p:nvSpPr>
              <p:spPr>
                <a:xfrm>
                  <a:off x="2545920" y="3303360"/>
                  <a:ext cx="16650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636720" y="2573280"/>
                <a:ext cx="1881360" cy="1757520"/>
                <a:chOff x="3636720" y="2573280"/>
                <a:chExt cx="1881360" cy="175752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3636720" y="2573280"/>
                  <a:ext cx="1657440" cy="1757520"/>
                  <a:chOff x="3636720" y="2573280"/>
                  <a:chExt cx="1657440" cy="1757520"/>
                </a:xfrm>
              </p:grpSpPr>
              <p:sp>
                <p:nvSpPr>
                  <p:cNvPr id="329" name="Freeform 10"/>
                  <p:cNvSpPr/>
                  <p:nvPr/>
                </p:nvSpPr>
                <p:spPr>
                  <a:xfrm>
                    <a:off x="3636720" y="2573280"/>
                    <a:ext cx="1657440" cy="1757520"/>
                  </a:xfrm>
                  <a:prstGeom prst="pie">
                    <a:avLst/>
                  </a:prstGeom>
                  <a:solidFill>
                    <a:srgbClr val="9b9b9b"/>
                  </a:solidFill>
                  <a:ln w="12600">
                    <a:solidFill>
                      <a:srgbClr val="56565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7"/>
                  <p:cNvSpPr/>
                  <p:nvPr/>
                </p:nvSpPr>
                <p:spPr>
                  <a:xfrm>
                    <a:off x="3636720" y="2573280"/>
                    <a:ext cx="1657440" cy="87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3a3a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Text Box 126"/>
                <p:cNvSpPr/>
                <p:nvPr/>
              </p:nvSpPr>
              <p:spPr>
                <a:xfrm>
                  <a:off x="3852720" y="330336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903560" y="2573280"/>
                <a:ext cx="1871640" cy="1757520"/>
                <a:chOff x="4903560" y="2573280"/>
                <a:chExt cx="1871640" cy="175752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4903560" y="2573280"/>
                  <a:ext cx="1662120" cy="1757520"/>
                  <a:chOff x="4903560" y="2573280"/>
                  <a:chExt cx="1662120" cy="1757520"/>
                </a:xfrm>
              </p:grpSpPr>
              <p:sp>
                <p:nvSpPr>
                  <p:cNvPr id="334" name="Freeform 11"/>
                  <p:cNvSpPr/>
                  <p:nvPr/>
                </p:nvSpPr>
                <p:spPr>
                  <a:xfrm>
                    <a:off x="4903560" y="2573280"/>
                    <a:ext cx="1662120" cy="1757520"/>
                  </a:xfrm>
                  <a:prstGeom prst="pie">
                    <a:avLst/>
                  </a:prstGeom>
                  <a:solidFill>
                    <a:srgbClr val="9b9b9b"/>
                  </a:solidFill>
                  <a:ln w="12600">
                    <a:solidFill>
                      <a:srgbClr val="56565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18"/>
                  <p:cNvSpPr/>
                  <p:nvPr/>
                </p:nvSpPr>
                <p:spPr>
                  <a:xfrm>
                    <a:off x="4903560" y="2573280"/>
                    <a:ext cx="1662120" cy="87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3a3a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Text Box 127"/>
                <p:cNvSpPr/>
                <p:nvPr/>
              </p:nvSpPr>
              <p:spPr>
                <a:xfrm>
                  <a:off x="5109840" y="330336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175080" y="2573280"/>
                <a:ext cx="1889280" cy="1757520"/>
                <a:chOff x="6175080" y="2573280"/>
                <a:chExt cx="1889280" cy="17575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6175080" y="2573280"/>
                  <a:ext cx="1662120" cy="1757520"/>
                  <a:chOff x="6175080" y="2573280"/>
                  <a:chExt cx="1662120" cy="1757520"/>
                </a:xfrm>
              </p:grpSpPr>
              <p:sp>
                <p:nvSpPr>
                  <p:cNvPr id="339" name="Freeform 12"/>
                  <p:cNvSpPr/>
                  <p:nvPr/>
                </p:nvSpPr>
                <p:spPr>
                  <a:xfrm>
                    <a:off x="6175080" y="2573280"/>
                    <a:ext cx="1662120" cy="1757520"/>
                  </a:xfrm>
                  <a:prstGeom prst="pie">
                    <a:avLst/>
                  </a:prstGeom>
                  <a:solidFill>
                    <a:srgbClr val="0075ea"/>
                  </a:solidFill>
                  <a:ln w="12600">
                    <a:solidFill>
                      <a:srgbClr val="006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19"/>
                  <p:cNvSpPr/>
                  <p:nvPr/>
                </p:nvSpPr>
                <p:spPr>
                  <a:xfrm>
                    <a:off x="6175080" y="2573280"/>
                    <a:ext cx="1662120" cy="87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75ea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Text Box 128"/>
                <p:cNvSpPr/>
                <p:nvPr/>
              </p:nvSpPr>
              <p:spPr>
                <a:xfrm>
                  <a:off x="6399000" y="330336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8680" y="4402080"/>
              <a:ext cx="9042480" cy="2918160"/>
              <a:chOff x="58680" y="4402080"/>
              <a:chExt cx="9042480" cy="29181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8680" y="4402080"/>
                <a:ext cx="9042480" cy="879480"/>
                <a:chOff x="58680" y="4402080"/>
                <a:chExt cx="9042480" cy="879480"/>
              </a:xfrm>
            </p:grpSpPr>
            <p:sp>
              <p:nvSpPr>
                <p:cNvPr id="344" name="Freeform 110"/>
                <p:cNvSpPr/>
                <p:nvPr/>
              </p:nvSpPr>
              <p:spPr>
                <a:xfrm>
                  <a:off x="1096920" y="4405320"/>
                  <a:ext cx="1654200" cy="87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ff99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11"/>
                <p:cNvSpPr/>
                <p:nvPr/>
              </p:nvSpPr>
              <p:spPr>
                <a:xfrm>
                  <a:off x="2365200" y="4402080"/>
                  <a:ext cx="1662120" cy="87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a3a3a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12"/>
                <p:cNvSpPr/>
                <p:nvPr/>
              </p:nvSpPr>
              <p:spPr>
                <a:xfrm>
                  <a:off x="3637080" y="4402080"/>
                  <a:ext cx="1657080" cy="87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a3a3a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13"/>
                <p:cNvSpPr/>
                <p:nvPr/>
              </p:nvSpPr>
              <p:spPr>
                <a:xfrm>
                  <a:off x="4903560" y="4402080"/>
                  <a:ext cx="1662120" cy="87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a3a3a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14"/>
                <p:cNvSpPr/>
                <p:nvPr/>
              </p:nvSpPr>
              <p:spPr>
                <a:xfrm>
                  <a:off x="6175440" y="4402080"/>
                  <a:ext cx="1662120" cy="87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0075e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15"/>
                <p:cNvSpPr/>
                <p:nvPr/>
              </p:nvSpPr>
              <p:spPr>
                <a:xfrm>
                  <a:off x="58680" y="4408560"/>
                  <a:ext cx="984240" cy="873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ff99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16"/>
                <p:cNvSpPr/>
                <p:nvPr/>
              </p:nvSpPr>
              <p:spPr>
                <a:xfrm>
                  <a:off x="7450200" y="4405320"/>
                  <a:ext cx="1650960" cy="869760"/>
                </a:xfrm>
                <a:prstGeom prst="pie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ff99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017360" y="4448160"/>
                <a:ext cx="7446960" cy="2872080"/>
                <a:chOff x="1017360" y="4448160"/>
                <a:chExt cx="7446960" cy="2872080"/>
              </a:xfrm>
            </p:grpSpPr>
            <p:sp>
              <p:nvSpPr>
                <p:cNvPr id="352" name="Line 129"/>
                <p:cNvSpPr/>
                <p:nvPr/>
              </p:nvSpPr>
              <p:spPr>
                <a:xfrm>
                  <a:off x="3041280" y="4448160"/>
                  <a:ext cx="0" cy="1888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30"/>
                <p:cNvSpPr/>
                <p:nvPr/>
              </p:nvSpPr>
              <p:spPr>
                <a:xfrm>
                  <a:off x="5921280" y="4448160"/>
                  <a:ext cx="0" cy="1888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134"/>
                <p:cNvSpPr/>
                <p:nvPr/>
              </p:nvSpPr>
              <p:spPr>
                <a:xfrm>
                  <a:off x="1017360" y="4598640"/>
                  <a:ext cx="2340000" cy="24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baseline="-25000">
                      <a:solidFill>
                        <a:srgbClr val="ff9900"/>
                      </a:solidFill>
                      <a:latin typeface="Arial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baseline="-25000">
                      <a:solidFill>
                        <a:srgbClr val="ff9900"/>
                      </a:solidFill>
                      <a:latin typeface="Arial"/>
                    </a:rPr>
                    <a:t>add text here to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too add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Text her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 Box 137"/>
                <p:cNvSpPr/>
                <p:nvPr/>
              </p:nvSpPr>
              <p:spPr>
                <a:xfrm>
                  <a:off x="6124320" y="4598640"/>
                  <a:ext cx="2340000" cy="10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baseline="-25000">
                      <a:solidFill>
                        <a:srgbClr val="006dda"/>
                      </a:solidFill>
                      <a:latin typeface="Arial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too add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139"/>
                <p:cNvSpPr/>
                <p:nvPr/>
              </p:nvSpPr>
              <p:spPr>
                <a:xfrm>
                  <a:off x="3311280" y="4598640"/>
                  <a:ext cx="2610000" cy="272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Heading goes add 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7" name="Text Box 156"/>
          <p:cNvSpPr/>
          <p:nvPr/>
        </p:nvSpPr>
        <p:spPr>
          <a:xfrm>
            <a:off x="-287280" y="1216080"/>
            <a:ext cx="502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LICK TO TYPE 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8"/>
          <p:cNvSpPr/>
          <p:nvPr/>
        </p:nvSpPr>
        <p:spPr>
          <a:xfrm>
            <a:off x="15840" y="1558800"/>
            <a:ext cx="7245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lick to type slide title click to type slide title click to type slid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lick to type slide title click to type slide title click to type slide title click to type slid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6"/>
          <p:cNvSpPr/>
          <p:nvPr/>
        </p:nvSpPr>
        <p:spPr>
          <a:xfrm>
            <a:off x="-541440" y="6343560"/>
            <a:ext cx="41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.glzy8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-115920" y="2838600"/>
            <a:ext cx="9294480" cy="3359160"/>
            <a:chOff x="-115920" y="2838600"/>
            <a:chExt cx="9294480" cy="3359160"/>
          </a:xfrm>
        </p:grpSpPr>
        <p:grpSp>
          <p:nvGrpSpPr>
            <p:cNvPr id="362" name=""/>
            <p:cNvGrpSpPr/>
            <p:nvPr/>
          </p:nvGrpSpPr>
          <p:grpSpPr>
            <a:xfrm>
              <a:off x="2728080" y="2949840"/>
              <a:ext cx="2922840" cy="2643120"/>
              <a:chOff x="2728080" y="2949840"/>
              <a:chExt cx="2922840" cy="2643120"/>
            </a:xfrm>
          </p:grpSpPr>
          <p:sp>
            <p:nvSpPr>
              <p:cNvPr id="363" name="AutoShape 46"/>
              <p:cNvSpPr/>
              <p:nvPr/>
            </p:nvSpPr>
            <p:spPr>
              <a:xfrm>
                <a:off x="2728080" y="5053320"/>
                <a:ext cx="2385360" cy="507960"/>
              </a:xfrm>
              <a:prstGeom prst="pie">
                <a:avLst/>
              </a:prstGeom>
              <a:gradFill rotWithShape="0">
                <a:gsLst>
                  <a:gs pos="0">
                    <a:srgbClr val="3b3b3b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3399120" y="2949840"/>
                <a:ext cx="2251800" cy="2643120"/>
                <a:chOff x="3399120" y="2949840"/>
                <a:chExt cx="2251800" cy="2643120"/>
              </a:xfrm>
            </p:grpSpPr>
            <p:sp>
              <p:nvSpPr>
                <p:cNvPr id="365" name="Freeform 8"/>
                <p:cNvSpPr/>
                <p:nvPr/>
              </p:nvSpPr>
              <p:spPr>
                <a:xfrm>
                  <a:off x="4357440" y="3159360"/>
                  <a:ext cx="274320" cy="233280"/>
                </a:xfrm>
                <a:prstGeom prst="pi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1818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9"/>
                <p:cNvSpPr/>
                <p:nvPr/>
              </p:nvSpPr>
              <p:spPr>
                <a:xfrm>
                  <a:off x="4268880" y="3024360"/>
                  <a:ext cx="362880" cy="135000"/>
                </a:xfrm>
                <a:prstGeom prst="pie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0"/>
                <p:cNvSpPr/>
                <p:nvPr/>
              </p:nvSpPr>
              <p:spPr>
                <a:xfrm>
                  <a:off x="4092480" y="2949840"/>
                  <a:ext cx="178920" cy="123840"/>
                </a:xfrm>
                <a:prstGeom prst="pie">
                  <a:avLst/>
                </a:prstGeom>
                <a:solidFill>
                  <a:srgbClr val="7819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13"/>
                <p:cNvSpPr/>
                <p:nvPr/>
              </p:nvSpPr>
              <p:spPr>
                <a:xfrm>
                  <a:off x="3495600" y="4678560"/>
                  <a:ext cx="1106280" cy="85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14"/>
                <p:cNvSpPr/>
                <p:nvPr/>
              </p:nvSpPr>
              <p:spPr>
                <a:xfrm>
                  <a:off x="5329080" y="4051440"/>
                  <a:ext cx="261720" cy="26676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5"/>
                <p:cNvSpPr/>
                <p:nvPr/>
              </p:nvSpPr>
              <p:spPr>
                <a:xfrm>
                  <a:off x="4451400" y="5372280"/>
                  <a:ext cx="502920" cy="220680"/>
                </a:xfrm>
                <a:prstGeom prst="pie">
                  <a:avLst/>
                </a:prstGeom>
                <a:solidFill>
                  <a:srgbClr val="45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17"/>
                <p:cNvSpPr/>
                <p:nvPr/>
              </p:nvSpPr>
              <p:spPr>
                <a:xfrm>
                  <a:off x="4268880" y="3005280"/>
                  <a:ext cx="327960" cy="19080"/>
                </a:xfrm>
                <a:prstGeom prst="pi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18181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8"/>
                <p:cNvSpPr/>
                <p:nvPr/>
              </p:nvSpPr>
              <p:spPr>
                <a:xfrm>
                  <a:off x="4991040" y="3992760"/>
                  <a:ext cx="480600" cy="270000"/>
                </a:xfrm>
                <a:prstGeom prst="pie">
                  <a:avLst/>
                </a:prstGeom>
                <a:solidFill>
                  <a:srgbClr val="282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9"/>
                <p:cNvSpPr/>
                <p:nvPr/>
              </p:nvSpPr>
              <p:spPr>
                <a:xfrm>
                  <a:off x="4695840" y="4169160"/>
                  <a:ext cx="605880" cy="936360"/>
                </a:xfrm>
                <a:prstGeom prst="pie">
                  <a:avLst/>
                </a:prstGeom>
                <a:gradFill rotWithShape="0">
                  <a:gsLst>
                    <a:gs pos="0">
                      <a:srgbClr val="5a5a5a"/>
                    </a:gs>
                    <a:gs pos="50000">
                      <a:srgbClr val="e8e8e8"/>
                    </a:gs>
                    <a:gs pos="100000">
                      <a:srgbClr val="5a5a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6"/>
                <p:cNvSpPr/>
                <p:nvPr/>
              </p:nvSpPr>
              <p:spPr>
                <a:xfrm>
                  <a:off x="4451400" y="4962960"/>
                  <a:ext cx="367920" cy="409320"/>
                </a:xfrm>
                <a:prstGeom prst="pi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20"/>
                <p:cNvSpPr/>
                <p:nvPr/>
              </p:nvSpPr>
              <p:spPr>
                <a:xfrm>
                  <a:off x="4605120" y="4051440"/>
                  <a:ext cx="1001520" cy="154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797979"/>
                    </a:gs>
                    <a:gs pos="50000">
                      <a:srgbClr val="5a5a5a"/>
                    </a:gs>
                    <a:gs pos="100000">
                      <a:srgbClr val="79797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21"/>
                <p:cNvSpPr/>
                <p:nvPr/>
              </p:nvSpPr>
              <p:spPr>
                <a:xfrm>
                  <a:off x="5400720" y="3822840"/>
                  <a:ext cx="250200" cy="34920"/>
                </a:xfrm>
                <a:prstGeom prst="pie">
                  <a:avLst/>
                </a:prstGeom>
                <a:gradFill rotWithShape="0">
                  <a:gsLst>
                    <a:gs pos="0">
                      <a:srgbClr val="181818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22"/>
                <p:cNvSpPr/>
                <p:nvPr/>
              </p:nvSpPr>
              <p:spPr>
                <a:xfrm>
                  <a:off x="4448160" y="3381480"/>
                  <a:ext cx="809280" cy="573120"/>
                </a:xfrm>
                <a:prstGeom prst="pi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c4c4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3"/>
                <p:cNvSpPr/>
                <p:nvPr/>
              </p:nvSpPr>
              <p:spPr>
                <a:xfrm>
                  <a:off x="4991040" y="3954600"/>
                  <a:ext cx="266400" cy="38160"/>
                </a:xfrm>
                <a:prstGeom prst="pie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60640" y="3530880"/>
                  <a:ext cx="1324800" cy="1473120"/>
                  <a:chOff x="3860640" y="3530880"/>
                  <a:chExt cx="1324800" cy="1473120"/>
                </a:xfrm>
              </p:grpSpPr>
              <p:sp>
                <p:nvSpPr>
                  <p:cNvPr id="380" name="Freeform 37"/>
                  <p:cNvSpPr/>
                  <p:nvPr/>
                </p:nvSpPr>
                <p:spPr>
                  <a:xfrm>
                    <a:off x="3860640" y="3530880"/>
                    <a:ext cx="742680" cy="1473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14369"/>
                      </a:gs>
                      <a:gs pos="50000">
                        <a:srgbClr val="a6c4e2"/>
                      </a:gs>
                      <a:gs pos="100000">
                        <a:srgbClr val="2143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30"/>
                  <p:cNvSpPr/>
                  <p:nvPr/>
                </p:nvSpPr>
                <p:spPr>
                  <a:xfrm>
                    <a:off x="4012560" y="4280040"/>
                    <a:ext cx="1172880" cy="723960"/>
                  </a:xfrm>
                  <a:prstGeom prst="pie">
                    <a:avLst/>
                  </a:prstGeom>
                  <a:solidFill>
                    <a:srgbClr val="306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1"/>
                  <p:cNvSpPr/>
                  <p:nvPr/>
                </p:nvSpPr>
                <p:spPr>
                  <a:xfrm>
                    <a:off x="4012560" y="3530880"/>
                    <a:ext cx="1172880" cy="720720"/>
                  </a:xfrm>
                  <a:prstGeom prst="pie">
                    <a:avLst/>
                  </a:prstGeom>
                  <a:solidFill>
                    <a:srgbClr val="306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Freeform 24"/>
                <p:cNvSpPr/>
                <p:nvPr/>
              </p:nvSpPr>
              <p:spPr>
                <a:xfrm>
                  <a:off x="4417920" y="3005280"/>
                  <a:ext cx="1233000" cy="1257480"/>
                </a:xfrm>
                <a:prstGeom prst="pie">
                  <a:avLst/>
                </a:prstGeom>
                <a:gradFill rotWithShape="0">
                  <a:gsLst>
                    <a:gs pos="0">
                      <a:srgbClr val="181818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5"/>
                <p:cNvSpPr/>
                <p:nvPr/>
              </p:nvSpPr>
              <p:spPr>
                <a:xfrm>
                  <a:off x="4197240" y="3440520"/>
                  <a:ext cx="182160" cy="142560"/>
                </a:xfrm>
                <a:prstGeom prst="pie">
                  <a:avLst/>
                </a:prstGeom>
                <a:solidFill>
                  <a:srgbClr val="6d18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6"/>
                <p:cNvSpPr/>
                <p:nvPr/>
              </p:nvSpPr>
              <p:spPr>
                <a:xfrm>
                  <a:off x="3564000" y="4227840"/>
                  <a:ext cx="335880" cy="150840"/>
                </a:xfrm>
                <a:prstGeom prst="pie">
                  <a:avLst/>
                </a:prstGeom>
                <a:solidFill>
                  <a:srgbClr val="6d18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7"/>
                <p:cNvSpPr/>
                <p:nvPr/>
              </p:nvSpPr>
              <p:spPr>
                <a:xfrm>
                  <a:off x="3399120" y="4273920"/>
                  <a:ext cx="325080" cy="438120"/>
                </a:xfrm>
                <a:prstGeom prst="pie">
                  <a:avLst/>
                </a:prstGeom>
                <a:gradFill rotWithShape="0">
                  <a:gsLst>
                    <a:gs pos="0">
                      <a:srgbClr val="848484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8"/>
                <p:cNvSpPr/>
                <p:nvPr/>
              </p:nvSpPr>
              <p:spPr>
                <a:xfrm>
                  <a:off x="3548160" y="4273920"/>
                  <a:ext cx="1229760" cy="1255680"/>
                </a:xfrm>
                <a:prstGeom prst="pie">
                  <a:avLst/>
                </a:prstGeom>
                <a:gradFill rotWithShape="0">
                  <a:gsLst>
                    <a:gs pos="0">
                      <a:srgbClr val="9e9e9e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9"/>
                <p:cNvSpPr/>
                <p:nvPr/>
              </p:nvSpPr>
              <p:spPr>
                <a:xfrm>
                  <a:off x="3440160" y="3073680"/>
                  <a:ext cx="831240" cy="141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7f1b13"/>
                    </a:gs>
                    <a:gs pos="100000">
                      <a:srgbClr val="dc2f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32"/>
                <p:cNvSpPr/>
                <p:nvPr/>
              </p:nvSpPr>
              <p:spPr>
                <a:xfrm>
                  <a:off x="3593880" y="2949840"/>
                  <a:ext cx="1000080" cy="1541520"/>
                </a:xfrm>
                <a:prstGeom prst="pie">
                  <a:avLst/>
                </a:prstGeom>
                <a:solidFill>
                  <a:srgbClr val="7f1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33"/>
                <p:cNvSpPr/>
                <p:nvPr/>
              </p:nvSpPr>
              <p:spPr>
                <a:xfrm>
                  <a:off x="4448160" y="5143680"/>
                  <a:ext cx="239400" cy="6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e9e9e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WordArt 39"/>
                <p:cNvSpPr txBox="1"/>
                <p:nvPr/>
              </p:nvSpPr>
              <p:spPr>
                <a:xfrm rot="18171000">
                  <a:off x="3654000" y="3414960"/>
                  <a:ext cx="1265400" cy="93132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>
                  <a:prstTxWarp prst="textArchUp">
                    <a:avLst>
                      <a:gd name="adj" fmla="val 1329166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1" strike="noStrike">
                      <a:ln w="39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Add text in here</a:t>
                  </a:r>
                  <a:endParaRPr b="0" lang="en-US" sz="1200" spc="1" strike="noStrike">
                    <a:ln w="39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392" name="WordArt 40"/>
                <p:cNvSpPr txBox="1"/>
                <p:nvPr/>
              </p:nvSpPr>
              <p:spPr>
                <a:xfrm rot="13339200">
                  <a:off x="3713040" y="4294080"/>
                  <a:ext cx="1265040" cy="932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>
                  <a:prstTxWarp prst="textArchUp">
                    <a:avLst>
                      <a:gd name="adj" fmla="val 1329166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1" strike="noStrike">
                      <a:ln w="39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Add text in here</a:t>
                  </a:r>
                  <a:endParaRPr b="0" lang="en-US" sz="1200" spc="1" strike="noStrike">
                    <a:ln w="39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393" name="WordArt 41"/>
                <p:cNvSpPr txBox="1"/>
                <p:nvPr/>
              </p:nvSpPr>
              <p:spPr>
                <a:xfrm rot="7121400">
                  <a:off x="4287600" y="4185000"/>
                  <a:ext cx="1265040" cy="931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>
                  <a:prstTxWarp prst="textArchUp">
                    <a:avLst>
                      <a:gd name="adj" fmla="val 1329166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1" strike="noStrike">
                      <a:ln w="39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Add text in here</a:t>
                  </a:r>
                  <a:endParaRPr b="0" lang="en-US" sz="1200" spc="1" strike="noStrike">
                    <a:ln w="39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394" name="WordArt 42"/>
                <p:cNvSpPr txBox="1"/>
                <p:nvPr/>
              </p:nvSpPr>
              <p:spPr>
                <a:xfrm rot="2644800">
                  <a:off x="4195440" y="3303720"/>
                  <a:ext cx="1264680" cy="932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>
                  <a:prstTxWarp prst="textArchUp">
                    <a:avLst>
                      <a:gd name="adj" fmla="val 1329166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1" strike="noStrike">
                      <a:ln w="39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Add text in here</a:t>
                  </a:r>
                  <a:endParaRPr b="0" lang="en-US" sz="1200" spc="1" strike="noStrike">
                    <a:ln w="39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395" name="Text Box 43"/>
                <p:cNvSpPr/>
                <p:nvPr/>
              </p:nvSpPr>
              <p:spPr>
                <a:xfrm>
                  <a:off x="3938400" y="3899160"/>
                  <a:ext cx="135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ext he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44"/>
                <p:cNvSpPr/>
                <p:nvPr/>
              </p:nvSpPr>
              <p:spPr>
                <a:xfrm>
                  <a:off x="3894120" y="4326120"/>
                  <a:ext cx="135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ext he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-115920" y="2838600"/>
              <a:ext cx="3056760" cy="3359160"/>
              <a:chOff x="-115920" y="2838600"/>
              <a:chExt cx="3056760" cy="3359160"/>
            </a:xfrm>
          </p:grpSpPr>
          <p:sp>
            <p:nvSpPr>
              <p:cNvPr id="398" name="Oval 53"/>
              <p:cNvSpPr/>
              <p:nvPr/>
            </p:nvSpPr>
            <p:spPr>
              <a:xfrm>
                <a:off x="-115920" y="5548320"/>
                <a:ext cx="3056760" cy="649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2352"/>
                    </a:srgbClr>
                  </a:gs>
                  <a:gs pos="100000">
                    <a:srgbClr val="3a3a3a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49"/>
              <p:cNvSpPr/>
              <p:nvPr/>
            </p:nvSpPr>
            <p:spPr>
              <a:xfrm>
                <a:off x="433080" y="2838600"/>
                <a:ext cx="2000880" cy="2933640"/>
              </a:xfrm>
              <a:custGeom>
                <a:avLst/>
                <a:gdLst>
                  <a:gd name="textAreaLeft" fmla="*/ 97560 w 2000880"/>
                  <a:gd name="textAreaRight" fmla="*/ 1903320 w 2000880"/>
                  <a:gd name="textAreaTop" fmla="*/ 97560 h 2933640"/>
                  <a:gd name="textAreaBottom" fmla="*/ 2836080 h 2933640"/>
                </a:gdLst>
                <a:ahLst/>
                <a:rect l="textAreaLeft" t="textAreaTop" r="textAreaRight" b="textAreaBottom"/>
                <a:pathLst>
                  <a:path w="21600" h="31668">
                    <a:moveTo>
                      <a:pt x="3600" y="0"/>
                    </a:moveTo>
                    <a:arcTo wR="3600" hR="3600" stAng="16200000" swAng="-5400000"/>
                    <a:lnTo>
                      <a:pt x="0" y="28068"/>
                    </a:lnTo>
                    <a:arcTo wR="3600" hR="3600" stAng="10800000" swAng="-5400000"/>
                    <a:lnTo>
                      <a:pt x="18000" y="316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>
                  <a:alpha val="61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0"/>
              <p:cNvSpPr/>
              <p:nvPr/>
            </p:nvSpPr>
            <p:spPr>
              <a:xfrm>
                <a:off x="623520" y="3024360"/>
                <a:ext cx="2013840" cy="24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b12528"/>
                    </a:solidFill>
                    <a:latin typeface="Arial"/>
                  </a:rPr>
                  <a:t>Add text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b12528"/>
                    </a:solidFill>
                    <a:latin typeface="Arial"/>
                  </a:rPr>
                  <a:t>Add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b12528"/>
                    </a:solidFill>
                    <a:latin typeface="Arial"/>
                  </a:rPr>
                  <a:t>Add text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b12528"/>
                    </a:solidFill>
                    <a:latin typeface="Arial"/>
                  </a:rPr>
                  <a:t>Add text in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121800" y="2838600"/>
              <a:ext cx="3056760" cy="3359160"/>
              <a:chOff x="6121800" y="2838600"/>
              <a:chExt cx="3056760" cy="3359160"/>
            </a:xfrm>
          </p:grpSpPr>
          <p:sp>
            <p:nvSpPr>
              <p:cNvPr id="402" name="Oval 56"/>
              <p:cNvSpPr/>
              <p:nvPr/>
            </p:nvSpPr>
            <p:spPr>
              <a:xfrm>
                <a:off x="6121800" y="5548320"/>
                <a:ext cx="3056760" cy="649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2352"/>
                    </a:srgbClr>
                  </a:gs>
                  <a:gs pos="100000">
                    <a:srgbClr val="3a3a3a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57"/>
              <p:cNvSpPr/>
              <p:nvPr/>
            </p:nvSpPr>
            <p:spPr>
              <a:xfrm>
                <a:off x="6670800" y="2838600"/>
                <a:ext cx="2000880" cy="2933640"/>
              </a:xfrm>
              <a:custGeom>
                <a:avLst/>
                <a:gdLst>
                  <a:gd name="textAreaLeft" fmla="*/ 97560 w 2000880"/>
                  <a:gd name="textAreaRight" fmla="*/ 1903320 w 2000880"/>
                  <a:gd name="textAreaTop" fmla="*/ 97560 h 2933640"/>
                  <a:gd name="textAreaBottom" fmla="*/ 2836080 h 2933640"/>
                </a:gdLst>
                <a:ahLst/>
                <a:rect l="textAreaLeft" t="textAreaTop" r="textAreaRight" b="textAreaBottom"/>
                <a:pathLst>
                  <a:path w="21600" h="31668">
                    <a:moveTo>
                      <a:pt x="3600" y="0"/>
                    </a:moveTo>
                    <a:arcTo wR="3600" hR="3600" stAng="16200000" swAng="-5400000"/>
                    <a:lnTo>
                      <a:pt x="0" y="28068"/>
                    </a:lnTo>
                    <a:arcTo wR="3600" hR="3600" stAng="10800000" swAng="-5400000"/>
                    <a:lnTo>
                      <a:pt x="18000" y="316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>
                  <a:alpha val="61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58"/>
              <p:cNvSpPr/>
              <p:nvPr/>
            </p:nvSpPr>
            <p:spPr>
              <a:xfrm>
                <a:off x="6861240" y="3024360"/>
                <a:ext cx="2013840" cy="24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684c2"/>
                    </a:solidFill>
                    <a:latin typeface="Arial"/>
                  </a:rPr>
                  <a:t>Add text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684c2"/>
                    </a:solidFill>
                    <a:latin typeface="Arial"/>
                  </a:rPr>
                  <a:t>Add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684c2"/>
                    </a:solidFill>
                    <a:latin typeface="Arial"/>
                  </a:rPr>
                  <a:t>Add text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684c2"/>
                    </a:solidFill>
                    <a:latin typeface="Arial"/>
                  </a:rPr>
                  <a:t>Add text in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612720" y="6021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541440" y="1449360"/>
            <a:ext cx="8378640" cy="5475600"/>
            <a:chOff x="-541440" y="1449360"/>
            <a:chExt cx="8378640" cy="5475600"/>
          </a:xfrm>
        </p:grpSpPr>
        <p:grpSp>
          <p:nvGrpSpPr>
            <p:cNvPr id="408" name=""/>
            <p:cNvGrpSpPr/>
            <p:nvPr/>
          </p:nvGrpSpPr>
          <p:grpSpPr>
            <a:xfrm>
              <a:off x="658440" y="2651040"/>
              <a:ext cx="3148560" cy="3164040"/>
              <a:chOff x="658440" y="2651040"/>
              <a:chExt cx="3148560" cy="3164040"/>
            </a:xfrm>
          </p:grpSpPr>
          <p:sp>
            <p:nvSpPr>
              <p:cNvPr id="409" name="Freeform 17"/>
              <p:cNvSpPr/>
              <p:nvPr/>
            </p:nvSpPr>
            <p:spPr>
              <a:xfrm>
                <a:off x="723240" y="2651040"/>
                <a:ext cx="1503000" cy="1843200"/>
              </a:xfrm>
              <a:prstGeom prst="pie">
                <a:avLst/>
              </a:prstGeom>
              <a:gradFill rotWithShape="0">
                <a:gsLst>
                  <a:gs pos="0">
                    <a:srgbClr val="a6c4e2"/>
                  </a:gs>
                  <a:gs pos="100000">
                    <a:srgbClr val="e2ecf6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8"/>
              <p:cNvSpPr/>
              <p:nvPr/>
            </p:nvSpPr>
            <p:spPr>
              <a:xfrm>
                <a:off x="2238840" y="3970080"/>
                <a:ext cx="1503000" cy="1845000"/>
              </a:xfrm>
              <a:prstGeom prst="pie">
                <a:avLst/>
              </a:prstGeom>
              <a:gradFill rotWithShape="0">
                <a:gsLst>
                  <a:gs pos="0">
                    <a:srgbClr val="80abd6"/>
                  </a:gs>
                  <a:gs pos="100000">
                    <a:srgbClr val="356da5"/>
                  </a:gs>
                </a:gsLst>
                <a:lin ang="108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8"/>
              <p:cNvSpPr/>
              <p:nvPr/>
            </p:nvSpPr>
            <p:spPr>
              <a:xfrm>
                <a:off x="658440" y="4232160"/>
                <a:ext cx="1843920" cy="1501920"/>
              </a:xfrm>
              <a:prstGeom prst="pie">
                <a:avLst/>
              </a:prstGeom>
              <a:gradFill rotWithShape="0">
                <a:gsLst>
                  <a:gs pos="0">
                    <a:srgbClr val="182f44"/>
                  </a:gs>
                  <a:gs pos="100000">
                    <a:srgbClr val="3c78ae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9"/>
              <p:cNvSpPr/>
              <p:nvPr/>
            </p:nvSpPr>
            <p:spPr>
              <a:xfrm>
                <a:off x="1964520" y="2716200"/>
                <a:ext cx="1842480" cy="1501560"/>
              </a:xfrm>
              <a:prstGeom prst="pie">
                <a:avLst/>
              </a:prstGeom>
              <a:gradFill rotWithShape="0">
                <a:gsLst>
                  <a:gs pos="0">
                    <a:srgbClr val="bad2f8"/>
                  </a:gs>
                  <a:gs pos="100000">
                    <a:srgbClr val="6196ed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53600" y="3341520"/>
              <a:ext cx="1761840" cy="1768320"/>
              <a:chOff x="1353600" y="3341520"/>
              <a:chExt cx="1761840" cy="17683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53600" y="3341520"/>
                <a:ext cx="1761840" cy="1768320"/>
                <a:chOff x="1353600" y="3341520"/>
                <a:chExt cx="1761840" cy="1768320"/>
              </a:xfrm>
            </p:grpSpPr>
            <p:sp>
              <p:nvSpPr>
                <p:cNvPr id="415" name="Freeform 7"/>
                <p:cNvSpPr/>
                <p:nvPr/>
              </p:nvSpPr>
              <p:spPr>
                <a:xfrm>
                  <a:off x="1353600" y="3344760"/>
                  <a:ext cx="1761840" cy="86508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8"/>
                <p:cNvSpPr/>
                <p:nvPr/>
              </p:nvSpPr>
              <p:spPr>
                <a:xfrm>
                  <a:off x="1353600" y="4243320"/>
                  <a:ext cx="1761840" cy="86364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3"/>
                <p:cNvSpPr/>
                <p:nvPr/>
              </p:nvSpPr>
              <p:spPr>
                <a:xfrm>
                  <a:off x="1362600" y="3349440"/>
                  <a:ext cx="1742760" cy="858960"/>
                </a:xfrm>
                <a:prstGeom prst="pie">
                  <a:avLst/>
                </a:prstGeom>
                <a:solidFill>
                  <a:srgbClr val="ff9900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4"/>
                <p:cNvSpPr/>
                <p:nvPr/>
              </p:nvSpPr>
              <p:spPr>
                <a:xfrm>
                  <a:off x="1362600" y="4241520"/>
                  <a:ext cx="1742760" cy="857520"/>
                </a:xfrm>
                <a:prstGeom prst="pie">
                  <a:avLst/>
                </a:prstGeom>
                <a:solidFill>
                  <a:srgbClr val="ff9900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51"/>
                <p:cNvSpPr/>
                <p:nvPr/>
              </p:nvSpPr>
              <p:spPr>
                <a:xfrm>
                  <a:off x="1512000" y="4728960"/>
                  <a:ext cx="1450440" cy="38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00">
                        <a:alpha val="0"/>
                      </a:srgbClr>
                    </a:gs>
                    <a:gs pos="100000">
                      <a:srgbClr val="ffffff">
                        <a:alpha val="9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0"/>
                <p:cNvSpPr/>
                <p:nvPr/>
              </p:nvSpPr>
              <p:spPr>
                <a:xfrm>
                  <a:off x="1427760" y="3341520"/>
                  <a:ext cx="1612800" cy="52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ff99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5"/>
                <p:cNvSpPr/>
                <p:nvPr/>
              </p:nvSpPr>
              <p:spPr>
                <a:xfrm>
                  <a:off x="2008800" y="3429000"/>
                  <a:ext cx="3600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Text Box 56"/>
              <p:cNvSpPr/>
              <p:nvPr/>
            </p:nvSpPr>
            <p:spPr>
              <a:xfrm>
                <a:off x="1670760" y="3800160"/>
                <a:ext cx="112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57"/>
              <p:cNvSpPr/>
              <p:nvPr/>
            </p:nvSpPr>
            <p:spPr>
              <a:xfrm>
                <a:off x="1670760" y="4251240"/>
                <a:ext cx="112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871000" y="2733480"/>
              <a:ext cx="4966200" cy="2862000"/>
              <a:chOff x="2871000" y="2733480"/>
              <a:chExt cx="4966200" cy="2862000"/>
            </a:xfrm>
          </p:grpSpPr>
          <p:sp>
            <p:nvSpPr>
              <p:cNvPr id="425" name="Freeform 59"/>
              <p:cNvSpPr/>
              <p:nvPr/>
            </p:nvSpPr>
            <p:spPr>
              <a:xfrm>
                <a:off x="2871000" y="2733480"/>
                <a:ext cx="4966200" cy="1562040"/>
              </a:xfrm>
              <a:prstGeom prst="pie">
                <a:avLst/>
              </a:prstGeom>
              <a:noFill/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5267520" y="2801880"/>
                <a:ext cx="2430720" cy="2793600"/>
                <a:chOff x="5267520" y="2801880"/>
                <a:chExt cx="2430720" cy="2793600"/>
              </a:xfrm>
            </p:grpSpPr>
            <p:sp>
              <p:nvSpPr>
                <p:cNvPr id="427" name="Text Box 97"/>
                <p:cNvSpPr/>
                <p:nvPr/>
              </p:nvSpPr>
              <p:spPr>
                <a:xfrm>
                  <a:off x="5267520" y="2801880"/>
                  <a:ext cx="206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6600"/>
                      </a:solidFill>
                      <a:latin typeface="Arial"/>
                    </a:rPr>
                    <a:t>Add text in here to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98"/>
                <p:cNvSpPr/>
                <p:nvPr/>
              </p:nvSpPr>
              <p:spPr>
                <a:xfrm>
                  <a:off x="5268600" y="3027240"/>
                  <a:ext cx="2429640" cy="11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Text Box 135"/>
                <p:cNvSpPr/>
                <p:nvPr/>
              </p:nvSpPr>
              <p:spPr>
                <a:xfrm>
                  <a:off x="5267520" y="4214880"/>
                  <a:ext cx="1708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6600"/>
                      </a:solidFill>
                      <a:latin typeface="Arial"/>
                    </a:rPr>
                    <a:t>Add text in he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Text Box 136"/>
                <p:cNvSpPr/>
                <p:nvPr/>
              </p:nvSpPr>
              <p:spPr>
                <a:xfrm>
                  <a:off x="5268600" y="4454640"/>
                  <a:ext cx="2429640" cy="11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dd text in here to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Text Box 137"/>
            <p:cNvSpPr/>
            <p:nvPr/>
          </p:nvSpPr>
          <p:spPr>
            <a:xfrm>
              <a:off x="-541440" y="6343560"/>
              <a:ext cx="412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LOGO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8"/>
            <p:cNvSpPr/>
            <p:nvPr/>
          </p:nvSpPr>
          <p:spPr>
            <a:xfrm>
              <a:off x="-287280" y="1449360"/>
              <a:ext cx="5021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CLICK TO TYPE SLIDE 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-541440" y="1449360"/>
            <a:ext cx="8378640" cy="5475600"/>
            <a:chOff x="-541440" y="1449360"/>
            <a:chExt cx="8378640" cy="5475600"/>
          </a:xfrm>
        </p:grpSpPr>
        <p:grpSp>
          <p:nvGrpSpPr>
            <p:cNvPr id="435" name=""/>
            <p:cNvGrpSpPr/>
            <p:nvPr/>
          </p:nvGrpSpPr>
          <p:grpSpPr>
            <a:xfrm>
              <a:off x="658440" y="2651040"/>
              <a:ext cx="3148560" cy="3164040"/>
              <a:chOff x="658440" y="2651040"/>
              <a:chExt cx="3148560" cy="3164040"/>
            </a:xfrm>
          </p:grpSpPr>
          <p:sp>
            <p:nvSpPr>
              <p:cNvPr id="436" name="Freeform 6"/>
              <p:cNvSpPr/>
              <p:nvPr/>
            </p:nvSpPr>
            <p:spPr>
              <a:xfrm>
                <a:off x="723240" y="2651040"/>
                <a:ext cx="1503000" cy="1843200"/>
              </a:xfrm>
              <a:prstGeom prst="pie">
                <a:avLst/>
              </a:prstGeom>
              <a:gradFill rotWithShape="0">
                <a:gsLst>
                  <a:gs pos="0">
                    <a:srgbClr val="a6c4e2"/>
                  </a:gs>
                  <a:gs pos="100000">
                    <a:srgbClr val="e2ecf6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7"/>
              <p:cNvSpPr/>
              <p:nvPr/>
            </p:nvSpPr>
            <p:spPr>
              <a:xfrm>
                <a:off x="2238840" y="3970080"/>
                <a:ext cx="1503000" cy="1845000"/>
              </a:xfrm>
              <a:prstGeom prst="pie">
                <a:avLst/>
              </a:prstGeom>
              <a:gradFill rotWithShape="0">
                <a:gsLst>
                  <a:gs pos="0">
                    <a:srgbClr val="80abd6"/>
                  </a:gs>
                  <a:gs pos="100000">
                    <a:srgbClr val="356da5"/>
                  </a:gs>
                </a:gsLst>
                <a:lin ang="108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"/>
              <p:cNvSpPr/>
              <p:nvPr/>
            </p:nvSpPr>
            <p:spPr>
              <a:xfrm>
                <a:off x="658440" y="4232160"/>
                <a:ext cx="1843920" cy="1501920"/>
              </a:xfrm>
              <a:prstGeom prst="pie">
                <a:avLst/>
              </a:prstGeom>
              <a:gradFill rotWithShape="0">
                <a:gsLst>
                  <a:gs pos="0">
                    <a:srgbClr val="182f44"/>
                  </a:gs>
                  <a:gs pos="100000">
                    <a:srgbClr val="3c78ae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>
                <a:off x="1964520" y="2716200"/>
                <a:ext cx="1842480" cy="1501560"/>
              </a:xfrm>
              <a:prstGeom prst="pie">
                <a:avLst/>
              </a:prstGeom>
              <a:gradFill rotWithShape="0">
                <a:gsLst>
                  <a:gs pos="0">
                    <a:srgbClr val="bad2f8"/>
                  </a:gs>
                  <a:gs pos="100000">
                    <a:srgbClr val="6196ed"/>
                  </a:gs>
                </a:gsLst>
                <a:lin ang="5400000"/>
              </a:gradFill>
              <a:ln w="0">
                <a:noFill/>
              </a:ln>
              <a:effectLst>
                <a:outerShdw dist="40186" dir="109635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1353600" y="3341520"/>
              <a:ext cx="1761840" cy="1768320"/>
              <a:chOff x="1353600" y="3341520"/>
              <a:chExt cx="1761840" cy="17683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1353600" y="3341520"/>
                <a:ext cx="1761840" cy="1768320"/>
                <a:chOff x="1353600" y="3341520"/>
                <a:chExt cx="1761840" cy="1768320"/>
              </a:xfrm>
            </p:grpSpPr>
            <p:sp>
              <p:nvSpPr>
                <p:cNvPr id="442" name="Freeform 12"/>
                <p:cNvSpPr/>
                <p:nvPr/>
              </p:nvSpPr>
              <p:spPr>
                <a:xfrm>
                  <a:off x="1353600" y="3344760"/>
                  <a:ext cx="1761840" cy="86508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3"/>
                <p:cNvSpPr/>
                <p:nvPr/>
              </p:nvSpPr>
              <p:spPr>
                <a:xfrm>
                  <a:off x="1353600" y="4243320"/>
                  <a:ext cx="1761840" cy="86364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4"/>
                <p:cNvSpPr/>
                <p:nvPr/>
              </p:nvSpPr>
              <p:spPr>
                <a:xfrm>
                  <a:off x="1362600" y="3349440"/>
                  <a:ext cx="1742760" cy="858960"/>
                </a:xfrm>
                <a:prstGeom prst="pie">
                  <a:avLst/>
                </a:prstGeom>
                <a:solidFill>
                  <a:srgbClr val="ff9900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15"/>
                <p:cNvSpPr/>
                <p:nvPr/>
              </p:nvSpPr>
              <p:spPr>
                <a:xfrm>
                  <a:off x="1362600" y="4241520"/>
                  <a:ext cx="1742760" cy="857520"/>
                </a:xfrm>
                <a:prstGeom prst="pie">
                  <a:avLst/>
                </a:prstGeom>
                <a:solidFill>
                  <a:srgbClr val="ff9900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6"/>
                <p:cNvSpPr/>
                <p:nvPr/>
              </p:nvSpPr>
              <p:spPr>
                <a:xfrm>
                  <a:off x="1512000" y="4728960"/>
                  <a:ext cx="1450440" cy="38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00">
                        <a:alpha val="0"/>
                      </a:srgbClr>
                    </a:gs>
                    <a:gs pos="100000">
                      <a:srgbClr val="ffffff">
                        <a:alpha val="9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17"/>
                <p:cNvSpPr/>
                <p:nvPr/>
              </p:nvSpPr>
              <p:spPr>
                <a:xfrm>
                  <a:off x="1427760" y="3341520"/>
                  <a:ext cx="1612800" cy="52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100000">
                      <a:srgbClr val="ff99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18"/>
                <p:cNvSpPr/>
                <p:nvPr/>
              </p:nvSpPr>
              <p:spPr>
                <a:xfrm>
                  <a:off x="2008800" y="3429000"/>
                  <a:ext cx="3600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Text Box 19"/>
              <p:cNvSpPr/>
              <p:nvPr/>
            </p:nvSpPr>
            <p:spPr>
              <a:xfrm>
                <a:off x="1670760" y="3800160"/>
                <a:ext cx="112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20"/>
              <p:cNvSpPr/>
              <p:nvPr/>
            </p:nvSpPr>
            <p:spPr>
              <a:xfrm>
                <a:off x="1670760" y="4251240"/>
                <a:ext cx="112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871000" y="2733480"/>
              <a:ext cx="4966200" cy="2862000"/>
              <a:chOff x="2871000" y="2733480"/>
              <a:chExt cx="4966200" cy="2862000"/>
            </a:xfrm>
          </p:grpSpPr>
          <p:sp>
            <p:nvSpPr>
              <p:cNvPr id="452" name="Freeform 22"/>
              <p:cNvSpPr/>
              <p:nvPr/>
            </p:nvSpPr>
            <p:spPr>
              <a:xfrm>
                <a:off x="2871000" y="2733480"/>
                <a:ext cx="4966200" cy="15620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5267520" y="2801880"/>
                <a:ext cx="2430720" cy="2793600"/>
                <a:chOff x="5267520" y="2801880"/>
                <a:chExt cx="2430720" cy="2793600"/>
              </a:xfrm>
            </p:grpSpPr>
            <p:sp>
              <p:nvSpPr>
                <p:cNvPr id="454" name="Text Box 24"/>
                <p:cNvSpPr/>
                <p:nvPr/>
              </p:nvSpPr>
              <p:spPr>
                <a:xfrm>
                  <a:off x="5267520" y="2801880"/>
                  <a:ext cx="206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6600"/>
                      </a:solidFill>
                      <a:latin typeface="Arial"/>
                    </a:rPr>
                    <a:t>Add text in here to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5268600" y="3027240"/>
                  <a:ext cx="2429640" cy="11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26"/>
                <p:cNvSpPr/>
                <p:nvPr/>
              </p:nvSpPr>
              <p:spPr>
                <a:xfrm>
                  <a:off x="5267520" y="4214880"/>
                  <a:ext cx="1708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6600"/>
                      </a:solidFill>
                      <a:latin typeface="Arial"/>
                    </a:rPr>
                    <a:t>Add text in he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27"/>
                <p:cNvSpPr/>
                <p:nvPr/>
              </p:nvSpPr>
              <p:spPr>
                <a:xfrm>
                  <a:off x="5268600" y="4454640"/>
                  <a:ext cx="2429640" cy="11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add text in here add text in he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d text in here to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8" name="Text Box 28"/>
            <p:cNvSpPr/>
            <p:nvPr/>
          </p:nvSpPr>
          <p:spPr>
            <a:xfrm>
              <a:off x="-541440" y="6343560"/>
              <a:ext cx="412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OGO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-287280" y="1449360"/>
              <a:ext cx="5021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CLICK TO TYPE SLIDE 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1280" y="1584360"/>
            <a:ext cx="9361440" cy="5274720"/>
            <a:chOff x="71280" y="1584360"/>
            <a:chExt cx="9361440" cy="5274720"/>
          </a:xfrm>
        </p:grpSpPr>
        <p:sp>
          <p:nvSpPr>
            <p:cNvPr id="462" name="Text Box 52"/>
            <p:cNvSpPr/>
            <p:nvPr/>
          </p:nvSpPr>
          <p:spPr>
            <a:xfrm>
              <a:off x="6570360" y="1584360"/>
              <a:ext cx="2411640" cy="38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in here to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i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add text in here to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asy 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here add text in here to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here add text in here to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here add text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53"/>
            <p:cNvSpPr/>
            <p:nvPr/>
          </p:nvSpPr>
          <p:spPr>
            <a:xfrm>
              <a:off x="6732360" y="639936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dd text her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4"/>
            <p:cNvSpPr/>
            <p:nvPr/>
          </p:nvSpPr>
          <p:spPr>
            <a:xfrm>
              <a:off x="71280" y="6026040"/>
              <a:ext cx="4410000" cy="8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werpoint preso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in here add text in here add text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dd text in here add text in here add text in here add text in h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41280" y="1898640"/>
              <a:ext cx="4682880" cy="4513320"/>
              <a:chOff x="341280" y="1898640"/>
              <a:chExt cx="4682880" cy="4513320"/>
            </a:xfrm>
          </p:grpSpPr>
          <p:sp>
            <p:nvSpPr>
              <p:cNvPr id="466" name="Oval 43"/>
              <p:cNvSpPr/>
              <p:nvPr/>
            </p:nvSpPr>
            <p:spPr>
              <a:xfrm>
                <a:off x="341280" y="4962600"/>
                <a:ext cx="4682880" cy="1449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137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753840" y="1898640"/>
                <a:ext cx="3923280" cy="3697200"/>
                <a:chOff x="753840" y="1898640"/>
                <a:chExt cx="3923280" cy="369720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1488600" y="1898640"/>
                  <a:ext cx="2463120" cy="2467080"/>
                  <a:chOff x="1488600" y="1898640"/>
                  <a:chExt cx="2463120" cy="2467080"/>
                </a:xfrm>
              </p:grpSpPr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1488600" y="1898640"/>
                    <a:ext cx="2463120" cy="2467080"/>
                    <a:chOff x="1488600" y="1898640"/>
                    <a:chExt cx="2463120" cy="2467080"/>
                  </a:xfrm>
                </p:grpSpPr>
                <p:sp>
                  <p:nvSpPr>
                    <p:cNvPr id="470" name="Oval 9"/>
                    <p:cNvSpPr/>
                    <p:nvPr/>
                  </p:nvSpPr>
                  <p:spPr>
                    <a:xfrm>
                      <a:off x="1488600" y="1898640"/>
                      <a:ext cx="2463120" cy="2467080"/>
                    </a:xfrm>
                    <a:prstGeom prst="ellipse">
                      <a:avLst/>
                    </a:pr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Oval 20"/>
                    <p:cNvSpPr/>
                    <p:nvPr/>
                  </p:nvSpPr>
                  <p:spPr>
                    <a:xfrm>
                      <a:off x="1500840" y="1903320"/>
                      <a:ext cx="2437920" cy="2441520"/>
                    </a:xfrm>
                    <a:prstGeom prst="ellipse">
                      <a:avLst/>
                    </a:prstGeom>
                    <a:solidFill>
                      <a:srgbClr val="75757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12"/>
                    <p:cNvSpPr/>
                    <p:nvPr/>
                  </p:nvSpPr>
                  <p:spPr>
                    <a:xfrm>
                      <a:off x="1508760" y="1898640"/>
                      <a:ext cx="2422080" cy="100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17171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Oval 33"/>
                    <p:cNvSpPr/>
                    <p:nvPr/>
                  </p:nvSpPr>
                  <p:spPr>
                    <a:xfrm>
                      <a:off x="2229480" y="2038320"/>
                      <a:ext cx="431640" cy="43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4" name="Text Box 44"/>
                  <p:cNvSpPr/>
                  <p:nvPr/>
                </p:nvSpPr>
                <p:spPr>
                  <a:xfrm>
                    <a:off x="2015280" y="2384280"/>
                    <a:ext cx="1361520" cy="40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Visu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mpac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53840" y="3122640"/>
                  <a:ext cx="2463120" cy="2467080"/>
                  <a:chOff x="753840" y="3122640"/>
                  <a:chExt cx="2463120" cy="2467080"/>
                </a:xfrm>
              </p:grpSpPr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753840" y="3122640"/>
                    <a:ext cx="2463120" cy="2467080"/>
                    <a:chOff x="753840" y="3122640"/>
                    <a:chExt cx="2463120" cy="2467080"/>
                  </a:xfrm>
                </p:grpSpPr>
                <p:sp>
                  <p:nvSpPr>
                    <p:cNvPr id="477" name="Oval 8"/>
                    <p:cNvSpPr/>
                    <p:nvPr/>
                  </p:nvSpPr>
                  <p:spPr>
                    <a:xfrm>
                      <a:off x="753840" y="3122640"/>
                      <a:ext cx="2463120" cy="246708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Oval 21"/>
                    <p:cNvSpPr/>
                    <p:nvPr/>
                  </p:nvSpPr>
                  <p:spPr>
                    <a:xfrm>
                      <a:off x="764640" y="3138480"/>
                      <a:ext cx="2437560" cy="2441520"/>
                    </a:xfrm>
                    <a:prstGeom prst="ellipse">
                      <a:avLst/>
                    </a:prstGeom>
                    <a:solidFill>
                      <a:srgbClr val="94949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11"/>
                    <p:cNvSpPr/>
                    <p:nvPr/>
                  </p:nvSpPr>
                  <p:spPr>
                    <a:xfrm>
                      <a:off x="766080" y="3122640"/>
                      <a:ext cx="2437920" cy="104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17171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Text Box 51"/>
                  <p:cNvSpPr/>
                  <p:nvPr/>
                </p:nvSpPr>
                <p:spPr>
                  <a:xfrm>
                    <a:off x="893160" y="4400640"/>
                    <a:ext cx="1251720" cy="34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4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Visu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Impac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2214000" y="3129120"/>
                  <a:ext cx="2463120" cy="2466720"/>
                  <a:chOff x="2214000" y="3129120"/>
                  <a:chExt cx="2463120" cy="2466720"/>
                </a:xfrm>
              </p:grpSpPr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214000" y="3129120"/>
                    <a:ext cx="2463120" cy="2466720"/>
                    <a:chOff x="2214000" y="3129120"/>
                    <a:chExt cx="2463120" cy="2466720"/>
                  </a:xfrm>
                </p:grpSpPr>
                <p:sp>
                  <p:nvSpPr>
                    <p:cNvPr id="483" name="Oval 7"/>
                    <p:cNvSpPr/>
                    <p:nvPr/>
                  </p:nvSpPr>
                  <p:spPr>
                    <a:xfrm>
                      <a:off x="2214000" y="3129120"/>
                      <a:ext cx="2463120" cy="2466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Oval 23"/>
                    <p:cNvSpPr/>
                    <p:nvPr/>
                  </p:nvSpPr>
                  <p:spPr>
                    <a:xfrm>
                      <a:off x="2231280" y="3143160"/>
                      <a:ext cx="2427840" cy="2431440"/>
                    </a:xfrm>
                    <a:prstGeom prst="ellipse">
                      <a:avLst/>
                    </a:prstGeom>
                    <a:solidFill>
                      <a:srgbClr val="94949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"/>
                    <p:cNvSpPr/>
                    <p:nvPr/>
                  </p:nvSpPr>
                  <p:spPr>
                    <a:xfrm>
                      <a:off x="2228040" y="3129120"/>
                      <a:ext cx="2436120" cy="103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17171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6" name="Text Box 45"/>
                  <p:cNvSpPr/>
                  <p:nvPr/>
                </p:nvSpPr>
                <p:spPr>
                  <a:xfrm>
                    <a:off x="3196440" y="4400280"/>
                    <a:ext cx="1418400" cy="34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4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Desig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Impac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2720160" y="3129120"/>
                  <a:ext cx="1227960" cy="1134720"/>
                  <a:chOff x="2720160" y="3129120"/>
                  <a:chExt cx="1227960" cy="1134720"/>
                </a:xfrm>
              </p:grpSpPr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2720160" y="3129120"/>
                    <a:ext cx="1227960" cy="1134720"/>
                    <a:chOff x="2720160" y="3129120"/>
                    <a:chExt cx="1227960" cy="1134720"/>
                  </a:xfrm>
                </p:grpSpPr>
                <p:sp>
                  <p:nvSpPr>
                    <p:cNvPr id="489" name="Freeform 17"/>
                    <p:cNvSpPr/>
                    <p:nvPr/>
                  </p:nvSpPr>
                  <p:spPr>
                    <a:xfrm>
                      <a:off x="2721240" y="3129120"/>
                      <a:ext cx="1226880" cy="1134720"/>
                    </a:xfrm>
                    <a:prstGeom prst="pie">
                      <a:avLst/>
                    </a:prstGeom>
                    <a:solidFill>
                      <a:srgbClr val="ff711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25"/>
                    <p:cNvSpPr/>
                    <p:nvPr/>
                  </p:nvSpPr>
                  <p:spPr>
                    <a:xfrm>
                      <a:off x="2723040" y="3138120"/>
                      <a:ext cx="1212480" cy="1117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a219"/>
                        </a:gs>
                        <a:gs pos="100000">
                          <a:srgbClr val="ffac33">
                            <a:alpha val="1725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30"/>
                    <p:cNvSpPr/>
                    <p:nvPr/>
                  </p:nvSpPr>
                  <p:spPr>
                    <a:xfrm>
                      <a:off x="2720160" y="3135240"/>
                      <a:ext cx="1213920" cy="23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ac33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2" name="Text Box 48"/>
                  <p:cNvSpPr/>
                  <p:nvPr/>
                </p:nvSpPr>
                <p:spPr>
                  <a:xfrm>
                    <a:off x="2842200" y="3404880"/>
                    <a:ext cx="1082160" cy="29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ex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esg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491840" y="3122640"/>
                  <a:ext cx="1229760" cy="1135080"/>
                  <a:chOff x="1491840" y="3122640"/>
                  <a:chExt cx="1229760" cy="113508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1491840" y="3122640"/>
                    <a:ext cx="1229760" cy="1135080"/>
                    <a:chOff x="1491840" y="3122640"/>
                    <a:chExt cx="1229760" cy="1135080"/>
                  </a:xfrm>
                </p:grpSpPr>
                <p:sp>
                  <p:nvSpPr>
                    <p:cNvPr id="495" name="Freeform 18"/>
                    <p:cNvSpPr/>
                    <p:nvPr/>
                  </p:nvSpPr>
                  <p:spPr>
                    <a:xfrm>
                      <a:off x="1491840" y="3122640"/>
                      <a:ext cx="1229760" cy="1135080"/>
                    </a:xfrm>
                    <a:prstGeom prst="pie">
                      <a:avLst/>
                    </a:prstGeom>
                    <a:solidFill>
                      <a:srgbClr val="ff711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24"/>
                    <p:cNvSpPr/>
                    <p:nvPr/>
                  </p:nvSpPr>
                  <p:spPr>
                    <a:xfrm>
                      <a:off x="1500840" y="3130560"/>
                      <a:ext cx="1209240" cy="1114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a219"/>
                        </a:gs>
                        <a:gs pos="100000">
                          <a:srgbClr val="ffac33">
                            <a:alpha val="1725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27"/>
                    <p:cNvSpPr/>
                    <p:nvPr/>
                  </p:nvSpPr>
                  <p:spPr>
                    <a:xfrm>
                      <a:off x="1500840" y="3130560"/>
                      <a:ext cx="1209240" cy="257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ac33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Text Box 50"/>
                  <p:cNvSpPr/>
                  <p:nvPr/>
                </p:nvSpPr>
                <p:spPr>
                  <a:xfrm>
                    <a:off x="1517040" y="3405240"/>
                    <a:ext cx="1081800" cy="29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ex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esg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2204280" y="4249800"/>
                  <a:ext cx="1012680" cy="1101600"/>
                  <a:chOff x="2204280" y="4249800"/>
                  <a:chExt cx="1012680" cy="110160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2204280" y="4249800"/>
                    <a:ext cx="1012680" cy="1101600"/>
                    <a:chOff x="2204280" y="4249800"/>
                    <a:chExt cx="1012680" cy="1101600"/>
                  </a:xfrm>
                </p:grpSpPr>
                <p:sp>
                  <p:nvSpPr>
                    <p:cNvPr id="501" name="Freeform 15"/>
                    <p:cNvSpPr/>
                    <p:nvPr/>
                  </p:nvSpPr>
                  <p:spPr>
                    <a:xfrm>
                      <a:off x="2213640" y="4257720"/>
                      <a:ext cx="1003320" cy="1093680"/>
                    </a:xfrm>
                    <a:prstGeom prst="pie">
                      <a:avLst/>
                    </a:prstGeom>
                    <a:solidFill>
                      <a:srgbClr val="ff711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Freeform 26"/>
                    <p:cNvSpPr/>
                    <p:nvPr/>
                  </p:nvSpPr>
                  <p:spPr>
                    <a:xfrm>
                      <a:off x="2223360" y="4268880"/>
                      <a:ext cx="981000" cy="1069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a219"/>
                        </a:gs>
                        <a:gs pos="100000">
                          <a:srgbClr val="ffac33">
                            <a:alpha val="1725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32"/>
                    <p:cNvSpPr/>
                    <p:nvPr/>
                  </p:nvSpPr>
                  <p:spPr>
                    <a:xfrm>
                      <a:off x="2204280" y="4249800"/>
                      <a:ext cx="1008000" cy="49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ac33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4" name="Text Box 61"/>
                  <p:cNvSpPr/>
                  <p:nvPr/>
                </p:nvSpPr>
                <p:spPr>
                  <a:xfrm>
                    <a:off x="2320200" y="4611600"/>
                    <a:ext cx="811080" cy="26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3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ex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3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visu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2185560" y="3367080"/>
                  <a:ext cx="1082160" cy="998640"/>
                  <a:chOff x="2185560" y="3367080"/>
                  <a:chExt cx="1082160" cy="99864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218680" y="3367080"/>
                    <a:ext cx="995040" cy="998640"/>
                    <a:chOff x="2218680" y="3367080"/>
                    <a:chExt cx="995040" cy="998640"/>
                  </a:xfrm>
                </p:grpSpPr>
                <p:sp>
                  <p:nvSpPr>
                    <p:cNvPr id="507" name="Freeform 19"/>
                    <p:cNvSpPr/>
                    <p:nvPr/>
                  </p:nvSpPr>
                  <p:spPr>
                    <a:xfrm>
                      <a:off x="2218680" y="3367080"/>
                      <a:ext cx="995040" cy="998640"/>
                    </a:xfrm>
                    <a:prstGeom prst="pie">
                      <a:avLst/>
                    </a:prstGeom>
                    <a:solidFill>
                      <a:srgbClr val="de040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29"/>
                    <p:cNvSpPr/>
                    <p:nvPr/>
                  </p:nvSpPr>
                  <p:spPr>
                    <a:xfrm>
                      <a:off x="2227680" y="3381480"/>
                      <a:ext cx="968040" cy="974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6752e"/>
                        </a:gs>
                        <a:gs pos="100000">
                          <a:srgbClr val="f6752e">
                            <a:alpha val="21176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31"/>
                    <p:cNvSpPr/>
                    <p:nvPr/>
                  </p:nvSpPr>
                  <p:spPr>
                    <a:xfrm>
                      <a:off x="2304000" y="3381480"/>
                      <a:ext cx="819000" cy="530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ac33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0" name="Text Box 49"/>
                  <p:cNvSpPr/>
                  <p:nvPr/>
                </p:nvSpPr>
                <p:spPr>
                  <a:xfrm>
                    <a:off x="2185560" y="3946680"/>
                    <a:ext cx="1082160" cy="33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3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ext h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3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Impac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33"/>
          <p:cNvSpPr/>
          <p:nvPr/>
        </p:nvSpPr>
        <p:spPr>
          <a:xfrm>
            <a:off x="6146640" y="6264360"/>
            <a:ext cx="31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53960" y="3132000"/>
            <a:ext cx="6188040" cy="3311640"/>
            <a:chOff x="1353960" y="3132000"/>
            <a:chExt cx="6188040" cy="3311640"/>
          </a:xfrm>
        </p:grpSpPr>
        <p:grpSp>
          <p:nvGrpSpPr>
            <p:cNvPr id="516" name=""/>
            <p:cNvGrpSpPr/>
            <p:nvPr/>
          </p:nvGrpSpPr>
          <p:grpSpPr>
            <a:xfrm>
              <a:off x="1353960" y="3132000"/>
              <a:ext cx="6188040" cy="3311640"/>
              <a:chOff x="1353960" y="3132000"/>
              <a:chExt cx="6188040" cy="3311640"/>
            </a:xfrm>
          </p:grpSpPr>
          <p:sp>
            <p:nvSpPr>
              <p:cNvPr id="517" name="Freeform 218"/>
              <p:cNvSpPr/>
              <p:nvPr/>
            </p:nvSpPr>
            <p:spPr>
              <a:xfrm>
                <a:off x="1358640" y="4618080"/>
                <a:ext cx="6183360" cy="110484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1353960" y="3132000"/>
                <a:ext cx="5810400" cy="2590920"/>
                <a:chOff x="1353960" y="3132000"/>
                <a:chExt cx="5810400" cy="2590920"/>
              </a:xfrm>
            </p:grpSpPr>
            <p:sp>
              <p:nvSpPr>
                <p:cNvPr id="519" name="Freeform 7"/>
                <p:cNvSpPr/>
                <p:nvPr/>
              </p:nvSpPr>
              <p:spPr>
                <a:xfrm>
                  <a:off x="1353960" y="3132000"/>
                  <a:ext cx="1417680" cy="2590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3cde7"/>
                    </a:gs>
                    <a:gs pos="100000">
                      <a:srgbClr val="d6e4f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8"/>
                <p:cNvSpPr/>
                <p:nvPr/>
              </p:nvSpPr>
              <p:spPr>
                <a:xfrm>
                  <a:off x="5783040" y="3132000"/>
                  <a:ext cx="1381320" cy="2590920"/>
                </a:xfrm>
                <a:prstGeom prst="pie">
                  <a:avLst/>
                </a:pr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9"/>
                <p:cNvSpPr/>
                <p:nvPr/>
              </p:nvSpPr>
              <p:spPr>
                <a:xfrm>
                  <a:off x="5435280" y="3132000"/>
                  <a:ext cx="1338480" cy="2590920"/>
                </a:xfrm>
                <a:prstGeom prst="pie">
                  <a:avLst/>
                </a:pr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0"/>
                <p:cNvSpPr/>
                <p:nvPr/>
              </p:nvSpPr>
              <p:spPr>
                <a:xfrm>
                  <a:off x="5352840" y="3867120"/>
                  <a:ext cx="1071720" cy="115884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1"/>
                <p:cNvSpPr/>
                <p:nvPr/>
              </p:nvSpPr>
              <p:spPr>
                <a:xfrm>
                  <a:off x="4722480" y="3867120"/>
                  <a:ext cx="1060560" cy="115884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2"/>
                <p:cNvSpPr/>
                <p:nvPr/>
              </p:nvSpPr>
              <p:spPr>
                <a:xfrm>
                  <a:off x="4092480" y="3867120"/>
                  <a:ext cx="1060200" cy="115884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3"/>
                <p:cNvSpPr/>
                <p:nvPr/>
              </p:nvSpPr>
              <p:spPr>
                <a:xfrm>
                  <a:off x="3423960" y="3867120"/>
                  <a:ext cx="1100160" cy="1158840"/>
                </a:xfrm>
                <a:prstGeom prst="pie">
                  <a:avLst/>
                </a:pr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4"/>
                <p:cNvSpPr/>
                <p:nvPr/>
              </p:nvSpPr>
              <p:spPr>
                <a:xfrm>
                  <a:off x="2795400" y="3867120"/>
                  <a:ext cx="1060560" cy="1158840"/>
                </a:xfrm>
                <a:prstGeom prst="pie">
                  <a:avLst/>
                </a:pr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5"/>
                <p:cNvSpPr/>
                <p:nvPr/>
              </p:nvSpPr>
              <p:spPr>
                <a:xfrm>
                  <a:off x="2236680" y="5067000"/>
                  <a:ext cx="3674880" cy="65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17a"/>
                    </a:gs>
                    <a:gs pos="100000">
                      <a:srgbClr val="b9d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6"/>
                <p:cNvSpPr/>
                <p:nvPr/>
              </p:nvSpPr>
              <p:spPr>
                <a:xfrm>
                  <a:off x="2236680" y="3132000"/>
                  <a:ext cx="3708360" cy="69696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17a"/>
                    </a:gs>
                    <a:gs pos="100000">
                      <a:srgbClr val="b9d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7"/>
                <p:cNvSpPr/>
                <p:nvPr/>
              </p:nvSpPr>
              <p:spPr>
                <a:xfrm>
                  <a:off x="1782720" y="3132000"/>
                  <a:ext cx="1442880" cy="2590920"/>
                </a:xfrm>
                <a:prstGeom prst="pie">
                  <a:avLst/>
                </a:pr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353960" y="5765760"/>
                <a:ext cx="5315040" cy="677880"/>
                <a:chOff x="1353960" y="5765760"/>
                <a:chExt cx="5315040" cy="677880"/>
              </a:xfrm>
            </p:grpSpPr>
            <p:sp>
              <p:nvSpPr>
                <p:cNvPr id="531" name="Freeform 19"/>
                <p:cNvSpPr/>
                <p:nvPr/>
              </p:nvSpPr>
              <p:spPr>
                <a:xfrm>
                  <a:off x="1353960" y="5765760"/>
                  <a:ext cx="923760" cy="67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6e4f2">
                        <a:alpha val="40000"/>
                      </a:srgbClr>
                    </a:gs>
                    <a:gs pos="100000">
                      <a:srgbClr val="b3cde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0"/>
                <p:cNvSpPr/>
                <p:nvPr/>
              </p:nvSpPr>
              <p:spPr>
                <a:xfrm>
                  <a:off x="5783040" y="5765760"/>
                  <a:ext cx="885960" cy="67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a6241a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1"/>
                <p:cNvSpPr/>
                <p:nvPr/>
              </p:nvSpPr>
              <p:spPr>
                <a:xfrm>
                  <a:off x="5435280" y="5765760"/>
                  <a:ext cx="843120" cy="67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27c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2"/>
                <p:cNvSpPr/>
                <p:nvPr/>
              </p:nvSpPr>
              <p:spPr>
                <a:xfrm>
                  <a:off x="2236680" y="5765760"/>
                  <a:ext cx="3692520" cy="67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3"/>
                <p:cNvSpPr/>
                <p:nvPr/>
              </p:nvSpPr>
              <p:spPr>
                <a:xfrm>
                  <a:off x="1782720" y="5765760"/>
                  <a:ext cx="947520" cy="67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c8dbee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1410120" y="3203280"/>
              <a:ext cx="5664600" cy="2476440"/>
              <a:chOff x="1410120" y="3203280"/>
              <a:chExt cx="5664600" cy="2476440"/>
            </a:xfrm>
          </p:grpSpPr>
          <p:sp>
            <p:nvSpPr>
              <p:cNvPr id="537" name="Text Box 35"/>
              <p:cNvSpPr/>
              <p:nvPr/>
            </p:nvSpPr>
            <p:spPr>
              <a:xfrm rot="18540600">
                <a:off x="1281240" y="4727880"/>
                <a:ext cx="1530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 in he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 in here to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68"/>
              <p:cNvSpPr/>
              <p:nvPr/>
            </p:nvSpPr>
            <p:spPr>
              <a:xfrm>
                <a:off x="2837880" y="5128920"/>
                <a:ext cx="2440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here add text in he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191"/>
              <p:cNvSpPr/>
              <p:nvPr/>
            </p:nvSpPr>
            <p:spPr>
              <a:xfrm>
                <a:off x="2837880" y="3203280"/>
                <a:ext cx="2440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here add text in he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92"/>
              <p:cNvSpPr/>
              <p:nvPr/>
            </p:nvSpPr>
            <p:spPr>
              <a:xfrm rot="18540600">
                <a:off x="294336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93"/>
              <p:cNvSpPr/>
              <p:nvPr/>
            </p:nvSpPr>
            <p:spPr>
              <a:xfrm rot="18540600">
                <a:off x="356148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94"/>
              <p:cNvSpPr/>
              <p:nvPr/>
            </p:nvSpPr>
            <p:spPr>
              <a:xfrm rot="18540600">
                <a:off x="421020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95"/>
              <p:cNvSpPr/>
              <p:nvPr/>
            </p:nvSpPr>
            <p:spPr>
              <a:xfrm rot="18540600">
                <a:off x="485892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09"/>
              <p:cNvSpPr/>
              <p:nvPr/>
            </p:nvSpPr>
            <p:spPr>
              <a:xfrm rot="18540600">
                <a:off x="546984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10"/>
              <p:cNvSpPr/>
              <p:nvPr/>
            </p:nvSpPr>
            <p:spPr>
              <a:xfrm rot="18540600">
                <a:off x="238032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11"/>
              <p:cNvSpPr/>
              <p:nvPr/>
            </p:nvSpPr>
            <p:spPr>
              <a:xfrm rot="18540600">
                <a:off x="595944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12"/>
              <p:cNvSpPr/>
              <p:nvPr/>
            </p:nvSpPr>
            <p:spPr>
              <a:xfrm rot="18540600">
                <a:off x="6328080" y="4597200"/>
                <a:ext cx="79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249"/>
          <p:cNvSpPr/>
          <p:nvPr/>
        </p:nvSpPr>
        <p:spPr>
          <a:xfrm>
            <a:off x="149400" y="1457280"/>
            <a:ext cx="5022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CLICK TO TYPE SLID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6:36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7:19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