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66AF-425E-4D79-B586-745452B1B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5D0B-649C-4608-A2F0-32A527C6B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FF34-DFE0-4014-A2B0-CC6A1DA2B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8A5D-FD8A-44E6-BE54-9A82F346B6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DCD2-F221-4CE7-8DBC-EB889B465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7C9B-DE41-434B-A77E-B487E3A2F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064D-2859-4BED-9742-B1EC20D84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9468-E6DA-4E76-94AF-3C59E7A2C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4B17-4902-4336-8F85-621EF04D1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2A71-2FAA-4513-8A8F-E1F531D3D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9946-1466-4FDD-9B30-F565AAA90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BCAE-CBDA-4613-8BBF-159199FA1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2C0-120B-4541-98D0-0A979DE291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5" descr=""/>
          <p:cNvPicPr/>
          <p:nvPr/>
        </p:nvPicPr>
        <p:blipFill>
          <a:blip r:embed="rId1"/>
          <a:srcRect l="0" t="12987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rcRect l="0" t="0" r="12872" b="12666"/>
          <a:stretch/>
        </p:blipFill>
        <p:spPr>
          <a:xfrm>
            <a:off x="1682640" y="863640"/>
            <a:ext cx="5423040" cy="4851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00440" y="3422520"/>
            <a:ext cx="27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束语动态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4194-1F03-41BC-8E3C-DE8313F2A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6:0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0:53Z</dcterms:modified>
  <cp:revision>3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