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116.jpeg" ContentType="image/jpe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70.png" ContentType="image/png"/>
  <Override PartName="/ppt/media/image114.png" ContentType="image/png"/>
  <Override PartName="/ppt/media/image71.png" ContentType="image/png"/>
  <Override PartName="/ppt/media/image115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6.png" ContentType="image/png"/>
  <Override PartName="/ppt/media/image103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95.png" ContentType="image/png"/>
  <Override PartName="/ppt/media/image102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FC97-1FB6-47C0-A9AD-0E262026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29EB-BCBE-4887-AB65-3A17A9AB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4341-0F5B-4859-9291-DD68062C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3C57-F111-42B6-8491-57970590B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ACA0-CDA7-47D3-9E7E-7D0A5849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746C-1233-45E0-AD65-553FE32D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5C55-6B6E-4537-8462-105CB9E2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DBAF-2C1F-46B1-B566-9C5C8BCD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C3D5-295F-45E7-A7EF-AB9BAD5B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CC86-3872-4040-9253-3675F36F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DC5D-B118-4DE2-BCEC-B1FC3D42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5610-2C63-4F64-A2B5-B3BD89AB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9D1B-AAA7-436C-938F-2BCC9EB21D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image" Target="../media/image31.png"/><Relationship Id="rId30" Type="http://schemas.openxmlformats.org/officeDocument/2006/relationships/image" Target="../media/image27.png"/><Relationship Id="rId31" Type="http://schemas.openxmlformats.org/officeDocument/2006/relationships/image" Target="../media/image28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5.png"/><Relationship Id="rId37" Type="http://schemas.openxmlformats.org/officeDocument/2006/relationships/image" Target="../media/image35.png"/><Relationship Id="rId38" Type="http://schemas.openxmlformats.org/officeDocument/2006/relationships/image" Target="../media/image36.png"/><Relationship Id="rId39" Type="http://schemas.openxmlformats.org/officeDocument/2006/relationships/image" Target="../media/image35.png"/><Relationship Id="rId40" Type="http://schemas.openxmlformats.org/officeDocument/2006/relationships/image" Target="../media/image21.png"/><Relationship Id="rId41" Type="http://schemas.openxmlformats.org/officeDocument/2006/relationships/image" Target="../media/image37.png"/><Relationship Id="rId42" Type="http://schemas.openxmlformats.org/officeDocument/2006/relationships/image" Target="../media/image38.png"/><Relationship Id="rId43" Type="http://schemas.openxmlformats.org/officeDocument/2006/relationships/image" Target="../media/image22.png"/><Relationship Id="rId44" Type="http://schemas.openxmlformats.org/officeDocument/2006/relationships/image" Target="../media/image39.png"/><Relationship Id="rId45" Type="http://schemas.openxmlformats.org/officeDocument/2006/relationships/image" Target="../media/image23.png"/><Relationship Id="rId46" Type="http://schemas.openxmlformats.org/officeDocument/2006/relationships/image" Target="../media/image38.png"/><Relationship Id="rId47" Type="http://schemas.openxmlformats.org/officeDocument/2006/relationships/image" Target="../media/image38.png"/><Relationship Id="rId48" Type="http://schemas.openxmlformats.org/officeDocument/2006/relationships/image" Target="../media/image38.png"/><Relationship Id="rId49" Type="http://schemas.openxmlformats.org/officeDocument/2006/relationships/image" Target="../media/image38.png"/><Relationship Id="rId50" Type="http://schemas.openxmlformats.org/officeDocument/2006/relationships/image" Target="../media/image38.png"/><Relationship Id="rId51" Type="http://schemas.openxmlformats.org/officeDocument/2006/relationships/image" Target="../media/image38.png"/><Relationship Id="rId52" Type="http://schemas.openxmlformats.org/officeDocument/2006/relationships/image" Target="../media/image40.png"/><Relationship Id="rId53" Type="http://schemas.openxmlformats.org/officeDocument/2006/relationships/image" Target="../media/image41.png"/><Relationship Id="rId54" Type="http://schemas.openxmlformats.org/officeDocument/2006/relationships/image" Target="../media/image42.png"/><Relationship Id="rId55" Type="http://schemas.openxmlformats.org/officeDocument/2006/relationships/image" Target="../media/image43.png"/><Relationship Id="rId56" Type="http://schemas.openxmlformats.org/officeDocument/2006/relationships/image" Target="../media/image44.png"/><Relationship Id="rId57" Type="http://schemas.openxmlformats.org/officeDocument/2006/relationships/image" Target="../media/image45.png"/><Relationship Id="rId58" Type="http://schemas.openxmlformats.org/officeDocument/2006/relationships/image" Target="../media/image46.png"/><Relationship Id="rId59" Type="http://schemas.openxmlformats.org/officeDocument/2006/relationships/image" Target="../media/image47.png"/><Relationship Id="rId60" Type="http://schemas.openxmlformats.org/officeDocument/2006/relationships/image" Target="../media/image48.png"/><Relationship Id="rId61" Type="http://schemas.openxmlformats.org/officeDocument/2006/relationships/image" Target="../media/image49.png"/><Relationship Id="rId62" Type="http://schemas.openxmlformats.org/officeDocument/2006/relationships/image" Target="../media/image50.png"/><Relationship Id="rId63" Type="http://schemas.openxmlformats.org/officeDocument/2006/relationships/image" Target="../media/image51.png"/><Relationship Id="rId64" Type="http://schemas.openxmlformats.org/officeDocument/2006/relationships/image" Target="../media/image33.png"/><Relationship Id="rId65" Type="http://schemas.openxmlformats.org/officeDocument/2006/relationships/image" Target="../media/image52.png"/><Relationship Id="rId66" Type="http://schemas.openxmlformats.org/officeDocument/2006/relationships/image" Target="../media/image53.png"/><Relationship Id="rId67" Type="http://schemas.openxmlformats.org/officeDocument/2006/relationships/image" Target="../media/image54.png"/><Relationship Id="rId68" Type="http://schemas.openxmlformats.org/officeDocument/2006/relationships/image" Target="../media/image55.png"/><Relationship Id="rId69" Type="http://schemas.openxmlformats.org/officeDocument/2006/relationships/image" Target="../media/image56.png"/><Relationship Id="rId70" Type="http://schemas.openxmlformats.org/officeDocument/2006/relationships/image" Target="../media/image57.png"/><Relationship Id="rId71" Type="http://schemas.openxmlformats.org/officeDocument/2006/relationships/image" Target="../media/image58.png"/><Relationship Id="rId72" Type="http://schemas.openxmlformats.org/officeDocument/2006/relationships/image" Target="../media/image58.png"/><Relationship Id="rId73" Type="http://schemas.openxmlformats.org/officeDocument/2006/relationships/image" Target="../media/image59.png"/><Relationship Id="rId74" Type="http://schemas.openxmlformats.org/officeDocument/2006/relationships/image" Target="../media/image60.png"/><Relationship Id="rId75" Type="http://schemas.openxmlformats.org/officeDocument/2006/relationships/image" Target="../media/image61.png"/><Relationship Id="rId76" Type="http://schemas.openxmlformats.org/officeDocument/2006/relationships/image" Target="../media/image62.png"/><Relationship Id="rId77" Type="http://schemas.openxmlformats.org/officeDocument/2006/relationships/image" Target="../media/image63.png"/><Relationship Id="rId78" Type="http://schemas.openxmlformats.org/officeDocument/2006/relationships/image" Target="../media/image64.png"/><Relationship Id="rId79" Type="http://schemas.openxmlformats.org/officeDocument/2006/relationships/image" Target="../media/image65.png"/><Relationship Id="rId80" Type="http://schemas.openxmlformats.org/officeDocument/2006/relationships/image" Target="../media/image66.png"/><Relationship Id="rId81" Type="http://schemas.openxmlformats.org/officeDocument/2006/relationships/image" Target="../media/image33.png"/><Relationship Id="rId82" Type="http://schemas.openxmlformats.org/officeDocument/2006/relationships/image" Target="../media/image67.png"/><Relationship Id="rId83" Type="http://schemas.openxmlformats.org/officeDocument/2006/relationships/image" Target="../media/image68.png"/><Relationship Id="rId84" Type="http://schemas.openxmlformats.org/officeDocument/2006/relationships/image" Target="../media/image33.png"/><Relationship Id="rId85" Type="http://schemas.openxmlformats.org/officeDocument/2006/relationships/image" Target="../media/image25.png"/><Relationship Id="rId86" Type="http://schemas.openxmlformats.org/officeDocument/2006/relationships/image" Target="../media/image69.png"/><Relationship Id="rId87" Type="http://schemas.openxmlformats.org/officeDocument/2006/relationships/image" Target="../media/image70.png"/><Relationship Id="rId88" Type="http://schemas.openxmlformats.org/officeDocument/2006/relationships/image" Target="../media/image71.png"/><Relationship Id="rId89" Type="http://schemas.openxmlformats.org/officeDocument/2006/relationships/image" Target="../media/image72.png"/><Relationship Id="rId90" Type="http://schemas.openxmlformats.org/officeDocument/2006/relationships/image" Target="../media/image73.png"/><Relationship Id="rId91" Type="http://schemas.openxmlformats.org/officeDocument/2006/relationships/image" Target="../media/image74.png"/><Relationship Id="rId92" Type="http://schemas.openxmlformats.org/officeDocument/2006/relationships/image" Target="../media/image75.png"/><Relationship Id="rId93" Type="http://schemas.openxmlformats.org/officeDocument/2006/relationships/image" Target="../media/image58.png"/><Relationship Id="rId94" Type="http://schemas.openxmlformats.org/officeDocument/2006/relationships/image" Target="../media/image76.png"/><Relationship Id="rId95" Type="http://schemas.openxmlformats.org/officeDocument/2006/relationships/image" Target="../media/image57.png"/><Relationship Id="rId96" Type="http://schemas.openxmlformats.org/officeDocument/2006/relationships/image" Target="../media/image58.png"/><Relationship Id="rId97" Type="http://schemas.openxmlformats.org/officeDocument/2006/relationships/image" Target="../media/image77.png"/><Relationship Id="rId98" Type="http://schemas.openxmlformats.org/officeDocument/2006/relationships/image" Target="../media/image78.png"/><Relationship Id="rId99" Type="http://schemas.openxmlformats.org/officeDocument/2006/relationships/image" Target="../media/image79.png"/><Relationship Id="rId100" Type="http://schemas.openxmlformats.org/officeDocument/2006/relationships/image" Target="../media/image80.png"/><Relationship Id="rId101" Type="http://schemas.openxmlformats.org/officeDocument/2006/relationships/image" Target="../media/image42.png"/><Relationship Id="rId102" Type="http://schemas.openxmlformats.org/officeDocument/2006/relationships/image" Target="../media/image81.png"/><Relationship Id="rId103" Type="http://schemas.openxmlformats.org/officeDocument/2006/relationships/image" Target="../media/image82.png"/><Relationship Id="rId104" Type="http://schemas.openxmlformats.org/officeDocument/2006/relationships/image" Target="../media/image81.png"/><Relationship Id="rId105" Type="http://schemas.openxmlformats.org/officeDocument/2006/relationships/image" Target="../media/image80.png"/><Relationship Id="rId106" Type="http://schemas.openxmlformats.org/officeDocument/2006/relationships/image" Target="../media/image78.png"/><Relationship Id="rId107" Type="http://schemas.openxmlformats.org/officeDocument/2006/relationships/image" Target="../media/image83.png"/><Relationship Id="rId108" Type="http://schemas.openxmlformats.org/officeDocument/2006/relationships/image" Target="../media/image84.png"/><Relationship Id="rId109" Type="http://schemas.openxmlformats.org/officeDocument/2006/relationships/image" Target="../media/image85.png"/><Relationship Id="rId110" Type="http://schemas.openxmlformats.org/officeDocument/2006/relationships/image" Target="../media/image83.png"/><Relationship Id="rId111" Type="http://schemas.openxmlformats.org/officeDocument/2006/relationships/image" Target="../media/image84.png"/><Relationship Id="rId112" Type="http://schemas.openxmlformats.org/officeDocument/2006/relationships/image" Target="../media/image83.png"/><Relationship Id="rId113" Type="http://schemas.openxmlformats.org/officeDocument/2006/relationships/image" Target="../media/image35.png"/><Relationship Id="rId114" Type="http://schemas.openxmlformats.org/officeDocument/2006/relationships/image" Target="../media/image83.png"/><Relationship Id="rId115" Type="http://schemas.openxmlformats.org/officeDocument/2006/relationships/image" Target="../media/image86.png"/><Relationship Id="rId116" Type="http://schemas.openxmlformats.org/officeDocument/2006/relationships/image" Target="../media/image87.png"/><Relationship Id="rId117" Type="http://schemas.openxmlformats.org/officeDocument/2006/relationships/image" Target="../media/image83.png"/><Relationship Id="rId118" Type="http://schemas.openxmlformats.org/officeDocument/2006/relationships/image" Target="../media/image88.png"/><Relationship Id="rId119" Type="http://schemas.openxmlformats.org/officeDocument/2006/relationships/image" Target="../media/image82.png"/><Relationship Id="rId120" Type="http://schemas.openxmlformats.org/officeDocument/2006/relationships/image" Target="../media/image83.png"/><Relationship Id="rId121" Type="http://schemas.openxmlformats.org/officeDocument/2006/relationships/image" Target="../media/image83.png"/><Relationship Id="rId122" Type="http://schemas.openxmlformats.org/officeDocument/2006/relationships/image" Target="../media/image89.png"/><Relationship Id="rId123" Type="http://schemas.openxmlformats.org/officeDocument/2006/relationships/image" Target="../media/image90.png"/><Relationship Id="rId124" Type="http://schemas.openxmlformats.org/officeDocument/2006/relationships/image" Target="../media/image83.png"/><Relationship Id="rId125" Type="http://schemas.openxmlformats.org/officeDocument/2006/relationships/image" Target="../media/image90.png"/><Relationship Id="rId126" Type="http://schemas.openxmlformats.org/officeDocument/2006/relationships/image" Target="../media/image91.png"/><Relationship Id="rId127" Type="http://schemas.openxmlformats.org/officeDocument/2006/relationships/image" Target="../media/image92.png"/><Relationship Id="rId128" Type="http://schemas.openxmlformats.org/officeDocument/2006/relationships/image" Target="../media/image93.png"/><Relationship Id="rId129" Type="http://schemas.openxmlformats.org/officeDocument/2006/relationships/image" Target="../media/image94.png"/><Relationship Id="rId130" Type="http://schemas.openxmlformats.org/officeDocument/2006/relationships/image" Target="../media/image95.png"/><Relationship Id="rId131" Type="http://schemas.openxmlformats.org/officeDocument/2006/relationships/image" Target="../media/image96.png"/><Relationship Id="rId132" Type="http://schemas.openxmlformats.org/officeDocument/2006/relationships/image" Target="../media/image97.png"/><Relationship Id="rId133" Type="http://schemas.openxmlformats.org/officeDocument/2006/relationships/image" Target="../media/image98.png"/><Relationship Id="rId134" Type="http://schemas.openxmlformats.org/officeDocument/2006/relationships/image" Target="../media/image99.png"/><Relationship Id="rId135" Type="http://schemas.openxmlformats.org/officeDocument/2006/relationships/image" Target="../media/image100.png"/><Relationship Id="rId136" Type="http://schemas.openxmlformats.org/officeDocument/2006/relationships/image" Target="../media/image101.png"/><Relationship Id="rId137" Type="http://schemas.openxmlformats.org/officeDocument/2006/relationships/image" Target="../media/image102.png"/><Relationship Id="rId138" Type="http://schemas.openxmlformats.org/officeDocument/2006/relationships/image" Target="../media/image103.png"/><Relationship Id="rId139" Type="http://schemas.openxmlformats.org/officeDocument/2006/relationships/image" Target="../media/image104.png"/><Relationship Id="rId140" Type="http://schemas.openxmlformats.org/officeDocument/2006/relationships/image" Target="../media/image105.png"/><Relationship Id="rId141" Type="http://schemas.openxmlformats.org/officeDocument/2006/relationships/image" Target="../media/image106.png"/><Relationship Id="rId142" Type="http://schemas.openxmlformats.org/officeDocument/2006/relationships/image" Target="../media/image107.png"/><Relationship Id="rId143" Type="http://schemas.openxmlformats.org/officeDocument/2006/relationships/image" Target="../media/image108.png"/><Relationship Id="rId144" Type="http://schemas.openxmlformats.org/officeDocument/2006/relationships/image" Target="../media/image109.png"/><Relationship Id="rId145" Type="http://schemas.openxmlformats.org/officeDocument/2006/relationships/image" Target="../media/image110.png"/><Relationship Id="rId146" Type="http://schemas.openxmlformats.org/officeDocument/2006/relationships/image" Target="../media/image111.png"/><Relationship Id="rId147" Type="http://schemas.openxmlformats.org/officeDocument/2006/relationships/image" Target="../media/image112.png"/><Relationship Id="rId148" Type="http://schemas.openxmlformats.org/officeDocument/2006/relationships/image" Target="../media/image113.png"/><Relationship Id="rId149" Type="http://schemas.openxmlformats.org/officeDocument/2006/relationships/image" Target="../media/image114.png"/><Relationship Id="rId150" Type="http://schemas.openxmlformats.org/officeDocument/2006/relationships/image" Target="../media/image115.png"/><Relationship Id="rId151" Type="http://schemas.openxmlformats.org/officeDocument/2006/relationships/hyperlink" Target="http://www.eeppt.com/dongtai/" TargetMode="External"/><Relationship Id="rId15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Administrator\桌面\1132.jpg"/>
          <p:cNvPicPr/>
          <p:nvPr/>
        </p:nvPicPr>
        <p:blipFill>
          <a:blip r:embed="rId1"/>
          <a:stretch/>
        </p:blipFill>
        <p:spPr>
          <a:xfrm>
            <a:off x="-4680" y="-17640"/>
            <a:ext cx="9155160" cy="5766120"/>
          </a:xfrm>
          <a:prstGeom prst="rect">
            <a:avLst/>
          </a:prstGeom>
          <a:ln w="0">
            <a:noFill/>
          </a:ln>
        </p:spPr>
      </p:pic>
      <p:sp>
        <p:nvSpPr>
          <p:cNvPr id="42" name="圆角矩形 46"/>
          <p:cNvSpPr/>
          <p:nvPr/>
        </p:nvSpPr>
        <p:spPr>
          <a:xfrm>
            <a:off x="2917800" y="3648240"/>
            <a:ext cx="3262320" cy="365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3" descr="C:\Documents and Settings\Administrator\桌面\22.png"/>
          <p:cNvPicPr/>
          <p:nvPr/>
        </p:nvPicPr>
        <p:blipFill>
          <a:blip r:embed="rId2"/>
          <a:stretch/>
        </p:blipFill>
        <p:spPr>
          <a:xfrm>
            <a:off x="4140360" y="1663560"/>
            <a:ext cx="1081080" cy="1011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2" descr="C:\Documents and Settings\Administrator\桌面\图片1.png"/>
          <p:cNvPicPr/>
          <p:nvPr/>
        </p:nvPicPr>
        <p:blipFill>
          <a:blip r:embed="rId3"/>
          <a:stretch/>
        </p:blipFill>
        <p:spPr>
          <a:xfrm>
            <a:off x="4451400" y="2092320"/>
            <a:ext cx="439560" cy="453960"/>
          </a:xfrm>
          <a:prstGeom prst="rect">
            <a:avLst/>
          </a:prstGeom>
          <a:ln w="0">
            <a:noFill/>
          </a:ln>
        </p:spPr>
      </p:pic>
      <p:sp>
        <p:nvSpPr>
          <p:cNvPr id="45" name="TextBox 7"/>
          <p:cNvSpPr/>
          <p:nvPr/>
        </p:nvSpPr>
        <p:spPr>
          <a:xfrm>
            <a:off x="3851280" y="31449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正在缓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-996840" y="3660480"/>
            <a:ext cx="4056840" cy="336960"/>
            <a:chOff x="-996840" y="3660480"/>
            <a:chExt cx="4056840" cy="336960"/>
          </a:xfrm>
        </p:grpSpPr>
        <p:sp>
          <p:nvSpPr>
            <p:cNvPr id="47" name="流程图: 数据 23"/>
            <p:cNvSpPr/>
            <p:nvPr/>
          </p:nvSpPr>
          <p:spPr>
            <a:xfrm rot="686400">
              <a:off x="203760" y="3687480"/>
              <a:ext cx="302760" cy="282600"/>
            </a:xfrm>
            <a:custGeom>
              <a:avLst/>
              <a:gdLst/>
              <a:ahLst/>
              <a:rect l="l" t="t" r="r" b="b"/>
              <a:pathLst>
                <a:path w="9206" h="8776">
                  <a:moveTo>
                    <a:pt x="0" y="8776"/>
                  </a:moveTo>
                  <a:lnTo>
                    <a:pt x="4726" y="1016"/>
                  </a:lnTo>
                  <a:lnTo>
                    <a:pt x="9206" y="0"/>
                  </a:lnTo>
                  <a:lnTo>
                    <a:pt x="4507" y="7778"/>
                  </a:lnTo>
                  <a:lnTo>
                    <a:pt x="0" y="8776"/>
                  </a:lnTo>
                  <a:close/>
                </a:path>
              </a:pathLst>
            </a:cu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流程图: 数据 23"/>
            <p:cNvSpPr/>
            <p:nvPr/>
          </p:nvSpPr>
          <p:spPr>
            <a:xfrm rot="686400">
              <a:off x="484560" y="3687480"/>
              <a:ext cx="302760" cy="282600"/>
            </a:xfrm>
            <a:custGeom>
              <a:avLst/>
              <a:gdLst/>
              <a:ahLst/>
              <a:rect l="l" t="t" r="r" b="b"/>
              <a:pathLst>
                <a:path w="9206" h="8776">
                  <a:moveTo>
                    <a:pt x="0" y="8776"/>
                  </a:moveTo>
                  <a:lnTo>
                    <a:pt x="4726" y="1016"/>
                  </a:lnTo>
                  <a:lnTo>
                    <a:pt x="9206" y="0"/>
                  </a:lnTo>
                  <a:lnTo>
                    <a:pt x="4507" y="7778"/>
                  </a:lnTo>
                  <a:lnTo>
                    <a:pt x="0" y="8776"/>
                  </a:lnTo>
                  <a:close/>
                </a:path>
              </a:pathLst>
            </a:cu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流程图: 数据 23"/>
            <p:cNvSpPr/>
            <p:nvPr/>
          </p:nvSpPr>
          <p:spPr>
            <a:xfrm rot="686400">
              <a:off x="765720" y="3687480"/>
              <a:ext cx="302760" cy="282600"/>
            </a:xfrm>
            <a:custGeom>
              <a:avLst/>
              <a:gdLst/>
              <a:ahLst/>
              <a:rect l="l" t="t" r="r" b="b"/>
              <a:pathLst>
                <a:path w="9206" h="8776">
                  <a:moveTo>
                    <a:pt x="0" y="8776"/>
                  </a:moveTo>
                  <a:lnTo>
                    <a:pt x="4726" y="1016"/>
                  </a:lnTo>
                  <a:lnTo>
                    <a:pt x="9206" y="0"/>
                  </a:lnTo>
                  <a:lnTo>
                    <a:pt x="4507" y="7778"/>
                  </a:lnTo>
                  <a:lnTo>
                    <a:pt x="0" y="8776"/>
                  </a:lnTo>
                  <a:close/>
                </a:path>
              </a:pathLst>
            </a:cu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流程图: 数据 23"/>
            <p:cNvSpPr/>
            <p:nvPr/>
          </p:nvSpPr>
          <p:spPr>
            <a:xfrm rot="686400">
              <a:off x="1046520" y="3687480"/>
              <a:ext cx="302760" cy="282600"/>
            </a:xfrm>
            <a:custGeom>
              <a:avLst/>
              <a:gdLst/>
              <a:ahLst/>
              <a:rect l="l" t="t" r="r" b="b"/>
              <a:pathLst>
                <a:path w="9206" h="8776">
                  <a:moveTo>
                    <a:pt x="0" y="8776"/>
                  </a:moveTo>
                  <a:lnTo>
                    <a:pt x="4726" y="1016"/>
                  </a:lnTo>
                  <a:lnTo>
                    <a:pt x="9206" y="0"/>
                  </a:lnTo>
                  <a:lnTo>
                    <a:pt x="4507" y="7778"/>
                  </a:lnTo>
                  <a:lnTo>
                    <a:pt x="0" y="8776"/>
                  </a:lnTo>
                  <a:close/>
                </a:path>
              </a:pathLst>
            </a:cu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流程图: 数据 23"/>
            <p:cNvSpPr/>
            <p:nvPr/>
          </p:nvSpPr>
          <p:spPr>
            <a:xfrm rot="686400">
              <a:off x="1327320" y="3687480"/>
              <a:ext cx="302760" cy="282600"/>
            </a:xfrm>
            <a:custGeom>
              <a:avLst/>
              <a:gdLst/>
              <a:ahLst/>
              <a:rect l="l" t="t" r="r" b="b"/>
              <a:pathLst>
                <a:path w="9206" h="8776">
                  <a:moveTo>
                    <a:pt x="0" y="8776"/>
                  </a:moveTo>
                  <a:lnTo>
                    <a:pt x="4726" y="1016"/>
                  </a:lnTo>
                  <a:lnTo>
                    <a:pt x="9206" y="0"/>
                  </a:lnTo>
                  <a:lnTo>
                    <a:pt x="4507" y="7778"/>
                  </a:lnTo>
                  <a:lnTo>
                    <a:pt x="0" y="8776"/>
                  </a:lnTo>
                  <a:close/>
                </a:path>
              </a:pathLst>
            </a:cu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流程图: 数据 23"/>
            <p:cNvSpPr/>
            <p:nvPr/>
          </p:nvSpPr>
          <p:spPr>
            <a:xfrm rot="686400">
              <a:off x="1609920" y="3687840"/>
              <a:ext cx="301320" cy="282600"/>
            </a:xfrm>
            <a:custGeom>
              <a:avLst/>
              <a:gdLst/>
              <a:ahLst/>
              <a:rect l="l" t="t" r="r" b="b"/>
              <a:pathLst>
                <a:path w="9206" h="8776">
                  <a:moveTo>
                    <a:pt x="0" y="8776"/>
                  </a:moveTo>
                  <a:lnTo>
                    <a:pt x="4726" y="1016"/>
                  </a:lnTo>
                  <a:lnTo>
                    <a:pt x="9206" y="0"/>
                  </a:lnTo>
                  <a:lnTo>
                    <a:pt x="4507" y="7778"/>
                  </a:lnTo>
                  <a:lnTo>
                    <a:pt x="0" y="8776"/>
                  </a:lnTo>
                  <a:close/>
                </a:path>
              </a:pathLst>
            </a:cu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流程图: 数据 23"/>
            <p:cNvSpPr/>
            <p:nvPr/>
          </p:nvSpPr>
          <p:spPr>
            <a:xfrm rot="686400">
              <a:off x="1890720" y="3687840"/>
              <a:ext cx="301320" cy="282600"/>
            </a:xfrm>
            <a:custGeom>
              <a:avLst/>
              <a:gdLst/>
              <a:ahLst/>
              <a:rect l="l" t="t" r="r" b="b"/>
              <a:pathLst>
                <a:path w="9206" h="8776">
                  <a:moveTo>
                    <a:pt x="0" y="8776"/>
                  </a:moveTo>
                  <a:lnTo>
                    <a:pt x="4726" y="1016"/>
                  </a:lnTo>
                  <a:lnTo>
                    <a:pt x="9206" y="0"/>
                  </a:lnTo>
                  <a:lnTo>
                    <a:pt x="4507" y="7778"/>
                  </a:lnTo>
                  <a:lnTo>
                    <a:pt x="0" y="8776"/>
                  </a:lnTo>
                  <a:close/>
                </a:path>
              </a:pathLst>
            </a:cu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流程图: 数据 23"/>
            <p:cNvSpPr/>
            <p:nvPr/>
          </p:nvSpPr>
          <p:spPr>
            <a:xfrm rot="686400">
              <a:off x="2171520" y="3687840"/>
              <a:ext cx="301320" cy="282600"/>
            </a:xfrm>
            <a:custGeom>
              <a:avLst/>
              <a:gdLst/>
              <a:ahLst/>
              <a:rect l="l" t="t" r="r" b="b"/>
              <a:pathLst>
                <a:path w="9206" h="8776">
                  <a:moveTo>
                    <a:pt x="0" y="8776"/>
                  </a:moveTo>
                  <a:lnTo>
                    <a:pt x="4726" y="1016"/>
                  </a:lnTo>
                  <a:lnTo>
                    <a:pt x="9206" y="0"/>
                  </a:lnTo>
                  <a:lnTo>
                    <a:pt x="4507" y="7778"/>
                  </a:lnTo>
                  <a:lnTo>
                    <a:pt x="0" y="8776"/>
                  </a:lnTo>
                  <a:close/>
                </a:path>
              </a:pathLst>
            </a:cu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流程图: 数据 23"/>
            <p:cNvSpPr/>
            <p:nvPr/>
          </p:nvSpPr>
          <p:spPr>
            <a:xfrm rot="686400">
              <a:off x="2452680" y="3687840"/>
              <a:ext cx="301320" cy="282600"/>
            </a:xfrm>
            <a:custGeom>
              <a:avLst/>
              <a:gdLst/>
              <a:ahLst/>
              <a:rect l="l" t="t" r="r" b="b"/>
              <a:pathLst>
                <a:path w="9206" h="8776">
                  <a:moveTo>
                    <a:pt x="0" y="8776"/>
                  </a:moveTo>
                  <a:lnTo>
                    <a:pt x="4726" y="1016"/>
                  </a:lnTo>
                  <a:lnTo>
                    <a:pt x="9206" y="0"/>
                  </a:lnTo>
                  <a:lnTo>
                    <a:pt x="4507" y="7778"/>
                  </a:lnTo>
                  <a:lnTo>
                    <a:pt x="0" y="8776"/>
                  </a:lnTo>
                  <a:close/>
                </a:path>
              </a:pathLst>
            </a:cu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流程图: 数据 23"/>
            <p:cNvSpPr/>
            <p:nvPr/>
          </p:nvSpPr>
          <p:spPr>
            <a:xfrm rot="686400">
              <a:off x="2733480" y="3687840"/>
              <a:ext cx="301320" cy="282600"/>
            </a:xfrm>
            <a:custGeom>
              <a:avLst/>
              <a:gdLst/>
              <a:ahLst/>
              <a:rect l="l" t="t" r="r" b="b"/>
              <a:pathLst>
                <a:path w="9206" h="8776">
                  <a:moveTo>
                    <a:pt x="0" y="8776"/>
                  </a:moveTo>
                  <a:lnTo>
                    <a:pt x="4726" y="1016"/>
                  </a:lnTo>
                  <a:lnTo>
                    <a:pt x="9206" y="0"/>
                  </a:lnTo>
                  <a:lnTo>
                    <a:pt x="4507" y="7778"/>
                  </a:lnTo>
                  <a:lnTo>
                    <a:pt x="0" y="8776"/>
                  </a:lnTo>
                  <a:close/>
                </a:path>
              </a:pathLst>
            </a:cu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流程图: 数据 23"/>
            <p:cNvSpPr/>
            <p:nvPr/>
          </p:nvSpPr>
          <p:spPr>
            <a:xfrm rot="686400">
              <a:off x="-971640" y="3687840"/>
              <a:ext cx="301320" cy="282600"/>
            </a:xfrm>
            <a:custGeom>
              <a:avLst/>
              <a:gdLst/>
              <a:ahLst/>
              <a:rect l="l" t="t" r="r" b="b"/>
              <a:pathLst>
                <a:path w="9206" h="8776">
                  <a:moveTo>
                    <a:pt x="0" y="8776"/>
                  </a:moveTo>
                  <a:lnTo>
                    <a:pt x="4726" y="1016"/>
                  </a:lnTo>
                  <a:lnTo>
                    <a:pt x="9206" y="0"/>
                  </a:lnTo>
                  <a:lnTo>
                    <a:pt x="4507" y="7778"/>
                  </a:lnTo>
                  <a:lnTo>
                    <a:pt x="0" y="8776"/>
                  </a:lnTo>
                  <a:close/>
                </a:path>
              </a:pathLst>
            </a:cu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数据 23"/>
            <p:cNvSpPr/>
            <p:nvPr/>
          </p:nvSpPr>
          <p:spPr>
            <a:xfrm rot="686400">
              <a:off x="-638280" y="3687480"/>
              <a:ext cx="302760" cy="282600"/>
            </a:xfrm>
            <a:custGeom>
              <a:avLst/>
              <a:gdLst/>
              <a:ahLst/>
              <a:rect l="l" t="t" r="r" b="b"/>
              <a:pathLst>
                <a:path w="9206" h="8776">
                  <a:moveTo>
                    <a:pt x="0" y="8776"/>
                  </a:moveTo>
                  <a:lnTo>
                    <a:pt x="4726" y="1016"/>
                  </a:lnTo>
                  <a:lnTo>
                    <a:pt x="9206" y="0"/>
                  </a:lnTo>
                  <a:lnTo>
                    <a:pt x="4507" y="7778"/>
                  </a:lnTo>
                  <a:lnTo>
                    <a:pt x="0" y="8776"/>
                  </a:lnTo>
                  <a:close/>
                </a:path>
              </a:pathLst>
            </a:cu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数据 23"/>
            <p:cNvSpPr/>
            <p:nvPr/>
          </p:nvSpPr>
          <p:spPr>
            <a:xfrm rot="686400">
              <a:off x="-357120" y="3687480"/>
              <a:ext cx="302760" cy="282600"/>
            </a:xfrm>
            <a:custGeom>
              <a:avLst/>
              <a:gdLst/>
              <a:ahLst/>
              <a:rect l="l" t="t" r="r" b="b"/>
              <a:pathLst>
                <a:path w="9206" h="8776">
                  <a:moveTo>
                    <a:pt x="0" y="8776"/>
                  </a:moveTo>
                  <a:lnTo>
                    <a:pt x="4726" y="1016"/>
                  </a:lnTo>
                  <a:lnTo>
                    <a:pt x="9206" y="0"/>
                  </a:lnTo>
                  <a:lnTo>
                    <a:pt x="4507" y="7778"/>
                  </a:lnTo>
                  <a:lnTo>
                    <a:pt x="0" y="8776"/>
                  </a:lnTo>
                  <a:close/>
                </a:path>
              </a:pathLst>
            </a:cu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流程图: 数据 23"/>
            <p:cNvSpPr/>
            <p:nvPr/>
          </p:nvSpPr>
          <p:spPr>
            <a:xfrm rot="686400">
              <a:off x="-76320" y="3687480"/>
              <a:ext cx="302760" cy="282600"/>
            </a:xfrm>
            <a:custGeom>
              <a:avLst/>
              <a:gdLst/>
              <a:ahLst/>
              <a:rect l="l" t="t" r="r" b="b"/>
              <a:pathLst>
                <a:path w="9206" h="8776">
                  <a:moveTo>
                    <a:pt x="0" y="8776"/>
                  </a:moveTo>
                  <a:lnTo>
                    <a:pt x="4726" y="1016"/>
                  </a:lnTo>
                  <a:lnTo>
                    <a:pt x="9206" y="0"/>
                  </a:lnTo>
                  <a:lnTo>
                    <a:pt x="4507" y="7778"/>
                  </a:lnTo>
                  <a:lnTo>
                    <a:pt x="0" y="8776"/>
                  </a:lnTo>
                  <a:close/>
                </a:path>
              </a:pathLst>
            </a:cu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" name="Picture 8" descr=""/>
          <p:cNvPicPr/>
          <p:nvPr/>
        </p:nvPicPr>
        <p:blipFill>
          <a:blip r:embed="rId4"/>
          <a:stretch/>
        </p:blipFill>
        <p:spPr>
          <a:xfrm>
            <a:off x="-4680" y="3571920"/>
            <a:ext cx="2923920" cy="566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C:\Documents and Settings\Administrator\桌面\图片1.png"/>
          <p:cNvPicPr/>
          <p:nvPr/>
        </p:nvPicPr>
        <p:blipFill>
          <a:blip r:embed="rId5"/>
          <a:stretch/>
        </p:blipFill>
        <p:spPr>
          <a:xfrm>
            <a:off x="2916360" y="3649680"/>
            <a:ext cx="3267000" cy="365040"/>
          </a:xfrm>
          <a:prstGeom prst="rect">
            <a:avLst/>
          </a:prstGeom>
          <a:ln w="0">
            <a:noFill/>
          </a:ln>
        </p:spPr>
      </p:pic>
      <p:sp>
        <p:nvSpPr>
          <p:cNvPr id="63" name="TextBox 1"/>
          <p:cNvSpPr/>
          <p:nvPr/>
        </p:nvSpPr>
        <p:spPr>
          <a:xfrm>
            <a:off x="5608800" y="3670200"/>
            <a:ext cx="77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%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5608800" y="3670200"/>
            <a:ext cx="77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%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5608800" y="3670200"/>
            <a:ext cx="77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%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5608800" y="3670200"/>
            <a:ext cx="77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%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5608800" y="3670200"/>
            <a:ext cx="77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%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5608800" y="3670200"/>
            <a:ext cx="77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%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5608800" y="3670200"/>
            <a:ext cx="77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%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5608800" y="3670200"/>
            <a:ext cx="77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%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5608800" y="3670200"/>
            <a:ext cx="77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9%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2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2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3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3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4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5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6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7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8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8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9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9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0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1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2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2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3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3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24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5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26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27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28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8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9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9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30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1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2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2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3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3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34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5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36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37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8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8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39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9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40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1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42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2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43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3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44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45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46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47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48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8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49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9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0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51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52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2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53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3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54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55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56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57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58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8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59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9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60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61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62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2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63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3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64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65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66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67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68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8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69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9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70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71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72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2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73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3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74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75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76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77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78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8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79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9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80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81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82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2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83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3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84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85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86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87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88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8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89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9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90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9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00"/>
          <p:cNvSpPr/>
          <p:nvPr/>
        </p:nvSpPr>
        <p:spPr>
          <a:xfrm>
            <a:off x="5638680" y="3670200"/>
            <a:ext cx="100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00%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91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9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92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92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93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93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94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9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95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9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96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9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97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9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98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98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99"/>
          <p:cNvSpPr/>
          <p:nvPr/>
        </p:nvSpPr>
        <p:spPr>
          <a:xfrm>
            <a:off x="562608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99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11" descr=""/>
          <p:cNvPicPr/>
          <p:nvPr/>
        </p:nvPicPr>
        <p:blipFill>
          <a:blip r:embed="rId6"/>
          <a:stretch/>
        </p:blipFill>
        <p:spPr>
          <a:xfrm>
            <a:off x="6181560" y="3425760"/>
            <a:ext cx="2949840" cy="817560"/>
          </a:xfrm>
          <a:prstGeom prst="rect">
            <a:avLst/>
          </a:prstGeom>
          <a:ln w="0">
            <a:noFill/>
          </a:ln>
        </p:spPr>
      </p:pic>
      <p:sp>
        <p:nvSpPr>
          <p:cNvPr id="164" name="圆角矩形 1"/>
          <p:cNvSpPr/>
          <p:nvPr/>
        </p:nvSpPr>
        <p:spPr>
          <a:xfrm>
            <a:off x="2994120" y="3722760"/>
            <a:ext cx="2657520" cy="216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84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8269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1320840" y="1057320"/>
            <a:ext cx="25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卡通动态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11022E-016 L 0.35122 1.11022E-016 E">
                                      <p:cBhvr>
                                        <p:cTn id="11" dur="5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4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">
                                  <p:stCondLst>
                                    <p:cond delay="4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8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8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16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">
                                  <p:stCondLst>
                                    <p:cond delay="16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32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">
                                  <p:stCondLst>
                                    <p:cond delay="32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44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44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48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48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52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52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56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56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64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">
                                  <p:stCondLst>
                                    <p:cond delay="64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68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>
                                  <p:stCondLst>
                                    <p:cond delay="68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72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">
                                  <p:stCondLst>
                                    <p:cond delay="72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72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72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76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76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84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84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88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88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92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92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96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96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104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104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108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108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112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112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116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116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124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">
                                  <p:stCondLst>
                                    <p:cond delay="124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128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128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132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132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136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136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152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152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156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156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164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164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168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">
                                  <p:stCondLst>
                                    <p:cond delay="168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172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172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184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184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188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">
                                  <p:stCondLst>
                                    <p:cond delay="188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192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">
                                  <p:stCondLst>
                                    <p:cond delay="192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196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196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204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">
                                  <p:stCondLst>
                                    <p:cond delay="204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208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">
                                  <p:stCondLst>
                                    <p:cond delay="208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212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">
                                  <p:stCondLst>
                                    <p:cond delay="212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216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">
                                  <p:stCondLst>
                                    <p:cond delay="216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224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">
                                  <p:stCondLst>
                                    <p:cond delay="224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228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228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232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">
                                  <p:stCondLst>
                                    <p:cond delay="232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244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">
                                  <p:stCondLst>
                                    <p:cond delay="244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248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">
                                  <p:stCondLst>
                                    <p:cond delay="248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252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">
                                  <p:stCondLst>
                                    <p:cond delay="252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256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">
                                  <p:stCondLst>
                                    <p:cond delay="256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264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">
                                  <p:stCondLst>
                                    <p:cond delay="264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268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">
                                  <p:stCondLst>
                                    <p:cond delay="268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272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">
                                  <p:stCondLst>
                                    <p:cond delay="272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276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">
                                  <p:stCondLst>
                                    <p:cond delay="276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284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">
                                  <p:stCondLst>
                                    <p:cond delay="284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288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">
                                  <p:stCondLst>
                                    <p:cond delay="288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292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">
                                  <p:stCondLst>
                                    <p:cond delay="292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296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296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304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">
                                  <p:stCondLst>
                                    <p:cond delay="304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308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">
                                  <p:stCondLst>
                                    <p:cond delay="308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312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">
                                  <p:stCondLst>
                                    <p:cond delay="312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316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1">
                                  <p:stCondLst>
                                    <p:cond delay="316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324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1">
                                  <p:stCondLst>
                                    <p:cond delay="324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328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1">
                                  <p:stCondLst>
                                    <p:cond delay="328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332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">
                                  <p:stCondLst>
                                    <p:cond delay="332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336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">
                                  <p:stCondLst>
                                    <p:cond delay="336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344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">
                                  <p:stCondLst>
                                    <p:cond delay="344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348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">
                                  <p:stCondLst>
                                    <p:cond delay="348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352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">
                                  <p:stCondLst>
                                    <p:cond delay="352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356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">
                                  <p:stCondLst>
                                    <p:cond delay="356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364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">
                                  <p:stCondLst>
                                    <p:cond delay="364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368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">
                                  <p:stCondLst>
                                    <p:cond delay="368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372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">
                                  <p:stCondLst>
                                    <p:cond delay="372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376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">
                                  <p:stCondLst>
                                    <p:cond delay="376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384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">
                                  <p:stCondLst>
                                    <p:cond delay="384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388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">
                                  <p:stCondLst>
                                    <p:cond delay="388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388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">
                                  <p:stCondLst>
                                    <p:cond delay="388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:\Documents and Settings\Administrator\桌面\1132.jpg"/>
          <p:cNvPicPr/>
          <p:nvPr/>
        </p:nvPicPr>
        <p:blipFill>
          <a:blip r:embed="rId1"/>
          <a:stretch/>
        </p:blipFill>
        <p:spPr>
          <a:xfrm>
            <a:off x="-4680" y="-17640"/>
            <a:ext cx="9155160" cy="5766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C:\Documents and Settings\Administrator\桌面\未标题-1.jpg"/>
          <p:cNvPicPr/>
          <p:nvPr/>
        </p:nvPicPr>
        <p:blipFill>
          <a:blip r:embed="rId2"/>
          <a:stretch/>
        </p:blipFill>
        <p:spPr>
          <a:xfrm>
            <a:off x="-4680" y="2766960"/>
            <a:ext cx="9155160" cy="117180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5580000" y="6585120"/>
            <a:ext cx="466920" cy="448920"/>
            <a:chOff x="5580000" y="6585120"/>
            <a:chExt cx="466920" cy="448920"/>
          </a:xfrm>
        </p:grpSpPr>
        <p:pic>
          <p:nvPicPr>
            <p:cNvPr id="170" name="Picture 8" descr="C:\Documents and Settings\Administrator\桌面\图片1.png"/>
            <p:cNvPicPr/>
            <p:nvPr/>
          </p:nvPicPr>
          <p:blipFill>
            <a:blip r:embed="rId3"/>
            <a:stretch/>
          </p:blipFill>
          <p:spPr>
            <a:xfrm>
              <a:off x="5580000" y="6585120"/>
              <a:ext cx="466920" cy="44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8" descr="C:\Documents and Settings\Administrator\桌面\图片1.png"/>
            <p:cNvPicPr/>
            <p:nvPr/>
          </p:nvPicPr>
          <p:blipFill>
            <a:blip r:embed="rId4"/>
            <a:stretch/>
          </p:blipFill>
          <p:spPr>
            <a:xfrm>
              <a:off x="5784120" y="6979320"/>
              <a:ext cx="56880" cy="54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" name="Picture 8" descr="C:\Documents and Settings\Administrator\桌面\图片1.png"/>
          <p:cNvPicPr/>
          <p:nvPr/>
        </p:nvPicPr>
        <p:blipFill>
          <a:blip r:embed="rId5"/>
          <a:stretch/>
        </p:blipFill>
        <p:spPr>
          <a:xfrm>
            <a:off x="6764400" y="6381720"/>
            <a:ext cx="298440" cy="287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C:\Documents and Settings\Administrator\桌面\图片1.png"/>
          <p:cNvPicPr/>
          <p:nvPr/>
        </p:nvPicPr>
        <p:blipFill>
          <a:blip r:embed="rId6"/>
          <a:stretch/>
        </p:blipFill>
        <p:spPr>
          <a:xfrm>
            <a:off x="4500720" y="6885000"/>
            <a:ext cx="149040" cy="144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:\Documents and Settings\Administrator\桌面\图片1.png"/>
          <p:cNvPicPr/>
          <p:nvPr/>
        </p:nvPicPr>
        <p:blipFill>
          <a:blip r:embed="rId7"/>
          <a:stretch/>
        </p:blipFill>
        <p:spPr>
          <a:xfrm>
            <a:off x="7956720" y="6000840"/>
            <a:ext cx="71280" cy="68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C:\Documents and Settings\Administrator\桌面\图片1.png"/>
          <p:cNvPicPr/>
          <p:nvPr/>
        </p:nvPicPr>
        <p:blipFill>
          <a:blip r:embed="rId8"/>
          <a:stretch/>
        </p:blipFill>
        <p:spPr>
          <a:xfrm>
            <a:off x="3492360" y="6213600"/>
            <a:ext cx="73080" cy="71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C:\Documents and Settings\Administrator\桌面\图片1.png"/>
          <p:cNvPicPr/>
          <p:nvPr/>
        </p:nvPicPr>
        <p:blipFill>
          <a:blip r:embed="rId9"/>
          <a:stretch/>
        </p:blipFill>
        <p:spPr>
          <a:xfrm>
            <a:off x="1692360" y="6213600"/>
            <a:ext cx="73080" cy="71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C:\Documents and Settings\Administrator\桌面\图片1.png"/>
          <p:cNvPicPr/>
          <p:nvPr/>
        </p:nvPicPr>
        <p:blipFill>
          <a:blip r:embed="rId10"/>
          <a:stretch/>
        </p:blipFill>
        <p:spPr>
          <a:xfrm>
            <a:off x="2360520" y="6442200"/>
            <a:ext cx="252360" cy="242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C:\Documents and Settings\Administrator\桌面\图片1.png"/>
          <p:cNvPicPr/>
          <p:nvPr/>
        </p:nvPicPr>
        <p:blipFill>
          <a:blip r:embed="rId11"/>
          <a:stretch/>
        </p:blipFill>
        <p:spPr>
          <a:xfrm>
            <a:off x="826920" y="5902200"/>
            <a:ext cx="195480" cy="187560"/>
          </a:xfrm>
          <a:prstGeom prst="rect">
            <a:avLst/>
          </a:prstGeom>
          <a:ln w="0">
            <a:noFill/>
          </a:ln>
        </p:spPr>
      </p:pic>
      <p:sp>
        <p:nvSpPr>
          <p:cNvPr id="179" name="TextBox 215"/>
          <p:cNvSpPr/>
          <p:nvPr/>
        </p:nvSpPr>
        <p:spPr>
          <a:xfrm>
            <a:off x="3706920" y="4998960"/>
            <a:ext cx="1730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宋体"/>
              </a:rPr>
              <a:t>-- 2 0 1 1  </a:t>
            </a: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倾 情 出 品 </a:t>
            </a:r>
            <a:r>
              <a:rPr b="0" lang="en-US" sz="900" spc="-1" strike="noStrike">
                <a:solidFill>
                  <a:srgbClr val="ffffff"/>
                </a:solidFill>
                <a:latin typeface="宋体"/>
              </a:rPr>
              <a:t>--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730760" y="1481040"/>
            <a:ext cx="279360" cy="274680"/>
            <a:chOff x="4730760" y="1481040"/>
            <a:chExt cx="279360" cy="274680"/>
          </a:xfrm>
        </p:grpSpPr>
        <p:pic>
          <p:nvPicPr>
            <p:cNvPr id="181" name="椭圆 37" descr=""/>
            <p:cNvPicPr/>
            <p:nvPr/>
          </p:nvPicPr>
          <p:blipFill>
            <a:blip r:embed="rId12"/>
            <a:stretch/>
          </p:blipFill>
          <p:spPr>
            <a:xfrm>
              <a:off x="4730760" y="1481040"/>
              <a:ext cx="27936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4776840" y="1523880"/>
              <a:ext cx="18720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449600" y="1695600"/>
            <a:ext cx="293760" cy="291960"/>
            <a:chOff x="4449600" y="1695600"/>
            <a:chExt cx="293760" cy="291960"/>
          </a:xfrm>
        </p:grpSpPr>
        <p:pic>
          <p:nvPicPr>
            <p:cNvPr id="184" name="椭圆 38" descr=""/>
            <p:cNvPicPr/>
            <p:nvPr/>
          </p:nvPicPr>
          <p:blipFill>
            <a:blip r:embed="rId13"/>
            <a:stretch/>
          </p:blipFill>
          <p:spPr>
            <a:xfrm>
              <a:off x="4449600" y="1695600"/>
              <a:ext cx="29376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4498920" y="1741680"/>
              <a:ext cx="198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145040" y="1962000"/>
            <a:ext cx="237960" cy="237960"/>
            <a:chOff x="4145040" y="1962000"/>
            <a:chExt cx="237960" cy="237960"/>
          </a:xfrm>
        </p:grpSpPr>
        <p:pic>
          <p:nvPicPr>
            <p:cNvPr id="187" name="椭圆 49" descr=""/>
            <p:cNvPicPr/>
            <p:nvPr/>
          </p:nvPicPr>
          <p:blipFill>
            <a:blip r:embed="rId14"/>
            <a:stretch/>
          </p:blipFill>
          <p:spPr>
            <a:xfrm>
              <a:off x="4145040" y="1962000"/>
              <a:ext cx="23796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4183200" y="2000160"/>
              <a:ext cx="1620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316320" y="1481040"/>
            <a:ext cx="237960" cy="237960"/>
            <a:chOff x="3316320" y="1481040"/>
            <a:chExt cx="237960" cy="237960"/>
          </a:xfrm>
        </p:grpSpPr>
        <p:pic>
          <p:nvPicPr>
            <p:cNvPr id="190" name="椭圆 50" descr=""/>
            <p:cNvPicPr/>
            <p:nvPr/>
          </p:nvPicPr>
          <p:blipFill>
            <a:blip r:embed="rId15"/>
            <a:stretch/>
          </p:blipFill>
          <p:spPr>
            <a:xfrm>
              <a:off x="3316320" y="1481040"/>
              <a:ext cx="23796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3357720" y="1519200"/>
              <a:ext cx="1602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40120" y="1395360"/>
            <a:ext cx="219240" cy="220680"/>
            <a:chOff x="3840120" y="1395360"/>
            <a:chExt cx="219240" cy="220680"/>
          </a:xfrm>
        </p:grpSpPr>
        <p:pic>
          <p:nvPicPr>
            <p:cNvPr id="193" name="椭圆 51" descr=""/>
            <p:cNvPicPr/>
            <p:nvPr/>
          </p:nvPicPr>
          <p:blipFill>
            <a:blip r:embed="rId16"/>
            <a:stretch/>
          </p:blipFill>
          <p:spPr>
            <a:xfrm>
              <a:off x="3840120" y="1395360"/>
              <a:ext cx="21924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3879720" y="1433520"/>
              <a:ext cx="1447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048200" y="1554120"/>
            <a:ext cx="255600" cy="255600"/>
            <a:chOff x="4048200" y="1554120"/>
            <a:chExt cx="255600" cy="255600"/>
          </a:xfrm>
        </p:grpSpPr>
        <p:pic>
          <p:nvPicPr>
            <p:cNvPr id="196" name="椭圆 52" descr=""/>
            <p:cNvPicPr/>
            <p:nvPr/>
          </p:nvPicPr>
          <p:blipFill>
            <a:blip r:embed="rId17"/>
            <a:stretch/>
          </p:blipFill>
          <p:spPr>
            <a:xfrm>
              <a:off x="4048200" y="1554120"/>
              <a:ext cx="255600" cy="2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4089600" y="1596960"/>
              <a:ext cx="1713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730760" y="1847880"/>
            <a:ext cx="206280" cy="206280"/>
            <a:chOff x="4730760" y="1847880"/>
            <a:chExt cx="206280" cy="206280"/>
          </a:xfrm>
        </p:grpSpPr>
        <p:pic>
          <p:nvPicPr>
            <p:cNvPr id="199" name="椭圆 53" descr=""/>
            <p:cNvPicPr/>
            <p:nvPr/>
          </p:nvPicPr>
          <p:blipFill>
            <a:blip r:embed="rId18"/>
            <a:stretch/>
          </p:blipFill>
          <p:spPr>
            <a:xfrm>
              <a:off x="4730760" y="1847880"/>
              <a:ext cx="20628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4767120" y="1884240"/>
              <a:ext cx="13824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413320" y="2152800"/>
            <a:ext cx="281160" cy="279360"/>
            <a:chOff x="5413320" y="2152800"/>
            <a:chExt cx="281160" cy="279360"/>
          </a:xfrm>
        </p:grpSpPr>
        <p:pic>
          <p:nvPicPr>
            <p:cNvPr id="202" name="椭圆 54" descr=""/>
            <p:cNvPicPr/>
            <p:nvPr/>
          </p:nvPicPr>
          <p:blipFill>
            <a:blip r:embed="rId19"/>
            <a:stretch/>
          </p:blipFill>
          <p:spPr>
            <a:xfrm>
              <a:off x="5413320" y="2152800"/>
              <a:ext cx="281160" cy="2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5459400" y="2198880"/>
              <a:ext cx="18720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5883120" y="1695600"/>
            <a:ext cx="212760" cy="212400"/>
            <a:chOff x="5883120" y="1695600"/>
            <a:chExt cx="212760" cy="212400"/>
          </a:xfrm>
        </p:grpSpPr>
        <p:pic>
          <p:nvPicPr>
            <p:cNvPr id="205" name="椭圆 55" descr=""/>
            <p:cNvPicPr/>
            <p:nvPr/>
          </p:nvPicPr>
          <p:blipFill>
            <a:blip r:embed="rId20"/>
            <a:stretch/>
          </p:blipFill>
          <p:spPr>
            <a:xfrm>
              <a:off x="5883120" y="1695600"/>
              <a:ext cx="212760" cy="21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5919480" y="1731600"/>
              <a:ext cx="1414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870440" y="1749600"/>
            <a:ext cx="250920" cy="250560"/>
            <a:chOff x="4870440" y="1749600"/>
            <a:chExt cx="250920" cy="250560"/>
          </a:xfrm>
        </p:grpSpPr>
        <p:pic>
          <p:nvPicPr>
            <p:cNvPr id="208" name="椭圆 56" descr=""/>
            <p:cNvPicPr/>
            <p:nvPr/>
          </p:nvPicPr>
          <p:blipFill>
            <a:blip r:embed="rId21"/>
            <a:stretch/>
          </p:blipFill>
          <p:spPr>
            <a:xfrm>
              <a:off x="4870440" y="17496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4911840" y="1792080"/>
              <a:ext cx="16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473800" y="1627200"/>
            <a:ext cx="177840" cy="177840"/>
            <a:chOff x="5473800" y="1627200"/>
            <a:chExt cx="177840" cy="177840"/>
          </a:xfrm>
        </p:grpSpPr>
        <p:pic>
          <p:nvPicPr>
            <p:cNvPr id="211" name="椭圆 57" descr=""/>
            <p:cNvPicPr/>
            <p:nvPr/>
          </p:nvPicPr>
          <p:blipFill>
            <a:blip r:embed="rId22"/>
            <a:stretch/>
          </p:blipFill>
          <p:spPr>
            <a:xfrm>
              <a:off x="5473800" y="1627200"/>
              <a:ext cx="1778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 rot="11104200">
              <a:off x="5501880" y="1657080"/>
              <a:ext cx="1191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4675320" y="2036880"/>
            <a:ext cx="177840" cy="182520"/>
            <a:chOff x="4675320" y="2036880"/>
            <a:chExt cx="177840" cy="182520"/>
          </a:xfrm>
        </p:grpSpPr>
        <p:pic>
          <p:nvPicPr>
            <p:cNvPr id="214" name="椭圆 58" descr=""/>
            <p:cNvPicPr/>
            <p:nvPr/>
          </p:nvPicPr>
          <p:blipFill>
            <a:blip r:embed="rId23"/>
            <a:stretch/>
          </p:blipFill>
          <p:spPr>
            <a:xfrm>
              <a:off x="4675320" y="2036880"/>
              <a:ext cx="17784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 rot="11104200">
              <a:off x="4703400" y="2066760"/>
              <a:ext cx="1191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291280" y="1749600"/>
            <a:ext cx="176040" cy="182520"/>
            <a:chOff x="5291280" y="1749600"/>
            <a:chExt cx="176040" cy="182520"/>
          </a:xfrm>
        </p:grpSpPr>
        <p:pic>
          <p:nvPicPr>
            <p:cNvPr id="217" name="椭圆 59" descr=""/>
            <p:cNvPicPr/>
            <p:nvPr/>
          </p:nvPicPr>
          <p:blipFill>
            <a:blip r:embed="rId24"/>
            <a:stretch/>
          </p:blipFill>
          <p:spPr>
            <a:xfrm>
              <a:off x="5291280" y="1749600"/>
              <a:ext cx="17604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 rot="11104200">
              <a:off x="5321520" y="1783080"/>
              <a:ext cx="117360" cy="1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-4643280" y="2772720"/>
            <a:ext cx="5035320" cy="1089720"/>
            <a:chOff x="-4643280" y="2772720"/>
            <a:chExt cx="5035320" cy="1089720"/>
          </a:xfrm>
        </p:grpSpPr>
        <p:grpSp>
          <p:nvGrpSpPr>
            <p:cNvPr id="220" name=""/>
            <p:cNvGrpSpPr/>
            <p:nvPr/>
          </p:nvGrpSpPr>
          <p:grpSpPr>
            <a:xfrm>
              <a:off x="-4643280" y="2772720"/>
              <a:ext cx="3815280" cy="1089720"/>
              <a:chOff x="-4643280" y="2772720"/>
              <a:chExt cx="3815280" cy="108972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-3191040" y="3332520"/>
                <a:ext cx="224640" cy="228600"/>
                <a:chOff x="-3191040" y="3332520"/>
                <a:chExt cx="224640" cy="228600"/>
              </a:xfrm>
            </p:grpSpPr>
            <p:pic>
              <p:nvPicPr>
                <p:cNvPr id="222" name="椭圆 95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3191040" y="3332520"/>
                  <a:ext cx="224640" cy="22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"/>
                <p:cNvSpPr/>
                <p:nvPr/>
              </p:nvSpPr>
              <p:spPr>
                <a:xfrm>
                  <a:off x="-3155760" y="3371400"/>
                  <a:ext cx="152280" cy="15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-3646800" y="2971440"/>
                <a:ext cx="224640" cy="222480"/>
                <a:chOff x="-3646800" y="2971440"/>
                <a:chExt cx="224640" cy="222480"/>
              </a:xfrm>
            </p:grpSpPr>
            <p:pic>
              <p:nvPicPr>
                <p:cNvPr id="225" name="椭圆 96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3646800" y="2971440"/>
                  <a:ext cx="22464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6" name=""/>
                <p:cNvSpPr/>
                <p:nvPr/>
              </p:nvSpPr>
              <p:spPr>
                <a:xfrm>
                  <a:off x="-3611520" y="3005640"/>
                  <a:ext cx="151560" cy="15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-3027240" y="3639960"/>
                <a:ext cx="60480" cy="180360"/>
                <a:chOff x="-3027240" y="3639960"/>
                <a:chExt cx="60480" cy="180360"/>
              </a:xfrm>
            </p:grpSpPr>
            <p:pic>
              <p:nvPicPr>
                <p:cNvPr id="228" name="椭圆 97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-3027240" y="3639960"/>
                  <a:ext cx="60480" cy="18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9" name=""/>
                <p:cNvSpPr/>
                <p:nvPr/>
              </p:nvSpPr>
              <p:spPr>
                <a:xfrm>
                  <a:off x="-3013920" y="3672720"/>
                  <a:ext cx="32040" cy="11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-2559240" y="3128040"/>
                <a:ext cx="206280" cy="198720"/>
                <a:chOff x="-2559240" y="3128040"/>
                <a:chExt cx="206280" cy="198720"/>
              </a:xfrm>
            </p:grpSpPr>
            <p:pic>
              <p:nvPicPr>
                <p:cNvPr id="231" name="椭圆 98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-2559240" y="3128040"/>
                  <a:ext cx="20628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2" name=""/>
                <p:cNvSpPr/>
                <p:nvPr/>
              </p:nvSpPr>
              <p:spPr>
                <a:xfrm>
                  <a:off x="-2522160" y="3160440"/>
                  <a:ext cx="134640" cy="13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-2127960" y="3170160"/>
                <a:ext cx="200160" cy="198720"/>
                <a:chOff x="-2127960" y="3170160"/>
                <a:chExt cx="200160" cy="198720"/>
              </a:xfrm>
            </p:grpSpPr>
            <p:pic>
              <p:nvPicPr>
                <p:cNvPr id="234" name="椭圆 99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-2127960" y="3170160"/>
                  <a:ext cx="20016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5" name=""/>
                <p:cNvSpPr/>
                <p:nvPr/>
              </p:nvSpPr>
              <p:spPr>
                <a:xfrm>
                  <a:off x="-2094840" y="3205440"/>
                  <a:ext cx="133560" cy="1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-1891080" y="2910960"/>
                <a:ext cx="224640" cy="228600"/>
                <a:chOff x="-1891080" y="2910960"/>
                <a:chExt cx="224640" cy="228600"/>
              </a:xfrm>
            </p:grpSpPr>
            <p:pic>
              <p:nvPicPr>
                <p:cNvPr id="237" name="椭圆 100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-1891080" y="2910960"/>
                  <a:ext cx="224640" cy="22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8" name=""/>
                <p:cNvSpPr/>
                <p:nvPr/>
              </p:nvSpPr>
              <p:spPr>
                <a:xfrm>
                  <a:off x="-1855800" y="2950920"/>
                  <a:ext cx="152280" cy="15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-3312720" y="2838960"/>
                <a:ext cx="224640" cy="222480"/>
                <a:chOff x="-3312720" y="2838960"/>
                <a:chExt cx="224640" cy="222480"/>
              </a:xfrm>
            </p:grpSpPr>
            <p:pic>
              <p:nvPicPr>
                <p:cNvPr id="240" name="椭圆 101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-3312720" y="2838960"/>
                  <a:ext cx="22464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1" name=""/>
                <p:cNvSpPr/>
                <p:nvPr/>
              </p:nvSpPr>
              <p:spPr>
                <a:xfrm>
                  <a:off x="-3277440" y="2873160"/>
                  <a:ext cx="152280" cy="15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-2085480" y="3356640"/>
                <a:ext cx="182160" cy="174600"/>
                <a:chOff x="-2085480" y="3356640"/>
                <a:chExt cx="182160" cy="174600"/>
              </a:xfrm>
            </p:grpSpPr>
            <p:pic>
              <p:nvPicPr>
                <p:cNvPr id="243" name="椭圆 102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-2085480" y="3356640"/>
                  <a:ext cx="182160" cy="17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4" name=""/>
                <p:cNvSpPr/>
                <p:nvPr/>
              </p:nvSpPr>
              <p:spPr>
                <a:xfrm>
                  <a:off x="-2052000" y="3384720"/>
                  <a:ext cx="117720" cy="1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-2686680" y="3079800"/>
                <a:ext cx="182160" cy="180360"/>
                <a:chOff x="-2686680" y="3079800"/>
                <a:chExt cx="182160" cy="180360"/>
              </a:xfrm>
            </p:grpSpPr>
            <p:pic>
              <p:nvPicPr>
                <p:cNvPr id="246" name="椭圆 103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-2686680" y="3079800"/>
                  <a:ext cx="182160" cy="18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7" name=""/>
                <p:cNvSpPr/>
                <p:nvPr/>
              </p:nvSpPr>
              <p:spPr>
                <a:xfrm>
                  <a:off x="-2657880" y="3112200"/>
                  <a:ext cx="120960" cy="11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-3926160" y="3633840"/>
                <a:ext cx="230760" cy="228600"/>
                <a:chOff x="-3926160" y="3633840"/>
                <a:chExt cx="230760" cy="228600"/>
              </a:xfrm>
            </p:grpSpPr>
            <p:pic>
              <p:nvPicPr>
                <p:cNvPr id="249" name="椭圆 104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-3926160" y="3633840"/>
                  <a:ext cx="230760" cy="22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0" name=""/>
                <p:cNvSpPr/>
                <p:nvPr/>
              </p:nvSpPr>
              <p:spPr>
                <a:xfrm>
                  <a:off x="-3885840" y="3671640"/>
                  <a:ext cx="152280" cy="15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-2140200" y="2802600"/>
                <a:ext cx="176040" cy="180360"/>
                <a:chOff x="-2140200" y="2802600"/>
                <a:chExt cx="176040" cy="180360"/>
              </a:xfrm>
            </p:grpSpPr>
            <p:pic>
              <p:nvPicPr>
                <p:cNvPr id="252" name="椭圆 105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-2140200" y="2802600"/>
                  <a:ext cx="176040" cy="18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3" name=""/>
                <p:cNvSpPr/>
                <p:nvPr/>
              </p:nvSpPr>
              <p:spPr>
                <a:xfrm>
                  <a:off x="-2112480" y="2835000"/>
                  <a:ext cx="117720" cy="1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-1362600" y="3139920"/>
                <a:ext cx="176040" cy="180360"/>
                <a:chOff x="-1362600" y="3139920"/>
                <a:chExt cx="176040" cy="180360"/>
              </a:xfrm>
            </p:grpSpPr>
            <p:pic>
              <p:nvPicPr>
                <p:cNvPr id="255" name="椭圆 106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-1362600" y="3139920"/>
                  <a:ext cx="176040" cy="18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6" name=""/>
                <p:cNvSpPr/>
                <p:nvPr/>
              </p:nvSpPr>
              <p:spPr>
                <a:xfrm>
                  <a:off x="-1334520" y="3171240"/>
                  <a:ext cx="117720" cy="1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-3464640" y="3164040"/>
                <a:ext cx="176040" cy="180360"/>
                <a:chOff x="-3464640" y="3164040"/>
                <a:chExt cx="176040" cy="180360"/>
              </a:xfrm>
            </p:grpSpPr>
            <p:pic>
              <p:nvPicPr>
                <p:cNvPr id="258" name="椭圆 107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-3464640" y="3164040"/>
                  <a:ext cx="176040" cy="18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9" name=""/>
                <p:cNvSpPr/>
                <p:nvPr/>
              </p:nvSpPr>
              <p:spPr>
                <a:xfrm>
                  <a:off x="-3435480" y="3196080"/>
                  <a:ext cx="117720" cy="1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-4242240" y="3368880"/>
                <a:ext cx="188280" cy="174600"/>
                <a:chOff x="-4242240" y="3368880"/>
                <a:chExt cx="188280" cy="174600"/>
              </a:xfrm>
            </p:grpSpPr>
            <p:pic>
              <p:nvPicPr>
                <p:cNvPr id="261" name="椭圆 108" descr="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-4242240" y="3368880"/>
                  <a:ext cx="188280" cy="17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2" name=""/>
                <p:cNvSpPr/>
                <p:nvPr/>
              </p:nvSpPr>
              <p:spPr>
                <a:xfrm>
                  <a:off x="-4209840" y="3396600"/>
                  <a:ext cx="122040" cy="11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-1004040" y="3146040"/>
                <a:ext cx="176040" cy="180360"/>
                <a:chOff x="-1004040" y="3146040"/>
                <a:chExt cx="176040" cy="180360"/>
              </a:xfrm>
            </p:grpSpPr>
            <p:pic>
              <p:nvPicPr>
                <p:cNvPr id="264" name="椭圆 109" descr=""/>
                <p:cNvPicPr/>
                <p:nvPr/>
              </p:nvPicPr>
              <p:blipFill>
                <a:blip r:embed="rId39"/>
                <a:stretch/>
              </p:blipFill>
              <p:spPr>
                <a:xfrm>
                  <a:off x="-1004040" y="3146040"/>
                  <a:ext cx="176040" cy="18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5" name=""/>
                <p:cNvSpPr/>
                <p:nvPr/>
              </p:nvSpPr>
              <p:spPr>
                <a:xfrm>
                  <a:off x="-975600" y="3178080"/>
                  <a:ext cx="117720" cy="1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-4248360" y="3007440"/>
                <a:ext cx="279360" cy="276840"/>
                <a:chOff x="-4248360" y="3007440"/>
                <a:chExt cx="279360" cy="276840"/>
              </a:xfrm>
            </p:grpSpPr>
            <p:pic>
              <p:nvPicPr>
                <p:cNvPr id="267" name="椭圆 110" descr="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-4248360" y="3007440"/>
                  <a:ext cx="279360" cy="27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8" name=""/>
                <p:cNvSpPr/>
                <p:nvPr/>
              </p:nvSpPr>
              <p:spPr>
                <a:xfrm>
                  <a:off x="-4204080" y="3052080"/>
                  <a:ext cx="190080" cy="18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-3762360" y="3079800"/>
                <a:ext cx="273240" cy="270720"/>
                <a:chOff x="-3762360" y="3079800"/>
                <a:chExt cx="273240" cy="270720"/>
              </a:xfrm>
            </p:grpSpPr>
            <p:pic>
              <p:nvPicPr>
                <p:cNvPr id="270" name="椭圆 111" descr=""/>
                <p:cNvPicPr/>
                <p:nvPr/>
              </p:nvPicPr>
              <p:blipFill>
                <a:blip r:embed="rId41"/>
                <a:stretch/>
              </p:blipFill>
              <p:spPr>
                <a:xfrm>
                  <a:off x="-3762360" y="3079800"/>
                  <a:ext cx="273240" cy="270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1" name=""/>
                <p:cNvSpPr/>
                <p:nvPr/>
              </p:nvSpPr>
              <p:spPr>
                <a:xfrm>
                  <a:off x="-3718800" y="3122640"/>
                  <a:ext cx="187920" cy="18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-3847320" y="3266280"/>
                <a:ext cx="176040" cy="174600"/>
                <a:chOff x="-3847320" y="3266280"/>
                <a:chExt cx="176040" cy="174600"/>
              </a:xfrm>
            </p:grpSpPr>
            <p:pic>
              <p:nvPicPr>
                <p:cNvPr id="273" name="椭圆 112" descr=""/>
                <p:cNvPicPr/>
                <p:nvPr/>
              </p:nvPicPr>
              <p:blipFill>
                <a:blip r:embed="rId42"/>
                <a:stretch/>
              </p:blipFill>
              <p:spPr>
                <a:xfrm>
                  <a:off x="-3847320" y="3266280"/>
                  <a:ext cx="176040" cy="17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4" name=""/>
                <p:cNvSpPr/>
                <p:nvPr/>
              </p:nvSpPr>
              <p:spPr>
                <a:xfrm>
                  <a:off x="-3815280" y="3295080"/>
                  <a:ext cx="11556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-2613960" y="3380760"/>
                <a:ext cx="212400" cy="210600"/>
                <a:chOff x="-2613960" y="3380760"/>
                <a:chExt cx="212400" cy="210600"/>
              </a:xfrm>
            </p:grpSpPr>
            <p:pic>
              <p:nvPicPr>
                <p:cNvPr id="276" name="椭圆 113" descr="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-2613960" y="3380760"/>
                  <a:ext cx="212400" cy="210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7" name=""/>
                <p:cNvSpPr/>
                <p:nvPr/>
              </p:nvSpPr>
              <p:spPr>
                <a:xfrm>
                  <a:off x="-2579040" y="3414600"/>
                  <a:ext cx="143280" cy="14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-2838600" y="2772720"/>
                <a:ext cx="188280" cy="186480"/>
                <a:chOff x="-2838600" y="2772720"/>
                <a:chExt cx="188280" cy="186480"/>
              </a:xfrm>
            </p:grpSpPr>
            <p:pic>
              <p:nvPicPr>
                <p:cNvPr id="279" name="椭圆 114" descr=""/>
                <p:cNvPicPr/>
                <p:nvPr/>
              </p:nvPicPr>
              <p:blipFill>
                <a:blip r:embed="rId44"/>
                <a:stretch/>
              </p:blipFill>
              <p:spPr>
                <a:xfrm>
                  <a:off x="-2838600" y="2772720"/>
                  <a:ext cx="188280" cy="186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0" name=""/>
                <p:cNvSpPr/>
                <p:nvPr/>
              </p:nvSpPr>
              <p:spPr>
                <a:xfrm>
                  <a:off x="-2808720" y="2803680"/>
                  <a:ext cx="126360" cy="12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-3075840" y="3037680"/>
                <a:ext cx="248760" cy="246600"/>
                <a:chOff x="-3075840" y="3037680"/>
                <a:chExt cx="248760" cy="246600"/>
              </a:xfrm>
            </p:grpSpPr>
            <p:pic>
              <p:nvPicPr>
                <p:cNvPr id="282" name="椭圆 115" descr=""/>
                <p:cNvPicPr/>
                <p:nvPr/>
              </p:nvPicPr>
              <p:blipFill>
                <a:blip r:embed="rId45"/>
                <a:stretch/>
              </p:blipFill>
              <p:spPr>
                <a:xfrm>
                  <a:off x="-3075840" y="3037680"/>
                  <a:ext cx="248760" cy="246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3" name=""/>
                <p:cNvSpPr/>
                <p:nvPr/>
              </p:nvSpPr>
              <p:spPr>
                <a:xfrm>
                  <a:off x="-3036960" y="3079800"/>
                  <a:ext cx="167040" cy="16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-3628440" y="3440880"/>
                <a:ext cx="176040" cy="174600"/>
                <a:chOff x="-3628440" y="3440880"/>
                <a:chExt cx="176040" cy="174600"/>
              </a:xfrm>
            </p:grpSpPr>
            <p:pic>
              <p:nvPicPr>
                <p:cNvPr id="285" name="椭圆 116" descr="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-3628440" y="3440880"/>
                  <a:ext cx="176040" cy="17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6" name=""/>
                <p:cNvSpPr/>
                <p:nvPr/>
              </p:nvSpPr>
              <p:spPr>
                <a:xfrm>
                  <a:off x="-3600000" y="3470760"/>
                  <a:ext cx="11556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-3476520" y="3591720"/>
                <a:ext cx="176040" cy="174600"/>
                <a:chOff x="-3476520" y="3591720"/>
                <a:chExt cx="176040" cy="174600"/>
              </a:xfrm>
            </p:grpSpPr>
            <p:pic>
              <p:nvPicPr>
                <p:cNvPr id="288" name="椭圆 117" descr=""/>
                <p:cNvPicPr/>
                <p:nvPr/>
              </p:nvPicPr>
              <p:blipFill>
                <a:blip r:embed="rId47"/>
                <a:stretch/>
              </p:blipFill>
              <p:spPr>
                <a:xfrm>
                  <a:off x="-3476520" y="3591720"/>
                  <a:ext cx="176040" cy="17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9" name=""/>
                <p:cNvSpPr/>
                <p:nvPr/>
              </p:nvSpPr>
              <p:spPr>
                <a:xfrm>
                  <a:off x="-3448080" y="3621600"/>
                  <a:ext cx="11556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-4041720" y="3465000"/>
                <a:ext cx="176040" cy="174600"/>
                <a:chOff x="-4041720" y="3465000"/>
                <a:chExt cx="176040" cy="174600"/>
              </a:xfrm>
            </p:grpSpPr>
            <p:pic>
              <p:nvPicPr>
                <p:cNvPr id="291" name="椭圆 118" descr=""/>
                <p:cNvPicPr/>
                <p:nvPr/>
              </p:nvPicPr>
              <p:blipFill>
                <a:blip r:embed="rId48"/>
                <a:stretch/>
              </p:blipFill>
              <p:spPr>
                <a:xfrm>
                  <a:off x="-4041720" y="3465000"/>
                  <a:ext cx="176040" cy="17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2" name=""/>
                <p:cNvSpPr/>
                <p:nvPr/>
              </p:nvSpPr>
              <p:spPr>
                <a:xfrm>
                  <a:off x="-4010760" y="3496320"/>
                  <a:ext cx="11556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-4643280" y="2886840"/>
                <a:ext cx="176040" cy="174600"/>
                <a:chOff x="-4643280" y="2886840"/>
                <a:chExt cx="176040" cy="174600"/>
              </a:xfrm>
            </p:grpSpPr>
            <p:pic>
              <p:nvPicPr>
                <p:cNvPr id="294" name="椭圆 119" descr=""/>
                <p:cNvPicPr/>
                <p:nvPr/>
              </p:nvPicPr>
              <p:blipFill>
                <a:blip r:embed="rId49"/>
                <a:stretch/>
              </p:blipFill>
              <p:spPr>
                <a:xfrm>
                  <a:off x="-4643280" y="2886840"/>
                  <a:ext cx="176040" cy="17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5" name=""/>
                <p:cNvSpPr/>
                <p:nvPr/>
              </p:nvSpPr>
              <p:spPr>
                <a:xfrm>
                  <a:off x="-4613040" y="2917080"/>
                  <a:ext cx="11556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-1696680" y="3139920"/>
                <a:ext cx="176040" cy="174600"/>
                <a:chOff x="-1696680" y="3139920"/>
                <a:chExt cx="176040" cy="174600"/>
              </a:xfrm>
            </p:grpSpPr>
            <p:pic>
              <p:nvPicPr>
                <p:cNvPr id="297" name="椭圆 120" descr=""/>
                <p:cNvPicPr/>
                <p:nvPr/>
              </p:nvPicPr>
              <p:blipFill>
                <a:blip r:embed="rId50"/>
                <a:stretch/>
              </p:blipFill>
              <p:spPr>
                <a:xfrm>
                  <a:off x="-1696680" y="3139920"/>
                  <a:ext cx="176040" cy="17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8" name=""/>
                <p:cNvSpPr/>
                <p:nvPr/>
              </p:nvSpPr>
              <p:spPr>
                <a:xfrm>
                  <a:off x="-1666080" y="3169080"/>
                  <a:ext cx="11556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-1593360" y="2923200"/>
                <a:ext cx="176040" cy="174600"/>
                <a:chOff x="-1593360" y="2923200"/>
                <a:chExt cx="176040" cy="174600"/>
              </a:xfrm>
            </p:grpSpPr>
            <p:pic>
              <p:nvPicPr>
                <p:cNvPr id="300" name="椭圆 121" descr=""/>
                <p:cNvPicPr/>
                <p:nvPr/>
              </p:nvPicPr>
              <p:blipFill>
                <a:blip r:embed="rId51"/>
                <a:stretch/>
              </p:blipFill>
              <p:spPr>
                <a:xfrm>
                  <a:off x="-1593360" y="2923200"/>
                  <a:ext cx="176040" cy="17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1" name=""/>
                <p:cNvSpPr/>
                <p:nvPr/>
              </p:nvSpPr>
              <p:spPr>
                <a:xfrm>
                  <a:off x="-1560960" y="2955600"/>
                  <a:ext cx="11556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02" name=""/>
            <p:cNvGrpSpPr/>
            <p:nvPr/>
          </p:nvGrpSpPr>
          <p:grpSpPr>
            <a:xfrm>
              <a:off x="-3385080" y="2779200"/>
              <a:ext cx="3777120" cy="1065960"/>
              <a:chOff x="-3385080" y="2779200"/>
              <a:chExt cx="3777120" cy="1065960"/>
            </a:xfrm>
          </p:grpSpPr>
          <p:grpSp>
            <p:nvGrpSpPr>
              <p:cNvPr id="303" name=""/>
              <p:cNvGrpSpPr/>
              <p:nvPr/>
            </p:nvGrpSpPr>
            <p:grpSpPr>
              <a:xfrm>
                <a:off x="-1600560" y="3032280"/>
                <a:ext cx="218520" cy="216360"/>
                <a:chOff x="-1600560" y="3032280"/>
                <a:chExt cx="218520" cy="216360"/>
              </a:xfrm>
            </p:grpSpPr>
            <p:pic>
              <p:nvPicPr>
                <p:cNvPr id="304" name="椭圆 74" descr=""/>
                <p:cNvPicPr/>
                <p:nvPr/>
              </p:nvPicPr>
              <p:blipFill>
                <a:blip r:embed="rId52"/>
                <a:stretch/>
              </p:blipFill>
              <p:spPr>
                <a:xfrm rot="21599400">
                  <a:off x="-1600200" y="3031920"/>
                  <a:ext cx="218520" cy="216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5" name=""/>
                <p:cNvSpPr/>
                <p:nvPr/>
              </p:nvSpPr>
              <p:spPr>
                <a:xfrm rot="11103600">
                  <a:off x="-1562400" y="3067560"/>
                  <a:ext cx="146880" cy="14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-2170800" y="3350160"/>
                <a:ext cx="224640" cy="222480"/>
                <a:chOff x="-2170800" y="3350160"/>
                <a:chExt cx="224640" cy="222480"/>
              </a:xfrm>
            </p:grpSpPr>
            <p:pic>
              <p:nvPicPr>
                <p:cNvPr id="307" name="椭圆 75" descr=""/>
                <p:cNvPicPr/>
                <p:nvPr/>
              </p:nvPicPr>
              <p:blipFill>
                <a:blip r:embed="rId53"/>
                <a:stretch/>
              </p:blipFill>
              <p:spPr>
                <a:xfrm rot="21599400">
                  <a:off x="-2170440" y="3349800"/>
                  <a:ext cx="22464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8" name=""/>
                <p:cNvSpPr/>
                <p:nvPr/>
              </p:nvSpPr>
              <p:spPr>
                <a:xfrm rot="11103600">
                  <a:off x="-2134800" y="3384000"/>
                  <a:ext cx="152280" cy="15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-1206000" y="2779200"/>
                <a:ext cx="54360" cy="174240"/>
                <a:chOff x="-1206000" y="2779200"/>
                <a:chExt cx="54360" cy="174240"/>
              </a:xfrm>
            </p:grpSpPr>
            <p:pic>
              <p:nvPicPr>
                <p:cNvPr id="310" name="椭圆 76" descr=""/>
                <p:cNvPicPr/>
                <p:nvPr/>
              </p:nvPicPr>
              <p:blipFill>
                <a:blip r:embed="rId54"/>
                <a:stretch/>
              </p:blipFill>
              <p:spPr>
                <a:xfrm rot="21599400">
                  <a:off x="-1205640" y="2778840"/>
                  <a:ext cx="54360" cy="17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1" name=""/>
                <p:cNvSpPr/>
                <p:nvPr/>
              </p:nvSpPr>
              <p:spPr>
                <a:xfrm rot="11103600">
                  <a:off x="-1194120" y="2808720"/>
                  <a:ext cx="32040" cy="11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-1879560" y="3170160"/>
                <a:ext cx="212400" cy="210600"/>
                <a:chOff x="-1879560" y="3170160"/>
                <a:chExt cx="212400" cy="210600"/>
              </a:xfrm>
            </p:grpSpPr>
            <p:pic>
              <p:nvPicPr>
                <p:cNvPr id="313" name="椭圆 77" descr=""/>
                <p:cNvPicPr/>
                <p:nvPr/>
              </p:nvPicPr>
              <p:blipFill>
                <a:blip r:embed="rId55"/>
                <a:stretch/>
              </p:blipFill>
              <p:spPr>
                <a:xfrm rot="21599400">
                  <a:off x="-1879200" y="3169800"/>
                  <a:ext cx="212400" cy="210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4" name=""/>
                <p:cNvSpPr/>
                <p:nvPr/>
              </p:nvSpPr>
              <p:spPr>
                <a:xfrm rot="11103600">
                  <a:off x="-1842120" y="3206880"/>
                  <a:ext cx="140040" cy="13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-2286360" y="3139920"/>
                <a:ext cx="200160" cy="198360"/>
                <a:chOff x="-2286360" y="3139920"/>
                <a:chExt cx="200160" cy="198360"/>
              </a:xfrm>
            </p:grpSpPr>
            <p:pic>
              <p:nvPicPr>
                <p:cNvPr id="316" name="椭圆 78" descr=""/>
                <p:cNvPicPr/>
                <p:nvPr/>
              </p:nvPicPr>
              <p:blipFill>
                <a:blip r:embed="rId56"/>
                <a:stretch/>
              </p:blipFill>
              <p:spPr>
                <a:xfrm rot="21599400">
                  <a:off x="-2286000" y="3139560"/>
                  <a:ext cx="200160" cy="19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7" name=""/>
                <p:cNvSpPr/>
                <p:nvPr/>
              </p:nvSpPr>
              <p:spPr>
                <a:xfrm rot="11103600">
                  <a:off x="-2251440" y="3172320"/>
                  <a:ext cx="133560" cy="13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-1156680" y="3549960"/>
                <a:ext cx="224640" cy="228600"/>
                <a:chOff x="-1156680" y="3549960"/>
                <a:chExt cx="224640" cy="228600"/>
              </a:xfrm>
            </p:grpSpPr>
            <p:pic>
              <p:nvPicPr>
                <p:cNvPr id="319" name="椭圆 79" descr=""/>
                <p:cNvPicPr/>
                <p:nvPr/>
              </p:nvPicPr>
              <p:blipFill>
                <a:blip r:embed="rId57"/>
                <a:stretch/>
              </p:blipFill>
              <p:spPr>
                <a:xfrm rot="21599400">
                  <a:off x="-1156320" y="3549600"/>
                  <a:ext cx="224640" cy="22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0" name=""/>
                <p:cNvSpPr/>
                <p:nvPr/>
              </p:nvSpPr>
              <p:spPr>
                <a:xfrm rot="11103600">
                  <a:off x="-1120680" y="3588120"/>
                  <a:ext cx="152280" cy="15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-1715400" y="3296520"/>
                <a:ext cx="182160" cy="180360"/>
                <a:chOff x="-1715400" y="3296520"/>
                <a:chExt cx="182160" cy="180360"/>
              </a:xfrm>
            </p:grpSpPr>
            <p:pic>
              <p:nvPicPr>
                <p:cNvPr id="322" name="椭圆 80" descr=""/>
                <p:cNvPicPr/>
                <p:nvPr/>
              </p:nvPicPr>
              <p:blipFill>
                <a:blip r:embed="rId58"/>
                <a:stretch/>
              </p:blipFill>
              <p:spPr>
                <a:xfrm rot="21599400">
                  <a:off x="-1715040" y="3296160"/>
                  <a:ext cx="182160" cy="18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3" name=""/>
                <p:cNvSpPr/>
                <p:nvPr/>
              </p:nvSpPr>
              <p:spPr>
                <a:xfrm rot="11103600">
                  <a:off x="-1686240" y="3327120"/>
                  <a:ext cx="120960" cy="11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-483480" y="2809440"/>
                <a:ext cx="230760" cy="222480"/>
                <a:chOff x="-483480" y="2809440"/>
                <a:chExt cx="230760" cy="222480"/>
              </a:xfrm>
            </p:grpSpPr>
            <p:pic>
              <p:nvPicPr>
                <p:cNvPr id="325" name="椭圆 81" descr=""/>
                <p:cNvPicPr/>
                <p:nvPr/>
              </p:nvPicPr>
              <p:blipFill>
                <a:blip r:embed="rId59"/>
                <a:stretch/>
              </p:blipFill>
              <p:spPr>
                <a:xfrm rot="21599400">
                  <a:off x="-483120" y="2809080"/>
                  <a:ext cx="23076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6" name=""/>
                <p:cNvSpPr/>
                <p:nvPr/>
              </p:nvSpPr>
              <p:spPr>
                <a:xfrm rot="11103600">
                  <a:off x="-443880" y="2846160"/>
                  <a:ext cx="152280" cy="15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-2280240" y="3530880"/>
                <a:ext cx="176040" cy="174240"/>
                <a:chOff x="-2280240" y="3530880"/>
                <a:chExt cx="176040" cy="174240"/>
              </a:xfrm>
            </p:grpSpPr>
            <p:pic>
              <p:nvPicPr>
                <p:cNvPr id="328" name="椭圆 82" descr=""/>
                <p:cNvPicPr/>
                <p:nvPr/>
              </p:nvPicPr>
              <p:blipFill>
                <a:blip r:embed="rId60"/>
                <a:stretch/>
              </p:blipFill>
              <p:spPr>
                <a:xfrm rot="21599400">
                  <a:off x="-2279880" y="3530520"/>
                  <a:ext cx="176040" cy="17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9" name=""/>
                <p:cNvSpPr/>
                <p:nvPr/>
              </p:nvSpPr>
              <p:spPr>
                <a:xfrm rot="11103600">
                  <a:off x="-2251440" y="3558240"/>
                  <a:ext cx="117720" cy="1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-3027600" y="3126960"/>
                <a:ext cx="176040" cy="174240"/>
                <a:chOff x="-3027600" y="3126960"/>
                <a:chExt cx="176040" cy="174240"/>
              </a:xfrm>
            </p:grpSpPr>
            <p:pic>
              <p:nvPicPr>
                <p:cNvPr id="331" name="椭圆 83" descr=""/>
                <p:cNvPicPr/>
                <p:nvPr/>
              </p:nvPicPr>
              <p:blipFill>
                <a:blip r:embed="rId61"/>
                <a:stretch/>
              </p:blipFill>
              <p:spPr>
                <a:xfrm rot="21599400">
                  <a:off x="-3027240" y="3126600"/>
                  <a:ext cx="176040" cy="17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2" name=""/>
                <p:cNvSpPr/>
                <p:nvPr/>
              </p:nvSpPr>
              <p:spPr>
                <a:xfrm rot="11103600">
                  <a:off x="-2996280" y="3155040"/>
                  <a:ext cx="117720" cy="1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-932400" y="3285000"/>
                <a:ext cx="176040" cy="180360"/>
                <a:chOff x="-932400" y="3285000"/>
                <a:chExt cx="176040" cy="180360"/>
              </a:xfrm>
            </p:grpSpPr>
            <p:pic>
              <p:nvPicPr>
                <p:cNvPr id="334" name="椭圆 84" descr=""/>
                <p:cNvPicPr/>
                <p:nvPr/>
              </p:nvPicPr>
              <p:blipFill>
                <a:blip r:embed="rId62"/>
                <a:stretch/>
              </p:blipFill>
              <p:spPr>
                <a:xfrm rot="21599400">
                  <a:off x="-932040" y="3284640"/>
                  <a:ext cx="176040" cy="18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5" name=""/>
                <p:cNvSpPr/>
                <p:nvPr/>
              </p:nvSpPr>
              <p:spPr>
                <a:xfrm rot="11103600">
                  <a:off x="-902160" y="3316320"/>
                  <a:ext cx="117720" cy="1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-149040" y="3152880"/>
                <a:ext cx="182160" cy="180360"/>
                <a:chOff x="-149040" y="3152880"/>
                <a:chExt cx="182160" cy="180360"/>
              </a:xfrm>
            </p:grpSpPr>
            <p:pic>
              <p:nvPicPr>
                <p:cNvPr id="337" name="椭圆 85" descr=""/>
                <p:cNvPicPr/>
                <p:nvPr/>
              </p:nvPicPr>
              <p:blipFill>
                <a:blip r:embed="rId63"/>
                <a:stretch/>
              </p:blipFill>
              <p:spPr>
                <a:xfrm rot="21599400">
                  <a:off x="-148680" y="3152520"/>
                  <a:ext cx="182160" cy="18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8" name=""/>
                <p:cNvSpPr/>
                <p:nvPr/>
              </p:nvSpPr>
              <p:spPr>
                <a:xfrm rot="11103600">
                  <a:off x="-117000" y="3182400"/>
                  <a:ext cx="122040" cy="11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-3385080" y="3084840"/>
                <a:ext cx="182160" cy="180360"/>
                <a:chOff x="-3385080" y="3084840"/>
                <a:chExt cx="182160" cy="180360"/>
              </a:xfrm>
            </p:grpSpPr>
            <p:pic>
              <p:nvPicPr>
                <p:cNvPr id="340" name="椭圆 86" descr=""/>
                <p:cNvPicPr/>
                <p:nvPr/>
              </p:nvPicPr>
              <p:blipFill>
                <a:blip r:embed="rId64"/>
                <a:stretch/>
              </p:blipFill>
              <p:spPr>
                <a:xfrm rot="21599400">
                  <a:off x="-3384720" y="3084480"/>
                  <a:ext cx="182160" cy="18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 rot="11103600">
                  <a:off x="-3353040" y="3116880"/>
                  <a:ext cx="117720" cy="1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-543600" y="3224880"/>
                <a:ext cx="176040" cy="174240"/>
                <a:chOff x="-543600" y="3224880"/>
                <a:chExt cx="176040" cy="174240"/>
              </a:xfrm>
            </p:grpSpPr>
            <p:pic>
              <p:nvPicPr>
                <p:cNvPr id="343" name="椭圆 87" descr=""/>
                <p:cNvPicPr/>
                <p:nvPr/>
              </p:nvPicPr>
              <p:blipFill>
                <a:blip r:embed="rId65"/>
                <a:stretch/>
              </p:blipFill>
              <p:spPr>
                <a:xfrm rot="21599400">
                  <a:off x="-543240" y="3224520"/>
                  <a:ext cx="176040" cy="17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4" name=""/>
                <p:cNvSpPr/>
                <p:nvPr/>
              </p:nvSpPr>
              <p:spPr>
                <a:xfrm rot="11103600">
                  <a:off x="-512640" y="3252600"/>
                  <a:ext cx="11556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-1599840" y="3609360"/>
                <a:ext cx="187920" cy="192600"/>
                <a:chOff x="-1599840" y="3609360"/>
                <a:chExt cx="187920" cy="192600"/>
              </a:xfrm>
            </p:grpSpPr>
            <p:pic>
              <p:nvPicPr>
                <p:cNvPr id="346" name="椭圆 88" descr=""/>
                <p:cNvPicPr/>
                <p:nvPr/>
              </p:nvPicPr>
              <p:blipFill>
                <a:blip r:embed="rId66"/>
                <a:stretch/>
              </p:blipFill>
              <p:spPr>
                <a:xfrm rot="21599400">
                  <a:off x="-1599480" y="3609000"/>
                  <a:ext cx="187920" cy="19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7" name=""/>
                <p:cNvSpPr/>
                <p:nvPr/>
              </p:nvSpPr>
              <p:spPr>
                <a:xfrm rot="11103600">
                  <a:off x="-1568160" y="3642480"/>
                  <a:ext cx="126000" cy="12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-1915560" y="3362400"/>
                <a:ext cx="200160" cy="204480"/>
                <a:chOff x="-1915560" y="3362400"/>
                <a:chExt cx="200160" cy="204480"/>
              </a:xfrm>
            </p:grpSpPr>
            <p:pic>
              <p:nvPicPr>
                <p:cNvPr id="349" name="椭圆 89" descr=""/>
                <p:cNvPicPr/>
                <p:nvPr/>
              </p:nvPicPr>
              <p:blipFill>
                <a:blip r:embed="rId67"/>
                <a:stretch/>
              </p:blipFill>
              <p:spPr>
                <a:xfrm rot="21599400">
                  <a:off x="-1915200" y="3362040"/>
                  <a:ext cx="200160" cy="204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0" name=""/>
                <p:cNvSpPr/>
                <p:nvPr/>
              </p:nvSpPr>
              <p:spPr>
                <a:xfrm rot="11103600">
                  <a:off x="-1882080" y="3395880"/>
                  <a:ext cx="135360" cy="13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-744480" y="3032280"/>
                <a:ext cx="176040" cy="174240"/>
                <a:chOff x="-744480" y="3032280"/>
                <a:chExt cx="176040" cy="174240"/>
              </a:xfrm>
            </p:grpSpPr>
            <p:pic>
              <p:nvPicPr>
                <p:cNvPr id="352" name="椭圆 90" descr=""/>
                <p:cNvPicPr/>
                <p:nvPr/>
              </p:nvPicPr>
              <p:blipFill>
                <a:blip r:embed="rId68"/>
                <a:stretch/>
              </p:blipFill>
              <p:spPr>
                <a:xfrm rot="21599400">
                  <a:off x="-744120" y="3031920"/>
                  <a:ext cx="176040" cy="17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3" name=""/>
                <p:cNvSpPr/>
                <p:nvPr/>
              </p:nvSpPr>
              <p:spPr>
                <a:xfrm rot="11103600">
                  <a:off x="-712080" y="3059280"/>
                  <a:ext cx="11556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-878040" y="2863440"/>
                <a:ext cx="176040" cy="174240"/>
                <a:chOff x="-878040" y="2863440"/>
                <a:chExt cx="176040" cy="174240"/>
              </a:xfrm>
            </p:grpSpPr>
            <p:pic>
              <p:nvPicPr>
                <p:cNvPr id="355" name="椭圆 91" descr=""/>
                <p:cNvPicPr/>
                <p:nvPr/>
              </p:nvPicPr>
              <p:blipFill>
                <a:blip r:embed="rId69"/>
                <a:stretch/>
              </p:blipFill>
              <p:spPr>
                <a:xfrm rot="21599400">
                  <a:off x="-877680" y="2863080"/>
                  <a:ext cx="176040" cy="17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6" name=""/>
                <p:cNvSpPr/>
                <p:nvPr/>
              </p:nvSpPr>
              <p:spPr>
                <a:xfrm rot="11103600">
                  <a:off x="-849600" y="2895840"/>
                  <a:ext cx="11556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-331560" y="3038400"/>
                <a:ext cx="176040" cy="174240"/>
                <a:chOff x="-331560" y="3038400"/>
                <a:chExt cx="176040" cy="174240"/>
              </a:xfrm>
            </p:grpSpPr>
            <p:pic>
              <p:nvPicPr>
                <p:cNvPr id="358" name="椭圆 92" descr=""/>
                <p:cNvPicPr/>
                <p:nvPr/>
              </p:nvPicPr>
              <p:blipFill>
                <a:blip r:embed="rId70"/>
                <a:stretch/>
              </p:blipFill>
              <p:spPr>
                <a:xfrm rot="21599400">
                  <a:off x="-331200" y="3038040"/>
                  <a:ext cx="176040" cy="17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9" name=""/>
                <p:cNvSpPr/>
                <p:nvPr/>
              </p:nvSpPr>
              <p:spPr>
                <a:xfrm rot="11103600">
                  <a:off x="-300600" y="3069720"/>
                  <a:ext cx="11556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216000" y="3670920"/>
                <a:ext cx="176040" cy="174240"/>
                <a:chOff x="216000" y="3670920"/>
                <a:chExt cx="176040" cy="174240"/>
              </a:xfrm>
            </p:grpSpPr>
            <p:pic>
              <p:nvPicPr>
                <p:cNvPr id="361" name="椭圆 93" descr=""/>
                <p:cNvPicPr/>
                <p:nvPr/>
              </p:nvPicPr>
              <p:blipFill>
                <a:blip r:embed="rId71"/>
                <a:stretch/>
              </p:blipFill>
              <p:spPr>
                <a:xfrm rot="21599400">
                  <a:off x="216000" y="3670560"/>
                  <a:ext cx="176040" cy="17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2" name=""/>
                <p:cNvSpPr/>
                <p:nvPr/>
              </p:nvSpPr>
              <p:spPr>
                <a:xfrm rot="11103600">
                  <a:off x="247680" y="3700080"/>
                  <a:ext cx="11556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-2820960" y="3361680"/>
                <a:ext cx="176040" cy="174240"/>
                <a:chOff x="-2820960" y="3361680"/>
                <a:chExt cx="176040" cy="174240"/>
              </a:xfrm>
            </p:grpSpPr>
            <p:pic>
              <p:nvPicPr>
                <p:cNvPr id="364" name="椭圆 94" descr=""/>
                <p:cNvPicPr/>
                <p:nvPr/>
              </p:nvPicPr>
              <p:blipFill>
                <a:blip r:embed="rId72"/>
                <a:stretch/>
              </p:blipFill>
              <p:spPr>
                <a:xfrm rot="21599400">
                  <a:off x="-2820600" y="3361320"/>
                  <a:ext cx="176040" cy="17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5" name=""/>
                <p:cNvSpPr/>
                <p:nvPr/>
              </p:nvSpPr>
              <p:spPr>
                <a:xfrm rot="11103600">
                  <a:off x="-2787840" y="3391920"/>
                  <a:ext cx="11556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66" name=""/>
          <p:cNvGrpSpPr/>
          <p:nvPr/>
        </p:nvGrpSpPr>
        <p:grpSpPr>
          <a:xfrm>
            <a:off x="8582040" y="2795040"/>
            <a:ext cx="4774680" cy="1135440"/>
            <a:chOff x="8582040" y="2795040"/>
            <a:chExt cx="4774680" cy="1135440"/>
          </a:xfrm>
        </p:grpSpPr>
        <p:grpSp>
          <p:nvGrpSpPr>
            <p:cNvPr id="367" name=""/>
            <p:cNvGrpSpPr/>
            <p:nvPr/>
          </p:nvGrpSpPr>
          <p:grpSpPr>
            <a:xfrm>
              <a:off x="8582040" y="2795040"/>
              <a:ext cx="3779640" cy="1065960"/>
              <a:chOff x="8582040" y="2795040"/>
              <a:chExt cx="3779640" cy="1065960"/>
            </a:xfrm>
          </p:grpSpPr>
          <p:grpSp>
            <p:nvGrpSpPr>
              <p:cNvPr id="368" name=""/>
              <p:cNvGrpSpPr/>
              <p:nvPr/>
            </p:nvGrpSpPr>
            <p:grpSpPr>
              <a:xfrm>
                <a:off x="10921680" y="3049200"/>
                <a:ext cx="224640" cy="229680"/>
                <a:chOff x="10921680" y="3049200"/>
                <a:chExt cx="224640" cy="229680"/>
              </a:xfrm>
            </p:grpSpPr>
            <p:pic>
              <p:nvPicPr>
                <p:cNvPr id="369" name="椭圆 153" descr=""/>
                <p:cNvPicPr/>
                <p:nvPr/>
              </p:nvPicPr>
              <p:blipFill>
                <a:blip r:embed="rId73"/>
                <a:stretch/>
              </p:blipFill>
              <p:spPr>
                <a:xfrm rot="21599400">
                  <a:off x="10921680" y="3048840"/>
                  <a:ext cx="224640" cy="229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0" name=""/>
                <p:cNvSpPr/>
                <p:nvPr/>
              </p:nvSpPr>
              <p:spPr>
                <a:xfrm rot="11103600">
                  <a:off x="10958400" y="3087360"/>
                  <a:ext cx="152280" cy="15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11152800" y="3467520"/>
                <a:ext cx="224640" cy="223560"/>
                <a:chOff x="11152800" y="3467520"/>
                <a:chExt cx="224640" cy="223560"/>
              </a:xfrm>
            </p:grpSpPr>
            <p:pic>
              <p:nvPicPr>
                <p:cNvPr id="372" name="椭圆 154" descr=""/>
                <p:cNvPicPr/>
                <p:nvPr/>
              </p:nvPicPr>
              <p:blipFill>
                <a:blip r:embed="rId74"/>
                <a:stretch/>
              </p:blipFill>
              <p:spPr>
                <a:xfrm rot="21599400">
                  <a:off x="11152800" y="3467160"/>
                  <a:ext cx="224640" cy="223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3" name=""/>
                <p:cNvSpPr/>
                <p:nvPr/>
              </p:nvSpPr>
              <p:spPr>
                <a:xfrm rot="11103600">
                  <a:off x="11190240" y="3503520"/>
                  <a:ext cx="151560" cy="15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10757160" y="2795040"/>
                <a:ext cx="60480" cy="175320"/>
                <a:chOff x="10757160" y="2795040"/>
                <a:chExt cx="60480" cy="175320"/>
              </a:xfrm>
            </p:grpSpPr>
            <p:pic>
              <p:nvPicPr>
                <p:cNvPr id="375" name="椭圆 155" descr=""/>
                <p:cNvPicPr/>
                <p:nvPr/>
              </p:nvPicPr>
              <p:blipFill>
                <a:blip r:embed="rId75"/>
                <a:stretch/>
              </p:blipFill>
              <p:spPr>
                <a:xfrm rot="21599400">
                  <a:off x="10757160" y="2794680"/>
                  <a:ext cx="60480" cy="17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6" name=""/>
                <p:cNvSpPr/>
                <p:nvPr/>
              </p:nvSpPr>
              <p:spPr>
                <a:xfrm rot="11103600">
                  <a:off x="10771200" y="2823120"/>
                  <a:ext cx="32040" cy="1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0101600" y="3236760"/>
                <a:ext cx="200520" cy="199440"/>
                <a:chOff x="10101600" y="3236760"/>
                <a:chExt cx="200520" cy="199440"/>
              </a:xfrm>
            </p:grpSpPr>
            <p:pic>
              <p:nvPicPr>
                <p:cNvPr id="378" name="椭圆 156" descr=""/>
                <p:cNvPicPr/>
                <p:nvPr/>
              </p:nvPicPr>
              <p:blipFill>
                <a:blip r:embed="rId76"/>
                <a:stretch/>
              </p:blipFill>
              <p:spPr>
                <a:xfrm rot="21599400">
                  <a:off x="10101600" y="3236400"/>
                  <a:ext cx="200520" cy="19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9" name=""/>
                <p:cNvSpPr/>
                <p:nvPr/>
              </p:nvSpPr>
              <p:spPr>
                <a:xfrm rot="11103600">
                  <a:off x="10134360" y="3269520"/>
                  <a:ext cx="135000" cy="13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10089720" y="3188160"/>
                <a:ext cx="206280" cy="211680"/>
                <a:chOff x="10089720" y="3188160"/>
                <a:chExt cx="206280" cy="211680"/>
              </a:xfrm>
            </p:grpSpPr>
            <p:pic>
              <p:nvPicPr>
                <p:cNvPr id="381" name="椭圆 157" descr=""/>
                <p:cNvPicPr/>
                <p:nvPr/>
              </p:nvPicPr>
              <p:blipFill>
                <a:blip r:embed="rId77"/>
                <a:stretch/>
              </p:blipFill>
              <p:spPr>
                <a:xfrm rot="21599400">
                  <a:off x="10089720" y="3187800"/>
                  <a:ext cx="206280" cy="2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2" name=""/>
                <p:cNvSpPr/>
                <p:nvPr/>
              </p:nvSpPr>
              <p:spPr>
                <a:xfrm rot="11103600">
                  <a:off x="10123200" y="3222720"/>
                  <a:ext cx="140040" cy="13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9682200" y="3152160"/>
                <a:ext cx="200520" cy="205560"/>
                <a:chOff x="9682200" y="3152160"/>
                <a:chExt cx="200520" cy="205560"/>
              </a:xfrm>
            </p:grpSpPr>
            <p:pic>
              <p:nvPicPr>
                <p:cNvPr id="384" name="椭圆 158" descr=""/>
                <p:cNvPicPr/>
                <p:nvPr/>
              </p:nvPicPr>
              <p:blipFill>
                <a:blip r:embed="rId78"/>
                <a:stretch/>
              </p:blipFill>
              <p:spPr>
                <a:xfrm rot="21599400">
                  <a:off x="9682200" y="3151800"/>
                  <a:ext cx="200520" cy="20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5" name=""/>
                <p:cNvSpPr/>
                <p:nvPr/>
              </p:nvSpPr>
              <p:spPr>
                <a:xfrm rot="11103600">
                  <a:off x="9713880" y="3188160"/>
                  <a:ext cx="133920" cy="1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9396720" y="3363840"/>
                <a:ext cx="230760" cy="229680"/>
                <a:chOff x="9396720" y="3363840"/>
                <a:chExt cx="230760" cy="229680"/>
              </a:xfrm>
            </p:grpSpPr>
            <p:pic>
              <p:nvPicPr>
                <p:cNvPr id="387" name="椭圆 159" descr=""/>
                <p:cNvPicPr/>
                <p:nvPr/>
              </p:nvPicPr>
              <p:blipFill>
                <a:blip r:embed="rId79"/>
                <a:stretch/>
              </p:blipFill>
              <p:spPr>
                <a:xfrm rot="21599400">
                  <a:off x="9396720" y="3363480"/>
                  <a:ext cx="230760" cy="229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8" name=""/>
                <p:cNvSpPr/>
                <p:nvPr/>
              </p:nvSpPr>
              <p:spPr>
                <a:xfrm rot="11103600">
                  <a:off x="9434880" y="3401640"/>
                  <a:ext cx="152280" cy="15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10806840" y="3570480"/>
                <a:ext cx="230760" cy="223560"/>
                <a:chOff x="10806840" y="3570480"/>
                <a:chExt cx="230760" cy="223560"/>
              </a:xfrm>
            </p:grpSpPr>
            <p:pic>
              <p:nvPicPr>
                <p:cNvPr id="390" name="椭圆 160" descr=""/>
                <p:cNvPicPr/>
                <p:nvPr/>
              </p:nvPicPr>
              <p:blipFill>
                <a:blip r:embed="rId80"/>
                <a:stretch/>
              </p:blipFill>
              <p:spPr>
                <a:xfrm rot="21599400">
                  <a:off x="10806840" y="3570120"/>
                  <a:ext cx="230760" cy="223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1" name=""/>
                <p:cNvSpPr/>
                <p:nvPr/>
              </p:nvSpPr>
              <p:spPr>
                <a:xfrm rot="11103600">
                  <a:off x="10844640" y="3605760"/>
                  <a:ext cx="152280" cy="15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9669600" y="2988000"/>
                <a:ext cx="182160" cy="181440"/>
                <a:chOff x="9669600" y="2988000"/>
                <a:chExt cx="182160" cy="181440"/>
              </a:xfrm>
            </p:grpSpPr>
            <p:pic>
              <p:nvPicPr>
                <p:cNvPr id="393" name="椭圆 161" descr=""/>
                <p:cNvPicPr/>
                <p:nvPr/>
              </p:nvPicPr>
              <p:blipFill>
                <a:blip r:embed="rId81"/>
                <a:stretch/>
              </p:blipFill>
              <p:spPr>
                <a:xfrm rot="21599400">
                  <a:off x="9669600" y="2987640"/>
                  <a:ext cx="182160" cy="181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4" name=""/>
                <p:cNvSpPr/>
                <p:nvPr/>
              </p:nvSpPr>
              <p:spPr>
                <a:xfrm rot="11103600">
                  <a:off x="9702000" y="3021120"/>
                  <a:ext cx="117720" cy="11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10247040" y="3315240"/>
                <a:ext cx="182160" cy="181440"/>
                <a:chOff x="10247040" y="3315240"/>
                <a:chExt cx="182160" cy="181440"/>
              </a:xfrm>
            </p:grpSpPr>
            <p:pic>
              <p:nvPicPr>
                <p:cNvPr id="396" name="椭圆 162" descr=""/>
                <p:cNvPicPr/>
                <p:nvPr/>
              </p:nvPicPr>
              <p:blipFill>
                <a:blip r:embed="rId82"/>
                <a:stretch/>
              </p:blipFill>
              <p:spPr>
                <a:xfrm rot="21599400">
                  <a:off x="10247040" y="3314880"/>
                  <a:ext cx="182160" cy="181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7" name=""/>
                <p:cNvSpPr/>
                <p:nvPr/>
              </p:nvSpPr>
              <p:spPr>
                <a:xfrm rot="11103600">
                  <a:off x="10279080" y="3344040"/>
                  <a:ext cx="12096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11486520" y="2826000"/>
                <a:ext cx="224640" cy="223560"/>
                <a:chOff x="11486520" y="2826000"/>
                <a:chExt cx="224640" cy="223560"/>
              </a:xfrm>
            </p:grpSpPr>
            <p:pic>
              <p:nvPicPr>
                <p:cNvPr id="399" name="椭圆 163" descr=""/>
                <p:cNvPicPr/>
                <p:nvPr/>
              </p:nvPicPr>
              <p:blipFill>
                <a:blip r:embed="rId83"/>
                <a:stretch/>
              </p:blipFill>
              <p:spPr>
                <a:xfrm rot="21599400">
                  <a:off x="11486520" y="2825640"/>
                  <a:ext cx="224640" cy="223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0" name=""/>
                <p:cNvSpPr/>
                <p:nvPr/>
              </p:nvSpPr>
              <p:spPr>
                <a:xfrm rot="11103600">
                  <a:off x="11521800" y="2860200"/>
                  <a:ext cx="152280" cy="15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9682200" y="3544920"/>
                <a:ext cx="182160" cy="181440"/>
                <a:chOff x="9682200" y="3544920"/>
                <a:chExt cx="182160" cy="181440"/>
              </a:xfrm>
            </p:grpSpPr>
            <p:pic>
              <p:nvPicPr>
                <p:cNvPr id="402" name="椭圆 164" descr=""/>
                <p:cNvPicPr/>
                <p:nvPr/>
              </p:nvPicPr>
              <p:blipFill>
                <a:blip r:embed="rId84"/>
                <a:stretch/>
              </p:blipFill>
              <p:spPr>
                <a:xfrm rot="21599400">
                  <a:off x="9682200" y="3544560"/>
                  <a:ext cx="182160" cy="181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3" name=""/>
                <p:cNvSpPr/>
                <p:nvPr/>
              </p:nvSpPr>
              <p:spPr>
                <a:xfrm rot="11103600">
                  <a:off x="9713160" y="3575880"/>
                  <a:ext cx="117720" cy="11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8940960" y="3139560"/>
                <a:ext cx="176040" cy="181440"/>
                <a:chOff x="8940960" y="3139560"/>
                <a:chExt cx="176040" cy="181440"/>
              </a:xfrm>
            </p:grpSpPr>
            <p:pic>
              <p:nvPicPr>
                <p:cNvPr id="405" name="椭圆 165" descr=""/>
                <p:cNvPicPr/>
                <p:nvPr/>
              </p:nvPicPr>
              <p:blipFill>
                <a:blip r:embed="rId85"/>
                <a:stretch/>
              </p:blipFill>
              <p:spPr>
                <a:xfrm rot="21599400">
                  <a:off x="8940960" y="3139200"/>
                  <a:ext cx="176040" cy="181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6" name=""/>
                <p:cNvSpPr/>
                <p:nvPr/>
              </p:nvSpPr>
              <p:spPr>
                <a:xfrm rot="11103600">
                  <a:off x="8968320" y="3171240"/>
                  <a:ext cx="117720" cy="11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11030400" y="3303720"/>
                <a:ext cx="182160" cy="175320"/>
                <a:chOff x="11030400" y="3303720"/>
                <a:chExt cx="182160" cy="175320"/>
              </a:xfrm>
            </p:grpSpPr>
            <p:pic>
              <p:nvPicPr>
                <p:cNvPr id="408" name="椭圆 166" descr=""/>
                <p:cNvPicPr/>
                <p:nvPr/>
              </p:nvPicPr>
              <p:blipFill>
                <a:blip r:embed="rId86"/>
                <a:stretch/>
              </p:blipFill>
              <p:spPr>
                <a:xfrm rot="21599400">
                  <a:off x="11030400" y="3303360"/>
                  <a:ext cx="182160" cy="17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"/>
                <p:cNvSpPr/>
                <p:nvPr/>
              </p:nvSpPr>
              <p:spPr>
                <a:xfrm rot="11103600">
                  <a:off x="11063520" y="3332520"/>
                  <a:ext cx="117720" cy="11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11820960" y="3164040"/>
                <a:ext cx="182160" cy="181440"/>
                <a:chOff x="11820960" y="3164040"/>
                <a:chExt cx="182160" cy="181440"/>
              </a:xfrm>
            </p:grpSpPr>
            <p:pic>
              <p:nvPicPr>
                <p:cNvPr id="411" name="椭圆 167" descr=""/>
                <p:cNvPicPr/>
                <p:nvPr/>
              </p:nvPicPr>
              <p:blipFill>
                <a:blip r:embed="rId87"/>
                <a:stretch/>
              </p:blipFill>
              <p:spPr>
                <a:xfrm rot="21599400">
                  <a:off x="11820960" y="3163680"/>
                  <a:ext cx="182160" cy="181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2" name=""/>
                <p:cNvSpPr/>
                <p:nvPr/>
              </p:nvSpPr>
              <p:spPr>
                <a:xfrm rot="11103600">
                  <a:off x="11849400" y="3197520"/>
                  <a:ext cx="122040" cy="11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8582040" y="3103560"/>
                <a:ext cx="176040" cy="175320"/>
                <a:chOff x="8582040" y="3103560"/>
                <a:chExt cx="176040" cy="175320"/>
              </a:xfrm>
            </p:grpSpPr>
            <p:pic>
              <p:nvPicPr>
                <p:cNvPr id="414" name="椭圆 168" descr=""/>
                <p:cNvPicPr/>
                <p:nvPr/>
              </p:nvPicPr>
              <p:blipFill>
                <a:blip r:embed="rId88"/>
                <a:stretch/>
              </p:blipFill>
              <p:spPr>
                <a:xfrm rot="21599400">
                  <a:off x="8582040" y="3103200"/>
                  <a:ext cx="176040" cy="17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5" name=""/>
                <p:cNvSpPr/>
                <p:nvPr/>
              </p:nvSpPr>
              <p:spPr>
                <a:xfrm rot="11103600">
                  <a:off x="8610840" y="3133080"/>
                  <a:ext cx="117720" cy="11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11426040" y="3237480"/>
                <a:ext cx="176040" cy="175320"/>
                <a:chOff x="11426040" y="3237480"/>
                <a:chExt cx="176040" cy="175320"/>
              </a:xfrm>
            </p:grpSpPr>
            <p:pic>
              <p:nvPicPr>
                <p:cNvPr id="417" name="椭圆 169" descr=""/>
                <p:cNvPicPr/>
                <p:nvPr/>
              </p:nvPicPr>
              <p:blipFill>
                <a:blip r:embed="rId89"/>
                <a:stretch/>
              </p:blipFill>
              <p:spPr>
                <a:xfrm rot="21599400">
                  <a:off x="11426040" y="3237120"/>
                  <a:ext cx="176040" cy="17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8" name=""/>
                <p:cNvSpPr/>
                <p:nvPr/>
              </p:nvSpPr>
              <p:spPr>
                <a:xfrm rot="11103600">
                  <a:off x="11453040" y="3269520"/>
                  <a:ext cx="115560" cy="11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10168200" y="2976480"/>
                <a:ext cx="218520" cy="211680"/>
                <a:chOff x="10168200" y="2976480"/>
                <a:chExt cx="218520" cy="211680"/>
              </a:xfrm>
            </p:grpSpPr>
            <p:pic>
              <p:nvPicPr>
                <p:cNvPr id="420" name="椭圆 170" descr=""/>
                <p:cNvPicPr/>
                <p:nvPr/>
              </p:nvPicPr>
              <p:blipFill>
                <a:blip r:embed="rId90"/>
                <a:stretch/>
              </p:blipFill>
              <p:spPr>
                <a:xfrm rot="21599400">
                  <a:off x="10168200" y="2976120"/>
                  <a:ext cx="218520" cy="2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1" name=""/>
                <p:cNvSpPr/>
                <p:nvPr/>
              </p:nvSpPr>
              <p:spPr>
                <a:xfrm rot="11103600">
                  <a:off x="10205640" y="3010680"/>
                  <a:ext cx="143640" cy="14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10362600" y="3630240"/>
                <a:ext cx="194400" cy="187560"/>
                <a:chOff x="10362600" y="3630240"/>
                <a:chExt cx="194400" cy="187560"/>
              </a:xfrm>
            </p:grpSpPr>
            <p:pic>
              <p:nvPicPr>
                <p:cNvPr id="423" name="椭圆 171" descr=""/>
                <p:cNvPicPr/>
                <p:nvPr/>
              </p:nvPicPr>
              <p:blipFill>
                <a:blip r:embed="rId91"/>
                <a:stretch/>
              </p:blipFill>
              <p:spPr>
                <a:xfrm rot="21599400">
                  <a:off x="10362600" y="3629880"/>
                  <a:ext cx="194400" cy="18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4" name=""/>
                <p:cNvSpPr/>
                <p:nvPr/>
              </p:nvSpPr>
              <p:spPr>
                <a:xfrm rot="11103600">
                  <a:off x="10396440" y="3660480"/>
                  <a:ext cx="126360" cy="12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11225160" y="3043800"/>
                <a:ext cx="176040" cy="175320"/>
                <a:chOff x="11225160" y="3043800"/>
                <a:chExt cx="176040" cy="175320"/>
              </a:xfrm>
            </p:grpSpPr>
            <p:pic>
              <p:nvPicPr>
                <p:cNvPr id="426" name="椭圆 172" descr=""/>
                <p:cNvPicPr/>
                <p:nvPr/>
              </p:nvPicPr>
              <p:blipFill>
                <a:blip r:embed="rId92"/>
                <a:stretch/>
              </p:blipFill>
              <p:spPr>
                <a:xfrm rot="21599400">
                  <a:off x="11225160" y="3043440"/>
                  <a:ext cx="176040" cy="17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7" name=""/>
                <p:cNvSpPr/>
                <p:nvPr/>
              </p:nvSpPr>
              <p:spPr>
                <a:xfrm rot="11103600">
                  <a:off x="11254320" y="3074760"/>
                  <a:ext cx="115560" cy="11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11085480" y="2880360"/>
                <a:ext cx="176040" cy="175320"/>
                <a:chOff x="11085480" y="2880360"/>
                <a:chExt cx="176040" cy="175320"/>
              </a:xfrm>
            </p:grpSpPr>
            <p:pic>
              <p:nvPicPr>
                <p:cNvPr id="429" name="椭圆 173" descr=""/>
                <p:cNvPicPr/>
                <p:nvPr/>
              </p:nvPicPr>
              <p:blipFill>
                <a:blip r:embed="rId93"/>
                <a:stretch/>
              </p:blipFill>
              <p:spPr>
                <a:xfrm rot="21599400">
                  <a:off x="11085480" y="2880000"/>
                  <a:ext cx="176040" cy="17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0" name=""/>
                <p:cNvSpPr/>
                <p:nvPr/>
              </p:nvSpPr>
              <p:spPr>
                <a:xfrm rot="11103600">
                  <a:off x="11116440" y="2910240"/>
                  <a:ext cx="115560" cy="11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11638800" y="3056040"/>
                <a:ext cx="176040" cy="175320"/>
                <a:chOff x="11638800" y="3056040"/>
                <a:chExt cx="176040" cy="175320"/>
              </a:xfrm>
            </p:grpSpPr>
            <p:pic>
              <p:nvPicPr>
                <p:cNvPr id="432" name="椭圆 174" descr=""/>
                <p:cNvPicPr/>
                <p:nvPr/>
              </p:nvPicPr>
              <p:blipFill>
                <a:blip r:embed="rId94"/>
                <a:stretch/>
              </p:blipFill>
              <p:spPr>
                <a:xfrm rot="21599400">
                  <a:off x="11638800" y="3055680"/>
                  <a:ext cx="176040" cy="17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3" name=""/>
                <p:cNvSpPr/>
                <p:nvPr/>
              </p:nvSpPr>
              <p:spPr>
                <a:xfrm rot="11103600">
                  <a:off x="11666520" y="3085200"/>
                  <a:ext cx="115560" cy="11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12185640" y="3685680"/>
                <a:ext cx="176040" cy="175320"/>
                <a:chOff x="12185640" y="3685680"/>
                <a:chExt cx="176040" cy="175320"/>
              </a:xfrm>
            </p:grpSpPr>
            <p:pic>
              <p:nvPicPr>
                <p:cNvPr id="435" name="椭圆 175" descr=""/>
                <p:cNvPicPr/>
                <p:nvPr/>
              </p:nvPicPr>
              <p:blipFill>
                <a:blip r:embed="rId95"/>
                <a:stretch/>
              </p:blipFill>
              <p:spPr>
                <a:xfrm rot="21599400">
                  <a:off x="12185640" y="3685320"/>
                  <a:ext cx="176040" cy="17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"/>
                <p:cNvSpPr/>
                <p:nvPr/>
              </p:nvSpPr>
              <p:spPr>
                <a:xfrm rot="11103600">
                  <a:off x="12214440" y="3718440"/>
                  <a:ext cx="115560" cy="11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9268920" y="3176280"/>
                <a:ext cx="176040" cy="175320"/>
                <a:chOff x="9268920" y="3176280"/>
                <a:chExt cx="176040" cy="175320"/>
              </a:xfrm>
            </p:grpSpPr>
            <p:pic>
              <p:nvPicPr>
                <p:cNvPr id="438" name="椭圆 176" descr=""/>
                <p:cNvPicPr/>
                <p:nvPr/>
              </p:nvPicPr>
              <p:blipFill>
                <a:blip r:embed="rId96"/>
                <a:stretch/>
              </p:blipFill>
              <p:spPr>
                <a:xfrm rot="21599400">
                  <a:off x="9268920" y="3175920"/>
                  <a:ext cx="176040" cy="17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9" name=""/>
                <p:cNvSpPr/>
                <p:nvPr/>
              </p:nvSpPr>
              <p:spPr>
                <a:xfrm rot="11103600">
                  <a:off x="9300240" y="3205440"/>
                  <a:ext cx="115560" cy="11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9147600" y="3382200"/>
                <a:ext cx="176040" cy="175320"/>
                <a:chOff x="9147600" y="3382200"/>
                <a:chExt cx="176040" cy="175320"/>
              </a:xfrm>
            </p:grpSpPr>
            <p:pic>
              <p:nvPicPr>
                <p:cNvPr id="441" name="椭圆 177" descr=""/>
                <p:cNvPicPr/>
                <p:nvPr/>
              </p:nvPicPr>
              <p:blipFill>
                <a:blip r:embed="rId97"/>
                <a:stretch/>
              </p:blipFill>
              <p:spPr>
                <a:xfrm rot="21599400">
                  <a:off x="9147600" y="3381840"/>
                  <a:ext cx="176040" cy="17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2" name=""/>
                <p:cNvSpPr/>
                <p:nvPr/>
              </p:nvSpPr>
              <p:spPr>
                <a:xfrm rot="11103600">
                  <a:off x="9176400" y="3409560"/>
                  <a:ext cx="115560" cy="11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443" name=""/>
            <p:cNvGrpSpPr/>
            <p:nvPr/>
          </p:nvGrpSpPr>
          <p:grpSpPr>
            <a:xfrm>
              <a:off x="9726840" y="2841120"/>
              <a:ext cx="3629880" cy="1089360"/>
              <a:chOff x="9726840" y="2841120"/>
              <a:chExt cx="3629880" cy="108936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11764080" y="3407040"/>
                <a:ext cx="212760" cy="222480"/>
                <a:chOff x="11764080" y="3407040"/>
                <a:chExt cx="212760" cy="222480"/>
              </a:xfrm>
            </p:grpSpPr>
            <p:pic>
              <p:nvPicPr>
                <p:cNvPr id="445" name="椭圆 125" descr=""/>
                <p:cNvPicPr/>
                <p:nvPr/>
              </p:nvPicPr>
              <p:blipFill>
                <a:blip r:embed="rId98"/>
                <a:stretch/>
              </p:blipFill>
              <p:spPr>
                <a:xfrm>
                  <a:off x="11764080" y="3407040"/>
                  <a:ext cx="21276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6" name=""/>
                <p:cNvSpPr/>
                <p:nvPr/>
              </p:nvSpPr>
              <p:spPr>
                <a:xfrm>
                  <a:off x="11797200" y="3441240"/>
                  <a:ext cx="145080" cy="15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11417400" y="3388680"/>
                <a:ext cx="206640" cy="222480"/>
                <a:chOff x="11417400" y="3388680"/>
                <a:chExt cx="206640" cy="222480"/>
              </a:xfrm>
            </p:grpSpPr>
            <p:pic>
              <p:nvPicPr>
                <p:cNvPr id="448" name="椭圆 126" descr=""/>
                <p:cNvPicPr/>
                <p:nvPr/>
              </p:nvPicPr>
              <p:blipFill>
                <a:blip r:embed="rId99"/>
                <a:stretch/>
              </p:blipFill>
              <p:spPr>
                <a:xfrm>
                  <a:off x="11417400" y="3388680"/>
                  <a:ext cx="20664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9" name=""/>
                <p:cNvSpPr/>
                <p:nvPr/>
              </p:nvSpPr>
              <p:spPr>
                <a:xfrm>
                  <a:off x="11450160" y="3427200"/>
                  <a:ext cx="139680" cy="14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12195360" y="3039480"/>
                <a:ext cx="218880" cy="222480"/>
                <a:chOff x="12195360" y="3039480"/>
                <a:chExt cx="218880" cy="222480"/>
              </a:xfrm>
            </p:grpSpPr>
            <p:pic>
              <p:nvPicPr>
                <p:cNvPr id="451" name="椭圆 127" descr=""/>
                <p:cNvPicPr/>
                <p:nvPr/>
              </p:nvPicPr>
              <p:blipFill>
                <a:blip r:embed="rId100"/>
                <a:stretch/>
              </p:blipFill>
              <p:spPr>
                <a:xfrm>
                  <a:off x="12195360" y="3039480"/>
                  <a:ext cx="21888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2" name=""/>
                <p:cNvSpPr/>
                <p:nvPr/>
              </p:nvSpPr>
              <p:spPr>
                <a:xfrm>
                  <a:off x="12231360" y="3075120"/>
                  <a:ext cx="144360" cy="15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11763720" y="3713760"/>
                <a:ext cx="54720" cy="174240"/>
                <a:chOff x="11763720" y="3713760"/>
                <a:chExt cx="54720" cy="174240"/>
              </a:xfrm>
            </p:grpSpPr>
            <p:pic>
              <p:nvPicPr>
                <p:cNvPr id="454" name="椭圆 128" descr=""/>
                <p:cNvPicPr/>
                <p:nvPr/>
              </p:nvPicPr>
              <p:blipFill>
                <a:blip r:embed="rId101"/>
                <a:stretch/>
              </p:blipFill>
              <p:spPr>
                <a:xfrm>
                  <a:off x="11763720" y="3713760"/>
                  <a:ext cx="54720" cy="17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5" name=""/>
                <p:cNvSpPr/>
                <p:nvPr/>
              </p:nvSpPr>
              <p:spPr>
                <a:xfrm>
                  <a:off x="11775960" y="3741840"/>
                  <a:ext cx="30600" cy="11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11180520" y="3196080"/>
                <a:ext cx="188280" cy="198360"/>
                <a:chOff x="11180520" y="3196080"/>
                <a:chExt cx="188280" cy="198360"/>
              </a:xfrm>
            </p:grpSpPr>
            <p:pic>
              <p:nvPicPr>
                <p:cNvPr id="457" name="椭圆 129" descr=""/>
                <p:cNvPicPr/>
                <p:nvPr/>
              </p:nvPicPr>
              <p:blipFill>
                <a:blip r:embed="rId102"/>
                <a:stretch/>
              </p:blipFill>
              <p:spPr>
                <a:xfrm>
                  <a:off x="11180520" y="3196080"/>
                  <a:ext cx="188280" cy="19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>
                  <a:off x="11210760" y="3229920"/>
                  <a:ext cx="128160" cy="13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11162160" y="3238200"/>
                <a:ext cx="200520" cy="204480"/>
                <a:chOff x="11162160" y="3238200"/>
                <a:chExt cx="200520" cy="204480"/>
              </a:xfrm>
            </p:grpSpPr>
            <p:pic>
              <p:nvPicPr>
                <p:cNvPr id="460" name="椭圆 130" descr=""/>
                <p:cNvPicPr/>
                <p:nvPr/>
              </p:nvPicPr>
              <p:blipFill>
                <a:blip r:embed="rId103"/>
                <a:stretch/>
              </p:blipFill>
              <p:spPr>
                <a:xfrm>
                  <a:off x="11162160" y="3238200"/>
                  <a:ext cx="200520" cy="204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1" name=""/>
                <p:cNvSpPr/>
                <p:nvPr/>
              </p:nvSpPr>
              <p:spPr>
                <a:xfrm>
                  <a:off x="11196000" y="3269880"/>
                  <a:ext cx="133200" cy="13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10773000" y="3244320"/>
                <a:ext cx="188280" cy="198360"/>
                <a:chOff x="10773000" y="3244320"/>
                <a:chExt cx="188280" cy="198360"/>
              </a:xfrm>
            </p:grpSpPr>
            <p:pic>
              <p:nvPicPr>
                <p:cNvPr id="463" name="椭圆 131" descr=""/>
                <p:cNvPicPr/>
                <p:nvPr/>
              </p:nvPicPr>
              <p:blipFill>
                <a:blip r:embed="rId104"/>
                <a:stretch/>
              </p:blipFill>
              <p:spPr>
                <a:xfrm>
                  <a:off x="10773000" y="3244320"/>
                  <a:ext cx="188280" cy="19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4" name=""/>
                <p:cNvSpPr/>
                <p:nvPr/>
              </p:nvSpPr>
              <p:spPr>
                <a:xfrm>
                  <a:off x="10804320" y="3274920"/>
                  <a:ext cx="127440" cy="13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10523160" y="2985480"/>
                <a:ext cx="218880" cy="222480"/>
                <a:chOff x="10523160" y="2985480"/>
                <a:chExt cx="218880" cy="222480"/>
              </a:xfrm>
            </p:grpSpPr>
            <p:pic>
              <p:nvPicPr>
                <p:cNvPr id="466" name="椭圆 132" descr=""/>
                <p:cNvPicPr/>
                <p:nvPr/>
              </p:nvPicPr>
              <p:blipFill>
                <a:blip r:embed="rId105"/>
                <a:stretch/>
              </p:blipFill>
              <p:spPr>
                <a:xfrm>
                  <a:off x="10523160" y="2985480"/>
                  <a:ext cx="21888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7" name=""/>
                <p:cNvSpPr/>
                <p:nvPr/>
              </p:nvSpPr>
              <p:spPr>
                <a:xfrm>
                  <a:off x="10558800" y="3020760"/>
                  <a:ext cx="145080" cy="15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11879640" y="2907000"/>
                <a:ext cx="212760" cy="222480"/>
                <a:chOff x="11879640" y="2907000"/>
                <a:chExt cx="212760" cy="222480"/>
              </a:xfrm>
            </p:grpSpPr>
            <p:pic>
              <p:nvPicPr>
                <p:cNvPr id="469" name="椭圆 133" descr=""/>
                <p:cNvPicPr/>
                <p:nvPr/>
              </p:nvPicPr>
              <p:blipFill>
                <a:blip r:embed="rId106"/>
                <a:stretch/>
              </p:blipFill>
              <p:spPr>
                <a:xfrm>
                  <a:off x="11879640" y="2907000"/>
                  <a:ext cx="21276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0" name=""/>
                <p:cNvSpPr/>
                <p:nvPr/>
              </p:nvSpPr>
              <p:spPr>
                <a:xfrm>
                  <a:off x="11912760" y="2942640"/>
                  <a:ext cx="145080" cy="15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10748520" y="3425040"/>
                <a:ext cx="169920" cy="174240"/>
                <a:chOff x="10748520" y="3425040"/>
                <a:chExt cx="169920" cy="174240"/>
              </a:xfrm>
            </p:grpSpPr>
            <p:pic>
              <p:nvPicPr>
                <p:cNvPr id="472" name="椭圆 134" descr=""/>
                <p:cNvPicPr/>
                <p:nvPr/>
              </p:nvPicPr>
              <p:blipFill>
                <a:blip r:embed="rId107"/>
                <a:stretch/>
              </p:blipFill>
              <p:spPr>
                <a:xfrm>
                  <a:off x="10748520" y="3425040"/>
                  <a:ext cx="169920" cy="17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3" name=""/>
                <p:cNvSpPr/>
                <p:nvPr/>
              </p:nvSpPr>
              <p:spPr>
                <a:xfrm>
                  <a:off x="10779120" y="3454560"/>
                  <a:ext cx="111960" cy="1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11326320" y="3153960"/>
                <a:ext cx="169920" cy="180360"/>
                <a:chOff x="11326320" y="3153960"/>
                <a:chExt cx="169920" cy="180360"/>
              </a:xfrm>
            </p:grpSpPr>
            <p:pic>
              <p:nvPicPr>
                <p:cNvPr id="475" name="椭圆 135" descr=""/>
                <p:cNvPicPr/>
                <p:nvPr/>
              </p:nvPicPr>
              <p:blipFill>
                <a:blip r:embed="rId108"/>
                <a:stretch/>
              </p:blipFill>
              <p:spPr>
                <a:xfrm>
                  <a:off x="11326320" y="3153960"/>
                  <a:ext cx="169920" cy="18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6" name=""/>
                <p:cNvSpPr/>
                <p:nvPr/>
              </p:nvSpPr>
              <p:spPr>
                <a:xfrm>
                  <a:off x="11352960" y="3181680"/>
                  <a:ext cx="114840" cy="11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12457080" y="3701880"/>
                <a:ext cx="218880" cy="228600"/>
                <a:chOff x="12457080" y="3701880"/>
                <a:chExt cx="218880" cy="228600"/>
              </a:xfrm>
            </p:grpSpPr>
            <p:pic>
              <p:nvPicPr>
                <p:cNvPr id="478" name="椭圆 136" descr=""/>
                <p:cNvPicPr/>
                <p:nvPr/>
              </p:nvPicPr>
              <p:blipFill>
                <a:blip r:embed="rId109"/>
                <a:stretch/>
              </p:blipFill>
              <p:spPr>
                <a:xfrm>
                  <a:off x="12457080" y="3701880"/>
                  <a:ext cx="218880" cy="22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9" name=""/>
                <p:cNvSpPr/>
                <p:nvPr/>
              </p:nvSpPr>
              <p:spPr>
                <a:xfrm>
                  <a:off x="12492000" y="3741120"/>
                  <a:ext cx="145080" cy="15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10809360" y="2877120"/>
                <a:ext cx="169920" cy="174240"/>
                <a:chOff x="10809360" y="2877120"/>
                <a:chExt cx="169920" cy="174240"/>
              </a:xfrm>
            </p:grpSpPr>
            <p:pic>
              <p:nvPicPr>
                <p:cNvPr id="481" name="椭圆 137" descr=""/>
                <p:cNvPicPr/>
                <p:nvPr/>
              </p:nvPicPr>
              <p:blipFill>
                <a:blip r:embed="rId110"/>
                <a:stretch/>
              </p:blipFill>
              <p:spPr>
                <a:xfrm>
                  <a:off x="10809360" y="2877120"/>
                  <a:ext cx="169920" cy="17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2" name=""/>
                <p:cNvSpPr/>
                <p:nvPr/>
              </p:nvSpPr>
              <p:spPr>
                <a:xfrm>
                  <a:off x="10836360" y="2905200"/>
                  <a:ext cx="111960" cy="1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10067400" y="3208320"/>
                <a:ext cx="169920" cy="180360"/>
                <a:chOff x="10067400" y="3208320"/>
                <a:chExt cx="169920" cy="180360"/>
              </a:xfrm>
            </p:grpSpPr>
            <p:pic>
              <p:nvPicPr>
                <p:cNvPr id="484" name="椭圆 138" descr=""/>
                <p:cNvPicPr/>
                <p:nvPr/>
              </p:nvPicPr>
              <p:blipFill>
                <a:blip r:embed="rId111"/>
                <a:stretch/>
              </p:blipFill>
              <p:spPr>
                <a:xfrm>
                  <a:off x="10067400" y="3208320"/>
                  <a:ext cx="169920" cy="18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5" name=""/>
                <p:cNvSpPr/>
                <p:nvPr/>
              </p:nvSpPr>
              <p:spPr>
                <a:xfrm>
                  <a:off x="10095840" y="3241080"/>
                  <a:ext cx="111960" cy="1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12068280" y="3238200"/>
                <a:ext cx="169920" cy="174240"/>
                <a:chOff x="12068280" y="3238200"/>
                <a:chExt cx="169920" cy="174240"/>
              </a:xfrm>
            </p:grpSpPr>
            <p:pic>
              <p:nvPicPr>
                <p:cNvPr id="487" name="椭圆 139" descr=""/>
                <p:cNvPicPr/>
                <p:nvPr/>
              </p:nvPicPr>
              <p:blipFill>
                <a:blip r:embed="rId112"/>
                <a:stretch/>
              </p:blipFill>
              <p:spPr>
                <a:xfrm>
                  <a:off x="12068280" y="3238200"/>
                  <a:ext cx="169920" cy="17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8" name=""/>
                <p:cNvSpPr/>
                <p:nvPr/>
              </p:nvSpPr>
              <p:spPr>
                <a:xfrm>
                  <a:off x="12096000" y="3265560"/>
                  <a:ext cx="111960" cy="1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12798000" y="3436920"/>
                <a:ext cx="176040" cy="180360"/>
                <a:chOff x="12798000" y="3436920"/>
                <a:chExt cx="176040" cy="180360"/>
              </a:xfrm>
            </p:grpSpPr>
            <p:pic>
              <p:nvPicPr>
                <p:cNvPr id="490" name="椭圆 140" descr=""/>
                <p:cNvPicPr/>
                <p:nvPr/>
              </p:nvPicPr>
              <p:blipFill>
                <a:blip r:embed="rId113"/>
                <a:stretch/>
              </p:blipFill>
              <p:spPr>
                <a:xfrm>
                  <a:off x="12798000" y="3436920"/>
                  <a:ext cx="176040" cy="18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1" name=""/>
                <p:cNvSpPr/>
                <p:nvPr/>
              </p:nvSpPr>
              <p:spPr>
                <a:xfrm>
                  <a:off x="12829680" y="3465720"/>
                  <a:ext cx="115920" cy="11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9726840" y="3220200"/>
                <a:ext cx="169920" cy="174240"/>
                <a:chOff x="9726840" y="3220200"/>
                <a:chExt cx="169920" cy="174240"/>
              </a:xfrm>
            </p:grpSpPr>
            <p:pic>
              <p:nvPicPr>
                <p:cNvPr id="493" name="椭圆 141" descr=""/>
                <p:cNvPicPr/>
                <p:nvPr/>
              </p:nvPicPr>
              <p:blipFill>
                <a:blip r:embed="rId114"/>
                <a:stretch/>
              </p:blipFill>
              <p:spPr>
                <a:xfrm>
                  <a:off x="9726840" y="3220200"/>
                  <a:ext cx="169920" cy="17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4" name=""/>
                <p:cNvSpPr/>
                <p:nvPr/>
              </p:nvSpPr>
              <p:spPr>
                <a:xfrm>
                  <a:off x="9754200" y="3247560"/>
                  <a:ext cx="111960" cy="1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12846600" y="3551400"/>
                <a:ext cx="267480" cy="282960"/>
                <a:chOff x="12846600" y="3551400"/>
                <a:chExt cx="267480" cy="282960"/>
              </a:xfrm>
            </p:grpSpPr>
            <p:pic>
              <p:nvPicPr>
                <p:cNvPr id="496" name="椭圆 142" descr=""/>
                <p:cNvPicPr/>
                <p:nvPr/>
              </p:nvPicPr>
              <p:blipFill>
                <a:blip r:embed="rId115"/>
                <a:stretch/>
              </p:blipFill>
              <p:spPr>
                <a:xfrm>
                  <a:off x="12846600" y="3551400"/>
                  <a:ext cx="267480" cy="282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>
                  <a:off x="12887280" y="3599280"/>
                  <a:ext cx="181080" cy="18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12937680" y="3033720"/>
                <a:ext cx="267480" cy="276840"/>
                <a:chOff x="12937680" y="3033720"/>
                <a:chExt cx="267480" cy="276840"/>
              </a:xfrm>
            </p:grpSpPr>
            <p:pic>
              <p:nvPicPr>
                <p:cNvPr id="499" name="椭圆 143" descr=""/>
                <p:cNvPicPr/>
                <p:nvPr/>
              </p:nvPicPr>
              <p:blipFill>
                <a:blip r:embed="rId116"/>
                <a:stretch/>
              </p:blipFill>
              <p:spPr>
                <a:xfrm>
                  <a:off x="12937680" y="3033720"/>
                  <a:ext cx="267480" cy="27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0" name=""/>
                <p:cNvSpPr/>
                <p:nvPr/>
              </p:nvSpPr>
              <p:spPr>
                <a:xfrm>
                  <a:off x="12980520" y="3079080"/>
                  <a:ext cx="178920" cy="18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12755160" y="3081600"/>
                <a:ext cx="169920" cy="174240"/>
                <a:chOff x="12755160" y="3081600"/>
                <a:chExt cx="169920" cy="174240"/>
              </a:xfrm>
            </p:grpSpPr>
            <p:pic>
              <p:nvPicPr>
                <p:cNvPr id="502" name="椭圆 144" descr=""/>
                <p:cNvPicPr/>
                <p:nvPr/>
              </p:nvPicPr>
              <p:blipFill>
                <a:blip r:embed="rId117"/>
                <a:stretch/>
              </p:blipFill>
              <p:spPr>
                <a:xfrm>
                  <a:off x="12755160" y="3081600"/>
                  <a:ext cx="169920" cy="17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3" name=""/>
                <p:cNvSpPr/>
                <p:nvPr/>
              </p:nvSpPr>
              <p:spPr>
                <a:xfrm>
                  <a:off x="12783960" y="3114000"/>
                  <a:ext cx="10980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11459880" y="2841120"/>
                <a:ext cx="182160" cy="192600"/>
                <a:chOff x="11459880" y="2841120"/>
                <a:chExt cx="182160" cy="192600"/>
              </a:xfrm>
            </p:grpSpPr>
            <p:pic>
              <p:nvPicPr>
                <p:cNvPr id="505" name="椭圆 145" descr=""/>
                <p:cNvPicPr/>
                <p:nvPr/>
              </p:nvPicPr>
              <p:blipFill>
                <a:blip r:embed="rId118"/>
                <a:stretch/>
              </p:blipFill>
              <p:spPr>
                <a:xfrm>
                  <a:off x="11459880" y="2841120"/>
                  <a:ext cx="182160" cy="19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6" name=""/>
                <p:cNvSpPr/>
                <p:nvPr/>
              </p:nvSpPr>
              <p:spPr>
                <a:xfrm>
                  <a:off x="11491200" y="2873520"/>
                  <a:ext cx="119880" cy="12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11138040" y="3045600"/>
                <a:ext cx="200520" cy="204480"/>
                <a:chOff x="11138040" y="3045600"/>
                <a:chExt cx="200520" cy="204480"/>
              </a:xfrm>
            </p:grpSpPr>
            <p:pic>
              <p:nvPicPr>
                <p:cNvPr id="508" name="椭圆 146" descr=""/>
                <p:cNvPicPr/>
                <p:nvPr/>
              </p:nvPicPr>
              <p:blipFill>
                <a:blip r:embed="rId119"/>
                <a:stretch/>
              </p:blipFill>
              <p:spPr>
                <a:xfrm>
                  <a:off x="11138040" y="3045600"/>
                  <a:ext cx="200520" cy="204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9" name=""/>
                <p:cNvSpPr/>
                <p:nvPr/>
              </p:nvSpPr>
              <p:spPr>
                <a:xfrm>
                  <a:off x="11173680" y="3081960"/>
                  <a:ext cx="128880" cy="13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12226320" y="3509280"/>
                <a:ext cx="169920" cy="174240"/>
                <a:chOff x="12226320" y="3509280"/>
                <a:chExt cx="169920" cy="174240"/>
              </a:xfrm>
            </p:grpSpPr>
            <p:pic>
              <p:nvPicPr>
                <p:cNvPr id="511" name="椭圆 147" descr=""/>
                <p:cNvPicPr/>
                <p:nvPr/>
              </p:nvPicPr>
              <p:blipFill>
                <a:blip r:embed="rId120"/>
                <a:stretch/>
              </p:blipFill>
              <p:spPr>
                <a:xfrm>
                  <a:off x="12226320" y="3509280"/>
                  <a:ext cx="169920" cy="17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12" name=""/>
                <p:cNvSpPr/>
                <p:nvPr/>
              </p:nvSpPr>
              <p:spPr>
                <a:xfrm>
                  <a:off x="12255120" y="3540240"/>
                  <a:ext cx="10980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12080160" y="3659760"/>
                <a:ext cx="169920" cy="174240"/>
                <a:chOff x="12080160" y="3659760"/>
                <a:chExt cx="169920" cy="174240"/>
              </a:xfrm>
            </p:grpSpPr>
            <p:pic>
              <p:nvPicPr>
                <p:cNvPr id="514" name="椭圆 148" descr=""/>
                <p:cNvPicPr/>
                <p:nvPr/>
              </p:nvPicPr>
              <p:blipFill>
                <a:blip r:embed="rId121"/>
                <a:stretch/>
              </p:blipFill>
              <p:spPr>
                <a:xfrm>
                  <a:off x="12080160" y="3659760"/>
                  <a:ext cx="169920" cy="17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15" name=""/>
                <p:cNvSpPr/>
                <p:nvPr/>
              </p:nvSpPr>
              <p:spPr>
                <a:xfrm>
                  <a:off x="12110040" y="3690720"/>
                  <a:ext cx="10980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12615480" y="3539160"/>
                <a:ext cx="169920" cy="168480"/>
                <a:chOff x="12615480" y="3539160"/>
                <a:chExt cx="169920" cy="168480"/>
              </a:xfrm>
            </p:grpSpPr>
            <p:pic>
              <p:nvPicPr>
                <p:cNvPr id="517" name="椭圆 149" descr=""/>
                <p:cNvPicPr/>
                <p:nvPr/>
              </p:nvPicPr>
              <p:blipFill>
                <a:blip r:embed="rId122"/>
                <a:stretch/>
              </p:blipFill>
              <p:spPr>
                <a:xfrm>
                  <a:off x="12615480" y="3539160"/>
                  <a:ext cx="169920" cy="16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18" name=""/>
                <p:cNvSpPr/>
                <p:nvPr/>
              </p:nvSpPr>
              <p:spPr>
                <a:xfrm>
                  <a:off x="12646080" y="3565800"/>
                  <a:ext cx="10980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13192560" y="2955240"/>
                <a:ext cx="164160" cy="174240"/>
                <a:chOff x="13192560" y="2955240"/>
                <a:chExt cx="164160" cy="174240"/>
              </a:xfrm>
            </p:grpSpPr>
            <p:pic>
              <p:nvPicPr>
                <p:cNvPr id="520" name="椭圆 150" descr=""/>
                <p:cNvPicPr/>
                <p:nvPr/>
              </p:nvPicPr>
              <p:blipFill>
                <a:blip r:embed="rId123"/>
                <a:stretch/>
              </p:blipFill>
              <p:spPr>
                <a:xfrm>
                  <a:off x="13192560" y="2955240"/>
                  <a:ext cx="164160" cy="17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1" name=""/>
                <p:cNvSpPr/>
                <p:nvPr/>
              </p:nvSpPr>
              <p:spPr>
                <a:xfrm>
                  <a:off x="13218840" y="2986920"/>
                  <a:ext cx="11016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10383840" y="3208320"/>
                <a:ext cx="169920" cy="174240"/>
                <a:chOff x="10383840" y="3208320"/>
                <a:chExt cx="169920" cy="174240"/>
              </a:xfrm>
            </p:grpSpPr>
            <p:pic>
              <p:nvPicPr>
                <p:cNvPr id="523" name="椭圆 151" descr=""/>
                <p:cNvPicPr/>
                <p:nvPr/>
              </p:nvPicPr>
              <p:blipFill>
                <a:blip r:embed="rId124"/>
                <a:stretch/>
              </p:blipFill>
              <p:spPr>
                <a:xfrm>
                  <a:off x="10383840" y="3208320"/>
                  <a:ext cx="169920" cy="17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4" name=""/>
                <p:cNvSpPr/>
                <p:nvPr/>
              </p:nvSpPr>
              <p:spPr>
                <a:xfrm>
                  <a:off x="10413720" y="3238920"/>
                  <a:ext cx="10980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10286280" y="2997360"/>
                <a:ext cx="164160" cy="174240"/>
                <a:chOff x="10286280" y="2997360"/>
                <a:chExt cx="164160" cy="174240"/>
              </a:xfrm>
            </p:grpSpPr>
            <p:pic>
              <p:nvPicPr>
                <p:cNvPr id="526" name="椭圆 152" descr=""/>
                <p:cNvPicPr/>
                <p:nvPr/>
              </p:nvPicPr>
              <p:blipFill>
                <a:blip r:embed="rId125"/>
                <a:stretch/>
              </p:blipFill>
              <p:spPr>
                <a:xfrm>
                  <a:off x="10286280" y="2997360"/>
                  <a:ext cx="164160" cy="17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7" name=""/>
                <p:cNvSpPr/>
                <p:nvPr/>
              </p:nvSpPr>
              <p:spPr>
                <a:xfrm>
                  <a:off x="10313280" y="3025080"/>
                  <a:ext cx="11016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28" name=""/>
          <p:cNvGrpSpPr/>
          <p:nvPr/>
        </p:nvGrpSpPr>
        <p:grpSpPr>
          <a:xfrm>
            <a:off x="3830040" y="2932920"/>
            <a:ext cx="1026720" cy="1045080"/>
            <a:chOff x="3830040" y="2932920"/>
            <a:chExt cx="1026720" cy="1045080"/>
          </a:xfrm>
        </p:grpSpPr>
        <p:sp>
          <p:nvSpPr>
            <p:cNvPr id="529" name="椭圆 180"/>
            <p:cNvSpPr/>
            <p:nvPr/>
          </p:nvSpPr>
          <p:spPr>
            <a:xfrm rot="10107600">
              <a:off x="3924000" y="3072960"/>
              <a:ext cx="858600" cy="82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9019"/>
                  </a:srgbClr>
                </a:gs>
                <a:gs pos="100000">
                  <a:srgbClr val="000000">
                    <a:alpha val="2235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椭圆 181"/>
            <p:cNvSpPr/>
            <p:nvPr/>
          </p:nvSpPr>
          <p:spPr>
            <a:xfrm rot="9114000">
              <a:off x="3952440" y="3074040"/>
              <a:ext cx="779400" cy="7146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椭圆 182"/>
            <p:cNvSpPr/>
            <p:nvPr/>
          </p:nvSpPr>
          <p:spPr>
            <a:xfrm rot="4048800">
              <a:off x="4081680" y="3029040"/>
              <a:ext cx="514440" cy="639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9019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椭圆 183"/>
            <p:cNvSpPr/>
            <p:nvPr/>
          </p:nvSpPr>
          <p:spPr>
            <a:xfrm rot="629400">
              <a:off x="4279320" y="3090600"/>
              <a:ext cx="287280" cy="187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5294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33" name="Picture 8" descr="C:\Documents and Settings\Administrator\桌面\图片1.png"/>
          <p:cNvPicPr/>
          <p:nvPr/>
        </p:nvPicPr>
        <p:blipFill>
          <a:blip r:embed="rId126"/>
          <a:stretch/>
        </p:blipFill>
        <p:spPr>
          <a:xfrm>
            <a:off x="7372440" y="3433680"/>
            <a:ext cx="298440" cy="2872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8" descr="C:\Documents and Settings\Administrator\桌面\图片1.png"/>
          <p:cNvPicPr/>
          <p:nvPr/>
        </p:nvPicPr>
        <p:blipFill>
          <a:blip r:embed="rId127"/>
          <a:stretch/>
        </p:blipFill>
        <p:spPr>
          <a:xfrm>
            <a:off x="8236080" y="3002040"/>
            <a:ext cx="223560" cy="2160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8" descr="C:\Documents and Settings\Administrator\桌面\图片1.png"/>
          <p:cNvPicPr/>
          <p:nvPr/>
        </p:nvPicPr>
        <p:blipFill>
          <a:blip r:embed="rId128"/>
          <a:stretch/>
        </p:blipFill>
        <p:spPr>
          <a:xfrm>
            <a:off x="3556080" y="3144960"/>
            <a:ext cx="71280" cy="698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8" descr="C:\Documents and Settings\Administrator\桌面\图片1.png"/>
          <p:cNvPicPr/>
          <p:nvPr/>
        </p:nvPicPr>
        <p:blipFill>
          <a:blip r:embed="rId129"/>
          <a:stretch/>
        </p:blipFill>
        <p:spPr>
          <a:xfrm>
            <a:off x="1324080" y="2928960"/>
            <a:ext cx="74520" cy="730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8" descr="C:\Documents and Settings\Administrator\桌面\图片1.png"/>
          <p:cNvPicPr/>
          <p:nvPr/>
        </p:nvPicPr>
        <p:blipFill>
          <a:blip r:embed="rId130"/>
          <a:stretch/>
        </p:blipFill>
        <p:spPr>
          <a:xfrm>
            <a:off x="6364440" y="4081320"/>
            <a:ext cx="74520" cy="716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8" descr="C:\Documents and Settings\Administrator\桌面\图片1.png"/>
          <p:cNvPicPr/>
          <p:nvPr/>
        </p:nvPicPr>
        <p:blipFill>
          <a:blip r:embed="rId131"/>
          <a:stretch/>
        </p:blipFill>
        <p:spPr>
          <a:xfrm>
            <a:off x="5351400" y="2352600"/>
            <a:ext cx="76320" cy="74520"/>
          </a:xfrm>
          <a:prstGeom prst="rect">
            <a:avLst/>
          </a:prstGeom>
          <a:ln w="0">
            <a:noFill/>
          </a:ln>
        </p:spPr>
      </p:pic>
      <p:sp>
        <p:nvSpPr>
          <p:cNvPr id="539" name="椭圆 190"/>
          <p:cNvSpPr/>
          <p:nvPr/>
        </p:nvSpPr>
        <p:spPr>
          <a:xfrm>
            <a:off x="6940440" y="3578400"/>
            <a:ext cx="144720" cy="1425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椭圆 191"/>
          <p:cNvSpPr/>
          <p:nvPr/>
        </p:nvSpPr>
        <p:spPr>
          <a:xfrm>
            <a:off x="2403360" y="3433680"/>
            <a:ext cx="216000" cy="216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Picture 8" descr="C:\Documents and Settings\Administrator\桌面\图片1.png"/>
          <p:cNvPicPr/>
          <p:nvPr/>
        </p:nvPicPr>
        <p:blipFill>
          <a:blip r:embed="rId132"/>
          <a:stretch/>
        </p:blipFill>
        <p:spPr>
          <a:xfrm>
            <a:off x="387360" y="3505320"/>
            <a:ext cx="149040" cy="1443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8" descr="C:\Documents and Settings\Administrator\桌面\图片1.png"/>
          <p:cNvPicPr/>
          <p:nvPr/>
        </p:nvPicPr>
        <p:blipFill>
          <a:blip r:embed="rId133"/>
          <a:stretch/>
        </p:blipFill>
        <p:spPr>
          <a:xfrm>
            <a:off x="1974960" y="2281320"/>
            <a:ext cx="357120" cy="3459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8" descr="C:\Documents and Settings\Administrator\桌面\图片1.png"/>
          <p:cNvPicPr/>
          <p:nvPr/>
        </p:nvPicPr>
        <p:blipFill>
          <a:blip r:embed="rId134"/>
          <a:stretch/>
        </p:blipFill>
        <p:spPr>
          <a:xfrm>
            <a:off x="5068800" y="3368520"/>
            <a:ext cx="141480" cy="1368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8" descr="C:\Documents and Settings\Administrator\桌面\图片1.png"/>
          <p:cNvPicPr/>
          <p:nvPr/>
        </p:nvPicPr>
        <p:blipFill>
          <a:blip r:embed="rId135"/>
          <a:stretch/>
        </p:blipFill>
        <p:spPr>
          <a:xfrm>
            <a:off x="4132440" y="3073320"/>
            <a:ext cx="77760" cy="74520"/>
          </a:xfrm>
          <a:prstGeom prst="rect">
            <a:avLst/>
          </a:prstGeom>
          <a:ln w="0">
            <a:noFill/>
          </a:ln>
        </p:spPr>
      </p:pic>
      <p:sp>
        <p:nvSpPr>
          <p:cNvPr id="545" name="椭圆 196"/>
          <p:cNvSpPr/>
          <p:nvPr/>
        </p:nvSpPr>
        <p:spPr>
          <a:xfrm>
            <a:off x="5580000" y="3146400"/>
            <a:ext cx="216000" cy="216000"/>
          </a:xfrm>
          <a:prstGeom prst="ellipse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560760" y="3078000"/>
            <a:ext cx="725400" cy="725400"/>
            <a:chOff x="3560760" y="3078000"/>
            <a:chExt cx="725400" cy="725400"/>
          </a:xfrm>
        </p:grpSpPr>
        <p:pic>
          <p:nvPicPr>
            <p:cNvPr id="547" name="椭圆 197" descr=""/>
            <p:cNvPicPr/>
            <p:nvPr/>
          </p:nvPicPr>
          <p:blipFill>
            <a:blip r:embed="rId136"/>
            <a:stretch/>
          </p:blipFill>
          <p:spPr>
            <a:xfrm>
              <a:off x="3560760" y="3078000"/>
              <a:ext cx="7254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3668760" y="3187440"/>
              <a:ext cx="5065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4206960" y="3419640"/>
            <a:ext cx="755640" cy="755640"/>
            <a:chOff x="4206960" y="3419640"/>
            <a:chExt cx="755640" cy="755640"/>
          </a:xfrm>
        </p:grpSpPr>
        <p:pic>
          <p:nvPicPr>
            <p:cNvPr id="550" name="椭圆 198" descr=""/>
            <p:cNvPicPr/>
            <p:nvPr/>
          </p:nvPicPr>
          <p:blipFill>
            <a:blip r:embed="rId137"/>
            <a:stretch/>
          </p:blipFill>
          <p:spPr>
            <a:xfrm>
              <a:off x="4206960" y="3419640"/>
              <a:ext cx="7556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4321440" y="3535560"/>
              <a:ext cx="52380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3968640" y="2835360"/>
            <a:ext cx="731880" cy="725400"/>
            <a:chOff x="3968640" y="2835360"/>
            <a:chExt cx="731880" cy="725400"/>
          </a:xfrm>
        </p:grpSpPr>
        <p:pic>
          <p:nvPicPr>
            <p:cNvPr id="553" name="椭圆 199" descr=""/>
            <p:cNvPicPr/>
            <p:nvPr/>
          </p:nvPicPr>
          <p:blipFill>
            <a:blip r:embed="rId138"/>
            <a:stretch/>
          </p:blipFill>
          <p:spPr>
            <a:xfrm>
              <a:off x="3968640" y="2835360"/>
              <a:ext cx="7318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4081320" y="2944800"/>
              <a:ext cx="506520" cy="5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3786120" y="3371760"/>
            <a:ext cx="725400" cy="730080"/>
            <a:chOff x="3786120" y="3371760"/>
            <a:chExt cx="725400" cy="730080"/>
          </a:xfrm>
        </p:grpSpPr>
        <p:pic>
          <p:nvPicPr>
            <p:cNvPr id="556" name="椭圆 200" descr=""/>
            <p:cNvPicPr/>
            <p:nvPr/>
          </p:nvPicPr>
          <p:blipFill>
            <a:blip r:embed="rId139"/>
            <a:stretch/>
          </p:blipFill>
          <p:spPr>
            <a:xfrm>
              <a:off x="3786120" y="3371760"/>
              <a:ext cx="725400" cy="73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3895560" y="3483000"/>
              <a:ext cx="505080" cy="50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4376880" y="2779560"/>
            <a:ext cx="847440" cy="847800"/>
            <a:chOff x="4376880" y="2779560"/>
            <a:chExt cx="847440" cy="847800"/>
          </a:xfrm>
        </p:grpSpPr>
        <p:pic>
          <p:nvPicPr>
            <p:cNvPr id="559" name="椭圆 201" descr=""/>
            <p:cNvPicPr/>
            <p:nvPr/>
          </p:nvPicPr>
          <p:blipFill>
            <a:blip r:embed="rId140"/>
            <a:stretch/>
          </p:blipFill>
          <p:spPr>
            <a:xfrm>
              <a:off x="4376880" y="2779560"/>
              <a:ext cx="8474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4503600" y="2908080"/>
              <a:ext cx="59004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6950160" y="2992320"/>
            <a:ext cx="725400" cy="725400"/>
            <a:chOff x="6950160" y="2992320"/>
            <a:chExt cx="725400" cy="725400"/>
          </a:xfrm>
        </p:grpSpPr>
        <p:pic>
          <p:nvPicPr>
            <p:cNvPr id="562" name="椭圆 202" descr=""/>
            <p:cNvPicPr/>
            <p:nvPr/>
          </p:nvPicPr>
          <p:blipFill>
            <a:blip r:embed="rId141"/>
            <a:stretch/>
          </p:blipFill>
          <p:spPr>
            <a:xfrm>
              <a:off x="6950160" y="2992320"/>
              <a:ext cx="7254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7058160" y="310500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7364520" y="2749680"/>
            <a:ext cx="731880" cy="731880"/>
            <a:chOff x="7364520" y="2749680"/>
            <a:chExt cx="731880" cy="731880"/>
          </a:xfrm>
        </p:grpSpPr>
        <p:pic>
          <p:nvPicPr>
            <p:cNvPr id="565" name="椭圆 203" descr=""/>
            <p:cNvPicPr/>
            <p:nvPr/>
          </p:nvPicPr>
          <p:blipFill>
            <a:blip r:embed="rId142"/>
            <a:stretch/>
          </p:blipFill>
          <p:spPr>
            <a:xfrm>
              <a:off x="7364520" y="2749680"/>
              <a:ext cx="73188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7477200" y="2862360"/>
              <a:ext cx="5065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308720" y="3413160"/>
            <a:ext cx="731880" cy="725400"/>
            <a:chOff x="7308720" y="3413160"/>
            <a:chExt cx="731880" cy="725400"/>
          </a:xfrm>
        </p:grpSpPr>
        <p:pic>
          <p:nvPicPr>
            <p:cNvPr id="568" name="椭圆 204" descr=""/>
            <p:cNvPicPr/>
            <p:nvPr/>
          </p:nvPicPr>
          <p:blipFill>
            <a:blip r:embed="rId143"/>
            <a:stretch/>
          </p:blipFill>
          <p:spPr>
            <a:xfrm>
              <a:off x="7308720" y="3413160"/>
              <a:ext cx="7318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7421400" y="352584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1542960" y="2273400"/>
            <a:ext cx="571680" cy="573120"/>
            <a:chOff x="1542960" y="2273400"/>
            <a:chExt cx="571680" cy="573120"/>
          </a:xfrm>
        </p:grpSpPr>
        <p:pic>
          <p:nvPicPr>
            <p:cNvPr id="571" name="椭圆 205" descr=""/>
            <p:cNvPicPr/>
            <p:nvPr/>
          </p:nvPicPr>
          <p:blipFill>
            <a:blip r:embed="rId144"/>
            <a:stretch/>
          </p:blipFill>
          <p:spPr>
            <a:xfrm>
              <a:off x="1542960" y="2273400"/>
              <a:ext cx="5716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1630440" y="2363760"/>
              <a:ext cx="396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1773360" y="1908000"/>
            <a:ext cx="573120" cy="573120"/>
            <a:chOff x="1773360" y="1908000"/>
            <a:chExt cx="573120" cy="573120"/>
          </a:xfrm>
        </p:grpSpPr>
        <p:pic>
          <p:nvPicPr>
            <p:cNvPr id="574" name="椭圆 206" descr=""/>
            <p:cNvPicPr/>
            <p:nvPr/>
          </p:nvPicPr>
          <p:blipFill>
            <a:blip r:embed="rId145"/>
            <a:stretch/>
          </p:blipFill>
          <p:spPr>
            <a:xfrm>
              <a:off x="1773360" y="1908000"/>
              <a:ext cx="57312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1863720" y="1995480"/>
              <a:ext cx="3985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8107200" y="2962440"/>
            <a:ext cx="420840" cy="420480"/>
            <a:chOff x="8107200" y="2962440"/>
            <a:chExt cx="420840" cy="420480"/>
          </a:xfrm>
        </p:grpSpPr>
        <p:pic>
          <p:nvPicPr>
            <p:cNvPr id="577" name="椭圆 207" descr=""/>
            <p:cNvPicPr/>
            <p:nvPr/>
          </p:nvPicPr>
          <p:blipFill>
            <a:blip r:embed="rId146"/>
            <a:stretch/>
          </p:blipFill>
          <p:spPr>
            <a:xfrm>
              <a:off x="8107200" y="2962440"/>
              <a:ext cx="42084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8173800" y="3027240"/>
              <a:ext cx="290520" cy="2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8143920" y="2676600"/>
            <a:ext cx="420480" cy="426960"/>
            <a:chOff x="8143920" y="2676600"/>
            <a:chExt cx="420480" cy="426960"/>
          </a:xfrm>
        </p:grpSpPr>
        <p:pic>
          <p:nvPicPr>
            <p:cNvPr id="580" name="椭圆 208" descr=""/>
            <p:cNvPicPr/>
            <p:nvPr/>
          </p:nvPicPr>
          <p:blipFill>
            <a:blip r:embed="rId147"/>
            <a:stretch/>
          </p:blipFill>
          <p:spPr>
            <a:xfrm>
              <a:off x="8143920" y="2676600"/>
              <a:ext cx="42048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8210160" y="2745000"/>
              <a:ext cx="2901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2212920" y="3213000"/>
            <a:ext cx="420840" cy="420840"/>
            <a:chOff x="2212920" y="3213000"/>
            <a:chExt cx="420840" cy="420840"/>
          </a:xfrm>
        </p:grpSpPr>
        <p:pic>
          <p:nvPicPr>
            <p:cNvPr id="583" name="椭圆 209" descr=""/>
            <p:cNvPicPr/>
            <p:nvPr/>
          </p:nvPicPr>
          <p:blipFill>
            <a:blip r:embed="rId148"/>
            <a:stretch/>
          </p:blipFill>
          <p:spPr>
            <a:xfrm>
              <a:off x="2212920" y="3213000"/>
              <a:ext cx="4208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2276280" y="3278160"/>
              <a:ext cx="2905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317520" y="3444840"/>
            <a:ext cx="298440" cy="298440"/>
            <a:chOff x="317520" y="3444840"/>
            <a:chExt cx="298440" cy="298440"/>
          </a:xfrm>
        </p:grpSpPr>
        <p:pic>
          <p:nvPicPr>
            <p:cNvPr id="586" name="椭圆 210" descr=""/>
            <p:cNvPicPr/>
            <p:nvPr/>
          </p:nvPicPr>
          <p:blipFill>
            <a:blip r:embed="rId149"/>
            <a:stretch/>
          </p:blipFill>
          <p:spPr>
            <a:xfrm>
              <a:off x="317520" y="34448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365040" y="3490920"/>
              <a:ext cx="2048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8" name="Picture 4" descr="C:\Documents and Settings\Administrator\桌面\图形1.png"/>
          <p:cNvPicPr/>
          <p:nvPr/>
        </p:nvPicPr>
        <p:blipFill>
          <a:blip r:embed="rId150"/>
          <a:srcRect l="0" t="0" r="0" b="16351"/>
          <a:stretch/>
        </p:blipFill>
        <p:spPr>
          <a:xfrm>
            <a:off x="3005280" y="1276200"/>
            <a:ext cx="3133440" cy="88128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971640" y="4510080"/>
            <a:ext cx="5643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80ff"/>
                </a:solidFill>
                <a:uFillTx/>
                <a:latin typeface="Calibri"/>
                <a:hlinkClick r:id="rId151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fad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25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25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7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6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00083 C 0.00018 0.02026 0.01233 0.08273 -0.00503 0.07579 C -0.00694 0.07134 -0.0092 0.0608 -0.0092 0.06107 C -0.01076 0.04164 -0.01493 0.02915 -0.01962 0.01249 C -0.02656 -0.0125 -0.03194 -0.03804 -0.04149 -0.06108 C -0.04392 -0.07635 -0.0559 -0.10384 -0.06337 -0.11605 C -0.06371 -0.11744 -0.06441 -0.12077 -0.06441 -0.12049 L -0.1283 -0.33787 E">
                                      <p:cBhvr>
                                        <p:cTn id="458" dur="5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33333E-006 -0.03637 C 0.00677 -0.00861 0.00504 -0.01944 -3.33333E-006 0.04581 C -0.00034 0.05108 -0.00868 0.02249 -0.00937 0.02054 C -0.01093 0.00777 -0.01441 -0.00167 -0.01666 -0.01361 C -0.01944 -0.0286 -0.02135 -0.04553 -0.025 -0.05886 C -0.02725 -0.08301 -0.03281 -0.10189 -0.03645 -0.1241 C -0.03871 -0.13826 -0.0901 -0.39312 -0.09427 -0.40422 E">
                                      <p:cBhvr>
                                        <p:cTn id="460" dur="5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6 -0.02915 C -0.00399 -0.01638 -0.00035 -0.02721 0.00052 -0.00444 C 0.00347 0.08329 -0.00156 0.04386 0.00382 0.08079 C 0.00608 0.07163 0.00469 0.05913 0.00868 0.05164 C 0.01146 0.04692 0.01528 0.04275 0.01858 0.03831 C 0.02014 0.03609 0.02344 0.03137 0.02344 0.03193 C 0.02621 0.02054 0.03455 0.01388 0.03976 0.00444 C 0.04687 -0.00778 0.04948 -0.02249 0.05764 -0.03359 C 0.06128 -0.04831 0.0566 -0.03248 0.06424 -0.04748 C 0.06719 -0.05303 0.06944 -0.06358 0.07083 -0.06941 C 0.07344 -0.08051 0.09514 -0.17657 0.09774 -0.18768 C 0.0934 -0.206 0.12726 -0.31399 0.13576 -0.32538 E">
                                      <p:cBhvr>
                                        <p:cTn id="462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02721E-006 C -0.00538 0.01305 -0.0033 0.00611 -0.00625 0.01999 C -0.0066 0.02166 -0.00729 0.02499 -0.00729 0.02526 C 0.00017 0.02887 0.00313 0.0211 0.00938 0.01333 C 0.01024 0.01222 0.01146 0.01249 0.0125 0.01166 C 0.01354 0.01083 0.01476 0.00972 0.01563 0.00833 C 0.02604 -0.00666 0.03681 -0.0211 0.04583 -0.03831 C 0.04896 -0.04442 0.05781 -0.06413 0.0625 -0.06663 C 0.0684 -0.07607 0.07448 -0.08551 0.08125 -0.09328 C 0.08438 -0.09689 0.08663 -0.12104 0.10573 -0.1663 L 0.19566 -0.36452 E">
                                      <p:cBhvr>
                                        <p:cTn id="464" dur="75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5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1.66667E-006 1.60466E-006 C 0.00035 0.01055 -1.66666999999992E-006 0.0211 0.00104 0.03165 C 0.0033 0.05386 0.01615 0.02387 0.01979 0.01999 C 0.02396 0.00999 0.02726 0.000280000000000001 0.03125 -0.01 C 0.03403 -0.01721 0.03455 -0.0261 0.0375 -0.03332 C 0.03976 -0.04831 0.03663 -0.03082 0.04167 -0.04831 C 0.04254 -0.05219 0.04375 -0.0583 0.04375 -0.05802 C 0.04722 -0.098 0.09879 -0.13048 0.11927 -0.15186 C 0.12136 -0.1588 0.28004 -0.41588 0.28004 -0.4231 E">
                                      <p:cBhvr>
                                        <p:cTn id="466" dur="5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04942E-006 C -0.00503 0.01222 -0.00955 0.03026 -0.01563 0.03998 C -0.0184 0.05303 -0.00469 0.04553 2.77778E-007 0.04498 C 0.00382 0.04303 0.01146 0.03998 0.01146 0.04026 C 0.01719 0.03332 0.01944 0.03221 0.025 0.02332 C 0.03056 0.01444 0.03316 0.00028 0.03958 -0.00666 C 0.04097 -0.01332 0.04219 -0.0161 0.04583 -0.01999 C 0.04965 -0.02915 0.04566 -0.02165 0.05208 -0.02832 C 0.0592 -0.03609 0.21233 -0.30455 0.2184 -0.31427 E">
                                      <p:cBhvr>
                                        <p:cTn id="468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72071E-006 C -0.00381 0.00889 -0.00746 0.01583 -0.00937 0.02665 C -0.01006 0.0311 -0.01076 0.03554 -0.01145 0.03998 C -0.01197 0.04331 -0.01562 0.05109 -0.01354 0.04997 C -0.0092 0.04775 -0.01128 0.04942 -0.00729 0.04498 C -0.00659 0.04331 -0.00607 0.04137 -0.0052 0.03998 C -0.00434 0.03859 -0.00295 0.03831 -0.00208 0.03665 C -0.00104 0.03471 -0.00086 0.03193 -4.72222E-006 0.02999 C 0.00296 0.02332 0.00643 0.01694 0.00938 0.01 C 0.01112 0.00556 0.01459 -2.72071000000009E-006 0.01563 -0.00499 C 0.01823 -0.01777 0.01928 -0.03192 0.02396 -0.04331 C 0.02605 -0.05663 0.02639 -0.05996 0.03125 -0.07162 C 0.03264 -0.07496 0.0375 -0.07829 0.0375 -0.07801 C 0.03994 -0.08439 0.04306 -0.08578 0.04688 -0.08995 C 0.05313 -0.09689 0.05938 -0.10494 0.06563 -0.1116 C 0.06823 -0.11771 0.07223 -0.1241 0.07605 -0.12826 C 0.07848 -0.13437 0.2 -0.33481 0.20313 -0.33731 E">
                                      <p:cBhvr>
                                        <p:cTn id="470" dur="25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30927E-006 C 0.00434 0.03471 -0.00052 -0.00720999999999999 0.00208 0.08496 C 0.00208 0.08662 0.00278 0.08162 0.00312 0.07996 C 0.00382 0.07552 0.00469 0.07107 0.00521 0.06663 C 0.0066 0.05331 0.00851 0.0397 0.01041 0.02666 C 0.01389 0.00222 0.01927 -0.0025 0.02812 -0.02165 C 0.03559 -0.03748 0.04375 -0.05052 0.05416 -0.06163 C 0.05764 -0.07273 0.06406 -0.07884 0.06875 -0.08828 C 0.07291 -0.09661 0.07639 -0.09939 0.08125 -0.1066 C 0.0842 -0.11077 0.08732 -0.11466 0.08958 -0.11993 C 0.09028 -0.1216 0.11962 -0.20516 0.12048 -0.20655 C 0.12604 -0.21543 0.20087 -0.34536 0.2066 -0.35452 E">
                                      <p:cBhvr>
                                        <p:cTn id="472" dur="5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46419E-006 C -0.00122 0.02777 -0.00208 0.05053 -0.00625 0.07635 C -0.01094 0.06886 -0.01285 0.05997 -0.01667 0.05164 C -0.02153 0.02804 -0.0316 0.01166 -0.03958 -0.00832 C -0.04306 -0.01721 -0.04601 -0.02693 -0.05 -0.03498 C -0.05139 -0.04358 -0.05729 -0.05746 -0.06042 -0.06496 C -0.06215 -0.07662 -0.0684 -0.08689 -0.07292 -0.09689 C -0.07535 -0.11216 -0.07917 -0.1252 -0.08438 -0.13825 C -0.08646 -0.14408 -0.09063 -0.15519 -0.09063 -0.15463 C -0.09184 -0.16296 -0.18993 -0.38284 -0.19167 -0.38811 E">
                                      <p:cBhvr>
                                        <p:cTn id="474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33148E-006 C 0.00347 0.00833 0.0033 0.01749 0.00521 0.02666 C 0.00416 0.02832 0.00347 0.03193 0.00208 0.03165 C 0.00017 0.0311 -0.00052 0.02693 -0.00209 0.02499 C -0.004 0.02249 -0.00625 0.02055 -0.00834 0.01833 C -0.01129 0.01111 -0.01528 0.00306 -0.01979 -0.00166 C -0.02222 -0.00444 -0.02431 -0.00583 -0.02604 -0.00999 C -0.02934 -0.01749 -0.03143 -0.02693 -0.03438 -0.03498 C -0.03785 -0.04469 -0.04202 -0.05386 -0.04584 -0.06329 C -0.04948 -0.07218 -0.05052 -0.08217 -0.05625 -0.08828 C -0.06077 -0.09939 -0.14184 -0.30094 -0.14393 -0.30816 E">
                                      <p:cBhvr>
                                        <p:cTn id="476" dur="75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88173E-006 C -0.00035 0.00166 -0.00104 0.00333 -0.00104 0.00499 C -0.00104 0.00666 0.00069 0.0111 1.94444E-006 0.00999 C -0.00452 0.00277 1.94443999999979E-006 0.00444 -0.00313 -0.00333 C -0.00712 -0.01305 -0.01337 -0.02638 -0.01875 -0.03498 C -0.01997 -0.04276 -0.02292 -0.04637 -0.025 -0.05331 C -0.02674 -0.05914 -0.02743 -0.06608 -0.02917 -0.07163 C -0.03733 -0.09745 -0.03021 -0.06663 -0.03542 -0.09162 C -0.03629 -0.09606 -0.03889 -0.098 -0.04063 -0.10161 C -0.04219 -0.10467 -0.04479 -0.11161 -0.04479 -0.11133 C -0.04566 -0.11966 -0.09705 -0.29012 -0.10052 -0.29567 E">
                                      <p:cBhvr>
                                        <p:cTn id="478" dur="5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09273E-006 C 0.00104 0.00777 0.00139 0.0136 0.00416 0.01999 C 0.0066 0.03831 0.0092 0.04719 0.0125 0.0633 C 0.01285 0.06524 0.01128 0.05969 0.01041 0.0583 C 0.00816 0.05413 0.00555 0.05052 0.00312 0.04664 C -0.00174 0.03886 -0.00156 0.0397 -0.00625 0.02998 C -0.01493 0.01221 -0.02188 -0.00722 -0.03021 -0.02499 C -0.03316 -0.03137 -0.03281 -0.03582 -0.03646 -0.04165 C -0.03785 -0.04831 -0.03837 -0.05553 -0.04063 -0.06164 C -0.04202 -0.06552 -0.04358 -0.06913 -0.04479 -0.0733 C -0.04931 -0.08912 -0.05035 -0.10717 -0.05834 -0.11994 C -0.05868 -0.1216 -0.05868 -0.12355 -0.05938 -0.12493 C -0.06024 -0.12688 -0.13542 -0.30011 -0.13542 -0.29984 E">
                                      <p:cBhvr>
                                        <p:cTn id="480" dur="75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04275E-006 C 0.00035 0.01221 0.00035 0.02554 0.00104 0.03803 C 0.00104 0.03997 0.00208 0.04497 0.00208 0.04331 C 0.00208 0.01665 -0.00295 -0.00778 -0.01042 -0.03221 C -0.01545 -0.07191 -0.02188 -0.12049 -0.03004 -0.15936 C -0.03212 -0.16991 -0.03472 -0.23293 -0.03767 -0.24237 C -0.03924 -0.24737 -0.04392 -0.36397 -0.04392 -0.3698 E">
                                      <p:cBhvr>
                                        <p:cTn id="482" dur="1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50"/>
                            </p:stCondLst>
                            <p:childTnLst>
                              <p:par>
                                <p:cTn id="4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25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25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25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25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25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25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6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9" dur="25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2" dur="25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5" dur="25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8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1" dur="25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path" presetID="63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1.11111E-006 1.64353E-006 L 0.50747 1.64353E-006 E">
                                      <p:cBhvr>
                                        <p:cTn id="527" dur="5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5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path" presetID="35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3.88889E-006 3.43143E-006 L -0.48698 3.43143E-006 E">
                                      <p:cBhvr>
                                        <p:cTn id="532" dur="5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05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5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75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25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75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75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9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path" presetID="4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035 -0.00084 C -0.01216 -0.02139 -0.02344 -0.04889 -0.02344 -0.10334 C -0.02344 -0.16611 -0.01216 -0.18806 -0.00035 -0.20834 C 0.01284 -0.23528 0.02586 -0.25584 0.02586 -0.32584 C 0.02586 -0.38778 -0.00157 -0.41834 -0.01476 -0.44584 C -0.02049 -0.50223 -0.01563 -0.61167 -0.00886 -0.66334 C -0.00209 -0.71473 0.02448 -0.71973 0.02586 -0.75278 C 0.02586 -0.815 -0.00035 -0.86306 -0.00018 -0.86306 C -0.01216 -0.88306 -0.02431 -0.9225 -0.02431 -0.98278 C -0.02431 -1.04584 -0.01216 -1.04973 -0.00035 -1.07 C 0.01284 -1.0975 0.03698 -1.10778 0.03698 -1.1775 C 0.03698 -1.23945 0.01284 -1.26973 -0.00035 -1.29 C -0.0073 -1.31 0.00468 -1.26889 0.00086 -1.28695 C -0.00295 -1.305 -0.02327 -1.36306 -0.02344 -1.39945 C -0.02344 -1.45528 -0.01216 -1.48223 -0.00035 -1.50417 C 0.01284 -1.52445 0.02586 -1.55195 0.02586 -1.61445 C 0.02586 -1.67639 0.01284 -1.69667 -0.00035 -1.72528 E">
                                      <p:cBhvr>
                                        <p:cTn id="572" dur="275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path" presetID="4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0034 -0.00083 C -0.01215 -0.0225 -0.02343 -0.05028 -0.02343 -0.10667 C -0.02343 -0.17139 -0.01215 -0.19417 -0.00034 -0.21472 C 0.01285 -0.2425 0.02587 -0.26306 0.02587 -0.33583 C 0.02587 -0.39917 0.01285 -0.41972 -0.00034 -0.44833 C -0.01215 -0.46222 -0.03524 -0.50583 -0.03524 -0.57 C -0.03611 -0.60417 -0.01909 -0.6475 -0.00885 -0.68167 C 0.00139 -0.71611 0.01997 -0.73583 0.02587 -0.775 C 0.02587 -0.83833 0.02605 -0.91556 0.02622 -0.91556 C 0.01424 -0.93667 -0.01718 -0.91167 -0.01718 -0.97389 C -0.01718 -1.03833 -0.0125 -1.11472 -0.00069 -1.13528 C 0.0125 -1.16306 0.03698 -1.14028 0.03698 -1.21167 C 0.03698 -1.27556 0.01285 -1.30611 -0.00034 -1.3275 C -0.00729 -1.34833 0.00469 -1.30556 0.00087 -1.32417 C -0.00295 -1.36167 -0.02274 -1.51389 -0.02291 -1.55111 C -0.01875 -1.60722 0.02205 -1.60611 0.02587 -1.66139 C 0.02587 -1.72556 0.01285 -1.74639 -0.00034 -1.775 E">
                                      <p:cBhvr>
                                        <p:cTn id="574" dur="275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5" nodeType="with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83 C -0.01216 -0.02222 -0.02344 -0.05083 -0.02344 -0.10778 C -0.02344 -0.17333 -0.01216 -0.19611 -0.00035 -0.21722 C 0.01284 -0.24583 0.02587 -0.26666 0.02587 -0.33972 C 0.02587 -0.40444 0.01284 -0.42583 -0.00035 -0.45389 C -0.01216 -0.46833 -0.03525 -0.51305 -0.03525 -0.57778 C -0.03611 -0.61194 -0.0191 -0.6575 -0.00886 -0.69194 C 0.00139 -0.72611 0.02448 -0.75166 0.02587 -0.78583 C 0.02448 -0.83583 -0.01285 -0.9325 -0.01719 -0.98778 C -0.01719 -1.05361 -0.01216 -1.09611 -0.00035 -1.11722 C 0.01284 -1.14583 0.03698 -1.15666 0.03698 -1.22944 C 0.03698 -1.29416 0.02361 -1.36055 0.01041 -1.38222 C 0.00034 -1.42111 -0.0217 -1.43055 -0.02344 -1.46083 C -0.02344 -1.51861 -0.01216 -1.5475 -0.00035 -1.57 C 0.01284 -1.59139 0.02587 -1.62 0.02587 -1.685 C 0.02587 -1.74972 0.01284 -1.77111 -0.00035 -1.80083 E">
                                      <p:cBhvr>
                                        <p:cTn id="576" dur="3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7" nodeType="withEffect" fill="hold" presetClass="path" presetID="40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00035 -0.00083 C -0.01216 -0.02083 -0.02344 -0.0475 -0.02344 -0.10055 C -0.02344 -0.16166 -0.01216 -0.18277 -0.00035 -0.20277 C 0.01284 -0.22889 0.02587 -0.24889 0.02587 -0.31694 C 0.02587 -0.37722 0.01284 -0.3975 -0.00035 -0.42444 C -0.01216 -0.43694 -0.03525 -0.47833 -0.03525 -0.54027 C -0.03611 -0.57083 -0.00834 -0.55361 0.00295 -0.58416 C 0.01423 -0.61472 0.03177 -0.67444 0.03212 -0.72222 C 0.03212 -0.78166 0.00538 -0.87361 0.00555 -0.87361 C -0.00643 -0.89277 -0.02431 -0.92444 -0.02431 -0.98305 C -0.02431 -1.04416 -0.01216 -1.01972 -0.00035 -1.03944 C 0.01284 -1.06611 0.03698 -1.07611 0.03698 -1.14389 C 0.03698 -1.20472 0.01284 -1.23333 -0.00035 -1.25333 C -0.00729 -1.27277 0.00469 -1.23333 0.00087 -1.25055 C -0.00295 -1.26805 -0.02327 -1.32472 -0.02344 -1.36 C -0.02344 -1.41416 -0.01216 -1.44055 -0.00035 -1.46166 C 0.01284 -1.48139 0.02587 -1.50833 0.02587 -1.56916 C 0.02587 -1.62944 0.01284 -1.64916 -0.00035 -1.67694 E">
                                      <p:cBhvr>
                                        <p:cTn id="578" dur="3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9" nodeType="with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111 C -0.01215 -0.01944 -0.02343 -0.04416 -0.02343 -0.09416 C -0.02343 -0.15055 -0.01215 -0.17055 -0.00034 -0.18861 C 0.01285 -0.21361 0.02587 -0.23166 0.02587 -0.29527 C 0.02587 -0.35139 0.01285 -0.36944 -0.00034 -0.39472 C -0.01215 -0.40694 -0.03524 -0.44555 -0.03524 -0.50139 C -0.03611 -0.53139 -0.01909 -0.57083 -0.00885 -0.60083 C -0.00052 -0.63194 0.01372 -0.65861 0.01511 -0.68861 C 0.01511 -0.74472 -0.00034 -0.7825 -0.00017 -0.7825 C -0.01215 -0.80055 -0.01718 -0.80305 -0.01718 -0.8575 C -0.01805 -0.88694 -0.01892 -0.9375 -0.00989 -0.97194 C -0.000869999999999999 -1.00722 0.03542 -1.03527 0.03698 -1.06805 C 0.03698 -1.12361 0.01285 -1.15083 -0.00034 -1.16972 C -0.00729 -1.18777 0.00469 -1.15 0.00087 -1.16694 C -0.00295 -1.18361 -0.02326 -1.23639 -0.02343 -1.26916 C -0.02343 -1.31889 -0.01215 -1.34361 -0.00034 -1.36361 C 0.01285 -1.38166 0.02587 -1.40639 0.02587 -1.46333 C 0.02587 -1.51944 0.01285 -1.53777 -0.00034 -1.56361 E">
                                      <p:cBhvr>
                                        <p:cTn id="580" dur="325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1" nodeType="withEffect" fill="hold" presetClass="path" presetID="4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035 -0.00083 C -0.01215 -0.02027 -0.02344 -0.04639 -0.02344 -0.09833 C -0.02344 -0.15805 -0.01215 -0.17861 -0.00035 -0.19805 C 0.01285 -0.22361 0.02587 -0.24305 0.02587 -0.30944 C 0.02587 -0.36861 -0.00208 -0.35722 -0.01528 -0.38333 C -0.02708 -0.39639 -0.03524 -0.4675 -0.03524 -0.52639 C -0.03611 -0.5575 -0.0191 -0.59889 -0.00886 -0.63027 C 0.00139 -0.66166 0.02448 -0.68472 0.02587 -0.71583 C 0.02448 -0.76055 -0.01285 -0.84861 -0.01719 -0.89889 C -0.01719 -0.95889 -0.01597 -1.04889 -0.00417 -1.06805 C 0.00903 -1.09333 0.03698 -1.05277 0.03698 -1.11861 C 0.03698 -1.1775 0.01285 -1.20611 -0.00035 -1.22583 C -0.00729 -1.24472 0.00087 -1.18916 0.00087 -1.22277 C 0.00087 -1.25666 -0.00452 -1.3775 -0.00035 -1.42916 C 0.01285 -1.44861 0.02587 -1.47472 0.02587 -1.53416 C 0.02587 -1.59305 0.01285 -1.61222 -0.00035 -1.63944 E">
                                      <p:cBhvr>
                                        <p:cTn id="582" dur="3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3" nodeType="with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83 C -0.01216 -0.02139 -0.02344 -0.04889 -0.02344 -0.10361 C -0.02344 -0.16694 -0.01216 -0.18861 -0.00035 -0.20916 C 0.01285 -0.23639 0.00277 -0.36666 0.00277 -0.43694 C -0.00295 -0.49416 -0.03195 -0.50083 -0.03525 -0.55611 C -0.03612 -0.58889 -0.0191 -0.6325 -0.00886 -0.66583 C 0.00138 -0.69889 0.02448 -0.7225 0.02587 -0.75611 C 0.02448 -0.80333 -0.01285 -0.89639 -0.01719 -0.94972 C -0.01719 -1.01277 -0.01216 -1.05389 -0.00035 -1.07416 C 0.01285 -1.10194 0.03698 -1.11194 0.03698 -1.18194 C 0.03698 -1.24444 0.01285 -1.27444 -0.00035 -1.295 C -0.00729 -1.315 0.00468 -1.27361 0.00086 -1.29222 C -0.00295 -1.31027 -0.02327 -1.36833 -0.02344 -1.405 C -0.02344 -1.46083 -0.01216 -1.48805 -0.00035 -1.50972 C 0.01285 -1.53027 0.02587 -1.55777 0.02587 -1.62055 C 0.02587 -1.68277 0.01285 -1.70333 -0.00035 -1.73194 E">
                                      <p:cBhvr>
                                        <p:cTn id="584" dur="275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5" nodeType="withEffect" fill="hold" presetClass="path" presetID="4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035 -0.00084 C -0.01215 -0.01889 -0.02344 -0.04306 -0.02344 -0.09139 C -0.02344 -0.14639 -0.01215 -0.16584 -0.00035 -0.18334 C 0.01285 -0.20778 0.01962 -0.19861 0.01962 -0.26 C 0.01962 -0.31445 0.01285 -0.35917 -0.00035 -0.38361 C -0.01215 -0.39584 -0.03524 -0.43306 -0.03524 -0.4875 C -0.03611 -0.51667 -0.02708 -0.58778 -0.01684 -0.61695 C -0.0066 -0.645 0.02309 -0.63917 0.02587 -0.66306 C 0.02587 -0.7175 -0.00035 -0.76 -0.00017 -0.76 C -0.01215 -0.77806 -0.01719 -0.78 -0.01719 -0.83306 C -0.01719 -0.88834 -0.01215 -0.925 -0.00035 -0.9425 C 0.01285 -0.96639 0.03698 -0.97556 0.03698 -1.0375 C 0.03698 -1.09167 0.01285 -1.11806 -0.00035 -1.13667 C -0.00729 -1.15417 0.00469 -1.11723 0.00087 -1.13389 C -0.00295 -1.15 -0.02326 -1.20084 -0.02344 -1.2325 C -0.02344 -1.28139 -0.01215 -1.30556 -0.00035 -1.325 C 0.01285 -1.3425 0.02587 -1.36639 0.02587 -1.42195 C 0.02587 -1.47639 0.01285 -1.49445 -0.00035 -1.51945 E">
                                      <p:cBhvr>
                                        <p:cTn id="586" dur="3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0">
                                  <p:stCondLst>
                                    <p:cond delay="2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19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18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32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31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3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12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3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12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2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22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3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12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0">
                                  <p:stCondLst>
                                    <p:cond delay="3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14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3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0">
                                  <p:stCondLst>
                                    <p:cond delay="2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1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7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0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7650"/>
                            </p:stCondLst>
                            <p:childTnLst>
                              <p:par>
                                <p:cTn id="6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278 0.00083 -0.00972 0.0025 -0.01285 0.00499 C -0.01736 0.0086 -0.02882 0.02554 -0.03333 0.03276 E">
                                      <p:cBhvr>
                                        <p:cTn id="639" dur="2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33333E-006 C -0.00156 -0.00777 -0.00191 -0.01833 -0.00469 -0.02527 C -0.00556 -0.02722 -0.00903 -0.03944 -0.00903 -0.03916 E">
                                      <p:cBhvr>
                                        <p:cTn id="641" dur="2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52 0.00417 0.00018 0.00916 0.00156 0.01277 C 0.00347 0.01805 0.00955 0.02554 0.00955 0.02554 C 0.01025 0.02888 0.01406 0.05608 0.01736 0.05608 E">
                                      <p:cBhvr>
                                        <p:cTn id="643" dur="20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47 -0.00583 0.0059 -0.01222 0.00955 -0.01777 C 0.01007 -0.02027 0.01007 -0.02332 0.01111 -0.02554 C 0.01337 -0.03026 0.0191 -0.03831 0.0191 -0.03831 E">
                                      <p:cBhvr>
                                        <p:cTn id="64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416 C 0.0243 -0.00416 -0.000350000000000003 -0.00333 0.03663 -0.00333 E">
                                      <p:cBhvr>
                                        <p:cTn id="647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52 0.00417 0.00018 0.00916 0.00156 0.01277 C 0.00347 0.01805 0.00955 0.02554 0.00955 0.02554 C 0.01025 0.02888 0.01406 0.05608 0.01736 0.05608 E">
                                      <p:cBhvr>
                                        <p:cTn id="649" dur="2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47 -0.00583 0.0059 -0.01222 0.00955 -0.01777 C 0.01007 -0.02027 0.01007 -0.02332 0.01111 -0.02554 C 0.01337 -0.03026 0.0191 -0.03831 0.0191 -0.03831 E">
                                      <p:cBhvr>
                                        <p:cTn id="651" dur="2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416 C 0.0243 -0.00416 -0.000350000000000003 -0.00333 0.03663 -0.00333 E">
                                      <p:cBhvr>
                                        <p:cTn id="653" dur="200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path" presetID="0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C 0.00052 0.00417 0.00018 0.00916 0.00156 0.01277 C 0.00347 0.01805 0.00955 0.02554 0.00955 0.02554 C 0.01025 0.02888 0.01406 0.05608 0.01736 0.05608 E">
                                      <p:cBhvr>
                                        <p:cTn id="661" dur="2000" fill="hold"/>
                                        <p:tgtEl>
                                          <p:spTgt spid="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2" nodeType="withEffect" fill="hold" presetClass="path" presetID="0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0.00139 -0.00416 C 0.0243 -0.00416 -0.000350000000000003 -0.00333 0.03663 -0.00333 E">
                                      <p:cBhvr>
                                        <p:cTn id="663" dur="20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path" presetID="0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C 0.00052 0.00417 0.00018 0.00916 0.00156 0.01277 C 0.00347 0.01805 0.00955 0.02554 0.00955 0.02554 C 0.01025 0.02888 0.01406 0.05608 0.01736 0.05608 E">
                                      <p:cBhvr>
                                        <p:cTn id="670" dur="2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2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400"/>
                            </p:stCondLst>
                            <p:childTnLst>
                              <p:par>
                                <p:cTn id="6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4" dur="3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7" dur="3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0" dur="3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3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3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6" dur="3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9" dur="3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2" dur="3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5" dur="3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1" dur="3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4" dur="3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7" dur="3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0" dur="3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C 0.00052 0.00417 0.00018 0.00916 0.00156 0.01277 C 0.00347 0.01805 0.00955 0.02554 0.00955 0.02554 C 0.01025 0.02888 0.01406 0.05608 0.01736 0.05608 E">
                                      <p:cBhvr>
                                        <p:cTn id="757" dur="2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8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139 -0.00416 C 0.0243 -0.00416 -0.000350000000000003 -0.00333 0.03663 -0.00333 E">
                                      <p:cBhvr>
                                        <p:cTn id="759" dur="20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2278-E66E-4B76-BA76-F6F2B0B2F2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8T07:17:44Z</dcterms:created>
  <dc:creator/>
  <dc:description/>
  <cp:keywords>幻灯片之家 http:/www.eeppt.com</cp:keywords>
  <dc:language>en-US</dc:language>
  <cp:lastModifiedBy/>
  <dcterms:modified xsi:type="dcterms:W3CDTF">2015-07-07T06:52:56Z</dcterms:modified>
  <cp:revision>7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