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A93-B3BA-44EE-8E84-6A563D6B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FCE-2ECD-42CD-84E0-5BB965D6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519-A1D4-42F0-9E95-639C1389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BF4-6625-4AE5-9158-C2B390D0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2E1-20A7-4E13-90D2-E95C44C7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C09-0B6D-4C42-80CF-9A83FF46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E66-1C03-4E44-96BE-CDF4B2F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B4B-BF45-4F6E-B744-EE21D792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6E0-1A02-4A0F-B840-230BDEAA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3F4-17F7-43F0-B749-94DBE840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BCC-8B9F-43DB-8751-13CDB978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CCD-321E-4717-8BDB-C10D5E84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4B4B-EDC0-462D-8609-10AE259230C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D072-1E7A-474B-9BB5-E2B7619C56D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97000" cy="23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2" name="图片 13" descr=""/>
          <p:cNvPicPr/>
          <p:nvPr/>
        </p:nvPicPr>
        <p:blipFill>
          <a:blip r:embed="rId2"/>
          <a:stretch/>
        </p:blipFill>
        <p:spPr>
          <a:xfrm>
            <a:off x="4356000" y="3645000"/>
            <a:ext cx="3816360" cy="27622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" descr=""/>
          <p:cNvPicPr/>
          <p:nvPr/>
        </p:nvPicPr>
        <p:blipFill>
          <a:blip r:embed="rId3"/>
          <a:stretch/>
        </p:blipFill>
        <p:spPr>
          <a:xfrm>
            <a:off x="4643280" y="836640"/>
            <a:ext cx="4069080" cy="27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F:\360云盘\02-个人资料\！PPT图片及版面资源\06-PPT精选插图\03-人物\xpic6942.jpg"/>
          <p:cNvPicPr/>
          <p:nvPr/>
        </p:nvPicPr>
        <p:blipFill>
          <a:blip r:embed="rId4"/>
          <a:stretch/>
        </p:blipFill>
        <p:spPr>
          <a:xfrm>
            <a:off x="709560" y="1206360"/>
            <a:ext cx="3460680" cy="230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47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物素材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360云盘\02-个人资料\！PPT图片及版面资源\06-PPT精选插图\03-人物\Fotolia_28236516_Subscription_XXL.jpg"/>
          <p:cNvPicPr/>
          <p:nvPr/>
        </p:nvPicPr>
        <p:blipFill>
          <a:blip r:embed="rId1"/>
          <a:stretch/>
        </p:blipFill>
        <p:spPr>
          <a:xfrm>
            <a:off x="4643280" y="97164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F:\360云盘\02-个人资料\！PPT图片及版面资源\06-PPT精选插图\03-人物\xpic7485.jpg"/>
          <p:cNvPicPr/>
          <p:nvPr/>
        </p:nvPicPr>
        <p:blipFill>
          <a:blip r:embed="rId2"/>
          <a:stretch/>
        </p:blipFill>
        <p:spPr>
          <a:xfrm>
            <a:off x="682560" y="3076560"/>
            <a:ext cx="5194440" cy="346248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4"/>
          <p:cNvGrpSpPr/>
          <p:nvPr/>
        </p:nvGrpSpPr>
        <p:grpSpPr>
          <a:xfrm>
            <a:off x="1763640" y="1030320"/>
            <a:ext cx="2532240" cy="1879560"/>
            <a:chOff x="1763640" y="1030320"/>
            <a:chExt cx="2532240" cy="1879560"/>
          </a:xfrm>
        </p:grpSpPr>
        <p:pic>
          <p:nvPicPr>
            <p:cNvPr id="50" name="Picture 3" descr="F:\360云盘\02-个人资料\！PPT图片及版面资源\06-PPT精选插图\02-商务\mf821-02223878.jpg"/>
            <p:cNvPicPr/>
            <p:nvPr/>
          </p:nvPicPr>
          <p:blipFill>
            <a:blip r:embed="rId3"/>
            <a:stretch/>
          </p:blipFill>
          <p:spPr>
            <a:xfrm>
              <a:off x="1763640" y="1030320"/>
              <a:ext cx="125316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F:\360云盘\02-个人资料\！PPT图片及版面资源\06-PPT精选插图\03-人物\mf821-02166789.jpg"/>
            <p:cNvPicPr/>
            <p:nvPr/>
          </p:nvPicPr>
          <p:blipFill>
            <a:blip r:embed="rId4"/>
            <a:stretch/>
          </p:blipFill>
          <p:spPr>
            <a:xfrm>
              <a:off x="3042720" y="1030320"/>
              <a:ext cx="1253160" cy="187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图片 47" descr=""/>
          <p:cNvPicPr/>
          <p:nvPr/>
        </p:nvPicPr>
        <p:blipFill>
          <a:blip r:embed="rId5"/>
          <a:srcRect l="0" t="189" r="0" b="189"/>
          <a:stretch/>
        </p:blipFill>
        <p:spPr>
          <a:xfrm>
            <a:off x="6083280" y="3076560"/>
            <a:ext cx="23050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202-8342-4454-AC9C-67EB662809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9:33Z</dcterms:modified>
  <cp:revision>10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