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695-633A-4EC1-A884-1AA58C8C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E50-1BCA-4EE3-8B7C-E6ACA629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8FF-DB2A-46C4-8522-2305C862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0D6-88F5-4B4D-8F3A-A1AA5E3F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3BB-FB16-4E4D-9DB0-9DB22043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07B-491E-427D-8232-EC9E5552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E23-9306-44E6-AC79-EADF2E61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5A0-783A-4AB1-87BE-A4AC8FBB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434-45B4-4A67-BBB0-EF945F87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E1E-665A-4D9B-B78D-0A2B472B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325-51BF-44FF-B851-BA616AFC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BD7-0E08-4277-9068-93FEA29F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BD5D-5CF7-436D-BC10-20D7671AAFF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4502-D0D4-4014-9D3F-4775294A30A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图表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3" name="Freeform 2"/>
          <p:cNvSpPr/>
          <p:nvPr/>
        </p:nvSpPr>
        <p:spPr>
          <a:xfrm flipH="1">
            <a:off x="5632560" y="3944880"/>
            <a:ext cx="876240" cy="2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-181080" y="4006800"/>
            <a:ext cx="98424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4"/>
          <p:cNvSpPr/>
          <p:nvPr/>
        </p:nvSpPr>
        <p:spPr>
          <a:xfrm flipH="1">
            <a:off x="6920640" y="3862440"/>
            <a:ext cx="863640" cy="38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5"/>
          <p:cNvSpPr/>
          <p:nvPr/>
        </p:nvSpPr>
        <p:spPr>
          <a:xfrm flipH="1">
            <a:off x="8337600" y="3998880"/>
            <a:ext cx="83808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6"/>
          <p:cNvSpPr/>
          <p:nvPr/>
        </p:nvSpPr>
        <p:spPr>
          <a:xfrm>
            <a:off x="1343160" y="3865680"/>
            <a:ext cx="83808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2638440" y="3944880"/>
            <a:ext cx="885960" cy="2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8"/>
          <p:cNvSpPr/>
          <p:nvPr/>
        </p:nvSpPr>
        <p:spPr>
          <a:xfrm>
            <a:off x="806400" y="2973240"/>
            <a:ext cx="1119240" cy="1392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9"/>
          <p:cNvSpPr/>
          <p:nvPr/>
        </p:nvSpPr>
        <p:spPr>
          <a:xfrm>
            <a:off x="428760" y="2973240"/>
            <a:ext cx="377640" cy="1392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0"/>
          <p:cNvSpPr/>
          <p:nvPr/>
        </p:nvSpPr>
        <p:spPr>
          <a:xfrm>
            <a:off x="2195640" y="3070080"/>
            <a:ext cx="1082520" cy="118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1986120" y="3056040"/>
            <a:ext cx="218880" cy="118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3490920" y="3110040"/>
            <a:ext cx="101592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3"/>
          <p:cNvSpPr/>
          <p:nvPr/>
        </p:nvSpPr>
        <p:spPr>
          <a:xfrm>
            <a:off x="3414600" y="3110040"/>
            <a:ext cx="7632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4"/>
          <p:cNvSpPr/>
          <p:nvPr/>
        </p:nvSpPr>
        <p:spPr>
          <a:xfrm flipH="1">
            <a:off x="7212960" y="2973240"/>
            <a:ext cx="1119240" cy="1392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5"/>
          <p:cNvSpPr/>
          <p:nvPr/>
        </p:nvSpPr>
        <p:spPr>
          <a:xfrm flipH="1">
            <a:off x="8332200" y="2973240"/>
            <a:ext cx="377640" cy="1392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 flipH="1">
            <a:off x="5851440" y="3056040"/>
            <a:ext cx="1082880" cy="118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7"/>
          <p:cNvSpPr/>
          <p:nvPr/>
        </p:nvSpPr>
        <p:spPr>
          <a:xfrm flipH="1">
            <a:off x="6934320" y="3056040"/>
            <a:ext cx="218880" cy="118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8"/>
          <p:cNvSpPr/>
          <p:nvPr/>
        </p:nvSpPr>
        <p:spPr>
          <a:xfrm flipH="1">
            <a:off x="4632480" y="3110040"/>
            <a:ext cx="101592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9"/>
          <p:cNvSpPr/>
          <p:nvPr/>
        </p:nvSpPr>
        <p:spPr>
          <a:xfrm flipH="1">
            <a:off x="5647680" y="3110040"/>
            <a:ext cx="7596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4348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75f8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99ff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99ff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2520" y="1868400"/>
            <a:ext cx="1440" cy="1193760"/>
            <a:chOff x="452520" y="1868400"/>
            <a:chExt cx="1440" cy="1193760"/>
          </a:xfrm>
        </p:grpSpPr>
        <p:sp>
          <p:nvSpPr>
            <p:cNvPr id="63" name="Line 21"/>
            <p:cNvSpPr/>
            <p:nvPr/>
          </p:nvSpPr>
          <p:spPr>
            <a:xfrm flipV="1">
              <a:off x="452520" y="1868400"/>
              <a:ext cx="1440" cy="1193760"/>
            </a:xfrm>
            <a:prstGeom prst="line">
              <a:avLst/>
            </a:prstGeom>
            <a:ln w="12600">
              <a:solidFill>
                <a:srgbClr val="0875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 rot="10800000">
              <a:off x="452520" y="1868400"/>
              <a:ext cx="1440" cy="11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22"/>
          <p:cNvSpPr/>
          <p:nvPr/>
        </p:nvSpPr>
        <p:spPr>
          <a:xfrm>
            <a:off x="3459240" y="17733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72920" y="1879560"/>
            <a:ext cx="360" cy="1193760"/>
            <a:chOff x="3472920" y="1879560"/>
            <a:chExt cx="360" cy="1193760"/>
          </a:xfrm>
        </p:grpSpPr>
        <p:sp>
          <p:nvSpPr>
            <p:cNvPr id="67" name="Line 23"/>
            <p:cNvSpPr/>
            <p:nvPr/>
          </p:nvSpPr>
          <p:spPr>
            <a:xfrm flipV="1">
              <a:off x="3473280" y="1879560"/>
              <a:ext cx="0" cy="1193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 rot="10800000">
              <a:off x="3472920" y="1879560"/>
              <a:ext cx="360" cy="11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24"/>
          <p:cNvSpPr/>
          <p:nvPr/>
        </p:nvSpPr>
        <p:spPr>
          <a:xfrm>
            <a:off x="58672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866920" y="1878120"/>
            <a:ext cx="360" cy="1193760"/>
            <a:chOff x="5866920" y="1878120"/>
            <a:chExt cx="360" cy="1193760"/>
          </a:xfrm>
        </p:grpSpPr>
        <p:sp>
          <p:nvSpPr>
            <p:cNvPr id="71" name="Line 25"/>
            <p:cNvSpPr/>
            <p:nvPr/>
          </p:nvSpPr>
          <p:spPr>
            <a:xfrm flipV="1">
              <a:off x="5867280" y="1878120"/>
              <a:ext cx="0" cy="1193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 rot="10800000">
              <a:off x="5866920" y="1878120"/>
              <a:ext cx="360" cy="11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26"/>
          <p:cNvSpPr/>
          <p:nvPr/>
        </p:nvSpPr>
        <p:spPr>
          <a:xfrm>
            <a:off x="2195640" y="47577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215800" y="4252680"/>
            <a:ext cx="360" cy="1238040"/>
            <a:chOff x="2215800" y="4252680"/>
            <a:chExt cx="360" cy="1238040"/>
          </a:xfrm>
        </p:grpSpPr>
        <p:sp>
          <p:nvSpPr>
            <p:cNvPr id="75" name="Line 27"/>
            <p:cNvSpPr/>
            <p:nvPr/>
          </p:nvSpPr>
          <p:spPr>
            <a:xfrm flipV="1">
              <a:off x="2216160" y="4252680"/>
              <a:ext cx="0" cy="12380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 rot="10800000">
              <a:off x="2215800" y="4252680"/>
              <a:ext cx="360" cy="12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Rectangle 28"/>
          <p:cNvSpPr/>
          <p:nvPr/>
        </p:nvSpPr>
        <p:spPr>
          <a:xfrm>
            <a:off x="464328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53000" y="4182840"/>
            <a:ext cx="1440" cy="1338120"/>
            <a:chOff x="4653000" y="4182840"/>
            <a:chExt cx="1440" cy="1338120"/>
          </a:xfrm>
        </p:grpSpPr>
        <p:sp>
          <p:nvSpPr>
            <p:cNvPr id="79" name="Line 29"/>
            <p:cNvSpPr/>
            <p:nvPr/>
          </p:nvSpPr>
          <p:spPr>
            <a:xfrm flipV="1">
              <a:off x="4653000" y="4182840"/>
              <a:ext cx="1440" cy="13381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 rot="10800000">
              <a:off x="4653000" y="4182840"/>
              <a:ext cx="1440" cy="133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30"/>
          <p:cNvSpPr/>
          <p:nvPr/>
        </p:nvSpPr>
        <p:spPr>
          <a:xfrm>
            <a:off x="720396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213320" y="4293720"/>
            <a:ext cx="360" cy="1227240"/>
            <a:chOff x="7213320" y="4293720"/>
            <a:chExt cx="360" cy="1227240"/>
          </a:xfrm>
        </p:grpSpPr>
        <p:sp>
          <p:nvSpPr>
            <p:cNvPr id="83" name="Line 31"/>
            <p:cNvSpPr/>
            <p:nvPr/>
          </p:nvSpPr>
          <p:spPr>
            <a:xfrm flipV="1">
              <a:off x="7213680" y="4293720"/>
              <a:ext cx="0" cy="1227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 rot="10800000">
              <a:off x="7213320" y="4293720"/>
              <a:ext cx="360" cy="122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Freeform 32"/>
          <p:cNvSpPr/>
          <p:nvPr/>
        </p:nvSpPr>
        <p:spPr>
          <a:xfrm>
            <a:off x="2124000" y="4307040"/>
            <a:ext cx="23760" cy="1440"/>
          </a:xfrm>
          <a:prstGeom prst="pie">
            <a:avLst/>
          </a:pr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3"/>
          <p:cNvSpPr/>
          <p:nvPr/>
        </p:nvSpPr>
        <p:spPr>
          <a:xfrm>
            <a:off x="939960" y="3951360"/>
            <a:ext cx="137880" cy="280800"/>
          </a:xfrm>
          <a:custGeom>
            <a:avLst/>
            <a:gdLst>
              <a:gd name="textAreaLeft" fmla="*/ 0 w 137880"/>
              <a:gd name="textAreaRight" fmla="*/ 138240 w 1378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4"/>
          <p:cNvSpPr/>
          <p:nvPr/>
        </p:nvSpPr>
        <p:spPr>
          <a:xfrm>
            <a:off x="2287440" y="3868560"/>
            <a:ext cx="174600" cy="281160"/>
          </a:xfrm>
          <a:custGeom>
            <a:avLst/>
            <a:gdLst>
              <a:gd name="textAreaLeft" fmla="*/ 0 w 174600"/>
              <a:gd name="textAreaRight" fmla="*/ 174960 w 1746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35"/>
          <p:cNvSpPr/>
          <p:nvPr/>
        </p:nvSpPr>
        <p:spPr>
          <a:xfrm>
            <a:off x="3575160" y="3862440"/>
            <a:ext cx="174600" cy="280800"/>
          </a:xfrm>
          <a:custGeom>
            <a:avLst/>
            <a:gdLst>
              <a:gd name="textAreaLeft" fmla="*/ 0 w 174600"/>
              <a:gd name="textAreaRight" fmla="*/ 174960 w 1746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6"/>
          <p:cNvSpPr/>
          <p:nvPr/>
        </p:nvSpPr>
        <p:spPr>
          <a:xfrm>
            <a:off x="4711680" y="3862440"/>
            <a:ext cx="174600" cy="280800"/>
          </a:xfrm>
          <a:custGeom>
            <a:avLst/>
            <a:gdLst>
              <a:gd name="textAreaLeft" fmla="*/ 0 w 174600"/>
              <a:gd name="textAreaRight" fmla="*/ 174960 w 1746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37"/>
          <p:cNvSpPr/>
          <p:nvPr/>
        </p:nvSpPr>
        <p:spPr>
          <a:xfrm>
            <a:off x="5940360" y="3868560"/>
            <a:ext cx="174600" cy="281160"/>
          </a:xfrm>
          <a:custGeom>
            <a:avLst/>
            <a:gdLst>
              <a:gd name="textAreaLeft" fmla="*/ 0 w 174600"/>
              <a:gd name="textAreaRight" fmla="*/ 174960 w 1746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8"/>
          <p:cNvSpPr/>
          <p:nvPr/>
        </p:nvSpPr>
        <p:spPr>
          <a:xfrm>
            <a:off x="7308720" y="3933720"/>
            <a:ext cx="182520" cy="281160"/>
          </a:xfrm>
          <a:custGeom>
            <a:avLst/>
            <a:gdLst>
              <a:gd name="textAreaLeft" fmla="*/ 0 w 182520"/>
              <a:gd name="textAreaRight" fmla="*/ 182880 w 18252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9"/>
          <p:cNvSpPr/>
          <p:nvPr/>
        </p:nvSpPr>
        <p:spPr>
          <a:xfrm>
            <a:off x="1781280" y="4795920"/>
            <a:ext cx="23760" cy="1440"/>
          </a:xfrm>
          <a:prstGeom prst="pie">
            <a:avLst/>
          </a:pr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2360" y="62373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152-CFDB-4D9F-AE78-645975AA14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2:48Z</dcterms:modified>
  <cp:revision>11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