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2879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788040" y="2620080"/>
            <a:ext cx="2886120" cy="238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910520" y="792360"/>
            <a:ext cx="642960" cy="2384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24000" y="1854360"/>
            <a:ext cx="20527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362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234240" y="2620080"/>
            <a:ext cx="2886120" cy="238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356360" y="792720"/>
            <a:ext cx="642960" cy="2384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70200" y="1854360"/>
            <a:ext cx="20527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3489480" y="236232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5682240" y="2620080"/>
            <a:ext cx="2886120" cy="238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804360" y="792720"/>
            <a:ext cx="642960" cy="2384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18200" y="1854360"/>
            <a:ext cx="20527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5937120" y="2362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7920" y="4341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5760" y="81108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图表经典大合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5119560" y="1681200"/>
            <a:ext cx="3294000" cy="3456000"/>
            <a:chOff x="5119560" y="1681200"/>
            <a:chExt cx="3294000" cy="3456000"/>
          </a:xfrm>
        </p:grpSpPr>
        <p:sp>
          <p:nvSpPr>
            <p:cNvPr id="219" name="未知"/>
            <p:cNvSpPr/>
            <p:nvPr/>
          </p:nvSpPr>
          <p:spPr>
            <a:xfrm flipH="1">
              <a:off x="5119560" y="1681200"/>
              <a:ext cx="3294000" cy="174960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 flipH="1" flipV="1">
              <a:off x="5119560" y="3432240"/>
              <a:ext cx="3294000" cy="170496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052640" y="1681200"/>
            <a:ext cx="3294000" cy="3456000"/>
            <a:chOff x="1052640" y="1681200"/>
            <a:chExt cx="3294000" cy="3456000"/>
          </a:xfrm>
        </p:grpSpPr>
        <p:sp>
          <p:nvSpPr>
            <p:cNvPr id="222" name="未知"/>
            <p:cNvSpPr/>
            <p:nvPr/>
          </p:nvSpPr>
          <p:spPr>
            <a:xfrm>
              <a:off x="1052640" y="1681200"/>
              <a:ext cx="3294000" cy="174960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 flipV="1">
              <a:off x="1052640" y="3432240"/>
              <a:ext cx="3294000" cy="170496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32280" y="2619360"/>
            <a:ext cx="1585800" cy="1568520"/>
          </a:xfrm>
          <a:prstGeom prst="rightArrow">
            <a:avLst>
              <a:gd name="adj1" fmla="val 51306"/>
              <a:gd name="adj2" fmla="val 45884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4873680" y="2619000"/>
            <a:ext cx="1587600" cy="1568520"/>
          </a:xfrm>
          <a:prstGeom prst="rightArrow">
            <a:avLst>
              <a:gd name="adj1" fmla="val 51306"/>
              <a:gd name="adj2" fmla="val 45936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3947400" y="1686600"/>
            <a:ext cx="1582560" cy="1571760"/>
          </a:xfrm>
          <a:prstGeom prst="rightArrow">
            <a:avLst>
              <a:gd name="adj1" fmla="val 51306"/>
              <a:gd name="adj2" fmla="val 45696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3947400" y="3561480"/>
            <a:ext cx="1582560" cy="1571760"/>
          </a:xfrm>
          <a:prstGeom prst="rightArrow">
            <a:avLst>
              <a:gd name="adj1" fmla="val 51306"/>
              <a:gd name="adj2" fmla="val 45696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2448000" y="3284640"/>
            <a:ext cx="807840" cy="258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6200000">
            <a:off x="6227280" y="3284280"/>
            <a:ext cx="807840" cy="258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441680" y="1960560"/>
            <a:ext cx="452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78320" y="3057480"/>
            <a:ext cx="52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59320" y="4133880"/>
            <a:ext cx="519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38880" y="3052800"/>
            <a:ext cx="519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4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34" name=""/>
          <p:cNvSpPr/>
          <p:nvPr/>
        </p:nvSpPr>
        <p:spPr>
          <a:xfrm>
            <a:off x="1068480" y="174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8480" y="435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5040" y="174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5040" y="435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119560" y="1681200"/>
            <a:ext cx="3294000" cy="3456000"/>
            <a:chOff x="5119560" y="1681200"/>
            <a:chExt cx="3294000" cy="3456000"/>
          </a:xfrm>
        </p:grpSpPr>
        <p:sp>
          <p:nvSpPr>
            <p:cNvPr id="239" name="未知"/>
            <p:cNvSpPr/>
            <p:nvPr/>
          </p:nvSpPr>
          <p:spPr>
            <a:xfrm flipH="1">
              <a:off x="5119560" y="1681200"/>
              <a:ext cx="3294000" cy="174960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 flipH="1" flipV="1">
              <a:off x="5119560" y="3432240"/>
              <a:ext cx="3294000" cy="170496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52640" y="1681200"/>
            <a:ext cx="3294000" cy="3456000"/>
            <a:chOff x="1052640" y="1681200"/>
            <a:chExt cx="3294000" cy="3456000"/>
          </a:xfrm>
        </p:grpSpPr>
        <p:sp>
          <p:nvSpPr>
            <p:cNvPr id="242" name="未知"/>
            <p:cNvSpPr/>
            <p:nvPr/>
          </p:nvSpPr>
          <p:spPr>
            <a:xfrm>
              <a:off x="1052640" y="1681200"/>
              <a:ext cx="3294000" cy="174960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 flipV="1">
              <a:off x="1052640" y="3432240"/>
              <a:ext cx="3294000" cy="1704960"/>
            </a:xfrm>
            <a:custGeom>
              <a:avLst/>
              <a:gdLst/>
              <a:ahLst/>
              <a:rect l="l" t="t" r="r" b="b"/>
              <a:pathLst>
                <a:path w="2075" h="1102">
                  <a:moveTo>
                    <a:pt x="2075" y="526"/>
                  </a:moveTo>
                  <a:lnTo>
                    <a:pt x="2075" y="0"/>
                  </a:lnTo>
                  <a:lnTo>
                    <a:pt x="0" y="0"/>
                  </a:lnTo>
                  <a:lnTo>
                    <a:pt x="0" y="1102"/>
                  </a:lnTo>
                  <a:lnTo>
                    <a:pt x="991" y="1102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032280" y="2619360"/>
            <a:ext cx="1585800" cy="1568520"/>
          </a:xfrm>
          <a:prstGeom prst="rightArrow">
            <a:avLst>
              <a:gd name="adj1" fmla="val 51306"/>
              <a:gd name="adj2" fmla="val 45884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4873680" y="2619000"/>
            <a:ext cx="1587600" cy="1568520"/>
          </a:xfrm>
          <a:prstGeom prst="rightArrow">
            <a:avLst>
              <a:gd name="adj1" fmla="val 51306"/>
              <a:gd name="adj2" fmla="val 45936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3947400" y="1686600"/>
            <a:ext cx="1582560" cy="1571760"/>
          </a:xfrm>
          <a:prstGeom prst="rightArrow">
            <a:avLst>
              <a:gd name="adj1" fmla="val 51306"/>
              <a:gd name="adj2" fmla="val 45696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947400" y="3561480"/>
            <a:ext cx="1582560" cy="1571760"/>
          </a:xfrm>
          <a:prstGeom prst="rightArrow">
            <a:avLst>
              <a:gd name="adj1" fmla="val 51306"/>
              <a:gd name="adj2" fmla="val 45696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5400000">
            <a:off x="2448000" y="3284640"/>
            <a:ext cx="807840" cy="258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16200000">
            <a:off x="6227280" y="3284280"/>
            <a:ext cx="807840" cy="258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41680" y="1960560"/>
            <a:ext cx="452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478320" y="3057480"/>
            <a:ext cx="52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459320" y="4133880"/>
            <a:ext cx="519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438880" y="3052800"/>
            <a:ext cx="519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4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54" name=""/>
          <p:cNvSpPr/>
          <p:nvPr/>
        </p:nvSpPr>
        <p:spPr>
          <a:xfrm>
            <a:off x="1068480" y="174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8480" y="435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5040" y="174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5040" y="435132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rot="10800000">
            <a:off x="1329840" y="435744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1329840" y="360792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1329840" y="285876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1329840" y="2109240"/>
            <a:ext cx="6518520" cy="564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8120" y="2124000"/>
            <a:ext cx="64850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24080" y="2065320"/>
            <a:ext cx="2185920" cy="655560"/>
          </a:xfrm>
          <a:custGeom>
            <a:avLst/>
            <a:gdLst>
              <a:gd name="textAreaLeft" fmla="*/ 0 w 2185920"/>
              <a:gd name="textAreaRight" fmla="*/ 2186280 w 21859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61" y="0"/>
                </a:lnTo>
                <a:lnTo>
                  <a:pt x="21600" y="10800"/>
                </a:lnTo>
                <a:lnTo>
                  <a:pt x="179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8120" y="2881440"/>
            <a:ext cx="64850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24080" y="2814480"/>
            <a:ext cx="3227400" cy="655920"/>
          </a:xfrm>
          <a:custGeom>
            <a:avLst/>
            <a:gdLst>
              <a:gd name="textAreaLeft" fmla="*/ 0 w 3227400"/>
              <a:gd name="textAreaRight" fmla="*/ 3227760 w 3227400"/>
              <a:gd name="textAreaTop" fmla="*/ 0 h 655920"/>
              <a:gd name="textAreaBottom" fmla="*/ 656280 h 65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1" y="0"/>
                </a:lnTo>
                <a:lnTo>
                  <a:pt x="21600" y="10800"/>
                </a:lnTo>
                <a:lnTo>
                  <a:pt x="190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3624120"/>
            <a:ext cx="64850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24080" y="3564000"/>
            <a:ext cx="2757240" cy="65556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52" y="0"/>
                </a:lnTo>
                <a:lnTo>
                  <a:pt x="21600" y="10800"/>
                </a:lnTo>
                <a:lnTo>
                  <a:pt x="187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8120" y="4379760"/>
            <a:ext cx="64850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24080" y="4313160"/>
            <a:ext cx="4662360" cy="655560"/>
          </a:xfrm>
          <a:custGeom>
            <a:avLst/>
            <a:gdLst>
              <a:gd name="textAreaLeft" fmla="*/ 0 w 4662360"/>
              <a:gd name="textAreaRight" fmla="*/ 4662720 w 46623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42" y="0"/>
                </a:lnTo>
                <a:lnTo>
                  <a:pt x="21600" y="10800"/>
                </a:lnTo>
                <a:lnTo>
                  <a:pt x="198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6760" y="226836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36760" y="301320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36760" y="376884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6760" y="452592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rot="10800000">
            <a:off x="1329840" y="435744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329840" y="360792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1329840" y="2858760"/>
            <a:ext cx="6518520" cy="5652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1329840" y="2109240"/>
            <a:ext cx="6518520" cy="564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2124000"/>
            <a:ext cx="64850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24080" y="2065320"/>
            <a:ext cx="2185920" cy="655560"/>
          </a:xfrm>
          <a:custGeom>
            <a:avLst/>
            <a:gdLst>
              <a:gd name="textAreaLeft" fmla="*/ 0 w 2185920"/>
              <a:gd name="textAreaRight" fmla="*/ 2186280 w 21859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61" y="0"/>
                </a:lnTo>
                <a:lnTo>
                  <a:pt x="21600" y="10800"/>
                </a:lnTo>
                <a:lnTo>
                  <a:pt x="179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8120" y="2881440"/>
            <a:ext cx="64850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24080" y="2814480"/>
            <a:ext cx="3227400" cy="655920"/>
          </a:xfrm>
          <a:custGeom>
            <a:avLst/>
            <a:gdLst>
              <a:gd name="textAreaLeft" fmla="*/ 0 w 3227400"/>
              <a:gd name="textAreaRight" fmla="*/ 3227760 w 3227400"/>
              <a:gd name="textAreaTop" fmla="*/ 0 h 655920"/>
              <a:gd name="textAreaBottom" fmla="*/ 656280 h 65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1" y="0"/>
                </a:lnTo>
                <a:lnTo>
                  <a:pt x="21600" y="10800"/>
                </a:lnTo>
                <a:lnTo>
                  <a:pt x="190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8120" y="3624120"/>
            <a:ext cx="64850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24080" y="3564000"/>
            <a:ext cx="2757240" cy="655560"/>
          </a:xfrm>
          <a:custGeom>
            <a:avLst/>
            <a:gdLst>
              <a:gd name="textAreaLeft" fmla="*/ 0 w 2757240"/>
              <a:gd name="textAreaRight" fmla="*/ 2757600 w 275724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52" y="0"/>
                </a:lnTo>
                <a:lnTo>
                  <a:pt x="21600" y="10800"/>
                </a:lnTo>
                <a:lnTo>
                  <a:pt x="1875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4379760"/>
            <a:ext cx="64850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24080" y="4313160"/>
            <a:ext cx="4662360" cy="655560"/>
          </a:xfrm>
          <a:custGeom>
            <a:avLst/>
            <a:gdLst>
              <a:gd name="textAreaLeft" fmla="*/ 0 w 4662360"/>
              <a:gd name="textAreaRight" fmla="*/ 4662720 w 46623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42" y="0"/>
                </a:lnTo>
                <a:lnTo>
                  <a:pt x="21600" y="10800"/>
                </a:lnTo>
                <a:lnTo>
                  <a:pt x="198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36760" y="226836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36760" y="301320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36760" y="376884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436760" y="452592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 rot="10800000">
            <a:off x="5633640" y="2371320"/>
            <a:ext cx="2079720" cy="412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1738440" y="2369520"/>
            <a:ext cx="3814560" cy="415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4808520" y="2943360"/>
            <a:ext cx="1952640" cy="412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0800000">
            <a:off x="1738080" y="2941560"/>
            <a:ext cx="2989080" cy="41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800000">
            <a:off x="4478040" y="3514320"/>
            <a:ext cx="1165320" cy="412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1738440" y="3512880"/>
            <a:ext cx="2658960" cy="415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3035160" y="4080960"/>
            <a:ext cx="1973520" cy="412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1738080" y="4079520"/>
            <a:ext cx="1222200" cy="415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3898800" y="4640400"/>
            <a:ext cx="2214720" cy="412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1738440" y="4638600"/>
            <a:ext cx="2085840" cy="416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2960" y="229248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2960" y="285120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2960" y="342252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2960" y="399420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2960" y="456552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2960" y="5130720"/>
            <a:ext cx="757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180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1800" y="284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1800" y="3424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1800" y="3992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1800" y="455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03240" y="1576440"/>
            <a:ext cx="2824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716280" y="3695760"/>
            <a:ext cx="199548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16280" y="3111480"/>
            <a:ext cx="199548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16280" y="2514600"/>
            <a:ext cx="199548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25960" y="3695760"/>
            <a:ext cx="19958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27120" y="3695760"/>
            <a:ext cx="199548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92120" y="454500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25920" y="454500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03920" y="454500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446720" y="1927080"/>
            <a:ext cx="3888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21" name=""/>
          <p:cNvSpPr/>
          <p:nvPr/>
        </p:nvSpPr>
        <p:spPr>
          <a:xfrm>
            <a:off x="1528920" y="3111480"/>
            <a:ext cx="199548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327400" y="2624040"/>
            <a:ext cx="4474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724800" y="3203640"/>
            <a:ext cx="447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 rot="10800000">
            <a:off x="2152800" y="4833720"/>
            <a:ext cx="4162320" cy="347400"/>
          </a:xfrm>
          <a:custGeom>
            <a:avLst/>
            <a:gdLst>
              <a:gd name="textAreaLeft" fmla="*/ 522360 w 4162320"/>
              <a:gd name="textAreaRight" fmla="*/ 3639960 w 4162320"/>
              <a:gd name="textAreaTop" fmla="*/ 43560 h 347400"/>
              <a:gd name="textAreaBottom" fmla="*/ 303840 h 34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22520" y="1316160"/>
            <a:ext cx="3424320" cy="3465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rot="14629200">
            <a:off x="3197880" y="3074400"/>
            <a:ext cx="2336760" cy="2362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128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rot="7668600">
            <a:off x="4221000" y="3036240"/>
            <a:ext cx="1706400" cy="1730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15768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647400">
            <a:off x="3962160" y="3025800"/>
            <a:ext cx="115416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7452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3339720" y="5005080"/>
            <a:ext cx="2049480" cy="315720"/>
          </a:xfrm>
          <a:custGeom>
            <a:avLst/>
            <a:gdLst>
              <a:gd name="textAreaLeft" fmla="*/ 408240 w 2049480"/>
              <a:gd name="textAreaRight" fmla="*/ 1641240 w 2049480"/>
              <a:gd name="textAreaTop" fmla="*/ 63000 h 315720"/>
              <a:gd name="textAreaBottom" fmla="*/ 25272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000" y="21600"/>
                </a:lnTo>
                <a:lnTo>
                  <a:pt x="460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ff9900">
                  <a:alpha val="25098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2657520" y="1363680"/>
            <a:ext cx="1965240" cy="3190680"/>
          </a:xfrm>
          <a:custGeom>
            <a:avLst/>
            <a:gdLst/>
            <a:ahLst/>
            <a:rect l="l" t="t" r="r" b="b"/>
            <a:pathLst>
              <a:path w="1090" h="1772">
                <a:moveTo>
                  <a:pt x="874" y="0"/>
                </a:moveTo>
                <a:lnTo>
                  <a:pt x="0" y="1772"/>
                </a:lnTo>
                <a:lnTo>
                  <a:pt x="1090" y="442"/>
                </a:lnTo>
                <a:lnTo>
                  <a:pt x="87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8235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23800" y="2900520"/>
            <a:ext cx="3525840" cy="0"/>
          </a:xfrm>
          <a:prstGeom prst="line">
            <a:avLst/>
          </a:prstGeom>
          <a:ln w="936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46852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3840" y="3898800"/>
            <a:ext cx="3624120" cy="0"/>
          </a:xfrm>
          <a:prstGeom prst="line">
            <a:avLst/>
          </a:prstGeom>
          <a:ln w="936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9680" y="346716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919400" y="3417840"/>
            <a:ext cx="378612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21200" y="4421160"/>
            <a:ext cx="379728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2880" y="3989520"/>
            <a:ext cx="2710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22880" y="3043080"/>
            <a:ext cx="2710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rot="10800000">
            <a:off x="1954080" y="2428920"/>
            <a:ext cx="1640160" cy="552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4014360" y="2428920"/>
            <a:ext cx="1639800" cy="552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6028920" y="2428920"/>
            <a:ext cx="1639800" cy="552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3782520" y="1431720"/>
            <a:ext cx="2102040" cy="552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0800000">
            <a:off x="1954080" y="3098520"/>
            <a:ext cx="1640160" cy="2282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4014360" y="3098520"/>
            <a:ext cx="1639800" cy="2282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6026040" y="3098520"/>
            <a:ext cx="1640160" cy="2282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744640" y="2197080"/>
            <a:ext cx="410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99160" y="1981080"/>
            <a:ext cx="0" cy="206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99160" y="2190600"/>
            <a:ext cx="0" cy="24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41760" y="219384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8640" y="219384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5240" y="24368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32360" y="24368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41880" y="24368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65240" y="31100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2360" y="31100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41880" y="3110040"/>
            <a:ext cx="160344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13120" y="1446120"/>
            <a:ext cx="204156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986280" y="158436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29280" y="262404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52800" y="262404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248520" y="262404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2" name=""/>
          <p:cNvSpPr/>
          <p:nvPr/>
        </p:nvSpPr>
        <p:spPr>
          <a:xfrm>
            <a:off x="1973160" y="3176640"/>
            <a:ext cx="160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30560" y="3176640"/>
            <a:ext cx="160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24600" y="3176640"/>
            <a:ext cx="1609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1798200" y="5430600"/>
            <a:ext cx="1955880" cy="230040"/>
          </a:xfrm>
          <a:custGeom>
            <a:avLst/>
            <a:gdLst>
              <a:gd name="textAreaLeft" fmla="*/ 245520 w 1955880"/>
              <a:gd name="textAreaRight" fmla="*/ 1710360 w 195588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3868200" y="5430600"/>
            <a:ext cx="1955880" cy="230040"/>
          </a:xfrm>
          <a:custGeom>
            <a:avLst/>
            <a:gdLst>
              <a:gd name="textAreaLeft" fmla="*/ 245520 w 1955880"/>
              <a:gd name="textAreaRight" fmla="*/ 1710360 w 195588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5862240" y="5430600"/>
            <a:ext cx="1955880" cy="230040"/>
          </a:xfrm>
          <a:custGeom>
            <a:avLst/>
            <a:gdLst>
              <a:gd name="textAreaLeft" fmla="*/ 245520 w 1955880"/>
              <a:gd name="textAreaRight" fmla="*/ 1710360 w 195588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 rot="10800000">
            <a:off x="2728800" y="2024640"/>
            <a:ext cx="4168800" cy="174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 rot="10800000">
            <a:off x="1725480" y="1802880"/>
            <a:ext cx="1640160" cy="55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3785760" y="1802880"/>
            <a:ext cx="1639800" cy="55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5800320" y="1802880"/>
            <a:ext cx="1639800" cy="55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0800000">
            <a:off x="3553920" y="2838600"/>
            <a:ext cx="2102040" cy="552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0800000">
            <a:off x="1725480" y="3857760"/>
            <a:ext cx="1640160" cy="1139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3785760" y="3857760"/>
            <a:ext cx="1639800" cy="1139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5797440" y="3857760"/>
            <a:ext cx="1640160" cy="1139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516040" y="3603600"/>
            <a:ext cx="410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0560" y="3387600"/>
            <a:ext cx="0" cy="206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0560" y="3597120"/>
            <a:ext cx="0" cy="24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13160" y="36036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2920" y="36036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36640" y="18111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3760" y="18111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13280" y="18111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36640" y="38685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3760" y="38685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13280" y="3868560"/>
            <a:ext cx="1603440" cy="3495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84520" y="2852640"/>
            <a:ext cx="204156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757680" y="2990880"/>
            <a:ext cx="171432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000680" y="199872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924200" y="199872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19920" y="1998720"/>
            <a:ext cx="122868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2" name=""/>
          <p:cNvSpPr/>
          <p:nvPr/>
        </p:nvSpPr>
        <p:spPr>
          <a:xfrm>
            <a:off x="1744560" y="3935520"/>
            <a:ext cx="160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1960" y="3935520"/>
            <a:ext cx="160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96000" y="3935520"/>
            <a:ext cx="1609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 rot="10800000">
            <a:off x="2499840" y="3435480"/>
            <a:ext cx="4087800" cy="17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1550520" y="5046480"/>
            <a:ext cx="1979640" cy="230040"/>
          </a:xfrm>
          <a:custGeom>
            <a:avLst/>
            <a:gdLst>
              <a:gd name="textAreaLeft" fmla="*/ 248400 w 1979640"/>
              <a:gd name="textAreaRight" fmla="*/ 1731240 w 197964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3615840" y="5046480"/>
            <a:ext cx="1979640" cy="230040"/>
          </a:xfrm>
          <a:custGeom>
            <a:avLst/>
            <a:gdLst>
              <a:gd name="textAreaLeft" fmla="*/ 248400 w 1979640"/>
              <a:gd name="textAreaRight" fmla="*/ 1731240 w 197964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0800000">
            <a:off x="5624640" y="5046480"/>
            <a:ext cx="1984320" cy="230040"/>
          </a:xfrm>
          <a:custGeom>
            <a:avLst/>
            <a:gdLst>
              <a:gd name="textAreaLeft" fmla="*/ 248760 w 1984320"/>
              <a:gd name="textAreaRight" fmla="*/ 1735560 w 1984320"/>
              <a:gd name="textAreaTop" fmla="*/ 28800 h 230040"/>
              <a:gd name="textAreaBottom" fmla="*/ 2012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6680" y="2610000"/>
            <a:ext cx="410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560840" y="2619000"/>
            <a:ext cx="0" cy="206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559400" y="2371320"/>
            <a:ext cx="0" cy="244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618240" y="236808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506680" y="236484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505240" y="2607840"/>
            <a:ext cx="4082760" cy="17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97080" y="2068560"/>
            <a:ext cx="1692360" cy="366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46680" y="2068560"/>
            <a:ext cx="1692360" cy="366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89800" y="2068560"/>
            <a:ext cx="1692360" cy="366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cc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98720" y="2068560"/>
            <a:ext cx="1930320" cy="3650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97080" y="24843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46680" y="2484360"/>
            <a:ext cx="169236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89800" y="24843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98720" y="2484360"/>
            <a:ext cx="1930320" cy="3650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97080" y="29005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46680" y="2900520"/>
            <a:ext cx="169236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89800" y="29005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98720" y="2900520"/>
            <a:ext cx="1930320" cy="3650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97080" y="33177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46680" y="3317760"/>
            <a:ext cx="169236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89800" y="33177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98720" y="3317760"/>
            <a:ext cx="1930320" cy="36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97080" y="37339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46680" y="3733920"/>
            <a:ext cx="169236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89800" y="37339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98720" y="3733920"/>
            <a:ext cx="1930320" cy="3650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97080" y="41511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46680" y="4151160"/>
            <a:ext cx="169236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89800" y="4151160"/>
            <a:ext cx="1692360" cy="3668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98720" y="4151160"/>
            <a:ext cx="1930320" cy="36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97080" y="45673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46680" y="4567320"/>
            <a:ext cx="169236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89800" y="45673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98720" y="4567320"/>
            <a:ext cx="1930320" cy="3650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97080" y="49849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46680" y="4984920"/>
            <a:ext cx="169236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89800" y="4984920"/>
            <a:ext cx="1692360" cy="36648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98720" y="4984920"/>
            <a:ext cx="1930320" cy="365040"/>
          </a:xfrm>
          <a:prstGeom prst="rect">
            <a:avLst/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954000" y="5408280"/>
            <a:ext cx="2222640" cy="243000"/>
          </a:xfrm>
          <a:custGeom>
            <a:avLst/>
            <a:gdLst>
              <a:gd name="textAreaLeft" fmla="*/ 251280 w 2222640"/>
              <a:gd name="textAreaRight" fmla="*/ 1971360 w 2222640"/>
              <a:gd name="textAreaTop" fmla="*/ 27360 h 243000"/>
              <a:gd name="textAreaBottom" fmla="*/ 21564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2936880" y="5410080"/>
            <a:ext cx="2021040" cy="216000"/>
          </a:xfrm>
          <a:custGeom>
            <a:avLst/>
            <a:gdLst>
              <a:gd name="textAreaLeft" fmla="*/ 228600 w 2021040"/>
              <a:gd name="textAreaRight" fmla="*/ 1792440 w 2021040"/>
              <a:gd name="textAreaTop" fmla="*/ 24480 h 216000"/>
              <a:gd name="textAreaBottom" fmla="*/ 1915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4703760" y="5410080"/>
            <a:ext cx="2021040" cy="216000"/>
          </a:xfrm>
          <a:custGeom>
            <a:avLst/>
            <a:gdLst>
              <a:gd name="textAreaLeft" fmla="*/ 228600 w 2021040"/>
              <a:gd name="textAreaRight" fmla="*/ 1792440 w 2021040"/>
              <a:gd name="textAreaTop" fmla="*/ 24480 h 216000"/>
              <a:gd name="textAreaBottom" fmla="*/ 1915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6469200" y="5410080"/>
            <a:ext cx="1944720" cy="216000"/>
          </a:xfrm>
          <a:custGeom>
            <a:avLst/>
            <a:gdLst>
              <a:gd name="textAreaLeft" fmla="*/ 219960 w 1944720"/>
              <a:gd name="textAreaRight" fmla="*/ 1724760 w 1944720"/>
              <a:gd name="textAreaTop" fmla="*/ 24480 h 216000"/>
              <a:gd name="textAreaBottom" fmla="*/ 1915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2520" y="244944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82520" y="287820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82520" y="327816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82520" y="370692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82520" y="412596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82520" y="452592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82520" y="4944960"/>
            <a:ext cx="193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33720" y="244944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33720" y="287820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33720" y="327816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33720" y="370692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33720" y="412596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33720" y="452592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33720" y="4944960"/>
            <a:ext cx="1749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9960" y="244944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09960" y="287820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09960" y="32781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09960" y="370692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9960" y="41259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09960" y="452592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09960" y="49449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45160" y="244944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45160" y="287820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45160" y="32781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45160" y="370692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45160" y="41259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45160" y="452592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45160" y="4944960"/>
            <a:ext cx="1749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98720" y="204300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95640" y="2043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38760" y="2043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72160" y="204300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5400000">
            <a:off x="4299480" y="2175480"/>
            <a:ext cx="655560" cy="2384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6801480" y="2175480"/>
            <a:ext cx="655560" cy="23846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1652760" y="1310400"/>
            <a:ext cx="943200" cy="238572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720" y="202392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652760" y="3037680"/>
            <a:ext cx="943200" cy="238572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797480" y="2175480"/>
            <a:ext cx="655560" cy="2384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6040" y="3254400"/>
            <a:ext cx="156708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1" name=""/>
          <p:cNvSpPr/>
          <p:nvPr/>
        </p:nvSpPr>
        <p:spPr>
          <a:xfrm>
            <a:off x="936720" y="375120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161600" y="1310040"/>
            <a:ext cx="943200" cy="238608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4840" y="202392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161600" y="3037680"/>
            <a:ext cx="943200" cy="238608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54520" y="3254400"/>
            <a:ext cx="156672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6" name=""/>
          <p:cNvSpPr/>
          <p:nvPr/>
        </p:nvSpPr>
        <p:spPr>
          <a:xfrm>
            <a:off x="3444840" y="375120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831600" y="4735080"/>
            <a:ext cx="2577960" cy="335160"/>
          </a:xfrm>
          <a:custGeom>
            <a:avLst/>
            <a:gdLst>
              <a:gd name="textAreaLeft" fmla="*/ 251640 w 2577960"/>
              <a:gd name="textAreaRight" fmla="*/ 2326320 w 2577960"/>
              <a:gd name="textAreaTop" fmla="*/ 32760 h 335160"/>
              <a:gd name="textAreaBottom" fmla="*/ 30240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53" y="21600"/>
                </a:lnTo>
                <a:lnTo>
                  <a:pt x="647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3346560" y="4735080"/>
            <a:ext cx="2558880" cy="335160"/>
          </a:xfrm>
          <a:custGeom>
            <a:avLst/>
            <a:gdLst>
              <a:gd name="textAreaLeft" fmla="*/ 249840 w 2558880"/>
              <a:gd name="textAreaRight" fmla="*/ 2309040 w 2558880"/>
              <a:gd name="textAreaTop" fmla="*/ 32760 h 335160"/>
              <a:gd name="textAreaBottom" fmla="*/ 30240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53" y="21600"/>
                </a:lnTo>
                <a:lnTo>
                  <a:pt x="647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654960" y="1310400"/>
            <a:ext cx="943200" cy="238572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38920" y="202392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654960" y="3037680"/>
            <a:ext cx="943200" cy="238572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348240" y="3254400"/>
            <a:ext cx="156708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" name=""/>
          <p:cNvSpPr/>
          <p:nvPr/>
        </p:nvSpPr>
        <p:spPr>
          <a:xfrm>
            <a:off x="5938920" y="375120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5846760" y="4735080"/>
            <a:ext cx="2571840" cy="335160"/>
          </a:xfrm>
          <a:custGeom>
            <a:avLst/>
            <a:gdLst>
              <a:gd name="textAreaLeft" fmla="*/ 250920 w 2571840"/>
              <a:gd name="textAreaRight" fmla="*/ 2320920 w 2571840"/>
              <a:gd name="textAreaTop" fmla="*/ 32760 h 335160"/>
              <a:gd name="textAreaBottom" fmla="*/ 30240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53" y="21600"/>
                </a:lnTo>
                <a:lnTo>
                  <a:pt x="647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300320" y="1590840"/>
            <a:ext cx="2617560" cy="822240"/>
          </a:xfrm>
          <a:custGeom>
            <a:avLst/>
            <a:gdLst>
              <a:gd name="textAreaLeft" fmla="*/ 0 w 2617560"/>
              <a:gd name="textAreaRight" fmla="*/ 2617920 w 26175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2" y="0"/>
                </a:lnTo>
                <a:lnTo>
                  <a:pt x="21600" y="10800"/>
                </a:lnTo>
                <a:lnTo>
                  <a:pt x="177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67240" y="1590840"/>
            <a:ext cx="2617560" cy="822240"/>
          </a:xfrm>
          <a:custGeom>
            <a:avLst/>
            <a:gdLst>
              <a:gd name="textAreaLeft" fmla="*/ 0 w 2617560"/>
              <a:gd name="textAreaRight" fmla="*/ 2617920 w 26175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70" y="0"/>
                </a:lnTo>
                <a:lnTo>
                  <a:pt x="21600" y="10800"/>
                </a:lnTo>
                <a:lnTo>
                  <a:pt x="17670" y="21600"/>
                </a:lnTo>
                <a:lnTo>
                  <a:pt x="0" y="21600"/>
                </a:lnTo>
                <a:lnTo>
                  <a:pt x="393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27680" y="1590840"/>
            <a:ext cx="2617920" cy="822240"/>
          </a:xfrm>
          <a:custGeom>
            <a:avLst/>
            <a:gdLst>
              <a:gd name="textAreaLeft" fmla="*/ 0 w 2617920"/>
              <a:gd name="textAreaRight" fmla="*/ 2617920 w 26179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70" y="0"/>
                </a:lnTo>
                <a:lnTo>
                  <a:pt x="21600" y="10800"/>
                </a:lnTo>
                <a:lnTo>
                  <a:pt x="17670" y="21600"/>
                </a:lnTo>
                <a:lnTo>
                  <a:pt x="0" y="21600"/>
                </a:lnTo>
                <a:lnTo>
                  <a:pt x="3930" y="108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cc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1521000" y="2490840"/>
            <a:ext cx="1930320" cy="28670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0800000">
            <a:off x="3675240" y="2490840"/>
            <a:ext cx="1930320" cy="28670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0800000">
            <a:off x="5834160" y="2490840"/>
            <a:ext cx="1930320" cy="28670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933560" y="1758960"/>
            <a:ext cx="9478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487760" y="1758960"/>
            <a:ext cx="9478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659640" y="1758960"/>
            <a:ext cx="947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"/>
          <p:cNvSpPr/>
          <p:nvPr/>
        </p:nvSpPr>
        <p:spPr>
          <a:xfrm>
            <a:off x="1522440" y="260028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68760" y="260028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827680" y="2600280"/>
            <a:ext cx="19270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1371600" y="5408280"/>
            <a:ext cx="2222640" cy="243000"/>
          </a:xfrm>
          <a:custGeom>
            <a:avLst/>
            <a:gdLst>
              <a:gd name="textAreaLeft" fmla="*/ 251280 w 2222640"/>
              <a:gd name="textAreaRight" fmla="*/ 1971360 w 2222640"/>
              <a:gd name="textAreaTop" fmla="*/ 27360 h 243000"/>
              <a:gd name="textAreaBottom" fmla="*/ 21564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0800000">
            <a:off x="3517920" y="5408280"/>
            <a:ext cx="2222640" cy="243000"/>
          </a:xfrm>
          <a:custGeom>
            <a:avLst/>
            <a:gdLst>
              <a:gd name="textAreaLeft" fmla="*/ 251280 w 2222640"/>
              <a:gd name="textAreaRight" fmla="*/ 1971360 w 2222640"/>
              <a:gd name="textAreaTop" fmla="*/ 27360 h 243000"/>
              <a:gd name="textAreaBottom" fmla="*/ 21564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0800000">
            <a:off x="5689440" y="5408280"/>
            <a:ext cx="2222640" cy="243000"/>
          </a:xfrm>
          <a:custGeom>
            <a:avLst/>
            <a:gdLst>
              <a:gd name="textAreaLeft" fmla="*/ 251280 w 2222640"/>
              <a:gd name="textAreaRight" fmla="*/ 1971360 w 2222640"/>
              <a:gd name="textAreaTop" fmla="*/ 27360 h 243000"/>
              <a:gd name="textAreaBottom" fmla="*/ 21564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49" y="21600"/>
                </a:lnTo>
                <a:lnTo>
                  <a:pt x="1251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2452680" y="4662360"/>
            <a:ext cx="5703480" cy="676080"/>
            <a:chOff x="2452680" y="4662360"/>
            <a:chExt cx="5703480" cy="676080"/>
          </a:xfrm>
        </p:grpSpPr>
        <p:sp>
          <p:nvSpPr>
            <p:cNvPr id="489" name=""/>
            <p:cNvSpPr/>
            <p:nvPr/>
          </p:nvSpPr>
          <p:spPr>
            <a:xfrm rot="10800000">
              <a:off x="2452680" y="4676400"/>
              <a:ext cx="5690880" cy="6620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2454120" y="4662360"/>
              <a:ext cx="5702040" cy="665280"/>
            </a:xfrm>
            <a:custGeom>
              <a:avLst/>
              <a:gdLst/>
              <a:ahLst/>
              <a:rect l="l" t="t" r="r" b="b"/>
              <a:pathLst>
                <a:path w="3584" h="416">
                  <a:moveTo>
                    <a:pt x="0" y="416"/>
                  </a:moveTo>
                  <a:lnTo>
                    <a:pt x="3584" y="416"/>
                  </a:lnTo>
                  <a:lnTo>
                    <a:pt x="358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464920" y="3933720"/>
            <a:ext cx="5686560" cy="677520"/>
            <a:chOff x="2464920" y="3933720"/>
            <a:chExt cx="5686560" cy="677520"/>
          </a:xfrm>
        </p:grpSpPr>
        <p:sp>
          <p:nvSpPr>
            <p:cNvPr id="492" name=""/>
            <p:cNvSpPr/>
            <p:nvPr/>
          </p:nvSpPr>
          <p:spPr>
            <a:xfrm rot="10800000">
              <a:off x="2464920" y="3948120"/>
              <a:ext cx="5673960" cy="663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2466360" y="3933720"/>
              <a:ext cx="5685120" cy="666360"/>
            </a:xfrm>
            <a:custGeom>
              <a:avLst/>
              <a:gdLst/>
              <a:ahLst/>
              <a:rect l="l" t="t" r="r" b="b"/>
              <a:pathLst>
                <a:path w="3584" h="416">
                  <a:moveTo>
                    <a:pt x="0" y="416"/>
                  </a:moveTo>
                  <a:lnTo>
                    <a:pt x="3584" y="416"/>
                  </a:lnTo>
                  <a:lnTo>
                    <a:pt x="358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465280" y="3211560"/>
            <a:ext cx="5691240" cy="675720"/>
            <a:chOff x="2465280" y="3211560"/>
            <a:chExt cx="5691240" cy="675720"/>
          </a:xfrm>
        </p:grpSpPr>
        <p:sp>
          <p:nvSpPr>
            <p:cNvPr id="495" name=""/>
            <p:cNvSpPr/>
            <p:nvPr/>
          </p:nvSpPr>
          <p:spPr>
            <a:xfrm rot="10800000">
              <a:off x="2465280" y="3225600"/>
              <a:ext cx="5678640" cy="661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2466720" y="3211560"/>
              <a:ext cx="5689800" cy="664920"/>
            </a:xfrm>
            <a:custGeom>
              <a:avLst/>
              <a:gdLst/>
              <a:ahLst/>
              <a:rect l="l" t="t" r="r" b="b"/>
              <a:pathLst>
                <a:path w="3584" h="416">
                  <a:moveTo>
                    <a:pt x="0" y="416"/>
                  </a:moveTo>
                  <a:lnTo>
                    <a:pt x="3584" y="416"/>
                  </a:lnTo>
                  <a:lnTo>
                    <a:pt x="358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467080" y="2484360"/>
            <a:ext cx="5685840" cy="678960"/>
            <a:chOff x="2467080" y="2484360"/>
            <a:chExt cx="5685840" cy="678960"/>
          </a:xfrm>
        </p:grpSpPr>
        <p:sp>
          <p:nvSpPr>
            <p:cNvPr id="498" name=""/>
            <p:cNvSpPr/>
            <p:nvPr/>
          </p:nvSpPr>
          <p:spPr>
            <a:xfrm rot="10800000">
              <a:off x="2467080" y="2498040"/>
              <a:ext cx="5673600" cy="664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2468160" y="2484360"/>
              <a:ext cx="5684760" cy="668160"/>
            </a:xfrm>
            <a:custGeom>
              <a:avLst/>
              <a:gdLst/>
              <a:ahLst/>
              <a:rect l="l" t="t" r="r" b="b"/>
              <a:pathLst>
                <a:path w="3584" h="416">
                  <a:moveTo>
                    <a:pt x="0" y="416"/>
                  </a:moveTo>
                  <a:lnTo>
                    <a:pt x="3584" y="416"/>
                  </a:lnTo>
                  <a:lnTo>
                    <a:pt x="358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465280" y="1762200"/>
            <a:ext cx="5691240" cy="675720"/>
            <a:chOff x="2465280" y="1762200"/>
            <a:chExt cx="5691240" cy="675720"/>
          </a:xfrm>
        </p:grpSpPr>
        <p:sp>
          <p:nvSpPr>
            <p:cNvPr id="501" name=""/>
            <p:cNvSpPr/>
            <p:nvPr/>
          </p:nvSpPr>
          <p:spPr>
            <a:xfrm rot="10800000">
              <a:off x="2465280" y="1775880"/>
              <a:ext cx="5678640" cy="661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2466720" y="1762200"/>
              <a:ext cx="5689800" cy="664920"/>
            </a:xfrm>
            <a:custGeom>
              <a:avLst/>
              <a:gdLst/>
              <a:ahLst/>
              <a:rect l="l" t="t" r="r" b="b"/>
              <a:pathLst>
                <a:path w="3584" h="416">
                  <a:moveTo>
                    <a:pt x="0" y="416"/>
                  </a:moveTo>
                  <a:lnTo>
                    <a:pt x="3584" y="416"/>
                  </a:lnTo>
                  <a:lnTo>
                    <a:pt x="358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 rot="16200000">
            <a:off x="1479600" y="4349520"/>
            <a:ext cx="887400" cy="1065240"/>
          </a:xfrm>
          <a:custGeom>
            <a:avLst/>
            <a:gdLst>
              <a:gd name="textAreaLeft" fmla="*/ 0 w 887400"/>
              <a:gd name="textAreaRight" fmla="*/ 887760 w 88740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1480320" y="3620160"/>
            <a:ext cx="885600" cy="1065240"/>
          </a:xfrm>
          <a:custGeom>
            <a:avLst/>
            <a:gdLst>
              <a:gd name="textAreaLeft" fmla="*/ 0 w 885600"/>
              <a:gd name="textAreaRight" fmla="*/ 885960 w 88560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1480320" y="2894400"/>
            <a:ext cx="885960" cy="1065240"/>
          </a:xfrm>
          <a:custGeom>
            <a:avLst/>
            <a:gdLst>
              <a:gd name="textAreaLeft" fmla="*/ 0 w 885960"/>
              <a:gd name="textAreaRight" fmla="*/ 886320 w 8859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1479600" y="2168280"/>
            <a:ext cx="887400" cy="1065240"/>
          </a:xfrm>
          <a:custGeom>
            <a:avLst/>
            <a:gdLst>
              <a:gd name="textAreaLeft" fmla="*/ 0 w 887400"/>
              <a:gd name="textAreaRight" fmla="*/ 887760 w 88740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1479600" y="1444320"/>
            <a:ext cx="887400" cy="1065240"/>
          </a:xfrm>
          <a:custGeom>
            <a:avLst/>
            <a:gdLst>
              <a:gd name="textAreaLeft" fmla="*/ 0 w 887400"/>
              <a:gd name="textAreaRight" fmla="*/ 887760 w 88740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89120" y="160344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89120" y="232884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89120" y="307800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89120" y="379080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89120" y="460368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67080" y="1870200"/>
            <a:ext cx="568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67080" y="2583000"/>
            <a:ext cx="568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67080" y="3309840"/>
            <a:ext cx="568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67080" y="4033800"/>
            <a:ext cx="568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67080" y="4770360"/>
            <a:ext cx="568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 rot="10800000">
            <a:off x="1018800" y="3306240"/>
            <a:ext cx="7488360" cy="6573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1018800" y="4577760"/>
            <a:ext cx="7488360" cy="657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1018800" y="2034720"/>
            <a:ext cx="7488360" cy="6573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2522880" y="1208520"/>
            <a:ext cx="1557360" cy="23432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2524680" y="3761640"/>
            <a:ext cx="1554120" cy="234324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5400000">
            <a:off x="2522880" y="2480400"/>
            <a:ext cx="1557360" cy="23432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75400" y="213516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75400" y="340668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75400" y="467820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55760" y="1978200"/>
            <a:ext cx="7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55760" y="3271680"/>
            <a:ext cx="7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55760" y="4535640"/>
            <a:ext cx="7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49360" y="2224080"/>
            <a:ext cx="19576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349360" y="3516480"/>
            <a:ext cx="195768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349360" y="4778280"/>
            <a:ext cx="19576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 rot="5400000">
            <a:off x="1166040" y="1939320"/>
            <a:ext cx="1365120" cy="193176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1931760"/>
              <a:gd name="textAreaBottom" fmla="*/ 193212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964960" y="2221920"/>
            <a:ext cx="5691240" cy="101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62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0800000">
            <a:off x="874440" y="1692000"/>
            <a:ext cx="7786440" cy="412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714840" y="1757520"/>
            <a:ext cx="23414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417680" y="2523960"/>
            <a:ext cx="947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1166040" y="3939480"/>
            <a:ext cx="1365120" cy="193176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1931760"/>
              <a:gd name="textAreaBottom" fmla="*/ 193212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2964960" y="4222440"/>
            <a:ext cx="5691240" cy="101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62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0800000">
            <a:off x="874440" y="3691800"/>
            <a:ext cx="7786440" cy="412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714840" y="3757680"/>
            <a:ext cx="23414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417680" y="4524480"/>
            <a:ext cx="947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43" name=""/>
          <p:cNvSpPr/>
          <p:nvPr/>
        </p:nvSpPr>
        <p:spPr>
          <a:xfrm>
            <a:off x="2951280" y="221292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51280" y="421308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 rot="5400000">
            <a:off x="1166040" y="1939320"/>
            <a:ext cx="1365120" cy="193176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1931760"/>
              <a:gd name="textAreaBottom" fmla="*/ 193212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0800000">
            <a:off x="2964960" y="2221920"/>
            <a:ext cx="5691240" cy="101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62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874440" y="1692000"/>
            <a:ext cx="7786440" cy="412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714840" y="1757520"/>
            <a:ext cx="23414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417680" y="2523960"/>
            <a:ext cx="947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1166040" y="3939480"/>
            <a:ext cx="1365120" cy="193176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1931760"/>
              <a:gd name="textAreaBottom" fmla="*/ 193212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2964960" y="4222440"/>
            <a:ext cx="5691240" cy="101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62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0800000">
            <a:off x="874440" y="3691800"/>
            <a:ext cx="7786440" cy="412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714840" y="3757680"/>
            <a:ext cx="23414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17680" y="4524480"/>
            <a:ext cx="947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内容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55" name=""/>
          <p:cNvSpPr/>
          <p:nvPr/>
        </p:nvSpPr>
        <p:spPr>
          <a:xfrm>
            <a:off x="2951280" y="221292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1280" y="421308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rot="10800000">
            <a:off x="2532240" y="1668600"/>
            <a:ext cx="1126800" cy="807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0800000">
            <a:off x="716040" y="2997360"/>
            <a:ext cx="1339920" cy="1234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43040" y="1676520"/>
            <a:ext cx="1101960" cy="511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46280" y="3011400"/>
            <a:ext cx="129348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831960" y="3365640"/>
            <a:ext cx="10969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62" name=""/>
          <p:cNvSpPr/>
          <p:nvPr/>
        </p:nvSpPr>
        <p:spPr>
          <a:xfrm>
            <a:off x="2292480" y="2095560"/>
            <a:ext cx="0" cy="3092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58840" y="3641760"/>
            <a:ext cx="223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5280" y="3641760"/>
            <a:ext cx="244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92480" y="5191200"/>
            <a:ext cx="241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92480" y="2095560"/>
            <a:ext cx="241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5400000">
            <a:off x="670320" y="3573000"/>
            <a:ext cx="3078360" cy="17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671920" y="1878120"/>
            <a:ext cx="8413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69" name=""/>
          <p:cNvSpPr/>
          <p:nvPr/>
        </p:nvSpPr>
        <p:spPr>
          <a:xfrm rot="10800000">
            <a:off x="2532240" y="3204720"/>
            <a:ext cx="1126800" cy="8082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43040" y="3213000"/>
            <a:ext cx="1101960" cy="511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671920" y="3414600"/>
            <a:ext cx="8413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72" name=""/>
          <p:cNvSpPr/>
          <p:nvPr/>
        </p:nvSpPr>
        <p:spPr>
          <a:xfrm rot="10800000">
            <a:off x="2532240" y="4754160"/>
            <a:ext cx="1126800" cy="8082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43040" y="4762440"/>
            <a:ext cx="1101960" cy="511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671920" y="4964040"/>
            <a:ext cx="8413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75" name=""/>
          <p:cNvSpPr/>
          <p:nvPr/>
        </p:nvSpPr>
        <p:spPr>
          <a:xfrm>
            <a:off x="3825720" y="1739880"/>
            <a:ext cx="0" cy="674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72720" y="2076480"/>
            <a:ext cx="14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25000" y="173988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 rot="5400000">
            <a:off x="3442320" y="2029680"/>
            <a:ext cx="671760" cy="101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4006800" y="1448640"/>
            <a:ext cx="4422960" cy="531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16520" y="1482840"/>
            <a:ext cx="4400280" cy="20304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0800000">
            <a:off x="4006800" y="2125080"/>
            <a:ext cx="4422960" cy="531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16520" y="2158920"/>
            <a:ext cx="4400280" cy="2034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48200" y="149220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48200" y="215892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25000" y="241308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25720" y="3282840"/>
            <a:ext cx="0" cy="674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72720" y="3619440"/>
            <a:ext cx="14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25000" y="328284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 rot="5400000">
            <a:off x="3442320" y="3571560"/>
            <a:ext cx="671400" cy="101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0">
            <a:off x="4006800" y="2992320"/>
            <a:ext cx="4422960" cy="532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16520" y="3025800"/>
            <a:ext cx="4400280" cy="20304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4006800" y="3668400"/>
            <a:ext cx="4422960" cy="531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016520" y="3701880"/>
            <a:ext cx="4400280" cy="2034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48200" y="303516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48200" y="370188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25000" y="395928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25720" y="4835520"/>
            <a:ext cx="0" cy="674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72720" y="5172120"/>
            <a:ext cx="14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25000" y="483552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 rot="5400000">
            <a:off x="3442320" y="5125320"/>
            <a:ext cx="671760" cy="101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0">
            <a:off x="4006800" y="4544640"/>
            <a:ext cx="4422960" cy="531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016520" y="4578480"/>
            <a:ext cx="4400280" cy="20304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10800000">
            <a:off x="4006800" y="5221080"/>
            <a:ext cx="4422960" cy="531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16520" y="5254560"/>
            <a:ext cx="4400280" cy="2034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48200" y="458784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48200" y="5254560"/>
            <a:ext cx="270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25000" y="5511960"/>
            <a:ext cx="171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95480" y="3736800"/>
            <a:ext cx="3504960" cy="15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879800" y="3736800"/>
            <a:ext cx="3505320" cy="15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79800" y="2035080"/>
            <a:ext cx="3505320" cy="15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95480" y="2035080"/>
            <a:ext cx="3504960" cy="15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65760" y="2014560"/>
            <a:ext cx="3531960" cy="387360"/>
          </a:xfrm>
          <a:prstGeom prst="rect">
            <a:avLst/>
          </a:prstGeom>
          <a:gradFill rotWithShape="0">
            <a:gsLst>
              <a:gs pos="0">
                <a:srgbClr val="c0c0c0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5760" y="3741840"/>
            <a:ext cx="3531960" cy="387360"/>
          </a:xfrm>
          <a:prstGeom prst="rect">
            <a:avLst/>
          </a:prstGeom>
          <a:gradFill rotWithShape="0">
            <a:gsLst>
              <a:gs pos="0">
                <a:srgbClr val="c0c0c0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06640" y="3741840"/>
            <a:ext cx="3531960" cy="387360"/>
          </a:xfrm>
          <a:prstGeom prst="rect">
            <a:avLst/>
          </a:prstGeom>
          <a:gradFill rotWithShape="0">
            <a:gsLst>
              <a:gs pos="0">
                <a:srgbClr val="c0c0c0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81080" y="2014560"/>
            <a:ext cx="3532320" cy="387360"/>
          </a:xfrm>
          <a:prstGeom prst="rect">
            <a:avLst/>
          </a:prstGeom>
          <a:gradFill rotWithShape="0">
            <a:gsLst>
              <a:gs pos="0">
                <a:srgbClr val="c0c0c0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92240" y="2021040"/>
            <a:ext cx="3530520" cy="1511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2240" y="3735360"/>
            <a:ext cx="3530520" cy="1511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63960" y="2021040"/>
            <a:ext cx="3530880" cy="1511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863960" y="3735360"/>
            <a:ext cx="3530880" cy="1511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0800000">
            <a:off x="1100160" y="4952880"/>
            <a:ext cx="3495600" cy="276480"/>
          </a:xfrm>
          <a:custGeom>
            <a:avLst/>
            <a:gdLst>
              <a:gd name="textAreaLeft" fmla="*/ 438480 w 3495600"/>
              <a:gd name="textAreaRight" fmla="*/ 3057120 w 3495600"/>
              <a:gd name="textAreaTop" fmla="*/ 34560 h 276480"/>
              <a:gd name="textAreaBottom" fmla="*/ 2419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1100160" y="3238200"/>
            <a:ext cx="3495600" cy="276120"/>
          </a:xfrm>
          <a:custGeom>
            <a:avLst/>
            <a:gdLst>
              <a:gd name="textAreaLeft" fmla="*/ 438480 w 3495600"/>
              <a:gd name="textAreaRight" fmla="*/ 3057120 w 3495600"/>
              <a:gd name="textAreaTop" fmla="*/ 34560 h 276120"/>
              <a:gd name="textAreaBottom" fmla="*/ 2415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0800000">
            <a:off x="4881600" y="4952880"/>
            <a:ext cx="3502080" cy="276480"/>
          </a:xfrm>
          <a:custGeom>
            <a:avLst/>
            <a:gdLst>
              <a:gd name="textAreaLeft" fmla="*/ 439560 w 3502080"/>
              <a:gd name="textAreaRight" fmla="*/ 3062520 w 3502080"/>
              <a:gd name="textAreaTop" fmla="*/ 34560 h 276480"/>
              <a:gd name="textAreaBottom" fmla="*/ 2419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4881600" y="3240000"/>
            <a:ext cx="3487680" cy="276480"/>
          </a:xfrm>
          <a:custGeom>
            <a:avLst/>
            <a:gdLst>
              <a:gd name="textAreaLeft" fmla="*/ 437760 w 3487680"/>
              <a:gd name="textAreaRight" fmla="*/ 3049920 w 3487680"/>
              <a:gd name="textAreaTop" fmla="*/ 34560 h 276480"/>
              <a:gd name="textAreaBottom" fmla="*/ 24192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697200" y="2914560"/>
            <a:ext cx="2092320" cy="1371240"/>
            <a:chOff x="3697200" y="2914560"/>
            <a:chExt cx="2092320" cy="1371240"/>
          </a:xfrm>
        </p:grpSpPr>
        <p:grpSp>
          <p:nvGrpSpPr>
            <p:cNvPr id="625" name=""/>
            <p:cNvGrpSpPr/>
            <p:nvPr/>
          </p:nvGrpSpPr>
          <p:grpSpPr>
            <a:xfrm>
              <a:off x="3697200" y="2914560"/>
              <a:ext cx="2092320" cy="1371240"/>
              <a:chOff x="3697200" y="2914560"/>
              <a:chExt cx="2092320" cy="137124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7200" y="3008880"/>
                <a:ext cx="2092320" cy="12769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7200" y="2914560"/>
                <a:ext cx="2092320" cy="12769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3866760" y="2921760"/>
              <a:ext cx="1722600" cy="1049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3889440" y="3436920"/>
            <a:ext cx="174132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0" name=""/>
          <p:cNvSpPr/>
          <p:nvPr/>
        </p:nvSpPr>
        <p:spPr>
          <a:xfrm>
            <a:off x="1082520" y="20210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23080" y="202104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23080" y="372744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095480" y="37274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97200" y="2909880"/>
            <a:ext cx="2098800" cy="139068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rot="5400000">
            <a:off x="623520" y="2462040"/>
            <a:ext cx="2913120" cy="2144880"/>
          </a:xfrm>
          <a:custGeom>
            <a:avLst/>
            <a:gdLst>
              <a:gd name="textAreaLeft" fmla="*/ 399240 w 2913120"/>
              <a:gd name="textAreaRight" fmla="*/ 2513880 w 2913120"/>
              <a:gd name="textAreaTop" fmla="*/ 293760 h 2144880"/>
              <a:gd name="textAreaBottom" fmla="*/ 185112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1888920" y="3384000"/>
            <a:ext cx="2901960" cy="279360"/>
          </a:xfrm>
          <a:custGeom>
            <a:avLst/>
            <a:gdLst>
              <a:gd name="textAreaLeft" fmla="*/ 363960 w 2901960"/>
              <a:gd name="textAreaRight" fmla="*/ 2538000 w 2901960"/>
              <a:gd name="textAreaTop" fmla="*/ 34920 h 279360"/>
              <a:gd name="textAreaBottom" fmla="*/ 24444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3108240" y="2462040"/>
            <a:ext cx="2913120" cy="2144880"/>
          </a:xfrm>
          <a:custGeom>
            <a:avLst/>
            <a:gdLst>
              <a:gd name="textAreaLeft" fmla="*/ 399240 w 2913120"/>
              <a:gd name="textAreaRight" fmla="*/ 2513880 w 2913120"/>
              <a:gd name="textAreaTop" fmla="*/ 293760 h 2144880"/>
              <a:gd name="textAreaBottom" fmla="*/ 185112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5f5f5f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4373280" y="3384000"/>
            <a:ext cx="2901960" cy="279360"/>
          </a:xfrm>
          <a:custGeom>
            <a:avLst/>
            <a:gdLst>
              <a:gd name="textAreaLeft" fmla="*/ 363960 w 2901960"/>
              <a:gd name="textAreaRight" fmla="*/ 2538000 w 2901960"/>
              <a:gd name="textAreaTop" fmla="*/ 34920 h 279360"/>
              <a:gd name="textAreaBottom" fmla="*/ 24444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80808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5537160" y="2462040"/>
            <a:ext cx="2913120" cy="2144880"/>
          </a:xfrm>
          <a:custGeom>
            <a:avLst/>
            <a:gdLst>
              <a:gd name="textAreaLeft" fmla="*/ 399240 w 2913120"/>
              <a:gd name="textAreaRight" fmla="*/ 2513880 w 2913120"/>
              <a:gd name="textAreaTop" fmla="*/ 293760 h 2144880"/>
              <a:gd name="textAreaBottom" fmla="*/ 185112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22" y="21600"/>
                </a:lnTo>
                <a:lnTo>
                  <a:pt x="2178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5f5f5f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6802200" y="3384000"/>
            <a:ext cx="2901960" cy="279360"/>
          </a:xfrm>
          <a:custGeom>
            <a:avLst/>
            <a:gdLst>
              <a:gd name="textAreaLeft" fmla="*/ 363960 w 2901960"/>
              <a:gd name="textAreaRight" fmla="*/ 2538000 w 2901960"/>
              <a:gd name="textAreaTop" fmla="*/ 34920 h 279360"/>
              <a:gd name="textAreaBottom" fmla="*/ 24444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80808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20600" y="2508120"/>
            <a:ext cx="2114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87680" y="2508120"/>
            <a:ext cx="2114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40360" y="2508120"/>
            <a:ext cx="2114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10160" y="367344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29360" y="367344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14640" y="367344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181240" y="1852560"/>
            <a:ext cx="2460600" cy="3365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0800000">
            <a:off x="2185560" y="4795920"/>
            <a:ext cx="2451240" cy="403200"/>
          </a:xfrm>
          <a:custGeom>
            <a:avLst/>
            <a:gdLst>
              <a:gd name="textAreaLeft" fmla="*/ 566280 w 2451240"/>
              <a:gd name="textAreaRight" fmla="*/ 1884960 w 245124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7440" y="254628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0240" y="1852560"/>
            <a:ext cx="2460600" cy="33656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0800000">
            <a:off x="4714920" y="4795920"/>
            <a:ext cx="2450880" cy="403200"/>
          </a:xfrm>
          <a:custGeom>
            <a:avLst/>
            <a:gdLst>
              <a:gd name="textAreaLeft" fmla="*/ 566280 w 2450880"/>
              <a:gd name="textAreaRight" fmla="*/ 1884600 w 245088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16440" y="254628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181240" y="2454120"/>
            <a:ext cx="24638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02320" y="2454120"/>
            <a:ext cx="246348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313000" y="2003400"/>
            <a:ext cx="22147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822920" y="2003400"/>
            <a:ext cx="22143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57" name=""/>
          <p:cNvSpPr/>
          <p:nvPr/>
        </p:nvSpPr>
        <p:spPr>
          <a:xfrm>
            <a:off x="2189160" y="2449440"/>
            <a:ext cx="244332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0240" y="2449440"/>
            <a:ext cx="2455560" cy="3492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0320" y="1419120"/>
            <a:ext cx="2824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0" name=""/>
          <p:cNvSpPr/>
          <p:nvPr/>
        </p:nvSpPr>
        <p:spPr>
          <a:xfrm>
            <a:off x="652320" y="500688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304800" y="2585880"/>
            <a:ext cx="1508040" cy="2008080"/>
            <a:chOff x="3304800" y="2585880"/>
            <a:chExt cx="1508040" cy="2008080"/>
          </a:xfrm>
        </p:grpSpPr>
        <p:sp>
          <p:nvSpPr>
            <p:cNvPr id="662" name=""/>
            <p:cNvSpPr/>
            <p:nvPr/>
          </p:nvSpPr>
          <p:spPr>
            <a:xfrm rot="5400000">
              <a:off x="2962080" y="2936160"/>
              <a:ext cx="2000520" cy="1315080"/>
            </a:xfrm>
            <a:custGeom>
              <a:avLst/>
              <a:gdLst>
                <a:gd name="textAreaLeft" fmla="*/ 273960 w 2000520"/>
                <a:gd name="textAreaRight" fmla="*/ 1726560 w 2000520"/>
                <a:gd name="textAreaTop" fmla="*/ 180000 h 1315080"/>
                <a:gd name="textAreaBottom" fmla="*/ 1135080 h 131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22" y="21600"/>
                  </a:lnTo>
                  <a:lnTo>
                    <a:pt x="2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3732840" y="3495240"/>
              <a:ext cx="1989360" cy="170640"/>
            </a:xfrm>
            <a:custGeom>
              <a:avLst/>
              <a:gdLst>
                <a:gd name="textAreaLeft" fmla="*/ 249480 w 1989360"/>
                <a:gd name="textAreaRight" fmla="*/ 1739880 w 1989360"/>
                <a:gd name="textAreaTop" fmla="*/ 21240 h 170640"/>
                <a:gd name="textAreaBottom" fmla="*/ 149400 h 17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25098"/>
                  </a:srgbClr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27440" y="2324160"/>
            <a:ext cx="1508400" cy="2526840"/>
            <a:chOff x="4627440" y="2324160"/>
            <a:chExt cx="1508400" cy="2526840"/>
          </a:xfrm>
        </p:grpSpPr>
        <p:sp>
          <p:nvSpPr>
            <p:cNvPr id="665" name=""/>
            <p:cNvSpPr/>
            <p:nvPr/>
          </p:nvSpPr>
          <p:spPr>
            <a:xfrm rot="5400000">
              <a:off x="4023000" y="2933280"/>
              <a:ext cx="2522160" cy="1313280"/>
            </a:xfrm>
            <a:custGeom>
              <a:avLst/>
              <a:gdLst>
                <a:gd name="textAreaLeft" fmla="*/ 345600 w 2522160"/>
                <a:gd name="textAreaRight" fmla="*/ 2176560 w 2522160"/>
                <a:gd name="textAreaTop" fmla="*/ 180000 h 1313280"/>
                <a:gd name="textAreaBottom" fmla="*/ 1133280 h 131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22" y="21600"/>
                  </a:lnTo>
                  <a:lnTo>
                    <a:pt x="2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99cc00"/>
                </a:gs>
              </a:gsLst>
              <a:lin ang="81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4794480" y="3494880"/>
              <a:ext cx="2512080" cy="170640"/>
            </a:xfrm>
            <a:custGeom>
              <a:avLst/>
              <a:gdLst>
                <a:gd name="textAreaLeft" fmla="*/ 315000 w 2512080"/>
                <a:gd name="textAreaRight" fmla="*/ 2197080 w 2512080"/>
                <a:gd name="textAreaTop" fmla="*/ 21240 h 170640"/>
                <a:gd name="textAreaBottom" fmla="*/ 149400 h 17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25098"/>
                  </a:srgbClr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949720" y="2001600"/>
            <a:ext cx="1508040" cy="3171240"/>
            <a:chOff x="5949720" y="2001600"/>
            <a:chExt cx="1508040" cy="3171240"/>
          </a:xfrm>
        </p:grpSpPr>
        <p:sp>
          <p:nvSpPr>
            <p:cNvPr id="668" name=""/>
            <p:cNvSpPr/>
            <p:nvPr/>
          </p:nvSpPr>
          <p:spPr>
            <a:xfrm rot="5400000">
              <a:off x="5023440" y="2933640"/>
              <a:ext cx="3165120" cy="1312920"/>
            </a:xfrm>
            <a:custGeom>
              <a:avLst/>
              <a:gdLst>
                <a:gd name="textAreaLeft" fmla="*/ 433440 w 3165120"/>
                <a:gd name="textAreaRight" fmla="*/ 2731680 w 3165120"/>
                <a:gd name="textAreaTop" fmla="*/ 179640 h 1312920"/>
                <a:gd name="textAreaBottom" fmla="*/ 1133280 h 13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22" y="21600"/>
                  </a:lnTo>
                  <a:lnTo>
                    <a:pt x="2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5796360" y="3492720"/>
              <a:ext cx="3152520" cy="170280"/>
            </a:xfrm>
            <a:custGeom>
              <a:avLst/>
              <a:gdLst>
                <a:gd name="textAreaLeft" fmla="*/ 395640 w 3152520"/>
                <a:gd name="textAreaRight" fmla="*/ 2756880 w 3152520"/>
                <a:gd name="textAreaTop" fmla="*/ 21240 h 170280"/>
                <a:gd name="textAreaBottom" fmla="*/ 14904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25098"/>
                  </a:srgbClr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261200" y="1595520"/>
            <a:ext cx="1508040" cy="3982680"/>
            <a:chOff x="7261200" y="1595520"/>
            <a:chExt cx="1508040" cy="3982680"/>
          </a:xfrm>
        </p:grpSpPr>
        <p:sp>
          <p:nvSpPr>
            <p:cNvPr id="671" name=""/>
            <p:cNvSpPr/>
            <p:nvPr/>
          </p:nvSpPr>
          <p:spPr>
            <a:xfrm rot="5400000">
              <a:off x="5931720" y="2940480"/>
              <a:ext cx="3967200" cy="1308240"/>
            </a:xfrm>
            <a:custGeom>
              <a:avLst/>
              <a:gdLst>
                <a:gd name="textAreaLeft" fmla="*/ 545760 w 3967200"/>
                <a:gd name="textAreaRight" fmla="*/ 3421440 w 3967200"/>
                <a:gd name="textAreaTop" fmla="*/ 180000 h 1308240"/>
                <a:gd name="textAreaBottom" fmla="*/ 1128240 h 130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01" y="21600"/>
                  </a:lnTo>
                  <a:lnTo>
                    <a:pt x="2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6200000">
              <a:off x="6708600" y="3486240"/>
              <a:ext cx="3951360" cy="169920"/>
            </a:xfrm>
            <a:custGeom>
              <a:avLst/>
              <a:gdLst>
                <a:gd name="textAreaLeft" fmla="*/ 495720 w 3951360"/>
                <a:gd name="textAreaRight" fmla="*/ 3455640 w 3951360"/>
                <a:gd name="textAreaTop" fmla="*/ 21240 h 169920"/>
                <a:gd name="textAreaBottom" fmla="*/ 14868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25098"/>
                  </a:srgbClr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252960" y="2879640"/>
            <a:ext cx="143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92400" y="3789360"/>
            <a:ext cx="100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7000" y="3890880"/>
            <a:ext cx="1009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18240" y="4056120"/>
            <a:ext cx="1009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58080" y="4386240"/>
            <a:ext cx="1009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59400" y="3019320"/>
            <a:ext cx="143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80240" y="3164040"/>
            <a:ext cx="143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01080" y="3301920"/>
            <a:ext cx="1439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2320" y="40784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5400000">
            <a:off x="4356720" y="-1650240"/>
            <a:ext cx="642600" cy="6915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73400" y="1612800"/>
            <a:ext cx="30448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4402080" y="-352440"/>
            <a:ext cx="549360" cy="56959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09920" y="229248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402080" y="296640"/>
            <a:ext cx="549360" cy="569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920" y="294156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402080" y="944280"/>
            <a:ext cx="549360" cy="56959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09920" y="358920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402080" y="1595160"/>
            <a:ext cx="549360" cy="569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09920" y="424008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402080" y="2255400"/>
            <a:ext cx="549360" cy="56959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09920" y="490068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 rot="5400000">
            <a:off x="-78480" y="3566160"/>
            <a:ext cx="3200400" cy="4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6200000">
            <a:off x="6224400" y="3565800"/>
            <a:ext cx="3202200" cy="4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rot="5400000">
            <a:off x="4424400" y="-158760"/>
            <a:ext cx="498240" cy="715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41600" y="3166920"/>
            <a:ext cx="1440" cy="5000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68640" y="3166920"/>
            <a:ext cx="1800" cy="5000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05400" y="3166920"/>
            <a:ext cx="1800" cy="5000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4520" y="3166920"/>
            <a:ext cx="1800" cy="5000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344600" y="3313080"/>
            <a:ext cx="900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005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840040" y="3313080"/>
            <a:ext cx="900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006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290840" y="3313080"/>
            <a:ext cx="90036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007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078680" y="3313080"/>
            <a:ext cx="900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009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91" name=""/>
          <p:cNvSpPr/>
          <p:nvPr/>
        </p:nvSpPr>
        <p:spPr>
          <a:xfrm>
            <a:off x="5419800" y="3181320"/>
            <a:ext cx="1387440" cy="47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4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670720" y="3313080"/>
            <a:ext cx="900000" cy="2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008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103400" y="3182400"/>
            <a:ext cx="714672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76400" y="3701880"/>
            <a:ext cx="7181640" cy="123840"/>
          </a:xfrm>
          <a:prstGeom prst="rect">
            <a:avLst/>
          </a:prstGeom>
          <a:gradFill rotWithShape="0">
            <a:gsLst>
              <a:gs pos="0">
                <a:srgbClr val="dddddd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225440" y="174636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140360" y="174636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76600" y="35614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54800" y="35614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55680" y="175752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8099280" y="174636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138560" y="175752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310440" y="1757520"/>
            <a:ext cx="17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65440" y="448776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548320" y="448776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84320" y="1968480"/>
            <a:ext cx="4697280" cy="344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3168720" y="-746280"/>
            <a:ext cx="528480" cy="469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935000" y="1397160"/>
            <a:ext cx="309564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917280" y="5463720"/>
            <a:ext cx="5033880" cy="335160"/>
          </a:xfrm>
          <a:custGeom>
            <a:avLst/>
            <a:gdLst>
              <a:gd name="textAreaLeft" fmla="*/ 491400 w 5033880"/>
              <a:gd name="textAreaRight" fmla="*/ 4542480 w 5033880"/>
              <a:gd name="textAreaTop" fmla="*/ 32760 h 335160"/>
              <a:gd name="textAreaBottom" fmla="*/ 30240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53" y="21600"/>
                </a:lnTo>
                <a:lnTo>
                  <a:pt x="647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581880" y="2989440"/>
            <a:ext cx="1348920" cy="3867480"/>
            <a:chOff x="6581880" y="2989440"/>
            <a:chExt cx="1348920" cy="3867480"/>
          </a:xfrm>
        </p:grpSpPr>
        <p:sp>
          <p:nvSpPr>
            <p:cNvPr id="710" name=""/>
            <p:cNvSpPr/>
            <p:nvPr/>
          </p:nvSpPr>
          <p:spPr>
            <a:xfrm flipH="1" flipV="1">
              <a:off x="6914520" y="6160680"/>
              <a:ext cx="277560" cy="6958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7401600" y="6047280"/>
              <a:ext cx="203760" cy="69516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2">
              <a:lum bright="96000"/>
            </a:blip>
            <a:stretch/>
          </p:blipFill>
          <p:spPr>
            <a:xfrm>
              <a:off x="6581880" y="2989440"/>
              <a:ext cx="1348920" cy="320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"/>
          <p:cNvSpPr/>
          <p:nvPr/>
        </p:nvSpPr>
        <p:spPr>
          <a:xfrm>
            <a:off x="1246320" y="2071800"/>
            <a:ext cx="1317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双击替换图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 flipV="1">
            <a:off x="1368360" y="175896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373040" y="2635200"/>
            <a:ext cx="2200320" cy="161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5400000">
            <a:off x="2208240" y="1134720"/>
            <a:ext cx="528480" cy="2201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535040" y="2108160"/>
            <a:ext cx="187632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8" name=""/>
          <p:cNvSpPr/>
          <p:nvPr/>
        </p:nvSpPr>
        <p:spPr>
          <a:xfrm rot="10800000">
            <a:off x="1374840" y="4306680"/>
            <a:ext cx="2200320" cy="23004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74840" y="1728720"/>
            <a:ext cx="2200320" cy="23040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79520" y="2658960"/>
            <a:ext cx="2168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双击替换图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575160" y="175896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573360" y="268272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83080" y="3559320"/>
            <a:ext cx="2200320" cy="161604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4415400" y="2056320"/>
            <a:ext cx="528840" cy="22068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745080" y="3032280"/>
            <a:ext cx="187632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26" name=""/>
          <p:cNvSpPr/>
          <p:nvPr/>
        </p:nvSpPr>
        <p:spPr>
          <a:xfrm rot="10800000">
            <a:off x="3584520" y="5230440"/>
            <a:ext cx="2200320" cy="23004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84520" y="2652840"/>
            <a:ext cx="2200320" cy="23004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589200" y="3583080"/>
            <a:ext cx="2168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双击替换图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784840" y="201600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788080" y="268272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92760" y="2892600"/>
            <a:ext cx="2200320" cy="161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5400000">
            <a:off x="6625080" y="1389600"/>
            <a:ext cx="528840" cy="22068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954760" y="2365200"/>
            <a:ext cx="187632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5794200" y="4563720"/>
            <a:ext cx="2200320" cy="23004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94200" y="1986120"/>
            <a:ext cx="2200320" cy="230040"/>
          </a:xfrm>
          <a:prstGeom prst="rect">
            <a:avLst/>
          </a:pr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9240" y="2916360"/>
            <a:ext cx="2168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双击替换图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994520" y="2016000"/>
            <a:ext cx="0" cy="27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919240" y="2873520"/>
            <a:ext cx="2235240" cy="22348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586320" y="1684440"/>
            <a:ext cx="2234880" cy="2235240"/>
          </a:xfrm>
          <a:prstGeom prst="ellipse">
            <a:avLst/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未知"/>
          <p:cNvSpPr/>
          <p:nvPr/>
        </p:nvSpPr>
        <p:spPr>
          <a:xfrm>
            <a:off x="3157560" y="2906640"/>
            <a:ext cx="1689120" cy="8193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06760" y="2873520"/>
            <a:ext cx="2235240" cy="2234880"/>
          </a:xfrm>
          <a:prstGeom prst="ellipse">
            <a:avLst/>
          </a:prstGeom>
          <a:gradFill rotWithShape="0">
            <a:gsLst>
              <a:gs pos="0">
                <a:srgbClr val="ff9900">
                  <a:alpha val="89019"/>
                </a:srgbClr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22960" y="20606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22960" y="475128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76160" y="475128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未知"/>
          <p:cNvSpPr/>
          <p:nvPr/>
        </p:nvSpPr>
        <p:spPr>
          <a:xfrm>
            <a:off x="3855960" y="1700280"/>
            <a:ext cx="1689120" cy="8190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未知"/>
          <p:cNvSpPr/>
          <p:nvPr/>
        </p:nvSpPr>
        <p:spPr>
          <a:xfrm>
            <a:off x="4668840" y="2894040"/>
            <a:ext cx="1689120" cy="8190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329000" y="2095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56360" y="3632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8320" y="3632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932200" y="1755720"/>
            <a:ext cx="3736800" cy="3737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60880" y="2335320"/>
            <a:ext cx="3079440" cy="30812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3080" y="2973240"/>
            <a:ext cx="2373120" cy="23734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98880" y="3657600"/>
            <a:ext cx="1603440" cy="1601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90000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未知"/>
          <p:cNvSpPr/>
          <p:nvPr/>
        </p:nvSpPr>
        <p:spPr>
          <a:xfrm>
            <a:off x="4354560" y="3714840"/>
            <a:ext cx="871560" cy="422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98880" y="3672000"/>
            <a:ext cx="1603440" cy="1603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90000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未知"/>
          <p:cNvSpPr/>
          <p:nvPr/>
        </p:nvSpPr>
        <p:spPr>
          <a:xfrm>
            <a:off x="4184640" y="3695760"/>
            <a:ext cx="1209600" cy="5871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未知"/>
          <p:cNvSpPr/>
          <p:nvPr/>
        </p:nvSpPr>
        <p:spPr>
          <a:xfrm>
            <a:off x="3919680" y="3002040"/>
            <a:ext cx="1682640" cy="8157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未知"/>
          <p:cNvSpPr/>
          <p:nvPr/>
        </p:nvSpPr>
        <p:spPr>
          <a:xfrm>
            <a:off x="3651120" y="2363760"/>
            <a:ext cx="2219400" cy="10764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未知"/>
          <p:cNvSpPr/>
          <p:nvPr/>
        </p:nvSpPr>
        <p:spPr>
          <a:xfrm>
            <a:off x="3292560" y="1784520"/>
            <a:ext cx="2994120" cy="1452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未知"/>
          <p:cNvSpPr/>
          <p:nvPr/>
        </p:nvSpPr>
        <p:spPr>
          <a:xfrm rot="3600000">
            <a:off x="4843800" y="4385520"/>
            <a:ext cx="285840" cy="100152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bebebe">
                  <a:alpha val="0"/>
                </a:srgbClr>
              </a:gs>
              <a:gs pos="100000">
                <a:srgbClr val="ff0000">
                  <a:alpha val="73333"/>
                </a:srgbClr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76160" y="475128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76160" y="166536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34280" y="166536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34280" y="4732200"/>
            <a:ext cx="24476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010040" y="414036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838080" y="2082960"/>
            <a:ext cx="7696440" cy="33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10800000">
            <a:off x="887040" y="5222520"/>
            <a:ext cx="7575480" cy="200160"/>
          </a:xfrm>
          <a:custGeom>
            <a:avLst/>
            <a:gdLst>
              <a:gd name="textAreaLeft" fmla="*/ 950760 w 7575480"/>
              <a:gd name="textAreaRight" fmla="*/ 6624720 w 7575480"/>
              <a:gd name="textAreaTop" fmla="*/ 24840 h 200160"/>
              <a:gd name="textAreaBottom" fmla="*/ 1753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39880" y="2076480"/>
            <a:ext cx="7692840" cy="339084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368520" y="3772080"/>
            <a:ext cx="3002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473440" y="3772080"/>
            <a:ext cx="2998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2597040"/>
            <a:ext cx="0" cy="31932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0" y="4686480"/>
            <a:ext cx="0" cy="3124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7440" y="2146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67440" y="445140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81000" y="2146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981000" y="445140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672000" y="2913120"/>
            <a:ext cx="1800000" cy="1765080"/>
            <a:chOff x="3672000" y="2913120"/>
            <a:chExt cx="1800000" cy="1765080"/>
          </a:xfrm>
        </p:grpSpPr>
        <p:grpSp>
          <p:nvGrpSpPr>
            <p:cNvPr id="778" name=""/>
            <p:cNvGrpSpPr/>
            <p:nvPr/>
          </p:nvGrpSpPr>
          <p:grpSpPr>
            <a:xfrm>
              <a:off x="3672000" y="2913120"/>
              <a:ext cx="1800000" cy="1765080"/>
              <a:chOff x="3672000" y="2913120"/>
              <a:chExt cx="1800000" cy="1765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672000" y="2913120"/>
                <a:ext cx="1800000" cy="17650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 rot="5400000">
                <a:off x="4250880" y="2438280"/>
                <a:ext cx="664560" cy="16459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未知"/>
            <p:cNvSpPr/>
            <p:nvPr/>
          </p:nvSpPr>
          <p:spPr>
            <a:xfrm rot="3600000">
              <a:off x="4719600" y="3726720"/>
              <a:ext cx="281160" cy="10980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775480" y="3378240"/>
            <a:ext cx="777600" cy="758880"/>
            <a:chOff x="5775480" y="3378240"/>
            <a:chExt cx="777600" cy="758880"/>
          </a:xfrm>
        </p:grpSpPr>
        <p:grpSp>
          <p:nvGrpSpPr>
            <p:cNvPr id="783" name=""/>
            <p:cNvGrpSpPr/>
            <p:nvPr/>
          </p:nvGrpSpPr>
          <p:grpSpPr>
            <a:xfrm>
              <a:off x="5775480" y="3378240"/>
              <a:ext cx="777600" cy="758880"/>
              <a:chOff x="5775480" y="3378240"/>
              <a:chExt cx="777600" cy="75888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5775480" y="3378240"/>
                <a:ext cx="777600" cy="758880"/>
                <a:chOff x="5775480" y="3378240"/>
                <a:chExt cx="777600" cy="75888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75480" y="3378240"/>
                  <a:ext cx="77760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未知"/>
                <p:cNvSpPr/>
                <p:nvPr/>
              </p:nvSpPr>
              <p:spPr>
                <a:xfrm rot="5400000">
                  <a:off x="6026040" y="3172320"/>
                  <a:ext cx="285480" cy="71100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未知"/>
              <p:cNvSpPr/>
              <p:nvPr/>
            </p:nvSpPr>
            <p:spPr>
              <a:xfrm rot="3600000">
                <a:off x="6228360" y="37267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 txBox="1"/>
            <p:nvPr/>
          </p:nvSpPr>
          <p:spPr>
            <a:xfrm>
              <a:off x="5965560" y="3549600"/>
              <a:ext cx="38088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581200" y="3378240"/>
            <a:ext cx="777960" cy="758880"/>
            <a:chOff x="2581200" y="3378240"/>
            <a:chExt cx="777960" cy="758880"/>
          </a:xfrm>
        </p:grpSpPr>
        <p:grpSp>
          <p:nvGrpSpPr>
            <p:cNvPr id="790" name=""/>
            <p:cNvGrpSpPr/>
            <p:nvPr/>
          </p:nvGrpSpPr>
          <p:grpSpPr>
            <a:xfrm>
              <a:off x="2581200" y="3378240"/>
              <a:ext cx="777960" cy="758880"/>
              <a:chOff x="2581200" y="3378240"/>
              <a:chExt cx="777960" cy="75888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2581200" y="3378240"/>
                <a:ext cx="777960" cy="758880"/>
                <a:chOff x="2581200" y="3378240"/>
                <a:chExt cx="777960" cy="75888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2581200" y="3378240"/>
                  <a:ext cx="77796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未知"/>
                <p:cNvSpPr/>
                <p:nvPr/>
              </p:nvSpPr>
              <p:spPr>
                <a:xfrm rot="5400000">
                  <a:off x="2832120" y="317196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未知"/>
              <p:cNvSpPr/>
              <p:nvPr/>
            </p:nvSpPr>
            <p:spPr>
              <a:xfrm rot="3600000">
                <a:off x="3034080" y="37267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 txBox="1"/>
            <p:nvPr/>
          </p:nvSpPr>
          <p:spPr>
            <a:xfrm>
              <a:off x="2771640" y="3537000"/>
              <a:ext cx="38124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3676680" y="3222720"/>
            <a:ext cx="1811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43120" y="2071800"/>
            <a:ext cx="7675560" cy="387360"/>
          </a:xfrm>
          <a:prstGeom prst="rect">
            <a:avLst/>
          </a:prstGeom>
          <a:gradFill rotWithShape="0">
            <a:gsLst>
              <a:gs pos="0">
                <a:srgbClr val="c0c0c0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0800000">
            <a:off x="871560" y="5166720"/>
            <a:ext cx="7624800" cy="276120"/>
          </a:xfrm>
          <a:custGeom>
            <a:avLst/>
            <a:gdLst>
              <a:gd name="textAreaLeft" fmla="*/ 956880 w 7624800"/>
              <a:gd name="textAreaRight" fmla="*/ 6667920 w 7624800"/>
              <a:gd name="textAreaTop" fmla="*/ 34560 h 276120"/>
              <a:gd name="textAreaBottom" fmla="*/ 2415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4187880" y="1827360"/>
            <a:ext cx="777960" cy="758520"/>
            <a:chOff x="4187880" y="1827360"/>
            <a:chExt cx="777960" cy="758520"/>
          </a:xfrm>
        </p:grpSpPr>
        <p:grpSp>
          <p:nvGrpSpPr>
            <p:cNvPr id="800" name=""/>
            <p:cNvGrpSpPr/>
            <p:nvPr/>
          </p:nvGrpSpPr>
          <p:grpSpPr>
            <a:xfrm>
              <a:off x="4187880" y="1827360"/>
              <a:ext cx="777960" cy="758520"/>
              <a:chOff x="4187880" y="1827360"/>
              <a:chExt cx="777960" cy="75852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187880" y="1827360"/>
                <a:ext cx="777960" cy="758520"/>
                <a:chOff x="4187880" y="1827360"/>
                <a:chExt cx="777960" cy="7585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187880" y="1827360"/>
                  <a:ext cx="777960" cy="75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未知"/>
                <p:cNvSpPr/>
                <p:nvPr/>
              </p:nvSpPr>
              <p:spPr>
                <a:xfrm rot="5400000">
                  <a:off x="4438800" y="162108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未知"/>
              <p:cNvSpPr/>
              <p:nvPr/>
            </p:nvSpPr>
            <p:spPr>
              <a:xfrm rot="3600000">
                <a:off x="4640760" y="217548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"/>
            <p:cNvSpPr txBox="1"/>
            <p:nvPr/>
          </p:nvSpPr>
          <p:spPr>
            <a:xfrm>
              <a:off x="4407120" y="1998360"/>
              <a:ext cx="244440" cy="42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179960" y="5005440"/>
            <a:ext cx="777960" cy="758880"/>
            <a:chOff x="4179960" y="5005440"/>
            <a:chExt cx="777960" cy="758880"/>
          </a:xfrm>
        </p:grpSpPr>
        <p:grpSp>
          <p:nvGrpSpPr>
            <p:cNvPr id="807" name=""/>
            <p:cNvGrpSpPr/>
            <p:nvPr/>
          </p:nvGrpSpPr>
          <p:grpSpPr>
            <a:xfrm>
              <a:off x="4179960" y="5005440"/>
              <a:ext cx="777960" cy="758880"/>
              <a:chOff x="4179960" y="5005440"/>
              <a:chExt cx="777960" cy="75888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4179960" y="5005440"/>
                <a:ext cx="777960" cy="758880"/>
                <a:chOff x="4179960" y="5005440"/>
                <a:chExt cx="777960" cy="7588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179960" y="5005440"/>
                  <a:ext cx="77796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未知"/>
                <p:cNvSpPr/>
                <p:nvPr/>
              </p:nvSpPr>
              <p:spPr>
                <a:xfrm rot="5400000">
                  <a:off x="4430880" y="479916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未知"/>
              <p:cNvSpPr/>
              <p:nvPr/>
            </p:nvSpPr>
            <p:spPr>
              <a:xfrm rot="3600000">
                <a:off x="4632840" y="53539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 txBox="1"/>
            <p:nvPr/>
          </p:nvSpPr>
          <p:spPr>
            <a:xfrm>
              <a:off x="4376880" y="5176800"/>
              <a:ext cx="38088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838080" y="2082960"/>
            <a:ext cx="7696440" cy="336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10800000">
            <a:off x="887040" y="5236560"/>
            <a:ext cx="7575480" cy="199800"/>
          </a:xfrm>
          <a:custGeom>
            <a:avLst/>
            <a:gdLst>
              <a:gd name="textAreaLeft" fmla="*/ 950760 w 7575480"/>
              <a:gd name="textAreaRight" fmla="*/ 6624720 w 7575480"/>
              <a:gd name="textAreaTop" fmla="*/ 24840 h 199800"/>
              <a:gd name="textAreaBottom" fmla="*/ 174960 h 1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39880" y="2076480"/>
            <a:ext cx="7692840" cy="339084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368520" y="3772080"/>
            <a:ext cx="30024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473440" y="3772080"/>
            <a:ext cx="2998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2597040"/>
            <a:ext cx="0" cy="31932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72000" y="4686480"/>
            <a:ext cx="0" cy="3124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67440" y="2146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67440" y="445140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81000" y="214632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81000" y="445140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672000" y="2913120"/>
            <a:ext cx="1800000" cy="1765080"/>
            <a:chOff x="3672000" y="2913120"/>
            <a:chExt cx="1800000" cy="1765080"/>
          </a:xfrm>
        </p:grpSpPr>
        <p:grpSp>
          <p:nvGrpSpPr>
            <p:cNvPr id="825" name=""/>
            <p:cNvGrpSpPr/>
            <p:nvPr/>
          </p:nvGrpSpPr>
          <p:grpSpPr>
            <a:xfrm>
              <a:off x="3672000" y="2913120"/>
              <a:ext cx="1800000" cy="1765080"/>
              <a:chOff x="3672000" y="2913120"/>
              <a:chExt cx="1800000" cy="1765080"/>
            </a:xfrm>
          </p:grpSpPr>
          <p:sp>
            <p:nvSpPr>
              <p:cNvPr id="826" name=""/>
              <p:cNvSpPr/>
              <p:nvPr/>
            </p:nvSpPr>
            <p:spPr>
              <a:xfrm>
                <a:off x="3672000" y="2913120"/>
                <a:ext cx="1800000" cy="17650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rot="5400000">
                <a:off x="4250880" y="2438280"/>
                <a:ext cx="664560" cy="16459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未知"/>
            <p:cNvSpPr/>
            <p:nvPr/>
          </p:nvSpPr>
          <p:spPr>
            <a:xfrm rot="3600000">
              <a:off x="4719600" y="3726720"/>
              <a:ext cx="281160" cy="10980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775480" y="3378240"/>
            <a:ext cx="777600" cy="758880"/>
            <a:chOff x="5775480" y="3378240"/>
            <a:chExt cx="777600" cy="758880"/>
          </a:xfrm>
        </p:grpSpPr>
        <p:grpSp>
          <p:nvGrpSpPr>
            <p:cNvPr id="830" name=""/>
            <p:cNvGrpSpPr/>
            <p:nvPr/>
          </p:nvGrpSpPr>
          <p:grpSpPr>
            <a:xfrm>
              <a:off x="5775480" y="3378240"/>
              <a:ext cx="777600" cy="758880"/>
              <a:chOff x="5775480" y="3378240"/>
              <a:chExt cx="777600" cy="75888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5775480" y="3378240"/>
                <a:ext cx="777600" cy="758880"/>
                <a:chOff x="5775480" y="3378240"/>
                <a:chExt cx="777600" cy="75888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775480" y="3378240"/>
                  <a:ext cx="77760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未知"/>
                <p:cNvSpPr/>
                <p:nvPr/>
              </p:nvSpPr>
              <p:spPr>
                <a:xfrm rot="5400000">
                  <a:off x="6026040" y="3172320"/>
                  <a:ext cx="285480" cy="71100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未知"/>
              <p:cNvSpPr/>
              <p:nvPr/>
            </p:nvSpPr>
            <p:spPr>
              <a:xfrm rot="3600000">
                <a:off x="6228360" y="37267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 txBox="1"/>
            <p:nvPr/>
          </p:nvSpPr>
          <p:spPr>
            <a:xfrm>
              <a:off x="5965560" y="3549600"/>
              <a:ext cx="38088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179960" y="5005440"/>
            <a:ext cx="777960" cy="758880"/>
            <a:chOff x="4179960" y="5005440"/>
            <a:chExt cx="777960" cy="758880"/>
          </a:xfrm>
        </p:grpSpPr>
        <p:grpSp>
          <p:nvGrpSpPr>
            <p:cNvPr id="837" name=""/>
            <p:cNvGrpSpPr/>
            <p:nvPr/>
          </p:nvGrpSpPr>
          <p:grpSpPr>
            <a:xfrm>
              <a:off x="4179960" y="5005440"/>
              <a:ext cx="777960" cy="758880"/>
              <a:chOff x="4179960" y="5005440"/>
              <a:chExt cx="777960" cy="7588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4179960" y="5005440"/>
                <a:ext cx="777960" cy="758880"/>
                <a:chOff x="4179960" y="5005440"/>
                <a:chExt cx="777960" cy="75888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4179960" y="5005440"/>
                  <a:ext cx="77796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未知"/>
                <p:cNvSpPr/>
                <p:nvPr/>
              </p:nvSpPr>
              <p:spPr>
                <a:xfrm rot="5400000">
                  <a:off x="4430880" y="479916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未知"/>
              <p:cNvSpPr/>
              <p:nvPr/>
            </p:nvSpPr>
            <p:spPr>
              <a:xfrm rot="3600000">
                <a:off x="4632840" y="53539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"/>
            <p:cNvSpPr txBox="1"/>
            <p:nvPr/>
          </p:nvSpPr>
          <p:spPr>
            <a:xfrm>
              <a:off x="4376880" y="5176800"/>
              <a:ext cx="38088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581200" y="3378240"/>
            <a:ext cx="777960" cy="758880"/>
            <a:chOff x="2581200" y="3378240"/>
            <a:chExt cx="777960" cy="758880"/>
          </a:xfrm>
        </p:grpSpPr>
        <p:grpSp>
          <p:nvGrpSpPr>
            <p:cNvPr id="844" name=""/>
            <p:cNvGrpSpPr/>
            <p:nvPr/>
          </p:nvGrpSpPr>
          <p:grpSpPr>
            <a:xfrm>
              <a:off x="2581200" y="3378240"/>
              <a:ext cx="777960" cy="758880"/>
              <a:chOff x="2581200" y="3378240"/>
              <a:chExt cx="777960" cy="7588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2581200" y="3378240"/>
                <a:ext cx="777960" cy="758880"/>
                <a:chOff x="2581200" y="3378240"/>
                <a:chExt cx="777960" cy="758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2581200" y="3378240"/>
                  <a:ext cx="777960" cy="75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未知"/>
                <p:cNvSpPr/>
                <p:nvPr/>
              </p:nvSpPr>
              <p:spPr>
                <a:xfrm rot="5400000">
                  <a:off x="2832120" y="317196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未知"/>
              <p:cNvSpPr/>
              <p:nvPr/>
            </p:nvSpPr>
            <p:spPr>
              <a:xfrm rot="3600000">
                <a:off x="3034080" y="372672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 txBox="1"/>
            <p:nvPr/>
          </p:nvSpPr>
          <p:spPr>
            <a:xfrm>
              <a:off x="2771640" y="3537000"/>
              <a:ext cx="38124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3676680" y="3222720"/>
            <a:ext cx="1811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52480" y="2090880"/>
            <a:ext cx="766116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187880" y="1827360"/>
            <a:ext cx="777960" cy="758520"/>
            <a:chOff x="4187880" y="1827360"/>
            <a:chExt cx="777960" cy="758520"/>
          </a:xfrm>
        </p:grpSpPr>
        <p:grpSp>
          <p:nvGrpSpPr>
            <p:cNvPr id="853" name=""/>
            <p:cNvGrpSpPr/>
            <p:nvPr/>
          </p:nvGrpSpPr>
          <p:grpSpPr>
            <a:xfrm>
              <a:off x="4187880" y="1827360"/>
              <a:ext cx="777960" cy="758520"/>
              <a:chOff x="4187880" y="1827360"/>
              <a:chExt cx="777960" cy="75852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4187880" y="1827360"/>
                <a:ext cx="777960" cy="758520"/>
                <a:chOff x="4187880" y="1827360"/>
                <a:chExt cx="777960" cy="75852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4187880" y="1827360"/>
                  <a:ext cx="777960" cy="75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未知"/>
                <p:cNvSpPr/>
                <p:nvPr/>
              </p:nvSpPr>
              <p:spPr>
                <a:xfrm rot="5400000">
                  <a:off x="4438800" y="1621080"/>
                  <a:ext cx="285480" cy="711360"/>
                </a:xfrm>
                <a:custGeom>
                  <a:avLst/>
                  <a:gdLst/>
                  <a:ahLst/>
                  <a:rect l="l" t="t" r="r" b="b"/>
                  <a:pathLst>
                    <a:path w="174" h="348">
                      <a:moveTo>
                        <a:pt x="173" y="0"/>
                      </a:moveTo>
                      <a:cubicBezTo>
                        <a:pt x="77" y="0"/>
                        <a:pt x="0" y="77"/>
                        <a:pt x="0" y="173"/>
                      </a:cubicBezTo>
                      <a:cubicBezTo>
                        <a:pt x="0" y="270"/>
                        <a:pt x="77" y="348"/>
                        <a:pt x="174" y="348"/>
                      </a:cubicBezTo>
                      <a:lnTo>
                        <a:pt x="174" y="17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bebe">
                        <a:alpha val="0"/>
                      </a:srgbClr>
                    </a:gs>
                    <a:gs pos="100000">
                      <a:srgbClr val="ffffff">
                        <a:alpha val="3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未知"/>
              <p:cNvSpPr/>
              <p:nvPr/>
            </p:nvSpPr>
            <p:spPr>
              <a:xfrm rot="3600000">
                <a:off x="4640760" y="2175480"/>
                <a:ext cx="120960" cy="4744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 txBox="1"/>
            <p:nvPr/>
          </p:nvSpPr>
          <p:spPr>
            <a:xfrm>
              <a:off x="4407120" y="1998360"/>
              <a:ext cx="244440" cy="42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 flipV="1">
            <a:off x="2606760" y="380844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224000" y="208116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303960" y="3049560"/>
            <a:ext cx="777960" cy="758880"/>
            <a:chOff x="6303960" y="3049560"/>
            <a:chExt cx="777960" cy="758880"/>
          </a:xfrm>
        </p:grpSpPr>
        <p:grpSp>
          <p:nvGrpSpPr>
            <p:cNvPr id="862" name=""/>
            <p:cNvGrpSpPr/>
            <p:nvPr/>
          </p:nvGrpSpPr>
          <p:grpSpPr>
            <a:xfrm>
              <a:off x="6303960" y="3049560"/>
              <a:ext cx="777960" cy="758880"/>
              <a:chOff x="6303960" y="3049560"/>
              <a:chExt cx="777960" cy="758880"/>
            </a:xfrm>
          </p:grpSpPr>
          <p:sp>
            <p:nvSpPr>
              <p:cNvPr id="863" name=""/>
              <p:cNvSpPr/>
              <p:nvPr/>
            </p:nvSpPr>
            <p:spPr>
              <a:xfrm>
                <a:off x="6303960" y="3049560"/>
                <a:ext cx="777960" cy="758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5400000">
                <a:off x="6554880" y="2843280"/>
                <a:ext cx="285480" cy="711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未知"/>
            <p:cNvSpPr/>
            <p:nvPr/>
          </p:nvSpPr>
          <p:spPr>
            <a:xfrm rot="3600000">
              <a:off x="6756840" y="3398040"/>
              <a:ext cx="120960" cy="474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944960" y="3049560"/>
            <a:ext cx="777960" cy="758880"/>
            <a:chOff x="4944960" y="3049560"/>
            <a:chExt cx="777960" cy="758880"/>
          </a:xfrm>
        </p:grpSpPr>
        <p:grpSp>
          <p:nvGrpSpPr>
            <p:cNvPr id="867" name=""/>
            <p:cNvGrpSpPr/>
            <p:nvPr/>
          </p:nvGrpSpPr>
          <p:grpSpPr>
            <a:xfrm>
              <a:off x="4944960" y="3049560"/>
              <a:ext cx="777960" cy="758880"/>
              <a:chOff x="4944960" y="3049560"/>
              <a:chExt cx="777960" cy="758880"/>
            </a:xfrm>
          </p:grpSpPr>
          <p:sp>
            <p:nvSpPr>
              <p:cNvPr id="868" name=""/>
              <p:cNvSpPr/>
              <p:nvPr/>
            </p:nvSpPr>
            <p:spPr>
              <a:xfrm>
                <a:off x="4944960" y="3049560"/>
                <a:ext cx="777960" cy="758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 rot="5400000">
                <a:off x="5195880" y="2843280"/>
                <a:ext cx="285480" cy="711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未知"/>
            <p:cNvSpPr/>
            <p:nvPr/>
          </p:nvSpPr>
          <p:spPr>
            <a:xfrm rot="3600000">
              <a:off x="5397840" y="3398040"/>
              <a:ext cx="120960" cy="474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3586320" y="3049560"/>
            <a:ext cx="777600" cy="758880"/>
            <a:chOff x="3586320" y="3049560"/>
            <a:chExt cx="777600" cy="758880"/>
          </a:xfrm>
        </p:grpSpPr>
        <p:grpSp>
          <p:nvGrpSpPr>
            <p:cNvPr id="872" name=""/>
            <p:cNvGrpSpPr/>
            <p:nvPr/>
          </p:nvGrpSpPr>
          <p:grpSpPr>
            <a:xfrm>
              <a:off x="3586320" y="3049560"/>
              <a:ext cx="777600" cy="758880"/>
              <a:chOff x="3586320" y="3049560"/>
              <a:chExt cx="777600" cy="758880"/>
            </a:xfrm>
          </p:grpSpPr>
          <p:sp>
            <p:nvSpPr>
              <p:cNvPr id="873" name=""/>
              <p:cNvSpPr/>
              <p:nvPr/>
            </p:nvSpPr>
            <p:spPr>
              <a:xfrm>
                <a:off x="3586320" y="3049560"/>
                <a:ext cx="777600" cy="758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rot="5400000">
                <a:off x="3836880" y="2843640"/>
                <a:ext cx="285480" cy="71100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未知"/>
            <p:cNvSpPr/>
            <p:nvPr/>
          </p:nvSpPr>
          <p:spPr>
            <a:xfrm rot="3600000">
              <a:off x="4039200" y="3398040"/>
              <a:ext cx="120960" cy="474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0160" y="3049560"/>
            <a:ext cx="777960" cy="758880"/>
            <a:chOff x="830160" y="3049560"/>
            <a:chExt cx="777960" cy="758880"/>
          </a:xfrm>
        </p:grpSpPr>
        <p:grpSp>
          <p:nvGrpSpPr>
            <p:cNvPr id="877" name=""/>
            <p:cNvGrpSpPr/>
            <p:nvPr/>
          </p:nvGrpSpPr>
          <p:grpSpPr>
            <a:xfrm>
              <a:off x="830160" y="3049560"/>
              <a:ext cx="777960" cy="758880"/>
              <a:chOff x="830160" y="3049560"/>
              <a:chExt cx="777960" cy="758880"/>
            </a:xfrm>
          </p:grpSpPr>
          <p:sp>
            <p:nvSpPr>
              <p:cNvPr id="878" name=""/>
              <p:cNvSpPr/>
              <p:nvPr/>
            </p:nvSpPr>
            <p:spPr>
              <a:xfrm>
                <a:off x="830160" y="3049560"/>
                <a:ext cx="777960" cy="758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 rot="5400000">
                <a:off x="1081080" y="2843280"/>
                <a:ext cx="285480" cy="711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未知"/>
            <p:cNvSpPr/>
            <p:nvPr/>
          </p:nvSpPr>
          <p:spPr>
            <a:xfrm rot="3600000">
              <a:off x="1283040" y="3398040"/>
              <a:ext cx="120960" cy="474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127240" y="2970360"/>
            <a:ext cx="939960" cy="917280"/>
            <a:chOff x="2127240" y="2970360"/>
            <a:chExt cx="939960" cy="917280"/>
          </a:xfrm>
        </p:grpSpPr>
        <p:grpSp>
          <p:nvGrpSpPr>
            <p:cNvPr id="882" name=""/>
            <p:cNvGrpSpPr/>
            <p:nvPr/>
          </p:nvGrpSpPr>
          <p:grpSpPr>
            <a:xfrm>
              <a:off x="2127240" y="2970360"/>
              <a:ext cx="939960" cy="917280"/>
              <a:chOff x="2127240" y="2970360"/>
              <a:chExt cx="939960" cy="917280"/>
            </a:xfrm>
          </p:grpSpPr>
          <p:sp>
            <p:nvSpPr>
              <p:cNvPr id="883" name=""/>
              <p:cNvSpPr/>
              <p:nvPr/>
            </p:nvSpPr>
            <p:spPr>
              <a:xfrm>
                <a:off x="2127240" y="2970360"/>
                <a:ext cx="939960" cy="9172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 rot="5400000">
                <a:off x="2430360" y="2721240"/>
                <a:ext cx="345240" cy="8596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未知"/>
            <p:cNvSpPr/>
            <p:nvPr/>
          </p:nvSpPr>
          <p:spPr>
            <a:xfrm rot="3600000">
              <a:off x="2674080" y="3391560"/>
              <a:ext cx="146160" cy="573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H="1">
            <a:off x="1614600" y="3436920"/>
            <a:ext cx="682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072960" y="3436920"/>
            <a:ext cx="614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382640" y="3436920"/>
            <a:ext cx="652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715000" y="3436920"/>
            <a:ext cx="682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782880" y="3220920"/>
            <a:ext cx="3812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5135400" y="3220920"/>
            <a:ext cx="3812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4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513480" y="3220920"/>
            <a:ext cx="3808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5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049400" y="3220920"/>
            <a:ext cx="2444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2354400" y="3111480"/>
            <a:ext cx="5079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5" name=""/>
          <p:cNvSpPr/>
          <p:nvPr/>
        </p:nvSpPr>
        <p:spPr>
          <a:xfrm>
            <a:off x="1254240" y="1990800"/>
            <a:ext cx="17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968640" y="208116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998880" y="199080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49240" y="420048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327640" y="380844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44920" y="420048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8148600" y="380844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365880" y="4200480"/>
            <a:ext cx="17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7693200" y="3049560"/>
            <a:ext cx="777600" cy="758880"/>
            <a:chOff x="7693200" y="3049560"/>
            <a:chExt cx="777600" cy="758880"/>
          </a:xfrm>
        </p:grpSpPr>
        <p:grpSp>
          <p:nvGrpSpPr>
            <p:cNvPr id="904" name=""/>
            <p:cNvGrpSpPr/>
            <p:nvPr/>
          </p:nvGrpSpPr>
          <p:grpSpPr>
            <a:xfrm>
              <a:off x="7693200" y="3049560"/>
              <a:ext cx="777600" cy="758880"/>
              <a:chOff x="7693200" y="3049560"/>
              <a:chExt cx="777600" cy="758880"/>
            </a:xfrm>
          </p:grpSpPr>
          <p:sp>
            <p:nvSpPr>
              <p:cNvPr id="905" name=""/>
              <p:cNvSpPr/>
              <p:nvPr/>
            </p:nvSpPr>
            <p:spPr>
              <a:xfrm>
                <a:off x="7693200" y="3049560"/>
                <a:ext cx="777600" cy="758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未知"/>
              <p:cNvSpPr/>
              <p:nvPr/>
            </p:nvSpPr>
            <p:spPr>
              <a:xfrm rot="5400000">
                <a:off x="7943760" y="2843640"/>
                <a:ext cx="285480" cy="71100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未知"/>
            <p:cNvSpPr/>
            <p:nvPr/>
          </p:nvSpPr>
          <p:spPr>
            <a:xfrm rot="3600000">
              <a:off x="8146080" y="3398040"/>
              <a:ext cx="120960" cy="474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 flipH="1">
            <a:off x="7104240" y="3436920"/>
            <a:ext cx="682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902720" y="3220920"/>
            <a:ext cx="3808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6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686640" y="2081160"/>
            <a:ext cx="0" cy="95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716880" y="1990800"/>
            <a:ext cx="17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546120" y="4643280"/>
            <a:ext cx="8232840" cy="85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120" y="3728880"/>
            <a:ext cx="8232840" cy="85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6120" y="2552760"/>
            <a:ext cx="8232840" cy="11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46120" y="1638360"/>
            <a:ext cx="8232840" cy="85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47560" y="1635120"/>
            <a:ext cx="8232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47560" y="1643040"/>
            <a:ext cx="8229600" cy="38088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7560" y="2548080"/>
            <a:ext cx="8229600" cy="38088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7560" y="3710160"/>
            <a:ext cx="8229600" cy="38088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7560" y="4629240"/>
            <a:ext cx="8229600" cy="38088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123920" y="2598840"/>
            <a:ext cx="1035000" cy="1014480"/>
            <a:chOff x="1123920" y="2598840"/>
            <a:chExt cx="1035000" cy="1014480"/>
          </a:xfrm>
        </p:grpSpPr>
        <p:grpSp>
          <p:nvGrpSpPr>
            <p:cNvPr id="922" name=""/>
            <p:cNvGrpSpPr/>
            <p:nvPr/>
          </p:nvGrpSpPr>
          <p:grpSpPr>
            <a:xfrm>
              <a:off x="1123920" y="2598840"/>
              <a:ext cx="1035000" cy="1014480"/>
              <a:chOff x="1123920" y="2598840"/>
              <a:chExt cx="1035000" cy="1014480"/>
            </a:xfrm>
          </p:grpSpPr>
          <p:sp>
            <p:nvSpPr>
              <p:cNvPr id="923" name=""/>
              <p:cNvSpPr/>
              <p:nvPr/>
            </p:nvSpPr>
            <p:spPr>
              <a:xfrm>
                <a:off x="1123920" y="2598840"/>
                <a:ext cx="1035000" cy="10144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未知"/>
              <p:cNvSpPr/>
              <p:nvPr/>
            </p:nvSpPr>
            <p:spPr>
              <a:xfrm rot="5400000">
                <a:off x="1456560" y="2325600"/>
                <a:ext cx="381960" cy="9464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未知"/>
            <p:cNvSpPr/>
            <p:nvPr/>
          </p:nvSpPr>
          <p:spPr>
            <a:xfrm rot="3600000">
              <a:off x="1726560" y="3066120"/>
              <a:ext cx="161640" cy="6314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266840" y="1679400"/>
            <a:ext cx="772920" cy="756000"/>
            <a:chOff x="1266840" y="1679400"/>
            <a:chExt cx="772920" cy="756000"/>
          </a:xfrm>
        </p:grpSpPr>
        <p:grpSp>
          <p:nvGrpSpPr>
            <p:cNvPr id="927" name=""/>
            <p:cNvGrpSpPr/>
            <p:nvPr/>
          </p:nvGrpSpPr>
          <p:grpSpPr>
            <a:xfrm>
              <a:off x="1266840" y="1679400"/>
              <a:ext cx="772920" cy="756000"/>
              <a:chOff x="1266840" y="1679400"/>
              <a:chExt cx="772920" cy="756000"/>
            </a:xfrm>
          </p:grpSpPr>
          <p:sp>
            <p:nvSpPr>
              <p:cNvPr id="928" name=""/>
              <p:cNvSpPr/>
              <p:nvPr/>
            </p:nvSpPr>
            <p:spPr>
              <a:xfrm>
                <a:off x="1266840" y="1679400"/>
                <a:ext cx="772920" cy="75600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未知"/>
              <p:cNvSpPr/>
              <p:nvPr/>
            </p:nvSpPr>
            <p:spPr>
              <a:xfrm rot="5400000">
                <a:off x="1515960" y="1474920"/>
                <a:ext cx="284400" cy="7070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未知"/>
            <p:cNvSpPr/>
            <p:nvPr/>
          </p:nvSpPr>
          <p:spPr>
            <a:xfrm rot="3600000">
              <a:off x="1716840" y="2027160"/>
              <a:ext cx="120240" cy="4716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b2b2b2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254240" y="3762360"/>
            <a:ext cx="772920" cy="755640"/>
            <a:chOff x="1254240" y="3762360"/>
            <a:chExt cx="772920" cy="755640"/>
          </a:xfrm>
        </p:grpSpPr>
        <p:grpSp>
          <p:nvGrpSpPr>
            <p:cNvPr id="932" name=""/>
            <p:cNvGrpSpPr/>
            <p:nvPr/>
          </p:nvGrpSpPr>
          <p:grpSpPr>
            <a:xfrm>
              <a:off x="1254240" y="3762360"/>
              <a:ext cx="772920" cy="755640"/>
              <a:chOff x="1254240" y="3762360"/>
              <a:chExt cx="772920" cy="755640"/>
            </a:xfrm>
          </p:grpSpPr>
          <p:sp>
            <p:nvSpPr>
              <p:cNvPr id="933" name=""/>
              <p:cNvSpPr/>
              <p:nvPr/>
            </p:nvSpPr>
            <p:spPr>
              <a:xfrm>
                <a:off x="1254240" y="3762360"/>
                <a:ext cx="772920" cy="755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未知"/>
              <p:cNvSpPr/>
              <p:nvPr/>
            </p:nvSpPr>
            <p:spPr>
              <a:xfrm rot="5400000">
                <a:off x="1503360" y="3557880"/>
                <a:ext cx="284400" cy="7070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未知"/>
            <p:cNvSpPr/>
            <p:nvPr/>
          </p:nvSpPr>
          <p:spPr>
            <a:xfrm rot="3600000">
              <a:off x="1704240" y="4109760"/>
              <a:ext cx="120240" cy="4716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b2b2b2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1254240" y="4676760"/>
            <a:ext cx="772920" cy="755640"/>
            <a:chOff x="1254240" y="4676760"/>
            <a:chExt cx="772920" cy="755640"/>
          </a:xfrm>
        </p:grpSpPr>
        <p:grpSp>
          <p:nvGrpSpPr>
            <p:cNvPr id="937" name=""/>
            <p:cNvGrpSpPr/>
            <p:nvPr/>
          </p:nvGrpSpPr>
          <p:grpSpPr>
            <a:xfrm>
              <a:off x="1254240" y="4676760"/>
              <a:ext cx="772920" cy="755640"/>
              <a:chOff x="1254240" y="4676760"/>
              <a:chExt cx="772920" cy="755640"/>
            </a:xfrm>
          </p:grpSpPr>
          <p:sp>
            <p:nvSpPr>
              <p:cNvPr id="938" name=""/>
              <p:cNvSpPr/>
              <p:nvPr/>
            </p:nvSpPr>
            <p:spPr>
              <a:xfrm>
                <a:off x="1254240" y="4676760"/>
                <a:ext cx="772920" cy="755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未知"/>
              <p:cNvSpPr/>
              <p:nvPr/>
            </p:nvSpPr>
            <p:spPr>
              <a:xfrm rot="5400000">
                <a:off x="1503360" y="4472280"/>
                <a:ext cx="284400" cy="7070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ffff">
                      <a:alpha val="3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未知"/>
            <p:cNvSpPr/>
            <p:nvPr/>
          </p:nvSpPr>
          <p:spPr>
            <a:xfrm rot="3600000">
              <a:off x="1704240" y="5024160"/>
              <a:ext cx="120240" cy="4716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b2b2b2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 txBox="1"/>
          <p:nvPr/>
        </p:nvSpPr>
        <p:spPr>
          <a:xfrm>
            <a:off x="1541520" y="1874880"/>
            <a:ext cx="171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1395360" y="2809800"/>
            <a:ext cx="49536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1512720" y="3987720"/>
            <a:ext cx="27000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496880" y="4894200"/>
            <a:ext cx="27000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4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45" name=""/>
          <p:cNvSpPr/>
          <p:nvPr/>
        </p:nvSpPr>
        <p:spPr>
          <a:xfrm>
            <a:off x="2055960" y="1793880"/>
            <a:ext cx="6702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51000" y="2747880"/>
            <a:ext cx="660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38320" y="3860640"/>
            <a:ext cx="6721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038320" y="4761000"/>
            <a:ext cx="6721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444240" y="5549040"/>
            <a:ext cx="8437320" cy="443160"/>
          </a:xfrm>
          <a:custGeom>
            <a:avLst/>
            <a:gdLst>
              <a:gd name="textAreaLeft" fmla="*/ 741240 w 8437320"/>
              <a:gd name="textAreaRight" fmla="*/ 7696080 w 8437320"/>
              <a:gd name="textAreaTop" fmla="*/ 38880 h 443160"/>
              <a:gd name="textAreaBottom" fmla="*/ 404280 h 4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333" y="21600"/>
                </a:lnTo>
                <a:lnTo>
                  <a:pt x="267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47560" y="2544840"/>
            <a:ext cx="8232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7560" y="3720960"/>
            <a:ext cx="8232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7560" y="4635360"/>
            <a:ext cx="8232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7560" y="5532480"/>
            <a:ext cx="8232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5361120" y="2395440"/>
            <a:ext cx="1579320" cy="1787760"/>
            <a:chOff x="5361120" y="2395440"/>
            <a:chExt cx="1579320" cy="1787760"/>
          </a:xfrm>
        </p:grpSpPr>
        <p:grpSp>
          <p:nvGrpSpPr>
            <p:cNvPr id="955" name=""/>
            <p:cNvGrpSpPr/>
            <p:nvPr/>
          </p:nvGrpSpPr>
          <p:grpSpPr>
            <a:xfrm>
              <a:off x="5361120" y="2395440"/>
              <a:ext cx="1579320" cy="1546200"/>
              <a:chOff x="5361120" y="2395440"/>
              <a:chExt cx="1579320" cy="1546200"/>
            </a:xfrm>
          </p:grpSpPr>
          <p:sp>
            <p:nvSpPr>
              <p:cNvPr id="956" name=""/>
              <p:cNvSpPr/>
              <p:nvPr/>
            </p:nvSpPr>
            <p:spPr>
              <a:xfrm>
                <a:off x="5361120" y="2395440"/>
                <a:ext cx="1579320" cy="154620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未知"/>
              <p:cNvSpPr/>
              <p:nvPr/>
            </p:nvSpPr>
            <p:spPr>
              <a:xfrm rot="3600000">
                <a:off x="6271920" y="3099600"/>
                <a:ext cx="246960" cy="963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0099ff">
                      <a:alpha val="42352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未知"/>
              <p:cNvSpPr/>
              <p:nvPr/>
            </p:nvSpPr>
            <p:spPr>
              <a:xfrm>
                <a:off x="5517360" y="2428560"/>
                <a:ext cx="1265040" cy="613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560920" y="4009680"/>
              <a:ext cx="1180800" cy="173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789280" y="1989000"/>
            <a:ext cx="2246040" cy="2543040"/>
            <a:chOff x="2789280" y="1989000"/>
            <a:chExt cx="2246040" cy="2543040"/>
          </a:xfrm>
        </p:grpSpPr>
        <p:grpSp>
          <p:nvGrpSpPr>
            <p:cNvPr id="961" name=""/>
            <p:cNvGrpSpPr/>
            <p:nvPr/>
          </p:nvGrpSpPr>
          <p:grpSpPr>
            <a:xfrm>
              <a:off x="2789280" y="1989000"/>
              <a:ext cx="2246040" cy="2199960"/>
              <a:chOff x="2789280" y="1989000"/>
              <a:chExt cx="2246040" cy="2199960"/>
            </a:xfrm>
          </p:grpSpPr>
          <p:sp>
            <p:nvSpPr>
              <p:cNvPr id="962" name=""/>
              <p:cNvSpPr/>
              <p:nvPr/>
            </p:nvSpPr>
            <p:spPr>
              <a:xfrm>
                <a:off x="2789280" y="1989000"/>
                <a:ext cx="2246040" cy="219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未知"/>
              <p:cNvSpPr/>
              <p:nvPr/>
            </p:nvSpPr>
            <p:spPr>
              <a:xfrm rot="3600000">
                <a:off x="4084920" y="2991960"/>
                <a:ext cx="351720" cy="13705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9900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未知"/>
              <p:cNvSpPr/>
              <p:nvPr/>
            </p:nvSpPr>
            <p:spPr>
              <a:xfrm>
                <a:off x="3011400" y="2035800"/>
                <a:ext cx="1799280" cy="872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3073320" y="4284360"/>
              <a:ext cx="1679760" cy="247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1022400" y="2438280"/>
            <a:ext cx="1457280" cy="1652400"/>
            <a:chOff x="1022400" y="2438280"/>
            <a:chExt cx="1457280" cy="1652400"/>
          </a:xfrm>
        </p:grpSpPr>
        <p:grpSp>
          <p:nvGrpSpPr>
            <p:cNvPr id="967" name=""/>
            <p:cNvGrpSpPr/>
            <p:nvPr/>
          </p:nvGrpSpPr>
          <p:grpSpPr>
            <a:xfrm>
              <a:off x="1022400" y="2438280"/>
              <a:ext cx="1457280" cy="1429560"/>
              <a:chOff x="1022400" y="2438280"/>
              <a:chExt cx="1457280" cy="14295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22400" y="2438280"/>
                <a:ext cx="1457280" cy="14295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未知"/>
              <p:cNvSpPr/>
              <p:nvPr/>
            </p:nvSpPr>
            <p:spPr>
              <a:xfrm rot="3600000">
                <a:off x="1862640" y="3090600"/>
                <a:ext cx="228600" cy="88920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99cc00">
                      <a:alpha val="35294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未知"/>
              <p:cNvSpPr/>
              <p:nvPr/>
            </p:nvSpPr>
            <p:spPr>
              <a:xfrm>
                <a:off x="1166400" y="2468880"/>
                <a:ext cx="1167120" cy="567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206720" y="3930480"/>
              <a:ext cx="1089720" cy="160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326360" y="2643120"/>
            <a:ext cx="1144440" cy="1298520"/>
            <a:chOff x="7326360" y="2643120"/>
            <a:chExt cx="1144440" cy="1298520"/>
          </a:xfrm>
        </p:grpSpPr>
        <p:grpSp>
          <p:nvGrpSpPr>
            <p:cNvPr id="973" name=""/>
            <p:cNvGrpSpPr/>
            <p:nvPr/>
          </p:nvGrpSpPr>
          <p:grpSpPr>
            <a:xfrm>
              <a:off x="7326360" y="2643120"/>
              <a:ext cx="1144440" cy="1123200"/>
              <a:chOff x="7326360" y="2643120"/>
              <a:chExt cx="1144440" cy="1123200"/>
            </a:xfrm>
          </p:grpSpPr>
          <p:sp>
            <p:nvSpPr>
              <p:cNvPr id="974" name=""/>
              <p:cNvSpPr/>
              <p:nvPr/>
            </p:nvSpPr>
            <p:spPr>
              <a:xfrm>
                <a:off x="7326360" y="2643120"/>
                <a:ext cx="1144440" cy="1123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未知"/>
              <p:cNvSpPr/>
              <p:nvPr/>
            </p:nvSpPr>
            <p:spPr>
              <a:xfrm rot="3600000">
                <a:off x="7986600" y="3155760"/>
                <a:ext cx="179640" cy="69840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28235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未知"/>
              <p:cNvSpPr/>
              <p:nvPr/>
            </p:nvSpPr>
            <p:spPr>
              <a:xfrm>
                <a:off x="7439400" y="2666880"/>
                <a:ext cx="916560" cy="44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7471080" y="3815640"/>
              <a:ext cx="855720" cy="126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5973840" y="451800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050840" y="282744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407200" y="2814480"/>
            <a:ext cx="15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75680" y="2916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790720" y="2522520"/>
            <a:ext cx="2254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ffff"/>
                </a:solidFill>
                <a:latin typeface="Arial"/>
                <a:ea typeface="黑体"/>
              </a:rPr>
              <a:t>内容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5400000">
            <a:off x="4502520" y="-1532520"/>
            <a:ext cx="351000" cy="6912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1680" y="1817640"/>
            <a:ext cx="176832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9040" y="-961920"/>
            <a:ext cx="777960" cy="6912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502520" y="-229320"/>
            <a:ext cx="351000" cy="6912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11680" y="3121200"/>
            <a:ext cx="176832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89400" y="340920"/>
            <a:ext cx="777600" cy="6912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502880" y="1084680"/>
            <a:ext cx="350640" cy="6912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1680" y="4435560"/>
            <a:ext cx="176832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289040" y="1655640"/>
            <a:ext cx="777960" cy="6912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1280" y="340524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41280" y="472140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41280" y="211464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 rot="10800000">
            <a:off x="2277720" y="1778760"/>
            <a:ext cx="5367240" cy="9082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808280" y="1781280"/>
            <a:ext cx="927000" cy="907920"/>
            <a:chOff x="1808280" y="1781280"/>
            <a:chExt cx="927000" cy="907920"/>
          </a:xfrm>
        </p:grpSpPr>
        <p:sp>
          <p:nvSpPr>
            <p:cNvPr id="985" name=""/>
            <p:cNvSpPr/>
            <p:nvPr/>
          </p:nvSpPr>
          <p:spPr>
            <a:xfrm>
              <a:off x="1808280" y="1781280"/>
              <a:ext cx="927000" cy="9079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 rot="3600000">
              <a:off x="2342520" y="2194920"/>
              <a:ext cx="145080" cy="565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1899720" y="1800720"/>
              <a:ext cx="742680" cy="360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rot="10800000">
            <a:off x="2276280" y="2917080"/>
            <a:ext cx="5368680" cy="9111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827360" y="2917800"/>
            <a:ext cx="930240" cy="911160"/>
            <a:chOff x="1827360" y="2917800"/>
            <a:chExt cx="930240" cy="911160"/>
          </a:xfrm>
        </p:grpSpPr>
        <p:sp>
          <p:nvSpPr>
            <p:cNvPr id="990" name=""/>
            <p:cNvSpPr/>
            <p:nvPr/>
          </p:nvSpPr>
          <p:spPr>
            <a:xfrm>
              <a:off x="1827360" y="2917800"/>
              <a:ext cx="930240" cy="9111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 rot="3600000">
              <a:off x="2363760" y="3332880"/>
              <a:ext cx="145440" cy="5677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99cc00">
                    <a:alpha val="35294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1919160" y="2937240"/>
              <a:ext cx="745200" cy="36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 rot="10800000">
            <a:off x="2277720" y="4059360"/>
            <a:ext cx="5367240" cy="9237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1827360" y="4059360"/>
            <a:ext cx="941400" cy="923760"/>
            <a:chOff x="1827360" y="4059360"/>
            <a:chExt cx="941400" cy="923760"/>
          </a:xfrm>
        </p:grpSpPr>
        <p:sp>
          <p:nvSpPr>
            <p:cNvPr id="995" name=""/>
            <p:cNvSpPr/>
            <p:nvPr/>
          </p:nvSpPr>
          <p:spPr>
            <a:xfrm>
              <a:off x="1827360" y="4059360"/>
              <a:ext cx="941400" cy="9237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 rot="3600000">
              <a:off x="2370600" y="4480560"/>
              <a:ext cx="147600" cy="574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0099ff">
                    <a:alpha val="42352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920240" y="4078800"/>
              <a:ext cx="754200" cy="366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"/>
          <p:cNvSpPr txBox="1"/>
          <p:nvPr/>
        </p:nvSpPr>
        <p:spPr>
          <a:xfrm>
            <a:off x="2117880" y="2014560"/>
            <a:ext cx="2444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117880" y="3130560"/>
            <a:ext cx="37296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117880" y="4299120"/>
            <a:ext cx="37296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01" name=""/>
          <p:cNvSpPr/>
          <p:nvPr/>
        </p:nvSpPr>
        <p:spPr>
          <a:xfrm>
            <a:off x="2766960" y="1996920"/>
            <a:ext cx="487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766960" y="3121200"/>
            <a:ext cx="487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76680" y="4248000"/>
            <a:ext cx="486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 rot="10800000">
            <a:off x="3651120" y="3900600"/>
            <a:ext cx="1968480" cy="5889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2800800" y="3127680"/>
            <a:ext cx="1778040" cy="5889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4767840" y="3051360"/>
            <a:ext cx="1554120" cy="5904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rot="10800000">
            <a:off x="3651120" y="2228760"/>
            <a:ext cx="1951200" cy="5889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15040" y="2335320"/>
            <a:ext cx="2479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15040" y="3816360"/>
            <a:ext cx="2479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90560" y="233532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90560" y="380052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208400" y="2514600"/>
            <a:ext cx="70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4247640" y="4202280"/>
            <a:ext cx="723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540400" y="305604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666960" y="3128760"/>
            <a:ext cx="0" cy="571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3100320" y="1998720"/>
            <a:ext cx="1089000" cy="1065240"/>
            <a:chOff x="3100320" y="1998720"/>
            <a:chExt cx="1089000" cy="1065240"/>
          </a:xfrm>
        </p:grpSpPr>
        <p:grpSp>
          <p:nvGrpSpPr>
            <p:cNvPr id="1017" name=""/>
            <p:cNvGrpSpPr/>
            <p:nvPr/>
          </p:nvGrpSpPr>
          <p:grpSpPr>
            <a:xfrm>
              <a:off x="3100320" y="1998720"/>
              <a:ext cx="1089000" cy="1065240"/>
              <a:chOff x="3100320" y="1998720"/>
              <a:chExt cx="1089000" cy="1065240"/>
            </a:xfrm>
          </p:grpSpPr>
          <p:sp>
            <p:nvSpPr>
              <p:cNvPr id="1018" name=""/>
              <p:cNvSpPr/>
              <p:nvPr/>
            </p:nvSpPr>
            <p:spPr>
              <a:xfrm>
                <a:off x="3100320" y="1998720"/>
                <a:ext cx="108900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未知"/>
              <p:cNvSpPr/>
              <p:nvPr/>
            </p:nvSpPr>
            <p:spPr>
              <a:xfrm rot="3600000">
                <a:off x="3728520" y="2483640"/>
                <a:ext cx="170280" cy="6645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ff9900">
                      <a:alpha val="18039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未知"/>
              <p:cNvSpPr/>
              <p:nvPr/>
            </p:nvSpPr>
            <p:spPr>
              <a:xfrm>
                <a:off x="3207960" y="2021400"/>
                <a:ext cx="872280" cy="422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"/>
            <p:cNvSpPr txBox="1"/>
            <p:nvPr/>
          </p:nvSpPr>
          <p:spPr>
            <a:xfrm>
              <a:off x="3452760" y="2278080"/>
              <a:ext cx="280800" cy="48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4976640" y="1994040"/>
            <a:ext cx="1093680" cy="1069920"/>
            <a:chOff x="4976640" y="1994040"/>
            <a:chExt cx="1093680" cy="1069920"/>
          </a:xfrm>
        </p:grpSpPr>
        <p:grpSp>
          <p:nvGrpSpPr>
            <p:cNvPr id="1023" name=""/>
            <p:cNvGrpSpPr/>
            <p:nvPr/>
          </p:nvGrpSpPr>
          <p:grpSpPr>
            <a:xfrm>
              <a:off x="4976640" y="1994040"/>
              <a:ext cx="1093680" cy="1069920"/>
              <a:chOff x="4976640" y="1994040"/>
              <a:chExt cx="1093680" cy="1069920"/>
            </a:xfrm>
          </p:grpSpPr>
          <p:sp>
            <p:nvSpPr>
              <p:cNvPr id="1024" name=""/>
              <p:cNvSpPr/>
              <p:nvPr/>
            </p:nvSpPr>
            <p:spPr>
              <a:xfrm>
                <a:off x="4976640" y="1994040"/>
                <a:ext cx="1093680" cy="1069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 rot="3600000">
                <a:off x="5607720" y="2481120"/>
                <a:ext cx="171000" cy="6674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99cc00">
                      <a:alpha val="35294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>
                <a:off x="5084640" y="2016720"/>
                <a:ext cx="875880" cy="424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 txBox="1"/>
            <p:nvPr/>
          </p:nvSpPr>
          <p:spPr>
            <a:xfrm>
              <a:off x="5317920" y="2229120"/>
              <a:ext cx="439920" cy="53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4975200" y="3699000"/>
            <a:ext cx="1106640" cy="1085760"/>
            <a:chOff x="4975200" y="3699000"/>
            <a:chExt cx="1106640" cy="1085760"/>
          </a:xfrm>
        </p:grpSpPr>
        <p:grpSp>
          <p:nvGrpSpPr>
            <p:cNvPr id="1029" name=""/>
            <p:cNvGrpSpPr/>
            <p:nvPr/>
          </p:nvGrpSpPr>
          <p:grpSpPr>
            <a:xfrm>
              <a:off x="4975200" y="3699000"/>
              <a:ext cx="1106640" cy="1085760"/>
              <a:chOff x="4975200" y="3699000"/>
              <a:chExt cx="1106640" cy="1085760"/>
            </a:xfrm>
          </p:grpSpPr>
          <p:sp>
            <p:nvSpPr>
              <p:cNvPr id="1030" name=""/>
              <p:cNvSpPr/>
              <p:nvPr/>
            </p:nvSpPr>
            <p:spPr>
              <a:xfrm>
                <a:off x="4975200" y="3699000"/>
                <a:ext cx="1106640" cy="10857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未知"/>
              <p:cNvSpPr/>
              <p:nvPr/>
            </p:nvSpPr>
            <p:spPr>
              <a:xfrm rot="3600000">
                <a:off x="5613480" y="4194000"/>
                <a:ext cx="173520" cy="675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0099ff">
                      <a:alpha val="42352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>
                <a:off x="5084640" y="3722040"/>
                <a:ext cx="886320" cy="430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 txBox="1"/>
            <p:nvPr/>
          </p:nvSpPr>
          <p:spPr>
            <a:xfrm>
              <a:off x="5316480" y="3963960"/>
              <a:ext cx="439920" cy="53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3100320" y="3699000"/>
            <a:ext cx="1093680" cy="1073160"/>
            <a:chOff x="3100320" y="3699000"/>
            <a:chExt cx="1093680" cy="1073160"/>
          </a:xfrm>
        </p:grpSpPr>
        <p:grpSp>
          <p:nvGrpSpPr>
            <p:cNvPr id="1035" name=""/>
            <p:cNvGrpSpPr/>
            <p:nvPr/>
          </p:nvGrpSpPr>
          <p:grpSpPr>
            <a:xfrm>
              <a:off x="3100320" y="3699000"/>
              <a:ext cx="1093680" cy="1073160"/>
              <a:chOff x="3100320" y="3699000"/>
              <a:chExt cx="1093680" cy="1073160"/>
            </a:xfrm>
          </p:grpSpPr>
          <p:sp>
            <p:nvSpPr>
              <p:cNvPr id="1036" name=""/>
              <p:cNvSpPr/>
              <p:nvPr/>
            </p:nvSpPr>
            <p:spPr>
              <a:xfrm>
                <a:off x="3100320" y="3699000"/>
                <a:ext cx="1093680" cy="107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f3f3f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 rot="3600000">
                <a:off x="3731400" y="4188240"/>
                <a:ext cx="171360" cy="66744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bebe">
                      <a:alpha val="0"/>
                    </a:srgbClr>
                  </a:gs>
                  <a:gs pos="100000">
                    <a:srgbClr val="dddddd">
                      <a:alpha val="28235"/>
                    </a:srgbClr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>
                <a:off x="3208320" y="3721680"/>
                <a:ext cx="875880" cy="425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 txBox="1"/>
            <p:nvPr/>
          </p:nvSpPr>
          <p:spPr>
            <a:xfrm>
              <a:off x="3394080" y="3946680"/>
              <a:ext cx="43164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4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1844640" y="2265480"/>
            <a:ext cx="2732040" cy="1422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rot="10800000">
            <a:off x="1833480" y="1852560"/>
            <a:ext cx="2751120" cy="403200"/>
          </a:xfrm>
          <a:custGeom>
            <a:avLst/>
            <a:gdLst>
              <a:gd name="textAreaLeft" fmla="*/ 635760 w 2751120"/>
              <a:gd name="textAreaRight" fmla="*/ 2115360 w 275112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687760" y="1065240"/>
            <a:ext cx="1112760" cy="1089000"/>
            <a:chOff x="2687760" y="1065240"/>
            <a:chExt cx="1112760" cy="1089000"/>
          </a:xfrm>
        </p:grpSpPr>
        <p:sp>
          <p:nvSpPr>
            <p:cNvPr id="1046" name=""/>
            <p:cNvSpPr/>
            <p:nvPr/>
          </p:nvSpPr>
          <p:spPr>
            <a:xfrm>
              <a:off x="2687760" y="1065240"/>
              <a:ext cx="1112760" cy="1089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 rot="3600000">
              <a:off x="3329640" y="1561320"/>
              <a:ext cx="173880" cy="6789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ff9900">
                    <a:alpha val="18039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未知"/>
            <p:cNvSpPr/>
            <p:nvPr/>
          </p:nvSpPr>
          <p:spPr>
            <a:xfrm>
              <a:off x="2797560" y="1088280"/>
              <a:ext cx="891360" cy="432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3048120" y="1351080"/>
            <a:ext cx="28728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5745240" y="1057320"/>
            <a:ext cx="1093680" cy="1069920"/>
            <a:chOff x="5745240" y="1057320"/>
            <a:chExt cx="1093680" cy="1069920"/>
          </a:xfrm>
        </p:grpSpPr>
        <p:sp>
          <p:nvSpPr>
            <p:cNvPr id="1051" name=""/>
            <p:cNvSpPr/>
            <p:nvPr/>
          </p:nvSpPr>
          <p:spPr>
            <a:xfrm>
              <a:off x="5745240" y="1057320"/>
              <a:ext cx="1093680" cy="1069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 rot="3600000">
              <a:off x="6376320" y="1544400"/>
              <a:ext cx="171000" cy="6674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99cc00">
                    <a:alpha val="35294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5853240" y="1080000"/>
              <a:ext cx="875880" cy="424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 txBox="1"/>
          <p:nvPr/>
        </p:nvSpPr>
        <p:spPr>
          <a:xfrm>
            <a:off x="6086520" y="1292400"/>
            <a:ext cx="43956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55" name=""/>
          <p:cNvSpPr/>
          <p:nvPr/>
        </p:nvSpPr>
        <p:spPr>
          <a:xfrm>
            <a:off x="4843440" y="2265480"/>
            <a:ext cx="2732040" cy="1422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10800000">
            <a:off x="4838760" y="1852560"/>
            <a:ext cx="2744640" cy="403200"/>
          </a:xfrm>
          <a:custGeom>
            <a:avLst/>
            <a:gdLst>
              <a:gd name="textAreaLeft" fmla="*/ 633960 w 2744640"/>
              <a:gd name="textAreaRight" fmla="*/ 2110680 w 274464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rot="10800000">
            <a:off x="1848960" y="3278160"/>
            <a:ext cx="2721240" cy="403200"/>
          </a:xfrm>
          <a:custGeom>
            <a:avLst/>
            <a:gdLst>
              <a:gd name="textAreaLeft" fmla="*/ 628560 w 2721240"/>
              <a:gd name="textAreaRight" fmla="*/ 2092680 w 272124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rot="10800000">
            <a:off x="4819680" y="3278160"/>
            <a:ext cx="2782800" cy="403200"/>
          </a:xfrm>
          <a:custGeom>
            <a:avLst/>
            <a:gdLst>
              <a:gd name="textAreaLeft" fmla="*/ 642960 w 2782800"/>
              <a:gd name="textAreaRight" fmla="*/ 2139840 w 278280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844640" y="4470480"/>
            <a:ext cx="2732040" cy="1422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rot="10800000">
            <a:off x="1836360" y="4064040"/>
            <a:ext cx="2746440" cy="403200"/>
          </a:xfrm>
          <a:custGeom>
            <a:avLst/>
            <a:gdLst>
              <a:gd name="textAreaLeft" fmla="*/ 634680 w 2746440"/>
              <a:gd name="textAreaRight" fmla="*/ 2111760 w 274644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rot="10800000">
            <a:off x="1820880" y="5483160"/>
            <a:ext cx="2782800" cy="403200"/>
          </a:xfrm>
          <a:custGeom>
            <a:avLst/>
            <a:gdLst>
              <a:gd name="textAreaLeft" fmla="*/ 642960 w 2782800"/>
              <a:gd name="textAreaRight" fmla="*/ 2139840 w 278280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2690640" y="3244680"/>
            <a:ext cx="1106640" cy="1086120"/>
            <a:chOff x="2690640" y="3244680"/>
            <a:chExt cx="1106640" cy="1086120"/>
          </a:xfrm>
        </p:grpSpPr>
        <p:sp>
          <p:nvSpPr>
            <p:cNvPr id="1063" name=""/>
            <p:cNvSpPr/>
            <p:nvPr/>
          </p:nvSpPr>
          <p:spPr>
            <a:xfrm>
              <a:off x="2690640" y="3244680"/>
              <a:ext cx="1106640" cy="1086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 rot="3600000">
              <a:off x="3328920" y="3740040"/>
              <a:ext cx="173520" cy="6753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0099ff">
                    <a:alpha val="42352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2800080" y="3267720"/>
              <a:ext cx="886320" cy="430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 txBox="1"/>
          <p:nvPr/>
        </p:nvSpPr>
        <p:spPr>
          <a:xfrm>
            <a:off x="3032280" y="3510000"/>
            <a:ext cx="43956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67" name=""/>
          <p:cNvSpPr/>
          <p:nvPr/>
        </p:nvSpPr>
        <p:spPr>
          <a:xfrm>
            <a:off x="4869000" y="4470480"/>
            <a:ext cx="2732040" cy="1422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rot="10800000">
            <a:off x="4867200" y="4064040"/>
            <a:ext cx="2735280" cy="403200"/>
          </a:xfrm>
          <a:custGeom>
            <a:avLst/>
            <a:gdLst>
              <a:gd name="textAreaLeft" fmla="*/ 631800 w 2735280"/>
              <a:gd name="textAreaRight" fmla="*/ 2103480 w 273528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10800000">
            <a:off x="4844520" y="5483160"/>
            <a:ext cx="2783160" cy="403200"/>
          </a:xfrm>
          <a:custGeom>
            <a:avLst/>
            <a:gdLst>
              <a:gd name="textAreaLeft" fmla="*/ 642960 w 2783160"/>
              <a:gd name="textAreaRight" fmla="*/ 2140200 w 2783160"/>
              <a:gd name="textAreaTop" fmla="*/ 93240 h 403200"/>
              <a:gd name="textAreaBottom" fmla="*/ 3099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66" y="21600"/>
                </a:lnTo>
                <a:lnTo>
                  <a:pt x="5834" y="21600"/>
                </a:lnTo>
                <a:close/>
              </a:path>
            </a:pathLst>
          </a:custGeom>
          <a:gradFill rotWithShape="0">
            <a:gsLst>
              <a:gs pos="0">
                <a:srgbClr val="ff9933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734080" y="3244680"/>
            <a:ext cx="1106280" cy="1086120"/>
            <a:chOff x="5734080" y="3244680"/>
            <a:chExt cx="1106280" cy="1086120"/>
          </a:xfrm>
        </p:grpSpPr>
        <p:sp>
          <p:nvSpPr>
            <p:cNvPr id="1071" name=""/>
            <p:cNvSpPr/>
            <p:nvPr/>
          </p:nvSpPr>
          <p:spPr>
            <a:xfrm>
              <a:off x="5734080" y="3244680"/>
              <a:ext cx="1106280" cy="1086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 rot="3600000">
              <a:off x="6371640" y="3740400"/>
              <a:ext cx="173520" cy="6750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bebebe">
                    <a:alpha val="0"/>
                  </a:srgbClr>
                </a:gs>
                <a:gs pos="100000">
                  <a:srgbClr val="dddddd">
                    <a:alpha val="28235"/>
                  </a:srgbClr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5843520" y="3267720"/>
              <a:ext cx="886320" cy="430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 txBox="1"/>
          <p:nvPr/>
        </p:nvSpPr>
        <p:spPr>
          <a:xfrm>
            <a:off x="6059520" y="3510000"/>
            <a:ext cx="4381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4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75" name=""/>
          <p:cNvSpPr/>
          <p:nvPr/>
        </p:nvSpPr>
        <p:spPr>
          <a:xfrm>
            <a:off x="1951200" y="2347920"/>
            <a:ext cx="2420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924440" y="234792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951200" y="4465800"/>
            <a:ext cx="2420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24440" y="4465800"/>
            <a:ext cx="2421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44600" y="6024600"/>
            <a:ext cx="761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5400000">
            <a:off x="3919320" y="293400"/>
            <a:ext cx="777960" cy="66074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659120" y="-1041480"/>
            <a:ext cx="777960" cy="66074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659120" y="1576080"/>
            <a:ext cx="777960" cy="66074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3600" y="3182760"/>
            <a:ext cx="533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8100000">
            <a:off x="1195200" y="1717200"/>
            <a:ext cx="1019160" cy="105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8100000">
            <a:off x="7200720" y="3058920"/>
            <a:ext cx="1019160" cy="1056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8100000">
            <a:off x="1195200" y="4335120"/>
            <a:ext cx="1019160" cy="1057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ff"/>
              </a:gs>
            </a:gsLst>
            <a:lin ang="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59080" y="1932120"/>
            <a:ext cx="3888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1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496280" y="3268800"/>
            <a:ext cx="447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84280" y="4587840"/>
            <a:ext cx="4478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3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2981160" y="1847880"/>
            <a:ext cx="533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1160" y="4476600"/>
            <a:ext cx="533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H="1" flipV="1" rot="10800000">
            <a:off x="3226320" y="3592440"/>
            <a:ext cx="2917800" cy="271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 rot="10800000">
            <a:off x="2136600" y="4613400"/>
            <a:ext cx="2918160" cy="271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 rot="10800000">
            <a:off x="4246920" y="2562120"/>
            <a:ext cx="2917800" cy="271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132000" y="3922560"/>
            <a:ext cx="906120" cy="28908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185360" y="2899080"/>
            <a:ext cx="906480" cy="28893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5262480" y="1871280"/>
            <a:ext cx="906480" cy="28908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6200640" y="847440"/>
            <a:ext cx="906480" cy="2890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02320" y="2139840"/>
            <a:ext cx="22384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1" name=""/>
          <p:cNvSpPr/>
          <p:nvPr/>
        </p:nvSpPr>
        <p:spPr>
          <a:xfrm flipV="1" rot="10800000">
            <a:off x="5213520" y="1546200"/>
            <a:ext cx="2860560" cy="263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57640" y="5378400"/>
            <a:ext cx="2778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667640" y="2727000"/>
            <a:ext cx="0" cy="16383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512120" y="2727000"/>
            <a:ext cx="0" cy="6001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823160" y="2727360"/>
            <a:ext cx="0" cy="26496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70680" y="4365720"/>
            <a:ext cx="161280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48520" y="3321000"/>
            <a:ext cx="37620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9080" y="20606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4200" y="3110040"/>
            <a:ext cx="2869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97160" y="4138560"/>
            <a:ext cx="2870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43080" y="5154480"/>
            <a:ext cx="2870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rot="5400000">
            <a:off x="4185000" y="-873720"/>
            <a:ext cx="906480" cy="7356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986280" y="1526760"/>
            <a:ext cx="1270080" cy="2527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24400" y="2662200"/>
            <a:ext cx="22381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5" name=""/>
          <p:cNvSpPr/>
          <p:nvPr/>
        </p:nvSpPr>
        <p:spPr>
          <a:xfrm>
            <a:off x="957240" y="259884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3395160" y="1868400"/>
            <a:ext cx="2498760" cy="263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185000" y="476640"/>
            <a:ext cx="906480" cy="7356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3986280" y="2892240"/>
            <a:ext cx="1270080" cy="25272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66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24400" y="4000680"/>
            <a:ext cx="22381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80" name=""/>
          <p:cNvSpPr/>
          <p:nvPr/>
        </p:nvSpPr>
        <p:spPr>
          <a:xfrm>
            <a:off x="957240" y="394488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84920" y="395928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84920" y="2604960"/>
            <a:ext cx="244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86760" y="4213080"/>
            <a:ext cx="809640" cy="2320920"/>
            <a:chOff x="7286760" y="4213080"/>
            <a:chExt cx="809640" cy="2320920"/>
          </a:xfrm>
        </p:grpSpPr>
        <p:sp>
          <p:nvSpPr>
            <p:cNvPr id="184" name=""/>
            <p:cNvSpPr/>
            <p:nvPr/>
          </p:nvSpPr>
          <p:spPr>
            <a:xfrm flipH="1" flipV="1">
              <a:off x="7486200" y="6116400"/>
              <a:ext cx="166680" cy="41760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78880" y="6047640"/>
              <a:ext cx="122400" cy="4172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>
              <a:lum bright="96000"/>
            </a:blip>
            <a:stretch/>
          </p:blipFill>
          <p:spPr>
            <a:xfrm>
              <a:off x="7286760" y="4213080"/>
              <a:ext cx="809640" cy="19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rot="10800000">
            <a:off x="3108240" y="4843080"/>
            <a:ext cx="3022560" cy="297000"/>
          </a:xfrm>
          <a:custGeom>
            <a:avLst/>
            <a:gdLst>
              <a:gd name="textAreaLeft" fmla="*/ 379080 w 3022560"/>
              <a:gd name="textAreaRight" fmla="*/ 2643480 w 3022560"/>
              <a:gd name="textAreaTop" fmla="*/ 37080 h 297000"/>
              <a:gd name="textAreaBottom" fmla="*/ 25992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99cc00">
                  <a:alpha val="25098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5400000">
            <a:off x="3312360" y="-562680"/>
            <a:ext cx="985680" cy="47368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626120" y="1392840"/>
            <a:ext cx="739800" cy="820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3796920" y="558720"/>
            <a:ext cx="986040" cy="47354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2111040" y="2512800"/>
            <a:ext cx="739800" cy="822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4397760" y="1681560"/>
            <a:ext cx="986040" cy="47372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712600" y="3637080"/>
            <a:ext cx="738360" cy="820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666880" y="1617840"/>
            <a:ext cx="288000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44960" y="2720880"/>
            <a:ext cx="28796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36800" y="3852720"/>
            <a:ext cx="288000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4896360" y="2813760"/>
            <a:ext cx="986040" cy="47368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3211200" y="4768560"/>
            <a:ext cx="738360" cy="820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5400" y="4984920"/>
            <a:ext cx="287964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6194160" y="1979640"/>
            <a:ext cx="1955880" cy="1860480"/>
            <a:chOff x="6194160" y="1979640"/>
            <a:chExt cx="1955880" cy="1860480"/>
          </a:xfrm>
        </p:grpSpPr>
        <p:sp>
          <p:nvSpPr>
            <p:cNvPr id="201" name=""/>
            <p:cNvSpPr/>
            <p:nvPr/>
          </p:nvSpPr>
          <p:spPr>
            <a:xfrm rot="10800000">
              <a:off x="6373440" y="1979640"/>
              <a:ext cx="1596240" cy="1583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6194160" y="3602520"/>
              <a:ext cx="1955880" cy="237600"/>
            </a:xfrm>
            <a:custGeom>
              <a:avLst/>
              <a:gdLst>
                <a:gd name="textAreaLeft" fmla="*/ 245520 w 1955880"/>
                <a:gd name="textAreaRight" fmla="*/ 1710360 w 1955880"/>
                <a:gd name="textAreaTop" fmla="*/ 29520 h 237600"/>
                <a:gd name="textAreaBottom" fmla="*/ 208080 h 2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56160" y="2637000"/>
            <a:ext cx="2170080" cy="2063160"/>
            <a:chOff x="4556160" y="2637000"/>
            <a:chExt cx="2170080" cy="2063160"/>
          </a:xfrm>
        </p:grpSpPr>
        <p:sp>
          <p:nvSpPr>
            <p:cNvPr id="204" name=""/>
            <p:cNvSpPr/>
            <p:nvPr/>
          </p:nvSpPr>
          <p:spPr>
            <a:xfrm rot="10800000">
              <a:off x="4754880" y="2637000"/>
              <a:ext cx="1771200" cy="17560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4556160" y="4436640"/>
              <a:ext cx="2170080" cy="263520"/>
            </a:xfrm>
            <a:custGeom>
              <a:avLst/>
              <a:gdLst>
                <a:gd name="textAreaLeft" fmla="*/ 272160 w 2170080"/>
                <a:gd name="textAreaRight" fmla="*/ 1897920 w 2170080"/>
                <a:gd name="textAreaTop" fmla="*/ 33120 h 263520"/>
                <a:gd name="textAreaBottom" fmla="*/ 230400 h 26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70" y="21600"/>
                  </a:lnTo>
                  <a:lnTo>
                    <a:pt x="17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0000">
                    <a:alpha val="0"/>
                  </a:srgbClr>
                </a:gs>
                <a:gs pos="100000">
                  <a:srgbClr val="dddddd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 txBox="1"/>
          <p:nvPr/>
        </p:nvSpPr>
        <p:spPr>
          <a:xfrm>
            <a:off x="5118120" y="3406680"/>
            <a:ext cx="1244520" cy="1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7" name=""/>
          <p:cNvSpPr/>
          <p:nvPr/>
        </p:nvSpPr>
        <p:spPr>
          <a:xfrm>
            <a:off x="4749840" y="2652840"/>
            <a:ext cx="175248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1314360" y="2426760"/>
            <a:ext cx="1681200" cy="16700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33"/>
              </a:gs>
            </a:gsLst>
            <a:lin ang="189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1125360" y="4140360"/>
            <a:ext cx="2060640" cy="249120"/>
          </a:xfrm>
          <a:custGeom>
            <a:avLst/>
            <a:gdLst>
              <a:gd name="textAreaLeft" fmla="*/ 258480 w 2060640"/>
              <a:gd name="textAreaRight" fmla="*/ 1802160 w 2060640"/>
              <a:gd name="textAreaTop" fmla="*/ 30960 h 249120"/>
              <a:gd name="textAreaBottom" fmla="*/ 21816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dddddd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2797200" y="2862000"/>
            <a:ext cx="2217600" cy="2197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27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2547720" y="5113080"/>
            <a:ext cx="2717640" cy="330120"/>
          </a:xfrm>
          <a:custGeom>
            <a:avLst/>
            <a:gdLst>
              <a:gd name="textAreaLeft" fmla="*/ 340920 w 2717640"/>
              <a:gd name="textAreaRight" fmla="*/ 2376720 w 2717640"/>
              <a:gd name="textAreaTop" fmla="*/ 41400 h 330120"/>
              <a:gd name="textAreaBottom" fmla="*/ 2887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0" y="21600"/>
                </a:lnTo>
                <a:lnTo>
                  <a:pt x="1730" y="2160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ff9900">
                  <a:alpha val="25098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971800" y="3780000"/>
            <a:ext cx="190512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57280" y="3149640"/>
            <a:ext cx="1244520" cy="1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20040" y="2647800"/>
            <a:ext cx="1244520" cy="1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5" name=""/>
          <p:cNvSpPr/>
          <p:nvPr/>
        </p:nvSpPr>
        <p:spPr>
          <a:xfrm>
            <a:off x="1330200" y="2451240"/>
            <a:ext cx="164016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1880" y="2863800"/>
            <a:ext cx="2189160" cy="38736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69120" y="1995480"/>
            <a:ext cx="1573200" cy="3888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5:32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3:26Z</dcterms:modified>
  <cp:revision>2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