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84D-A90F-4680-B48E-5388A1D6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990-3AB1-4E4C-B3DE-103F8CCD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BCB-A6AF-454A-80E7-78239EA0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A10-C65F-4055-8DBD-1B5CC81C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9DC-F819-4072-8C82-CEFE4061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988-5AEE-4949-8E7B-9DEDE1FE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B1A-258C-47F1-94D9-65A42729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FA4-2F5C-461E-8E6F-AF619481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236-E612-4901-B13F-F5493F81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6DB-8B96-4BCE-BBD4-A1ECCDD1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90A-0C1A-47F4-B069-B58203D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401-D172-44B7-B7BC-896B729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FFE3-2FBB-496E-9612-32D810CD6F0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BC57-A842-4A5D-8A40-827EEB3CF8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4" name="矩形 114"/>
          <p:cNvSpPr/>
          <p:nvPr/>
        </p:nvSpPr>
        <p:spPr>
          <a:xfrm>
            <a:off x="3129120" y="3610080"/>
            <a:ext cx="1006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772"/>
          <p:cNvSpPr/>
          <p:nvPr/>
        </p:nvSpPr>
        <p:spPr>
          <a:xfrm>
            <a:off x="838080" y="1380960"/>
            <a:ext cx="6505560" cy="3919680"/>
          </a:xfrm>
          <a:prstGeom prst="pi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773"/>
          <p:cNvSpPr/>
          <p:nvPr/>
        </p:nvSpPr>
        <p:spPr>
          <a:xfrm>
            <a:off x="5300640" y="1380960"/>
            <a:ext cx="2909880" cy="3919680"/>
          </a:xfrm>
          <a:prstGeom prst="pie">
            <a:avLst/>
          </a:prstGeom>
          <a:solidFill>
            <a:srgbClr val="ffffff"/>
          </a:solidFill>
          <a:ln w="540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ject 1518" descr=""/>
          <p:cNvPicPr/>
          <p:nvPr/>
        </p:nvPicPr>
        <p:blipFill>
          <a:blip r:embed="rId3"/>
          <a:stretch/>
        </p:blipFill>
        <p:spPr>
          <a:xfrm>
            <a:off x="755640" y="1257480"/>
            <a:ext cx="4510080" cy="3457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778"/>
          <p:cNvSpPr/>
          <p:nvPr/>
        </p:nvSpPr>
        <p:spPr>
          <a:xfrm>
            <a:off x="1301760" y="4464000"/>
            <a:ext cx="5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An ad-indus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veteran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"/>
                <a:ea typeface="宋体"/>
              </a:rPr>
              <a:t>entrepreneu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80"/>
          <p:cNvSpPr/>
          <p:nvPr/>
        </p:nvSpPr>
        <p:spPr>
          <a:xfrm>
            <a:off x="2124000" y="4464000"/>
            <a:ext cx="7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Toast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season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a sexy 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look – 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"/>
                <a:ea typeface="宋体"/>
              </a:rPr>
              <a:t>make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81"/>
          <p:cNvSpPr/>
          <p:nvPr/>
        </p:nvSpPr>
        <p:spPr>
          <a:xfrm>
            <a:off x="2916360" y="4464000"/>
            <a:ext cx="576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This home fragrance </a:t>
            </a:r>
            <a:r>
              <a:rPr b="0" lang="en-US" sz="800" spc="-1" strike="noStrike">
                <a:solidFill>
                  <a:srgbClr val="cc3300"/>
                </a:solidFill>
                <a:latin typeface="Arial"/>
                <a:ea typeface="宋体"/>
              </a:rPr>
              <a:t>blends fes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82"/>
          <p:cNvSpPr/>
          <p:nvPr/>
        </p:nvSpPr>
        <p:spPr>
          <a:xfrm>
            <a:off x="3780000" y="4464000"/>
            <a:ext cx="936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elcome to our compan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"/>
                <a:ea typeface="宋体"/>
              </a:rPr>
              <a:t>Colle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of inspiring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unique im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787"/>
          <p:cNvGrpSpPr/>
          <p:nvPr/>
        </p:nvGrpSpPr>
        <p:grpSpPr>
          <a:xfrm>
            <a:off x="6588000" y="2625840"/>
            <a:ext cx="1630440" cy="894600"/>
            <a:chOff x="6588000" y="2625840"/>
            <a:chExt cx="1630440" cy="894600"/>
          </a:xfrm>
        </p:grpSpPr>
        <p:sp>
          <p:nvSpPr>
            <p:cNvPr id="53" name="AutoShape 1783"/>
            <p:cNvSpPr/>
            <p:nvPr/>
          </p:nvSpPr>
          <p:spPr>
            <a:xfrm>
              <a:off x="6789600" y="2673360"/>
              <a:ext cx="647640" cy="162000"/>
            </a:xfrm>
            <a:prstGeom prst="parallelogram">
              <a:avLst>
                <a:gd name="adj" fmla="val 597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784"/>
            <p:cNvSpPr/>
            <p:nvPr/>
          </p:nvSpPr>
          <p:spPr>
            <a:xfrm>
              <a:off x="6721920" y="2818080"/>
              <a:ext cx="1378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Mixing Business Wit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Pleasuresponsored b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company nameSet asid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ime for fun 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relaxation while visiting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785"/>
            <p:cNvSpPr/>
            <p:nvPr/>
          </p:nvSpPr>
          <p:spPr>
            <a:xfrm>
              <a:off x="7405200" y="270504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99"/>
                  </a:solidFill>
                  <a:latin typeface="Arial Black"/>
                  <a:ea typeface="Gulim"/>
                </a:rPr>
                <a:t>BLUE 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786"/>
            <p:cNvSpPr/>
            <p:nvPr/>
          </p:nvSpPr>
          <p:spPr>
            <a:xfrm>
              <a:off x="6588000" y="2625840"/>
              <a:ext cx="86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Dotum"/>
                  <a:ea typeface="Dotum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788"/>
          <p:cNvGrpSpPr/>
          <p:nvPr/>
        </p:nvGrpSpPr>
        <p:grpSpPr>
          <a:xfrm>
            <a:off x="6012000" y="3633840"/>
            <a:ext cx="1910880" cy="772560"/>
            <a:chOff x="6012000" y="3633840"/>
            <a:chExt cx="1910880" cy="772560"/>
          </a:xfrm>
        </p:grpSpPr>
        <p:sp>
          <p:nvSpPr>
            <p:cNvPr id="58" name="AutoShape 1789"/>
            <p:cNvSpPr/>
            <p:nvPr/>
          </p:nvSpPr>
          <p:spPr>
            <a:xfrm>
              <a:off x="6213240" y="3681000"/>
              <a:ext cx="647280" cy="161640"/>
            </a:xfrm>
            <a:prstGeom prst="parallelogram">
              <a:avLst>
                <a:gd name="adj" fmla="val 598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790"/>
            <p:cNvSpPr/>
            <p:nvPr/>
          </p:nvSpPr>
          <p:spPr>
            <a:xfrm>
              <a:off x="6187680" y="382572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COMPANY new low-cost 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easy-to-use Web-site design to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will help entrepreneurs spiff u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ir online store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791"/>
            <p:cNvSpPr/>
            <p:nvPr/>
          </p:nvSpPr>
          <p:spPr>
            <a:xfrm>
              <a:off x="6818400" y="3712680"/>
              <a:ext cx="891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 Black"/>
                  <a:ea typeface="Gulim"/>
                </a:rPr>
                <a:t>GREEN 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792"/>
            <p:cNvSpPr/>
            <p:nvPr/>
          </p:nvSpPr>
          <p:spPr>
            <a:xfrm>
              <a:off x="6012000" y="3633840"/>
              <a:ext cx="86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Dotum"/>
                  <a:ea typeface="Dotu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798"/>
          <p:cNvGrpSpPr/>
          <p:nvPr/>
        </p:nvGrpSpPr>
        <p:grpSpPr>
          <a:xfrm>
            <a:off x="5479920" y="4521240"/>
            <a:ext cx="2657520" cy="651240"/>
            <a:chOff x="5479920" y="4521240"/>
            <a:chExt cx="2657520" cy="651240"/>
          </a:xfrm>
        </p:grpSpPr>
        <p:sp>
          <p:nvSpPr>
            <p:cNvPr id="63" name="AutoShape 1794"/>
            <p:cNvSpPr/>
            <p:nvPr/>
          </p:nvSpPr>
          <p:spPr>
            <a:xfrm>
              <a:off x="5681520" y="4568760"/>
              <a:ext cx="647640" cy="162000"/>
            </a:xfrm>
            <a:prstGeom prst="parallelogram">
              <a:avLst>
                <a:gd name="adj" fmla="val 597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795"/>
            <p:cNvSpPr/>
            <p:nvPr/>
          </p:nvSpPr>
          <p:spPr>
            <a:xfrm>
              <a:off x="5594400" y="4713480"/>
              <a:ext cx="254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An ad-industry veteran and entrepreneur sha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his insights about the best ways f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small outfits to get and leverage media atten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796"/>
            <p:cNvSpPr/>
            <p:nvPr/>
          </p:nvSpPr>
          <p:spPr>
            <a:xfrm>
              <a:off x="6312240" y="4600440"/>
              <a:ext cx="95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6600"/>
                  </a:solidFill>
                  <a:latin typeface="Arial Black"/>
                  <a:ea typeface="Gulim"/>
                </a:rPr>
                <a:t>YELLOW 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797"/>
            <p:cNvSpPr/>
            <p:nvPr/>
          </p:nvSpPr>
          <p:spPr>
            <a:xfrm>
              <a:off x="5479920" y="45212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Dotum"/>
                  <a:ea typeface="Dotu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492360" y="1546200"/>
            <a:ext cx="1440000" cy="1440"/>
            <a:chOff x="3492360" y="1546200"/>
            <a:chExt cx="1440000" cy="1440"/>
          </a:xfrm>
        </p:grpSpPr>
        <p:sp>
          <p:nvSpPr>
            <p:cNvPr id="68" name="Line 1799"/>
            <p:cNvSpPr/>
            <p:nvPr/>
          </p:nvSpPr>
          <p:spPr>
            <a:xfrm>
              <a:off x="3492360" y="1546200"/>
              <a:ext cx="1440000" cy="144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3492360" y="1546200"/>
              <a:ext cx="1440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800"/>
          <p:cNvSpPr/>
          <p:nvPr/>
        </p:nvSpPr>
        <p:spPr>
          <a:xfrm>
            <a:off x="4865760" y="1420920"/>
            <a:ext cx="14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Dotum"/>
                <a:ea typeface="Dotum"/>
              </a:rPr>
              <a:t>CONTENTS_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02"/>
          <p:cNvSpPr/>
          <p:nvPr/>
        </p:nvSpPr>
        <p:spPr>
          <a:xfrm>
            <a:off x="5003640" y="1617840"/>
            <a:ext cx="10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Search the catalogs, find information, put materials on reserve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renew books online.Fine Art Black and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03"/>
          <p:cNvSpPr/>
          <p:nvPr/>
        </p:nvSpPr>
        <p:spPr>
          <a:xfrm>
            <a:off x="4998960" y="253512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Gulim"/>
                <a:ea typeface="Gulim"/>
              </a:rPr>
              <a:t>+25</a:t>
            </a:r>
            <a:r>
              <a:rPr b="1" lang="en-US" sz="1800" spc="-1" strike="noStrike">
                <a:solidFill>
                  <a:srgbClr val="cc3300"/>
                </a:solidFill>
                <a:latin typeface="Gulim"/>
                <a:ea typeface="Gulim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19A-CA6B-4091-8EC1-06926EB634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0:39Z</dcterms:modified>
  <cp:revision>10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