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357-AA65-4C45-AC13-91A7AB84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884-0B07-4422-AB26-FE4FAAE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352-EC6A-40D5-A805-ABCC6234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48A-87AC-4AFE-8C7E-BE4E7E0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CB6-396F-4440-8FE5-CB3088C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AB-A348-4FFD-92E5-46A6BAEA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4BD-1B0B-464D-BC8F-A1B8384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AC0-DAC3-4176-AD06-455A5C7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486-08C5-4030-A6F2-DE5991AA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92B-E794-4B25-9175-BAAA1A6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434-AE58-4E84-A287-2DAB901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25E-5F07-4D78-8F79-7AFB9CD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A064-FD9A-4751-9883-F1D7203731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436680" y="2146320"/>
            <a:ext cx="8268480" cy="1409760"/>
            <a:chOff x="436680" y="2146320"/>
            <a:chExt cx="8268480" cy="1409760"/>
          </a:xfrm>
        </p:grpSpPr>
        <p:sp>
          <p:nvSpPr>
            <p:cNvPr id="42" name="矩形 7"/>
            <p:cNvSpPr/>
            <p:nvPr/>
          </p:nvSpPr>
          <p:spPr>
            <a:xfrm>
              <a:off x="1008000" y="2857320"/>
              <a:ext cx="1780920" cy="69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8"/>
            <p:cNvSpPr/>
            <p:nvPr/>
          </p:nvSpPr>
          <p:spPr>
            <a:xfrm>
              <a:off x="2788920" y="2857320"/>
              <a:ext cx="1782720" cy="698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9"/>
            <p:cNvSpPr/>
            <p:nvPr/>
          </p:nvSpPr>
          <p:spPr>
            <a:xfrm>
              <a:off x="4572000" y="2857320"/>
              <a:ext cx="1780920" cy="698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0"/>
            <p:cNvSpPr/>
            <p:nvPr/>
          </p:nvSpPr>
          <p:spPr>
            <a:xfrm>
              <a:off x="6353280" y="2857320"/>
              <a:ext cx="1780920" cy="698760"/>
            </a:xfrm>
            <a:prstGeom prst="rect">
              <a:avLst/>
            </a:prstGeom>
            <a:solidFill>
              <a:srgbClr val="009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43668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家庭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221832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求学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399960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工作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4"/>
            <p:cNvSpPr/>
            <p:nvPr/>
          </p:nvSpPr>
          <p:spPr>
            <a:xfrm>
              <a:off x="5781240" y="214632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感恩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6320" y="529596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9960" y="800280"/>
            <a:ext cx="50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清新中国风个人简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0017 -0.2877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59C-3B17-4BBA-93F5-5BF044FE5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3"/>
          <p:cNvSpPr/>
          <p:nvPr/>
        </p:nvSpPr>
        <p:spPr>
          <a:xfrm>
            <a:off x="2007720" y="2065320"/>
            <a:ext cx="53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3"/>
          <p:cNvSpPr/>
          <p:nvPr/>
        </p:nvSpPr>
        <p:spPr>
          <a:xfrm>
            <a:off x="2693520" y="2019240"/>
            <a:ext cx="53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0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69400" y="1650960"/>
            <a:ext cx="4638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12T14:25:0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