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E54-0DE4-4219-97EC-6186FA95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109-79BB-4F73-9F17-C036C96D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DDE-EC55-4C9E-817B-E96BD447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F5A-8E49-499A-88BA-72DEAEA3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F744-8F4D-4A64-AAF1-0811BB63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A40D-B8BA-439F-9871-0BD8688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527-74C5-4756-AA95-F0B950A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A97C-D5A5-4FEE-9904-28BC39E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1E06-AA7A-49EE-B90D-5FE7378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FBB-8B46-4BFA-BEC6-2CEEFA8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D40-2395-4751-979A-D5A754F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294-3BC0-42AF-B4AE-581EF6A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B75-4186-4B1E-94B6-191B876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4E3F-F16D-43DB-877F-334265B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4065-505D-4EE6-846E-A3FF471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EB9-8E79-4F7D-99D5-F7B63202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8B96-E6E5-4CF9-970B-847C7FFF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6B6-D3CD-4F19-99A6-2DB28FB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539-09EC-4253-9CAB-2A3F805E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A93-2165-4139-9DC5-B2F0AC5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FAF-60ED-4E4A-8470-456624B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B80-9704-44EA-9AF4-DC71594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72E-0B2D-4B16-B78C-F932217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FCE-925D-40DC-8841-7672685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8F2-1718-46CA-9A06-B74C567F5D4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EF98-1611-4DC3-AD19-44AE4904AE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0520" y="9036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332000" y="282420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817720" y="1541520"/>
            <a:ext cx="3527640" cy="82368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2028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6680" y="981000"/>
            <a:ext cx="358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企业礼仪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15840" y="-19080"/>
            <a:ext cx="3622680" cy="687852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86000" y="227664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83E-2F6A-429B-8889-D2B804ED14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2:19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