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3.gif" ContentType="image/gif"/>
  <Override PartName="/ppt/media/image23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21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1.jpeg" ContentType="image/jpeg"/>
  <Override PartName="/ppt/media/image29.jpeg" ContentType="image/jpeg"/>
  <Override PartName="/ppt/media/image28.jpeg" ContentType="image/jpeg"/>
  <Override PartName="/ppt/media/image51.jpeg" ContentType="image/jpeg"/>
  <Override PartName="/ppt/media/image15.gif" ContentType="image/gif"/>
  <Override PartName="/ppt/media/image5.jpeg" ContentType="image/jpeg"/>
  <Override PartName="/ppt/media/image7.jpeg" ContentType="image/jpeg"/>
  <Override PartName="/ppt/media/image35.gif" ContentType="image/gif"/>
  <Override PartName="/ppt/media/image38.jpeg" ContentType="image/jpeg"/>
  <Override PartName="/ppt/media/image4.png" ContentType="image/png"/>
  <Override PartName="/ppt/media/image11.gif" ContentType="image/gif"/>
  <Override PartName="/ppt/media/image6.jpeg" ContentType="image/jpeg"/>
  <Override PartName="/ppt/media/image43.jpeg" ContentType="image/jpeg"/>
  <Override PartName="/ppt/media/image40.jpeg" ContentType="image/jpeg"/>
  <Override PartName="/ppt/media/image45.jpeg" ContentType="image/jpeg"/>
  <Override PartName="/ppt/media/image41.jpeg" ContentType="image/jpeg"/>
  <Override PartName="/ppt/media/image39.jpeg" ContentType="image/jpeg"/>
  <Override PartName="/ppt/media/image47.jpeg" ContentType="image/jpeg"/>
  <Override PartName="/ppt/media/image46.jpeg" ContentType="image/jpeg"/>
  <Override PartName="/ppt/media/image53.gif" ContentType="image/gif"/>
  <Override PartName="/ppt/media/image58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8.gif" ContentType="image/gif"/>
  <Override PartName="/ppt/media/image57.jpeg" ContentType="image/jpeg"/>
  <Override PartName="/ppt/media/image44.jpeg" ContentType="image/jpeg"/>
  <Override PartName="/ppt/media/image52.gif" ContentType="image/gif"/>
  <Override PartName="/ppt/media/image34.jpeg" ContentType="image/jpeg"/>
  <Override PartName="/ppt/media/image36.jpeg" ContentType="image/jpeg"/>
  <Override PartName="/ppt/media/image32.jpeg" ContentType="image/jpeg"/>
  <Override PartName="/ppt/media/image30.jpeg" ContentType="image/jpeg"/>
  <Override PartName="/ppt/media/image12.gif" ContentType="image/gif"/>
  <Override PartName="/ppt/media/image24.jpeg" ContentType="image/jpeg"/>
  <Override PartName="/ppt/media/image3.jpeg" ContentType="image/jpeg"/>
  <Override PartName="/ppt/media/image37.jpeg" ContentType="image/jpeg"/>
  <Override PartName="/ppt/media/image10.gif" ContentType="image/gif"/>
  <Override PartName="/ppt/media/image9.gif" ContentType="image/gif"/>
  <Override PartName="/ppt/media/image13.gif" ContentType="image/gif"/>
  <Override PartName="/ppt/media/image4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641-E81D-4B22-A079-6B2B9255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39D-D086-41F0-BC7A-19C9BA1A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469-1EDE-43D2-BFAF-5CAEE06A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F0D-C1F5-4743-AA78-9BBAC84E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1D6-030B-402E-9AA0-A7EAF250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9C8-1313-48FE-BFFC-45FF9363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EF4-8079-4AC1-910C-1544963A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373-DD4B-46EB-8DE4-FBF47DF1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953-D8D5-46A3-8C82-43E7EDC5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DBF-9234-47F5-92A2-DAE5DF60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31A-05BF-45D1-A117-E67C31F5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96F-55E5-42C3-ACA5-B217F2CC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FD79-B4CB-4838-AD8F-53CFAC81199A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B1F8-8FA4-4843-9D29-3C1DC15EB1D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3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3.jpeg"/><Relationship Id="rId5" Type="http://schemas.openxmlformats.org/officeDocument/2006/relationships/image" Target="../media/image48.jpeg"/><Relationship Id="rId6" Type="http://schemas.openxmlformats.org/officeDocument/2006/relationships/image" Target="../media/image44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45.jpeg"/><Relationship Id="rId10" Type="http://schemas.openxmlformats.org/officeDocument/2006/relationships/image" Target="../media/image51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6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45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入门级</a:t>
            </a:r>
            <a:r>
              <a:rPr b="0" lang="en-US" sz="60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GIF</a:t>
            </a:r>
            <a:r>
              <a:rPr b="0" lang="zh-CN" sz="60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表情设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1714680"/>
            <a:ext cx="78184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——</a:t>
            </a:r>
            <a:r>
              <a:rPr b="0" lang="en-US" sz="44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Oba </a:t>
            </a:r>
            <a:r>
              <a:rPr b="0" lang="zh-CN" sz="44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肥鸡 </a:t>
            </a:r>
            <a:r>
              <a:rPr b="0" lang="en-US" sz="44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styl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6249960" y="2652840"/>
            <a:ext cx="2786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主讲人：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欢迎关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上期回顾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倪大挫"/>
          <p:cNvPicPr/>
          <p:nvPr/>
        </p:nvPicPr>
        <p:blipFill>
          <a:blip r:embed="rId1"/>
          <a:stretch/>
        </p:blipFill>
        <p:spPr>
          <a:xfrm>
            <a:off x="7667640" y="2708280"/>
            <a:ext cx="717480" cy="71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D:\PPT2\jiji-style5.gif"/>
          <p:cNvPicPr/>
          <p:nvPr/>
        </p:nvPicPr>
        <p:blipFill>
          <a:blip r:embed="rId2"/>
          <a:stretch/>
        </p:blipFill>
        <p:spPr>
          <a:xfrm>
            <a:off x="857160" y="2717640"/>
            <a:ext cx="5154840" cy="388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981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8080" y="260280"/>
            <a:ext cx="40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入门级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F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表情设计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设计思路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思路整合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鸟叔的骑马舞动作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关键：脚和手的跳跃和摆动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辅助：撅嘴的表情、墨镜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问题：獠麝鸡的脚过于细小，动作表现力度有限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解决方案：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着重表现手部动作和表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加上鸡冠的摆动增加动作力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脚部动作尽可能表现，但不作为重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制作过程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　　 截图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　→　</a:t>
            </a: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挑取循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　→　</a:t>
            </a: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分析动作规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　→　</a:t>
            </a: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逐帧绘画（从关键帧开始）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　→　</a:t>
            </a:r>
            <a:r>
              <a:rPr b="0" lang="zh-CN" sz="3600" spc="-1" strike="noStrike">
                <a:solidFill>
                  <a:srgbClr val="f8f8f8"/>
                </a:solidFill>
                <a:latin typeface="方正正黑简体"/>
                <a:ea typeface="方正正黑简体"/>
              </a:rPr>
              <a:t>整合，反复修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　→　</a:t>
            </a: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加背景，搞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截图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截图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逐帧截下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MV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中的目标动作，至少包括一个循环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3" descr="D:\PPT2\jietu.jpg"/>
          <p:cNvPicPr/>
          <p:nvPr/>
        </p:nvPicPr>
        <p:blipFill>
          <a:blip r:embed="rId1"/>
          <a:stretch/>
        </p:blipFill>
        <p:spPr>
          <a:xfrm>
            <a:off x="885960" y="2852640"/>
            <a:ext cx="70707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挑取循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挑取循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把所有截图排好顺序拉进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MG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调整到合适大小并裁剪掉多余部分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D:\PPT2\bz1.jpg"/>
          <p:cNvPicPr/>
          <p:nvPr/>
        </p:nvPicPr>
        <p:blipFill>
          <a:blip r:embed="rId1"/>
          <a:stretch/>
        </p:blipFill>
        <p:spPr>
          <a:xfrm>
            <a:off x="826920" y="3290760"/>
            <a:ext cx="1471680" cy="2543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PPT2\bz2.jpg"/>
          <p:cNvPicPr/>
          <p:nvPr/>
        </p:nvPicPr>
        <p:blipFill>
          <a:blip r:embed="rId2"/>
          <a:stretch/>
        </p:blipFill>
        <p:spPr>
          <a:xfrm>
            <a:off x="2700360" y="3290760"/>
            <a:ext cx="2746440" cy="21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PPT2\bz3.jpg"/>
          <p:cNvPicPr/>
          <p:nvPr/>
        </p:nvPicPr>
        <p:blipFill>
          <a:blip r:embed="rId3"/>
          <a:stretch/>
        </p:blipFill>
        <p:spPr>
          <a:xfrm>
            <a:off x="5796000" y="3284640"/>
            <a:ext cx="25732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挑取循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挑取循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观察并挑取一个顺畅的循环，删除其他多余的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鸟叔的舞步一个循环原本为“左右左左右左右右”，此处简化为“左右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左右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左右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左右”，即以“左右”为一个循环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4" descr="D:\PPT2\bz5.jpg"/>
          <p:cNvPicPr/>
          <p:nvPr/>
        </p:nvPicPr>
        <p:blipFill>
          <a:blip r:embed="rId1"/>
          <a:stretch/>
        </p:blipFill>
        <p:spPr>
          <a:xfrm>
            <a:off x="1187280" y="3933720"/>
            <a:ext cx="71280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挑取循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挑取循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播放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IF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调试，“所有帧延时”调整节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注意，网络传播中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IF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的帧速最好不大于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10f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D:\PPT2\bz6.jpg"/>
          <p:cNvPicPr/>
          <p:nvPr/>
        </p:nvPicPr>
        <p:blipFill>
          <a:blip r:embed="rId1"/>
          <a:stretch/>
        </p:blipFill>
        <p:spPr>
          <a:xfrm>
            <a:off x="971640" y="3181320"/>
            <a:ext cx="2095560" cy="33433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857760" y="5672160"/>
            <a:ext cx="43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20</a:t>
            </a: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帧，所有帧延时</a:t>
            </a: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=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（注：此处所有帧延时单位为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1/100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秒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D:\PPT2\第一次加工.gif"/>
          <p:cNvPicPr/>
          <p:nvPr/>
        </p:nvPicPr>
        <p:blipFill>
          <a:blip r:embed="rId2"/>
          <a:stretch/>
        </p:blipFill>
        <p:spPr>
          <a:xfrm>
            <a:off x="3857760" y="3718080"/>
            <a:ext cx="11430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挑取循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挑取循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可通过“减少帧数”改变帧数与帧速的关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4" descr="D:\PPT2\bz7.jpg"/>
          <p:cNvPicPr/>
          <p:nvPr/>
        </p:nvPicPr>
        <p:blipFill>
          <a:blip r:embed="rId1"/>
          <a:stretch/>
        </p:blipFill>
        <p:spPr>
          <a:xfrm>
            <a:off x="900000" y="2997360"/>
            <a:ext cx="1609920" cy="27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D:\PPT2\第一次加工.gif"/>
          <p:cNvPicPr/>
          <p:nvPr/>
        </p:nvPicPr>
        <p:blipFill>
          <a:blip r:embed="rId2"/>
          <a:stretch/>
        </p:blipFill>
        <p:spPr>
          <a:xfrm>
            <a:off x="3635280" y="3033720"/>
            <a:ext cx="1143000" cy="1866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:\PPT2\第二次加工.gif"/>
          <p:cNvPicPr/>
          <p:nvPr/>
        </p:nvPicPr>
        <p:blipFill>
          <a:blip r:embed="rId3"/>
          <a:stretch/>
        </p:blipFill>
        <p:spPr>
          <a:xfrm>
            <a:off x="6207120" y="2997360"/>
            <a:ext cx="1143000" cy="18666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1"/>
          <p:cNvSpPr/>
          <p:nvPr/>
        </p:nvSpPr>
        <p:spPr>
          <a:xfrm>
            <a:off x="3492360" y="51577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20</a:t>
            </a: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帧，</a:t>
            </a:r>
            <a:br>
              <a:rPr sz="1800"/>
            </a:b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所有帧延时</a:t>
            </a: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=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6012000" y="5157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10</a:t>
            </a: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帧，</a:t>
            </a:r>
            <a:br>
              <a:rPr sz="1800"/>
            </a:b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所有帧延时</a:t>
            </a: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=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6012000" y="2852640"/>
            <a:ext cx="1584360" cy="2160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分析动作规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分析动作规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绘画之前，先想清楚怎么画，不急着动笔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把整体拆分为多个部件思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躯体为一部件，手为一部件，脚为另一部件，还要添加鸡冠为另一部件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反复观察动作，各部件的运动规律要心中有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头和躯体只有整体位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手、脚、鸡冠：有各自的动作变化规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绘画时各个部件要独立出来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7" descr="D:\PPT2\第二次加工.gif"/>
          <p:cNvPicPr/>
          <p:nvPr/>
        </p:nvPicPr>
        <p:blipFill>
          <a:blip r:embed="rId1"/>
          <a:stretch/>
        </p:blipFill>
        <p:spPr>
          <a:xfrm>
            <a:off x="7020000" y="4370400"/>
            <a:ext cx="11430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逐帧绘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逐帧绘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先确定关键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如脚抬到最高位置的一帧为一关键帧，脚位于最低位置的一帧为另一关键帧，考虑到左右之分，共有</a:t>
            </a:r>
            <a:r>
              <a:rPr b="0" lang="en-US" sz="20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个关键帧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没有动作变化的部分可重复使用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躯体和头只有位移，没有动作，可作为固定部分在各帧中刚重复使用，调整到合适即可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D:\PPT2\hh-gd.jpg"/>
          <p:cNvPicPr/>
          <p:nvPr/>
        </p:nvPicPr>
        <p:blipFill>
          <a:blip r:embed="rId1"/>
          <a:stretch/>
        </p:blipFill>
        <p:spPr>
          <a:xfrm>
            <a:off x="1692360" y="4508640"/>
            <a:ext cx="1871640" cy="1939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:\PPT2\hh-bh.jpg"/>
          <p:cNvPicPr/>
          <p:nvPr/>
        </p:nvPicPr>
        <p:blipFill>
          <a:blip r:embed="rId2"/>
          <a:stretch/>
        </p:blipFill>
        <p:spPr>
          <a:xfrm>
            <a:off x="5148360" y="4508640"/>
            <a:ext cx="1871640" cy="19396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571920" y="45086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固定部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7020000" y="45086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变化部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逐帧绘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逐帧绘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绘画顺序是</a:t>
            </a:r>
            <a:r>
              <a:rPr b="0" lang="zh-CN" sz="24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草稿</a:t>
            </a:r>
            <a:r>
              <a:rPr b="0" lang="en-US" sz="24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-</a:t>
            </a:r>
            <a:r>
              <a:rPr b="0" lang="zh-CN" sz="24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线稿</a:t>
            </a:r>
            <a:r>
              <a:rPr b="0" lang="en-US" sz="24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-</a:t>
            </a:r>
            <a:r>
              <a:rPr b="0" lang="zh-CN" sz="24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基本色</a:t>
            </a:r>
            <a:r>
              <a:rPr b="0" lang="en-US" sz="24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-</a:t>
            </a:r>
            <a:r>
              <a:rPr b="0" lang="zh-CN" sz="24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简单分色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绘画技巧详见上期教程，此处略过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纯色填充，不带渐变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2" descr="D:\PPT2\hh4.jpg"/>
          <p:cNvPicPr/>
          <p:nvPr/>
        </p:nvPicPr>
        <p:blipFill>
          <a:blip r:embed="rId1"/>
          <a:stretch/>
        </p:blipFill>
        <p:spPr>
          <a:xfrm>
            <a:off x="6575400" y="3736800"/>
            <a:ext cx="1871640" cy="15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D:\PPT2\hh3.jpg"/>
          <p:cNvPicPr/>
          <p:nvPr/>
        </p:nvPicPr>
        <p:blipFill>
          <a:blip r:embed="rId2"/>
          <a:stretch/>
        </p:blipFill>
        <p:spPr>
          <a:xfrm>
            <a:off x="4559400" y="3736800"/>
            <a:ext cx="1871640" cy="1563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D:\PPT2\hh2.jpg"/>
          <p:cNvPicPr/>
          <p:nvPr/>
        </p:nvPicPr>
        <p:blipFill>
          <a:blip r:embed="rId3"/>
          <a:stretch/>
        </p:blipFill>
        <p:spPr>
          <a:xfrm>
            <a:off x="2543040" y="3736800"/>
            <a:ext cx="1871640" cy="1563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:\PPT2\hh1.jpg"/>
          <p:cNvPicPr/>
          <p:nvPr/>
        </p:nvPicPr>
        <p:blipFill>
          <a:blip r:embed="rId4"/>
          <a:stretch/>
        </p:blipFill>
        <p:spPr>
          <a:xfrm>
            <a:off x="539640" y="3736800"/>
            <a:ext cx="1871640" cy="15638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539640" y="5518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草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556000" y="5518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线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4572000" y="5518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基本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6588000" y="5518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简单分色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自我介绍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http://images.gz.house.sina.com.cn/2012/0802/S66484T1343868570487.jpg"/>
          <p:cNvPicPr/>
          <p:nvPr/>
        </p:nvPicPr>
        <p:blipFill>
          <a:blip r:embed="rId1"/>
          <a:stretch/>
        </p:blipFill>
        <p:spPr>
          <a:xfrm>
            <a:off x="4067280" y="1652760"/>
            <a:ext cx="43750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D:\PPT\作品2.png"/>
          <p:cNvPicPr/>
          <p:nvPr/>
        </p:nvPicPr>
        <p:blipFill>
          <a:blip r:embed="rId2"/>
          <a:stretch/>
        </p:blipFill>
        <p:spPr>
          <a:xfrm>
            <a:off x="826920" y="3705120"/>
            <a:ext cx="3152880" cy="236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:\PPT\作品1.png"/>
          <p:cNvPicPr/>
          <p:nvPr/>
        </p:nvPicPr>
        <p:blipFill>
          <a:blip r:embed="rId3"/>
          <a:stretch/>
        </p:blipFill>
        <p:spPr>
          <a:xfrm>
            <a:off x="4067280" y="4702320"/>
            <a:ext cx="184284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:\PPT2\gjj.jpg"/>
          <p:cNvPicPr/>
          <p:nvPr/>
        </p:nvPicPr>
        <p:blipFill>
          <a:blip r:embed="rId4"/>
          <a:stretch/>
        </p:blipFill>
        <p:spPr>
          <a:xfrm>
            <a:off x="5923080" y="4703760"/>
            <a:ext cx="2519280" cy="137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:\PPT2\gjj1.jpg"/>
          <p:cNvPicPr/>
          <p:nvPr/>
        </p:nvPicPr>
        <p:blipFill>
          <a:blip r:embed="rId5"/>
          <a:stretch/>
        </p:blipFill>
        <p:spPr>
          <a:xfrm>
            <a:off x="4067280" y="3390840"/>
            <a:ext cx="43750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逐帧绘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逐帧绘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画出关键帧后，再根据动作变化规律补充完关键帧之间的过渡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前一帧或后一帧半透明化，在此基础上画新的一帧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最难画的地方是首末缝合处，需同时观察前后两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Picture 22" descr="D:\PPT2\hhgc01.jpg"/>
          <p:cNvPicPr/>
          <p:nvPr/>
        </p:nvPicPr>
        <p:blipFill>
          <a:blip r:embed="rId1"/>
          <a:stretch/>
        </p:blipFill>
        <p:spPr>
          <a:xfrm>
            <a:off x="324000" y="4079880"/>
            <a:ext cx="81900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D:\PPT2\hhgc04.jpg"/>
          <p:cNvPicPr/>
          <p:nvPr/>
        </p:nvPicPr>
        <p:blipFill>
          <a:blip r:embed="rId2"/>
          <a:stretch/>
        </p:blipFill>
        <p:spPr>
          <a:xfrm>
            <a:off x="2882880" y="4079880"/>
            <a:ext cx="819000" cy="933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7" descr="D:\PPT2\hhgc06.jpg"/>
          <p:cNvPicPr/>
          <p:nvPr/>
        </p:nvPicPr>
        <p:blipFill>
          <a:blip r:embed="rId3"/>
          <a:stretch/>
        </p:blipFill>
        <p:spPr>
          <a:xfrm>
            <a:off x="4587840" y="4079880"/>
            <a:ext cx="820800" cy="933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D:\PPT2\hhgc09.jpg"/>
          <p:cNvPicPr/>
          <p:nvPr/>
        </p:nvPicPr>
        <p:blipFill>
          <a:blip r:embed="rId4"/>
          <a:stretch/>
        </p:blipFill>
        <p:spPr>
          <a:xfrm>
            <a:off x="7147080" y="4079880"/>
            <a:ext cx="820440" cy="9334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24000" y="5013360"/>
            <a:ext cx="8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关键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2887560" y="5013360"/>
            <a:ext cx="8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关键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4572000" y="5013360"/>
            <a:ext cx="8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关键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7137360" y="5013360"/>
            <a:ext cx="8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关键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逐帧绘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逐帧绘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画出关键帧后，再根据动作变化规律补充完关键帧之间的过渡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前一帧或后一帧半透明化，在此基础上画新的一帧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最难画的地方是首末缝合处，需同时观察前后两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22" descr="D:\PPT2\hhgc01.jpg"/>
          <p:cNvPicPr/>
          <p:nvPr/>
        </p:nvPicPr>
        <p:blipFill>
          <a:blip r:embed="rId1"/>
          <a:stretch/>
        </p:blipFill>
        <p:spPr>
          <a:xfrm>
            <a:off x="324000" y="4079880"/>
            <a:ext cx="819000" cy="933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3" descr="D:\PPT2\hhgc02.jpg"/>
          <p:cNvPicPr/>
          <p:nvPr/>
        </p:nvPicPr>
        <p:blipFill>
          <a:blip r:embed="rId2"/>
          <a:stretch/>
        </p:blipFill>
        <p:spPr>
          <a:xfrm>
            <a:off x="1176480" y="4079880"/>
            <a:ext cx="820440" cy="933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D:\PPT2\hhgc03.jpg"/>
          <p:cNvPicPr/>
          <p:nvPr/>
        </p:nvPicPr>
        <p:blipFill>
          <a:blip r:embed="rId3"/>
          <a:stretch/>
        </p:blipFill>
        <p:spPr>
          <a:xfrm>
            <a:off x="2028960" y="4079880"/>
            <a:ext cx="820440" cy="933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D:\PPT2\hhgc04.jpg"/>
          <p:cNvPicPr/>
          <p:nvPr/>
        </p:nvPicPr>
        <p:blipFill>
          <a:blip r:embed="rId4"/>
          <a:stretch/>
        </p:blipFill>
        <p:spPr>
          <a:xfrm>
            <a:off x="2882880" y="4079880"/>
            <a:ext cx="819000" cy="933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D:\PPT2\hhgc05.jpg"/>
          <p:cNvPicPr/>
          <p:nvPr/>
        </p:nvPicPr>
        <p:blipFill>
          <a:blip r:embed="rId5"/>
          <a:stretch/>
        </p:blipFill>
        <p:spPr>
          <a:xfrm>
            <a:off x="3735360" y="4079880"/>
            <a:ext cx="820800" cy="9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7" descr="D:\PPT2\hhgc06.jpg"/>
          <p:cNvPicPr/>
          <p:nvPr/>
        </p:nvPicPr>
        <p:blipFill>
          <a:blip r:embed="rId6"/>
          <a:stretch/>
        </p:blipFill>
        <p:spPr>
          <a:xfrm>
            <a:off x="4587840" y="4079880"/>
            <a:ext cx="820800" cy="9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8" descr="D:\PPT2\hhgc07.jpg"/>
          <p:cNvPicPr/>
          <p:nvPr/>
        </p:nvPicPr>
        <p:blipFill>
          <a:blip r:embed="rId7"/>
          <a:stretch/>
        </p:blipFill>
        <p:spPr>
          <a:xfrm>
            <a:off x="5442120" y="4079880"/>
            <a:ext cx="819000" cy="933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9" descr="D:\PPT2\hhgc08.jpg"/>
          <p:cNvPicPr/>
          <p:nvPr/>
        </p:nvPicPr>
        <p:blipFill>
          <a:blip r:embed="rId8"/>
          <a:stretch/>
        </p:blipFill>
        <p:spPr>
          <a:xfrm>
            <a:off x="6294600" y="4079880"/>
            <a:ext cx="820440" cy="933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0" descr="D:\PPT2\hhgc09.jpg"/>
          <p:cNvPicPr/>
          <p:nvPr/>
        </p:nvPicPr>
        <p:blipFill>
          <a:blip r:embed="rId9"/>
          <a:stretch/>
        </p:blipFill>
        <p:spPr>
          <a:xfrm>
            <a:off x="7147080" y="4079880"/>
            <a:ext cx="820440" cy="933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1" descr="D:\PPT2\hhgc10.jpg"/>
          <p:cNvPicPr/>
          <p:nvPr/>
        </p:nvPicPr>
        <p:blipFill>
          <a:blip r:embed="rId10"/>
          <a:stretch/>
        </p:blipFill>
        <p:spPr>
          <a:xfrm>
            <a:off x="8001000" y="4079880"/>
            <a:ext cx="819000" cy="9334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324000" y="5013360"/>
            <a:ext cx="8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关键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2887560" y="5013360"/>
            <a:ext cx="8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关键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4572000" y="5013360"/>
            <a:ext cx="8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关键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7137360" y="5013360"/>
            <a:ext cx="8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关键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整合成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GIF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整合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依次输出各帧图像，拉进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MG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设定好参数，检测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IF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是否顺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3" descr="D:\PPT2\jiji-style.gif"/>
          <p:cNvPicPr/>
          <p:nvPr/>
        </p:nvPicPr>
        <p:blipFill>
          <a:blip r:embed="rId1"/>
          <a:stretch/>
        </p:blipFill>
        <p:spPr>
          <a:xfrm>
            <a:off x="1271520" y="3213000"/>
            <a:ext cx="2059200" cy="2424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D:\PPT2\pp8.gif"/>
          <p:cNvPicPr/>
          <p:nvPr/>
        </p:nvPicPr>
        <p:blipFill>
          <a:blip r:embed="rId2"/>
          <a:stretch/>
        </p:blipFill>
        <p:spPr>
          <a:xfrm>
            <a:off x="4219560" y="3216240"/>
            <a:ext cx="2440080" cy="2421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8"/>
          <p:cNvSpPr/>
          <p:nvPr/>
        </p:nvSpPr>
        <p:spPr>
          <a:xfrm>
            <a:off x="1271520" y="58039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10</a:t>
            </a: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帧，</a:t>
            </a:r>
            <a:br>
              <a:rPr sz="1800"/>
            </a:b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所有帧延时</a:t>
            </a: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=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4211640" y="580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4</a:t>
            </a: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帧，</a:t>
            </a:r>
            <a:br>
              <a:rPr sz="1800"/>
            </a:b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所有帧延时</a:t>
            </a: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=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整合成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GIF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整合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不合格，推翻重来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不断修改，直到拿得出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Picture 3" descr="D:\PPT2\sb1.gif"/>
          <p:cNvPicPr/>
          <p:nvPr/>
        </p:nvPicPr>
        <p:blipFill>
          <a:blip r:embed="rId1"/>
          <a:stretch/>
        </p:blipFill>
        <p:spPr>
          <a:xfrm>
            <a:off x="1274760" y="3506760"/>
            <a:ext cx="2343240" cy="2428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D:\PPT2\ji-style.gif"/>
          <p:cNvPicPr/>
          <p:nvPr/>
        </p:nvPicPr>
        <p:blipFill>
          <a:blip r:embed="rId2"/>
          <a:stretch/>
        </p:blipFill>
        <p:spPr>
          <a:xfrm>
            <a:off x="4140360" y="3506760"/>
            <a:ext cx="18716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添加背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添加背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背景直接用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MV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中的图片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S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而来（移花接木）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背景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帧，獠麝鸡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帧，最小公倍数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即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帧可实现背景和肥鸡同时形成循环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右箭头 6"/>
          <p:cNvSpPr/>
          <p:nvPr/>
        </p:nvSpPr>
        <p:spPr>
          <a:xfrm>
            <a:off x="4356000" y="4809960"/>
            <a:ext cx="704880" cy="5050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0" descr="D:\PPT2\bg2.jpg"/>
          <p:cNvPicPr/>
          <p:nvPr/>
        </p:nvPicPr>
        <p:blipFill>
          <a:blip r:embed="rId1"/>
          <a:stretch/>
        </p:blipFill>
        <p:spPr>
          <a:xfrm>
            <a:off x="5106960" y="3651120"/>
            <a:ext cx="3641760" cy="2730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D:\style\4\9\bg1.jpg"/>
          <p:cNvPicPr/>
          <p:nvPr/>
        </p:nvPicPr>
        <p:blipFill>
          <a:blip r:embed="rId2"/>
          <a:stretch/>
        </p:blipFill>
        <p:spPr>
          <a:xfrm>
            <a:off x="642960" y="3651120"/>
            <a:ext cx="36417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添加背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添加背景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背景直接用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MV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中的图片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S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而来（移花接木）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背景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帧，獠麝鸡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帧，最小公倍数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即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帧可实现背景和肥鸡同时形成循环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右箭头 6"/>
          <p:cNvSpPr/>
          <p:nvPr/>
        </p:nvSpPr>
        <p:spPr>
          <a:xfrm>
            <a:off x="4356000" y="4809960"/>
            <a:ext cx="704880" cy="5050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0" descr="D:\PPT2\bg2.jpg"/>
          <p:cNvPicPr/>
          <p:nvPr/>
        </p:nvPicPr>
        <p:blipFill>
          <a:blip r:embed="rId1"/>
          <a:stretch/>
        </p:blipFill>
        <p:spPr>
          <a:xfrm>
            <a:off x="5106960" y="3651120"/>
            <a:ext cx="3641760" cy="2730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D:\PPT2\bg3.jpg"/>
          <p:cNvPicPr/>
          <p:nvPr/>
        </p:nvPicPr>
        <p:blipFill>
          <a:blip r:embed="rId2"/>
          <a:stretch/>
        </p:blipFill>
        <p:spPr>
          <a:xfrm>
            <a:off x="5106960" y="3651120"/>
            <a:ext cx="3641760" cy="273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D:\style\4\9\bg1.jpg"/>
          <p:cNvPicPr/>
          <p:nvPr/>
        </p:nvPicPr>
        <p:blipFill>
          <a:blip r:embed="rId3"/>
          <a:stretch/>
        </p:blipFill>
        <p:spPr>
          <a:xfrm>
            <a:off x="642960" y="3651120"/>
            <a:ext cx="36417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绘画过程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Done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完成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3" descr="D:\PPT2\jiji-style5.gif"/>
          <p:cNvPicPr/>
          <p:nvPr/>
        </p:nvPicPr>
        <p:blipFill>
          <a:blip r:embed="rId1"/>
          <a:stretch/>
        </p:blipFill>
        <p:spPr>
          <a:xfrm>
            <a:off x="2050920" y="2349360"/>
            <a:ext cx="515628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练习方法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方正正黑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简单的动作和脸部表情开始，动作参考火柴人，脸部表情参考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QQ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自带默认表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方正正黑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把收集到的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IF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拉近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MG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逐帧观察，临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方正正黑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进阶学习可参考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画师生存手册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方正正黑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多思考，多分享，你的作品别人能比你更快发现问题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5" name="Picture 2" descr="D:\PPT2\草图.jpg"/>
          <p:cNvPicPr/>
          <p:nvPr/>
        </p:nvPicPr>
        <p:blipFill>
          <a:blip r:embed="rId1"/>
          <a:stretch/>
        </p:blipFill>
        <p:spPr>
          <a:xfrm>
            <a:off x="1042920" y="4005360"/>
            <a:ext cx="2963880" cy="2232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4140360" y="5877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黑简体"/>
                <a:ea typeface="方正正黑简体"/>
              </a:rPr>
              <a:t>杰克逊鸡草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创作心得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方正正黑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把想法随时用草图记录下来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方正正黑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统一所有帧延时可调整整体节奏，但每一帧均可单独设定不同的延迟时间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方正正黑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把固定部分和变化部分划分在不同的组，固定部分重复使用，适当节省工作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方正正黑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画新的一帧时先将已有的前一帧或后一帧半透明化，在此基础上新建图层描绘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方正正黑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填充颜色尽量用纯色，避免使用渐变，一是在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IF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中渐变会走样，二是渐变在动画中容易前后不衔接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FLASH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矢量动画是另外一回事）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提问时间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欢迎探讨，不要客气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08644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引入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这些都是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I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D:\PPT2\Kyokofxii.gif"/>
          <p:cNvPicPr/>
          <p:nvPr/>
        </p:nvPicPr>
        <p:blipFill>
          <a:blip r:embed="rId1"/>
          <a:stretch/>
        </p:blipFill>
        <p:spPr>
          <a:xfrm>
            <a:off x="611280" y="2635200"/>
            <a:ext cx="13525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PPT2\Iorikofxii.gif"/>
          <p:cNvPicPr/>
          <p:nvPr/>
        </p:nvPicPr>
        <p:blipFill>
          <a:blip r:embed="rId2"/>
          <a:stretch/>
        </p:blipFill>
        <p:spPr>
          <a:xfrm>
            <a:off x="2478240" y="2635200"/>
            <a:ext cx="170496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:\PPT2\Terrykofxii.gif"/>
          <p:cNvPicPr/>
          <p:nvPr/>
        </p:nvPicPr>
        <p:blipFill>
          <a:blip r:embed="rId3"/>
          <a:stretch/>
        </p:blipFill>
        <p:spPr>
          <a:xfrm>
            <a:off x="4427640" y="2708280"/>
            <a:ext cx="1780920" cy="221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PPT2\Ryokofxii.gif"/>
          <p:cNvPicPr/>
          <p:nvPr/>
        </p:nvPicPr>
        <p:blipFill>
          <a:blip r:embed="rId4"/>
          <a:stretch/>
        </p:blipFill>
        <p:spPr>
          <a:xfrm>
            <a:off x="6675480" y="2549520"/>
            <a:ext cx="1562040" cy="239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d:\我的文档\桌面\12.gif"/>
          <p:cNvPicPr/>
          <p:nvPr/>
        </p:nvPicPr>
        <p:blipFill>
          <a:blip r:embed="rId5"/>
          <a:stretch/>
        </p:blipFill>
        <p:spPr>
          <a:xfrm>
            <a:off x="682560" y="53085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:\PPT\11.gif"/>
          <p:cNvPicPr/>
          <p:nvPr/>
        </p:nvPicPr>
        <p:blipFill>
          <a:blip r:embed="rId6"/>
          <a:stretch/>
        </p:blipFill>
        <p:spPr>
          <a:xfrm>
            <a:off x="1835280" y="53085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D:\PPT\13.gif"/>
          <p:cNvPicPr/>
          <p:nvPr/>
        </p:nvPicPr>
        <p:blipFill>
          <a:blip r:embed="rId7"/>
          <a:stretch/>
        </p:blipFill>
        <p:spPr>
          <a:xfrm>
            <a:off x="2987640" y="5307120"/>
            <a:ext cx="1544760" cy="858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D:\PPT\14.gif"/>
          <p:cNvPicPr/>
          <p:nvPr/>
        </p:nvPicPr>
        <p:blipFill>
          <a:blip r:embed="rId8"/>
          <a:stretch/>
        </p:blipFill>
        <p:spPr>
          <a:xfrm>
            <a:off x="4788000" y="5308560"/>
            <a:ext cx="1071360" cy="857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D:\PPT\15.gif"/>
          <p:cNvPicPr/>
          <p:nvPr/>
        </p:nvPicPr>
        <p:blipFill>
          <a:blip r:embed="rId9"/>
          <a:stretch/>
        </p:blipFill>
        <p:spPr>
          <a:xfrm>
            <a:off x="6156360" y="53085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D:\PPT\16.gif"/>
          <p:cNvPicPr/>
          <p:nvPr/>
        </p:nvPicPr>
        <p:blipFill>
          <a:blip r:embed="rId10"/>
          <a:stretch/>
        </p:blipFill>
        <p:spPr>
          <a:xfrm>
            <a:off x="7308720" y="5307120"/>
            <a:ext cx="85752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F42-A1AC-4DD0-9418-B4D79ADBC3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结束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感谢各位的聆听！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889280" y="4965840"/>
            <a:ext cx="373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倪大挫"/>
          <p:cNvPicPr/>
          <p:nvPr/>
        </p:nvPicPr>
        <p:blipFill>
          <a:blip r:embed="rId1"/>
          <a:stretch/>
        </p:blipFill>
        <p:spPr>
          <a:xfrm>
            <a:off x="900000" y="3868560"/>
            <a:ext cx="84960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2B1A-5994-4E76-BA84-B7C5613255A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课程介绍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零开始学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IF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表情制作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主角：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SDC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吉祥物</a:t>
            </a:r>
            <a:r>
              <a:rPr b="0" lang="zh-CN" sz="2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獠麝鸡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10" descr="D:\PPT2\s4.jpg"/>
          <p:cNvPicPr/>
          <p:nvPr/>
        </p:nvPicPr>
        <p:blipFill>
          <a:blip r:embed="rId1"/>
          <a:stretch/>
        </p:blipFill>
        <p:spPr>
          <a:xfrm>
            <a:off x="5076720" y="1682640"/>
            <a:ext cx="1889280" cy="1689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D:\PPT2\s5.jpg"/>
          <p:cNvPicPr/>
          <p:nvPr/>
        </p:nvPicPr>
        <p:blipFill>
          <a:blip r:embed="rId2"/>
          <a:stretch/>
        </p:blipFill>
        <p:spPr>
          <a:xfrm>
            <a:off x="6877080" y="1682640"/>
            <a:ext cx="18889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D:\PPT2\s3.jpg"/>
          <p:cNvPicPr/>
          <p:nvPr/>
        </p:nvPicPr>
        <p:blipFill>
          <a:blip r:embed="rId3"/>
          <a:stretch/>
        </p:blipFill>
        <p:spPr>
          <a:xfrm>
            <a:off x="3276720" y="1682640"/>
            <a:ext cx="1888920" cy="168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PPT2\jiji-style5.gif"/>
          <p:cNvPicPr/>
          <p:nvPr/>
        </p:nvPicPr>
        <p:blipFill>
          <a:blip r:embed="rId4"/>
          <a:stretch/>
        </p:blipFill>
        <p:spPr>
          <a:xfrm>
            <a:off x="755640" y="3672000"/>
            <a:ext cx="3216240" cy="2421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D:\PPT2\jiji-style.gif"/>
          <p:cNvPicPr/>
          <p:nvPr/>
        </p:nvPicPr>
        <p:blipFill>
          <a:blip r:embed="rId5"/>
          <a:stretch/>
        </p:blipFill>
        <p:spPr>
          <a:xfrm>
            <a:off x="6707160" y="3668760"/>
            <a:ext cx="2058840" cy="242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PPT2\pp8.gif"/>
          <p:cNvPicPr/>
          <p:nvPr/>
        </p:nvPicPr>
        <p:blipFill>
          <a:blip r:embed="rId6"/>
          <a:stretch/>
        </p:blipFill>
        <p:spPr>
          <a:xfrm>
            <a:off x="4140360" y="3672000"/>
            <a:ext cx="2439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概念解释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帧：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画的基本单位，一张静态画面为一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延迟时间：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某一帧播放到下一帧之间的间隔时间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关键帧：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相对“过渡帧”而言，指角色或者物体运动或变化中的关键动作所处的那一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过渡帧：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起始关键帧和结束关键帧之间的帧为过渡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帧速：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态画面每秒钟展现的帧数，单位为帧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秒（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fps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秒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(s)=1000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毫秒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(ms)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动画中计时单位常用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1/100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秒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制作工具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软件：</a:t>
            </a:r>
            <a:br>
              <a:rPr sz="3200"/>
            </a:b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截图软件、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SAI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（绘图）、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hotoshop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（调整）、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方正正粗黑简体"/>
                <a:ea typeface="方正正粗黑简体"/>
              </a:rPr>
              <a:t>GIF Movie Gear</a:t>
            </a:r>
            <a:r>
              <a:rPr b="0" lang="zh-CN" sz="2800" spc="-1" strike="noStrike">
                <a:solidFill>
                  <a:srgbClr val="ffc000"/>
                </a:solidFill>
                <a:latin typeface="方正正粗黑简体"/>
                <a:ea typeface="方正正粗黑简体"/>
              </a:rPr>
              <a:t>（拼凑）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FLASH</a:t>
            </a:r>
            <a:r>
              <a:rPr b="0" lang="zh-CN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亦可，软件的选择并不重要，能杀猪就是好刀</a:t>
            </a:r>
            <a:br>
              <a:rPr sz="2400"/>
            </a:br>
            <a:r>
              <a:rPr b="0" lang="zh-CN" sz="2400" spc="-1" strike="noStrike">
                <a:solidFill>
                  <a:srgbClr val="ffc000"/>
                </a:solidFill>
                <a:latin typeface="方正正粗黑简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硬件：</a:t>
            </a:r>
            <a:br>
              <a:rPr sz="3200"/>
            </a:b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数位板（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Wacom Bamboo Fun CTH-661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制作工具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GM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MG(GIF Movie Gear)</a:t>
            </a:r>
            <a:r>
              <a:rPr b="0" lang="zh-CN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的特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可逐帧调整延迟时间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可融合多个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GIF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文件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后期处理功能有限，但已足够使用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D:\PPT2\gmg.jpg"/>
          <p:cNvPicPr/>
          <p:nvPr/>
        </p:nvPicPr>
        <p:blipFill>
          <a:blip r:embed="rId1"/>
          <a:stretch/>
        </p:blipFill>
        <p:spPr>
          <a:xfrm>
            <a:off x="1557360" y="3933720"/>
            <a:ext cx="3878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设计思路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设计要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搞笑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酷！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忠实于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江南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style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原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忠实于獠麝鸡原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首尾衔接完美，能无限循环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"/>
          <p:cNvSpPr/>
          <p:nvPr/>
        </p:nvSpPr>
        <p:spPr>
          <a:xfrm>
            <a:off x="0" y="404640"/>
            <a:ext cx="666108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设计思路</a:t>
            </a:r>
            <a:r>
              <a:rPr b="0" lang="en-US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-</a:t>
            </a:r>
            <a:r>
              <a:rPr b="0" lang="zh-CN" sz="3600" spc="-1" strike="noStrike">
                <a:solidFill>
                  <a:srgbClr val="373737"/>
                </a:solidFill>
                <a:latin typeface="方正正粗黑简体"/>
                <a:ea typeface="方正正粗黑简体"/>
              </a:rPr>
              <a:t>参考对象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江南 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style 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》 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MV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獠麝鸡原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3" descr="D:\PPT2\mv1.jpg"/>
          <p:cNvPicPr/>
          <p:nvPr/>
        </p:nvPicPr>
        <p:blipFill>
          <a:blip r:embed="rId1"/>
          <a:stretch/>
        </p:blipFill>
        <p:spPr>
          <a:xfrm>
            <a:off x="5003640" y="1628640"/>
            <a:ext cx="384048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:\PPT2\mv2.jpg"/>
          <p:cNvPicPr/>
          <p:nvPr/>
        </p:nvPicPr>
        <p:blipFill>
          <a:blip r:embed="rId2"/>
          <a:stretch/>
        </p:blipFill>
        <p:spPr>
          <a:xfrm>
            <a:off x="5003640" y="4005360"/>
            <a:ext cx="384660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PT\zan.png"/>
          <p:cNvPicPr/>
          <p:nvPr/>
        </p:nvPicPr>
        <p:blipFill>
          <a:blip r:embed="rId3"/>
          <a:stretch/>
        </p:blipFill>
        <p:spPr>
          <a:xfrm>
            <a:off x="682560" y="3213000"/>
            <a:ext cx="3936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48:3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28:5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