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rack02-2.26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586-E9FC-4D4A-A051-1FF7FC29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F16-E985-48B3-83D6-6891AE00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895-4177-4B68-A5C2-7A43573E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B0A-D678-4E29-878A-C971B4BF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C1102-84C0-443F-BE7A-60FE9B69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B2D99-6372-4C47-89AE-72CDBFFA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182CC-BF63-48AF-972F-52CDB631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694B5-6477-4B3C-9FC1-2B16FEE1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6F574-C8E0-46F0-A312-D5055C5F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0D345-8D44-454F-AF52-888581F0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EFDBB-2568-45B9-A462-0FCA89B9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4F6-0470-476A-A7F5-42F2D29B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33E58-4985-4876-82B6-6EA379B4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7F1B9-1F86-47F9-B365-F8581AC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6FBD1-A13B-460E-81F7-756DFD9C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CFCED-79BC-4BF9-BA82-F66DF2B4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B5C49-C8BF-4391-97F7-55AB00A1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051-7E54-4CC1-AD7C-E8A1BD8B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80C-FC37-41EF-9790-DE7286CC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3AF-F70D-439E-A227-CEE4B17B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229-6B23-44F2-A4E0-A3878DB7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F1B-5573-4E09-A62E-26415536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F95-97FD-41E7-B59B-9815394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0E7-1475-480D-8A80-CA0CD1F6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B90F-BF5E-437E-9C84-952952511B62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7056-A82D-4388-982E-BAD2D310A04D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429240" y="6214680"/>
            <a:ext cx="24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BF99-B350-47C9-8980-8EE64717C4D0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30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47F2-1470-4BBC-9F2B-27EFBC61CE2B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02-2.2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2306605-lg"/>
          <p:cNvPicPr/>
          <p:nvPr/>
        </p:nvPicPr>
        <p:blipFill>
          <a:blip r:embed="rId1"/>
          <a:stretch/>
        </p:blipFill>
        <p:spPr>
          <a:xfrm>
            <a:off x="-181080" y="0"/>
            <a:ext cx="96076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灯片编号占位符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0CD6-C72A-4EB8-8184-B0AEEE2D5339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"/>
          <p:cNvSpPr/>
          <p:nvPr/>
        </p:nvSpPr>
        <p:spPr>
          <a:xfrm>
            <a:off x="1624320" y="2133720"/>
            <a:ext cx="28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水果精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1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黑体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黑体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51" name="Picture 14" descr="2568684-lg"/>
          <p:cNvPicPr/>
          <p:nvPr/>
        </p:nvPicPr>
        <p:blipFill>
          <a:blip r:embed="rId1"/>
          <a:stretch/>
        </p:blipFill>
        <p:spPr>
          <a:xfrm>
            <a:off x="0" y="-7920"/>
            <a:ext cx="9396360" cy="6865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3"/>
          <p:cNvSpPr/>
          <p:nvPr/>
        </p:nvSpPr>
        <p:spPr>
          <a:xfrm>
            <a:off x="685800" y="685800"/>
            <a:ext cx="4724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在乎的是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看到誰寄</a:t>
            </a:r>
            <a:r>
              <a:rPr b="1" lang="en-US" sz="3600" spc="-1" strike="noStrike">
                <a:solidFill>
                  <a:srgbClr val="ffff00"/>
                </a:solidFill>
                <a:latin typeface="DFKai-SB"/>
                <a:ea typeface="DFKai-SB"/>
              </a:rPr>
              <a:t>E-mail</a:t>
            </a: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來了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DFKai-SB"/>
                <a:ea typeface="DFKai-SB"/>
              </a:rPr>
              <a:t>感覺真好</a:t>
            </a:r>
            <a:r>
              <a:rPr b="1" lang="en-US" sz="3600" spc="-1" strike="noStrike">
                <a:solidFill>
                  <a:srgbClr val="ff0000"/>
                </a:solidFill>
                <a:latin typeface="DFKai-SB"/>
                <a:ea typeface="DFKai-SB"/>
              </a:rPr>
              <a:t>......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3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D225-0AE3-4F79-B598-760769177BFD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感觉真好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内容占位符 3" descr="咖啡.jpg"/>
          <p:cNvPicPr/>
          <p:nvPr/>
        </p:nvPicPr>
        <p:blipFill>
          <a:blip r:embed="rId1"/>
          <a:stretch/>
        </p:blipFill>
        <p:spPr>
          <a:xfrm>
            <a:off x="355680" y="26676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91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D3B2-CB46-4786-82AA-5528074FB7E2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0040" y="1356840"/>
            <a:ext cx="52149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喝杯咖啡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聽起來讓人很温馨且令人感動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聊一聊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說說話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些無聊的東東給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42960" y="1357200"/>
            <a:ext cx="5562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文字方塊 6"/>
          <p:cNvSpPr/>
          <p:nvPr/>
        </p:nvSpPr>
        <p:spPr>
          <a:xfrm>
            <a:off x="1214280" y="857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DFKai-SB"/>
                <a:ea typeface="DFKai-SB"/>
              </a:rPr>
              <a:t>很特別的一句廣告詞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99" name="Picture 10" descr="2281147-lg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  <p:sp>
        <p:nvSpPr>
          <p:cNvPr id="100" name="內容版面配置區 11"/>
          <p:cNvSpPr/>
          <p:nvPr/>
        </p:nvSpPr>
        <p:spPr>
          <a:xfrm>
            <a:off x="928800" y="928800"/>
            <a:ext cx="7500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我們常怕打擾別人，而忽略要打個電話問候對方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久而久之，漸漸疏遠、漸漸陌生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直到有一天，連方的電話號碼都忘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或者，怕對方早忘了你，而沒有勇氣再打電話給他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灯片编号占位符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76BC-13AC-4E63-8B87-FD5F3A716302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打电话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276720" y="4572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8" name="Picture 10" descr="1750131-l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/>
          <p:cNvSpPr/>
          <p:nvPr/>
        </p:nvSpPr>
        <p:spPr>
          <a:xfrm>
            <a:off x="755640" y="857160"/>
            <a:ext cx="488808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想現代人應該都是寂寞的吧？因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總覺得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寂寞，與有沒有人陪在身邊，無關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那是一種心靈上的空虛，總在最脆弱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時分竄上心頭，引發出內心深層的孤寂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其實不很懂，為什麼我會覺得寂寞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大多時候，是忙得心力交瘁的，而不管如何地繁忙，我總是知道身邊至少還有個他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0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403-049F-4435-815C-0A8F2291BB7A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advTm="22000">
    <p:diamond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16" name="Picture 11" descr="2930017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1447920" y="2666880"/>
            <a:ext cx="655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但為什麼還是會寂寞？我想或許是我太重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“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”不單單是愛情，還有親情和友情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甚至還有一些無法定義的感情，都是情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我常捫心自問：「有這麼忙嗎？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廣告詞中的：「再忙，也要和你喝杯咖啡。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說得多好啊！若有心，應該是這種境界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有時候，抓起話筒想和他說說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卻又顧忌到他是否有時間與我說話呢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最後，還是放下了電話。只是，偶爾我會感到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8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8F8F-72D5-4A09-A8A7-F859C38B929A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为什么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20000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4" name="Picture 8" descr="2486586-lg"/>
          <p:cNvPicPr/>
          <p:nvPr/>
        </p:nvPicPr>
        <p:blipFill>
          <a:blip r:embed="rId1"/>
          <a:stretch/>
        </p:blipFill>
        <p:spPr>
          <a:xfrm>
            <a:off x="0" y="-7128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143000" y="3143160"/>
            <a:ext cx="5823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每當想起其他的好朋友時，心頭總是悵然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曾經和我走過生命中某一段過程的朋友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都很想念，不知道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現在好嗎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是否偶爾也會想起我呢？或許將會永遠斷了聯絡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我永遠都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過得好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能夠幸福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6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6728-7959-43F3-BB0C-F048075438A3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想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2" name="Picture 8" descr="1903531-lg"/>
          <p:cNvPicPr/>
          <p:nvPr/>
        </p:nvPicPr>
        <p:blipFill>
          <a:blip r:embed="rId1"/>
          <a:stretch/>
        </p:blipFill>
        <p:spPr>
          <a:xfrm>
            <a:off x="-108000" y="-2700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428760" y="3714840"/>
            <a:ext cx="5603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看完這篇文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...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大家不管多忙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都不要忘了找一個時間和朋友聚一聚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或者通個電話問候一下吧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世界有許多人在關心你，也需要你的關心呢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4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972A-33D4-41CF-9D75-1D0C5218C125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聚一聚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newsflash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使用规范说明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Perpetu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Perpetu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Perpetu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3B29-4E20-4BA5-A6EE-4C87D0B5A3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43" name="Picture 8" descr="3026017-lg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144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E70-BD86-4286-A6B5-0DB09FE5AD3F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e-mail</a:t>
            </a: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多方便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734080"/>
            <a:ext cx="7486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精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模板 </a:t>
            </a:r>
            <a:r>
              <a:rPr b="1" lang="zh-CN" sz="2400" spc="-1" strike="noStrike" u="sng">
                <a:solidFill>
                  <a:srgbClr val="cc9900"/>
                </a:solidFill>
                <a:uFillTx/>
                <a:latin typeface="黑体"/>
                <a:hlinkClick r:id="rId2"/>
              </a:rPr>
              <a:t>http://www.eeppt.com/moban/jingpin/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6:01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07:23:08Z</dcterms:modified>
  <cp:revision>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