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F11-3604-47BA-8D4F-75A7139E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99F-8936-46C6-9E8F-6FE51DF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43A-2DDD-431F-9A17-1BE9691F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8FA-6533-4590-8982-8AE83920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145-35AF-4308-8610-3D4D3CC3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211-C085-454F-89C4-AF11450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AE1-C79F-46B4-B254-E00DD00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369-8CF9-4BA1-839E-5645F0C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E32-103D-4B76-8E19-835FB4D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023-99D3-404A-9432-CE21C0C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C36-D53C-41C9-9AA3-F45E677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20E-14B3-4220-9D38-8A119FDB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26FA-6CAF-41BA-A37B-B3C0876D7C1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353E-40E7-46F2-9417-489053EDC67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tubiao/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360" y="836640"/>
            <a:ext cx="919188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矩形 25"/>
          <p:cNvSpPr/>
          <p:nvPr/>
        </p:nvSpPr>
        <p:spPr>
          <a:xfrm>
            <a:off x="6480" y="4149720"/>
            <a:ext cx="91440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6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表 9" descr=""/>
          <p:cNvPicPr/>
          <p:nvPr/>
        </p:nvPicPr>
        <p:blipFill>
          <a:blip r:embed="rId3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48" name="图表 12" descr=""/>
          <p:cNvPicPr/>
          <p:nvPr/>
        </p:nvPicPr>
        <p:blipFill>
          <a:blip r:embed="rId4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4500720" y="3549600"/>
            <a:ext cx="461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004"/>
              <a:gd name="adj2" fmla="val 18694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009"/>
              <a:gd name="adj2" fmla="val 18694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72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9480" y="333360"/>
            <a:ext cx="53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数据对比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00E-EC8B-4EDB-8F77-0002036554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56:57Z</dcterms:modified>
  <cp:revision>10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