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A83-DF72-4427-8D40-CFD591A4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DA28-F4E3-4FB2-A8B7-A5FF8C6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146-36E0-41CC-997D-283408F9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310-9AD6-446A-B1C6-EFAF5A6C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857-C89B-4EF6-B770-158FF50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737-7E89-437D-AF8C-E3AD27E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B51-2334-4478-BECD-90FD217C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1E7-48DF-425D-8BCD-634BADA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013-85C6-4ACD-A2E0-BBA5DC75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DFD-00D8-4B7B-ADC6-2A37FEBB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53F-7EB7-4F9B-8AE3-91ED824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B7D-7A11-4E0B-93CB-CEC9453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7923-0B6A-451C-9C67-335CCCAD7392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1"/>
          <p:cNvSpPr/>
          <p:nvPr/>
        </p:nvSpPr>
        <p:spPr>
          <a:xfrm>
            <a:off x="6364440" y="3349800"/>
            <a:ext cx="1520640" cy="1519200"/>
          </a:xfrm>
          <a:prstGeom prst="ellipse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22"/>
          <p:cNvSpPr/>
          <p:nvPr/>
        </p:nvSpPr>
        <p:spPr>
          <a:xfrm>
            <a:off x="6429240" y="3413160"/>
            <a:ext cx="1390680" cy="1392120"/>
          </a:xfrm>
          <a:prstGeom prst="ellips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3"/>
          <p:cNvSpPr/>
          <p:nvPr/>
        </p:nvSpPr>
        <p:spPr>
          <a:xfrm>
            <a:off x="6531120" y="3514680"/>
            <a:ext cx="1187280" cy="1189080"/>
          </a:xfrm>
          <a:prstGeom prst="ellipse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椭圆 24"/>
          <p:cNvGrpSpPr/>
          <p:nvPr/>
        </p:nvGrpSpPr>
        <p:grpSpPr>
          <a:xfrm>
            <a:off x="6632640" y="3621240"/>
            <a:ext cx="981000" cy="981000"/>
            <a:chOff x="6632640" y="3621240"/>
            <a:chExt cx="981000" cy="981000"/>
          </a:xfrm>
        </p:grpSpPr>
        <p:pic>
          <p:nvPicPr>
            <p:cNvPr id="45" name="椭圆 24" descr=""/>
            <p:cNvPicPr/>
            <p:nvPr/>
          </p:nvPicPr>
          <p:blipFill>
            <a:blip r:embed="rId1"/>
            <a:stretch/>
          </p:blipFill>
          <p:spPr>
            <a:xfrm>
              <a:off x="6632640" y="3621240"/>
              <a:ext cx="981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786720" y="3770640"/>
              <a:ext cx="6760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椭圆 25"/>
          <p:cNvSpPr/>
          <p:nvPr/>
        </p:nvSpPr>
        <p:spPr>
          <a:xfrm>
            <a:off x="6727680" y="3711600"/>
            <a:ext cx="793800" cy="795240"/>
          </a:xfrm>
          <a:prstGeom prst="ellipse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AutoShape 12"/>
          <p:cNvGrpSpPr/>
          <p:nvPr/>
        </p:nvGrpSpPr>
        <p:grpSpPr>
          <a:xfrm>
            <a:off x="762120" y="3809880"/>
            <a:ext cx="6040440" cy="804960"/>
            <a:chOff x="762120" y="3809880"/>
            <a:chExt cx="6040440" cy="804960"/>
          </a:xfrm>
        </p:grpSpPr>
        <p:pic>
          <p:nvPicPr>
            <p:cNvPr id="49" name="AutoShape 12" descr=""/>
            <p:cNvPicPr/>
            <p:nvPr/>
          </p:nvPicPr>
          <p:blipFill>
            <a:blip r:embed="rId2"/>
            <a:stretch/>
          </p:blipFill>
          <p:spPr>
            <a:xfrm>
              <a:off x="762120" y="3809880"/>
              <a:ext cx="6040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27280" y="4011480"/>
              <a:ext cx="57006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圆角矩形 30"/>
          <p:cNvGrpSpPr/>
          <p:nvPr/>
        </p:nvGrpSpPr>
        <p:grpSpPr>
          <a:xfrm>
            <a:off x="1231920" y="4035600"/>
            <a:ext cx="328680" cy="317160"/>
            <a:chOff x="1231920" y="4035600"/>
            <a:chExt cx="328680" cy="317160"/>
          </a:xfrm>
        </p:grpSpPr>
        <p:pic>
          <p:nvPicPr>
            <p:cNvPr id="52" name="圆角矩形 30" descr=""/>
            <p:cNvPicPr/>
            <p:nvPr/>
          </p:nvPicPr>
          <p:blipFill>
            <a:blip r:embed="rId3"/>
            <a:stretch/>
          </p:blipFill>
          <p:spPr>
            <a:xfrm>
              <a:off x="1231920" y="4035600"/>
              <a:ext cx="3286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2552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圆角矩形 31"/>
          <p:cNvGrpSpPr/>
          <p:nvPr/>
        </p:nvGrpSpPr>
        <p:grpSpPr>
          <a:xfrm>
            <a:off x="1274760" y="4041720"/>
            <a:ext cx="243000" cy="237960"/>
            <a:chOff x="1274760" y="4041720"/>
            <a:chExt cx="243000" cy="237960"/>
          </a:xfrm>
        </p:grpSpPr>
        <p:pic>
          <p:nvPicPr>
            <p:cNvPr id="55" name="圆角矩形 31" descr=""/>
            <p:cNvPicPr/>
            <p:nvPr/>
          </p:nvPicPr>
          <p:blipFill>
            <a:blip r:embed="rId4"/>
            <a:stretch/>
          </p:blipFill>
          <p:spPr>
            <a:xfrm>
              <a:off x="1274760" y="4041720"/>
              <a:ext cx="243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2552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圆角矩形 33"/>
          <p:cNvGrpSpPr/>
          <p:nvPr/>
        </p:nvGrpSpPr>
        <p:grpSpPr>
          <a:xfrm>
            <a:off x="2378160" y="4035600"/>
            <a:ext cx="322200" cy="317160"/>
            <a:chOff x="2378160" y="4035600"/>
            <a:chExt cx="322200" cy="317160"/>
          </a:xfrm>
        </p:grpSpPr>
        <p:pic>
          <p:nvPicPr>
            <p:cNvPr id="58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237816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70320" y="40906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圆角矩形 34"/>
          <p:cNvGrpSpPr/>
          <p:nvPr/>
        </p:nvGrpSpPr>
        <p:grpSpPr>
          <a:xfrm>
            <a:off x="2414520" y="4041720"/>
            <a:ext cx="249120" cy="237960"/>
            <a:chOff x="2414520" y="4041720"/>
            <a:chExt cx="249120" cy="237960"/>
          </a:xfrm>
        </p:grpSpPr>
        <p:pic>
          <p:nvPicPr>
            <p:cNvPr id="61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241452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6996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圆角矩形 36"/>
          <p:cNvGrpSpPr/>
          <p:nvPr/>
        </p:nvGrpSpPr>
        <p:grpSpPr>
          <a:xfrm>
            <a:off x="3524400" y="4035600"/>
            <a:ext cx="322200" cy="317160"/>
            <a:chOff x="3524400" y="4035600"/>
            <a:chExt cx="322200" cy="317160"/>
          </a:xfrm>
        </p:grpSpPr>
        <p:pic>
          <p:nvPicPr>
            <p:cNvPr id="64" name="圆角矩形 36" descr=""/>
            <p:cNvPicPr/>
            <p:nvPr/>
          </p:nvPicPr>
          <p:blipFill>
            <a:blip r:embed="rId7"/>
            <a:stretch/>
          </p:blipFill>
          <p:spPr>
            <a:xfrm>
              <a:off x="352440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61476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圆角矩形 37"/>
          <p:cNvGrpSpPr/>
          <p:nvPr/>
        </p:nvGrpSpPr>
        <p:grpSpPr>
          <a:xfrm>
            <a:off x="3560760" y="4041720"/>
            <a:ext cx="249120" cy="237960"/>
            <a:chOff x="3560760" y="4041720"/>
            <a:chExt cx="249120" cy="237960"/>
          </a:xfrm>
        </p:grpSpPr>
        <p:pic>
          <p:nvPicPr>
            <p:cNvPr id="67" name="圆角矩形 37" descr=""/>
            <p:cNvPicPr/>
            <p:nvPr/>
          </p:nvPicPr>
          <p:blipFill>
            <a:blip r:embed="rId8"/>
            <a:stretch/>
          </p:blipFill>
          <p:spPr>
            <a:xfrm>
              <a:off x="356076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61476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圆角矩形 39"/>
          <p:cNvGrpSpPr/>
          <p:nvPr/>
        </p:nvGrpSpPr>
        <p:grpSpPr>
          <a:xfrm>
            <a:off x="4664160" y="4035600"/>
            <a:ext cx="328680" cy="317160"/>
            <a:chOff x="4664160" y="4035600"/>
            <a:chExt cx="328680" cy="317160"/>
          </a:xfrm>
        </p:grpSpPr>
        <p:pic>
          <p:nvPicPr>
            <p:cNvPr id="70" name="圆角矩形 39" descr=""/>
            <p:cNvPicPr/>
            <p:nvPr/>
          </p:nvPicPr>
          <p:blipFill>
            <a:blip r:embed="rId9"/>
            <a:stretch/>
          </p:blipFill>
          <p:spPr>
            <a:xfrm>
              <a:off x="4664160" y="4035600"/>
              <a:ext cx="3286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59560" y="40906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圆角矩形 40"/>
          <p:cNvGrpSpPr/>
          <p:nvPr/>
        </p:nvGrpSpPr>
        <p:grpSpPr>
          <a:xfrm>
            <a:off x="4705200" y="4041720"/>
            <a:ext cx="244440" cy="237960"/>
            <a:chOff x="4705200" y="4041720"/>
            <a:chExt cx="244440" cy="237960"/>
          </a:xfrm>
        </p:grpSpPr>
        <p:pic>
          <p:nvPicPr>
            <p:cNvPr id="73" name="圆角矩形 40" descr=""/>
            <p:cNvPicPr/>
            <p:nvPr/>
          </p:nvPicPr>
          <p:blipFill>
            <a:blip r:embed="rId10"/>
            <a:stretch/>
          </p:blipFill>
          <p:spPr>
            <a:xfrm>
              <a:off x="4705200" y="4041720"/>
              <a:ext cx="2444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5920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圆角矩形 42"/>
          <p:cNvGrpSpPr/>
          <p:nvPr/>
        </p:nvGrpSpPr>
        <p:grpSpPr>
          <a:xfrm>
            <a:off x="5810400" y="4035600"/>
            <a:ext cx="322200" cy="317160"/>
            <a:chOff x="5810400" y="4035600"/>
            <a:chExt cx="322200" cy="317160"/>
          </a:xfrm>
        </p:grpSpPr>
        <p:pic>
          <p:nvPicPr>
            <p:cNvPr id="76" name="圆角矩形 42" descr=""/>
            <p:cNvPicPr/>
            <p:nvPr/>
          </p:nvPicPr>
          <p:blipFill>
            <a:blip r:embed="rId11"/>
            <a:stretch/>
          </p:blipFill>
          <p:spPr>
            <a:xfrm>
              <a:off x="581040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0400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圆角矩形 43"/>
          <p:cNvGrpSpPr/>
          <p:nvPr/>
        </p:nvGrpSpPr>
        <p:grpSpPr>
          <a:xfrm>
            <a:off x="5846760" y="4041720"/>
            <a:ext cx="249120" cy="237960"/>
            <a:chOff x="5846760" y="4041720"/>
            <a:chExt cx="249120" cy="237960"/>
          </a:xfrm>
        </p:grpSpPr>
        <p:pic>
          <p:nvPicPr>
            <p:cNvPr id="79" name="圆角矩形 43" descr=""/>
            <p:cNvPicPr/>
            <p:nvPr/>
          </p:nvPicPr>
          <p:blipFill>
            <a:blip r:embed="rId12"/>
            <a:stretch/>
          </p:blipFill>
          <p:spPr>
            <a:xfrm>
              <a:off x="584676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904000" y="40942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47"/>
          <p:cNvSpPr/>
          <p:nvPr/>
        </p:nvSpPr>
        <p:spPr>
          <a:xfrm rot="19138800">
            <a:off x="995040" y="2620080"/>
            <a:ext cx="25941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8"/>
          <p:cNvSpPr/>
          <p:nvPr/>
        </p:nvSpPr>
        <p:spPr>
          <a:xfrm rot="19138800">
            <a:off x="814320" y="25963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1"/>
          <p:cNvSpPr/>
          <p:nvPr/>
        </p:nvSpPr>
        <p:spPr>
          <a:xfrm rot="19138800">
            <a:off x="3166920" y="262008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2"/>
          <p:cNvSpPr/>
          <p:nvPr/>
        </p:nvSpPr>
        <p:spPr>
          <a:xfrm rot="19138800">
            <a:off x="2984400" y="25963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4"/>
          <p:cNvSpPr/>
          <p:nvPr/>
        </p:nvSpPr>
        <p:spPr>
          <a:xfrm rot="19138800">
            <a:off x="5319720" y="261036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5"/>
          <p:cNvSpPr/>
          <p:nvPr/>
        </p:nvSpPr>
        <p:spPr>
          <a:xfrm rot="19138800">
            <a:off x="5137560" y="2586240"/>
            <a:ext cx="17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7"/>
          <p:cNvSpPr/>
          <p:nvPr/>
        </p:nvSpPr>
        <p:spPr>
          <a:xfrm rot="2625000">
            <a:off x="1639440" y="543276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8"/>
          <p:cNvSpPr/>
          <p:nvPr/>
        </p:nvSpPr>
        <p:spPr>
          <a:xfrm rot="2625000">
            <a:off x="2107080" y="49165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0"/>
          <p:cNvSpPr/>
          <p:nvPr/>
        </p:nvSpPr>
        <p:spPr>
          <a:xfrm rot="2625000">
            <a:off x="3939840" y="538992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1"/>
          <p:cNvSpPr/>
          <p:nvPr/>
        </p:nvSpPr>
        <p:spPr>
          <a:xfrm rot="2625000">
            <a:off x="4407840" y="4874040"/>
            <a:ext cx="17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6659640" y="3914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60958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272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3400" y="69228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轴流程图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138-B370-41CF-A7C7-E7B9AE8CEE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46:36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2</vt:lpwstr>
  </property>
  <property fmtid="{D5CDD505-2E9C-101B-9397-08002B2CF9AE}" pid="4" name="价格">
    <vt:lpwstr>15</vt:lpwstr>
  </property>
  <property fmtid="{D5CDD505-2E9C-101B-9397-08002B2CF9AE}" pid="5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6" name="使用软件">
    <vt:lpwstr>ppt</vt:lpwstr>
  </property>
  <property fmtid="{D5CDD505-2E9C-101B-9397-08002B2CF9AE}" pid="7" name="关键字">
    <vt:lpwstr>PPT幻灯片 其他关系 模板 内容 时间轴 时间 圆形 箭头 5 文字 图形 排列 5项 进程 阶段 步骤 简洁 V2 其他</vt:lpwstr>
  </property>
  <property fmtid="{D5CDD505-2E9C-101B-9397-08002B2CF9AE}" pid="8" name="操作代码">
    <vt:lpwstr>1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时间轴排列</vt:lpwstr>
  </property>
  <property fmtid="{D5CDD505-2E9C-101B-9397-08002B2CF9AE}" pid="12" name="模板ID">
    <vt:lpwstr>A30120121125C83</vt:lpwstr>
  </property>
  <property fmtid="{D5CDD505-2E9C-101B-9397-08002B2CF9AE}" pid="13" name="模板缩略图">
    <vt:lpwstr>A30120121125C83.png</vt:lpwstr>
  </property>
  <property fmtid="{D5CDD505-2E9C-101B-9397-08002B2CF9AE}" pid="14" name="相关案例">
    <vt:lpwstr>851</vt:lpwstr>
  </property>
  <property fmtid="{D5CDD505-2E9C-101B-9397-08002B2CF9AE}" pid="15" name="缩略图标题">
    <vt:lpwstr>时间轴排列</vt:lpwstr>
  </property>
  <property fmtid="{D5CDD505-2E9C-101B-9397-08002B2CF9AE}" pid="16" name="适用软件">
    <vt:lpwstr>PowerPoint 2007 或以上版本</vt:lpwstr>
  </property>
  <property fmtid="{D5CDD505-2E9C-101B-9397-08002B2CF9AE}" pid="17" name="附件ID">
    <vt:lpwstr>A30120121125C8301</vt:lpwstr>
  </property>
  <property fmtid="{D5CDD505-2E9C-101B-9397-08002B2CF9AE}" pid="18" name="附件标题">
    <vt:lpwstr>A30120121125C8301</vt:lpwstr>
  </property>
  <property fmtid="{D5CDD505-2E9C-101B-9397-08002B2CF9AE}" pid="19" name="附件缩略图">
    <vt:lpwstr>A30120121125C8301.png</vt:lpwstr>
  </property>
  <property fmtid="{D5CDD505-2E9C-101B-9397-08002B2CF9AE}" pid="20" name="附件路径">
    <vt:lpwstr>A30120121125C8301.pptx</vt:lpwstr>
  </property>
</Properties>
</file>