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Gulim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7"/>
          <p:cNvGrpSpPr/>
          <p:nvPr/>
        </p:nvGrpSpPr>
        <p:grpSpPr>
          <a:xfrm>
            <a:off x="6967440" y="2698920"/>
            <a:ext cx="1955880" cy="1955520"/>
            <a:chOff x="6967440" y="2698920"/>
            <a:chExt cx="1955880" cy="1955520"/>
          </a:xfrm>
        </p:grpSpPr>
        <p:sp>
          <p:nvSpPr>
            <p:cNvPr id="40" name="Freeform 8"/>
            <p:cNvSpPr/>
            <p:nvPr/>
          </p:nvSpPr>
          <p:spPr>
            <a:xfrm>
              <a:off x="7653240" y="3384360"/>
              <a:ext cx="584280" cy="583920"/>
            </a:xfrm>
            <a:prstGeom prst="pie">
              <a:avLst/>
            </a:prstGeom>
            <a:solidFill>
              <a:srgbClr val="ff6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1" name="Freeform 9"/>
            <p:cNvSpPr/>
            <p:nvPr/>
          </p:nvSpPr>
          <p:spPr>
            <a:xfrm>
              <a:off x="7424640" y="3155760"/>
              <a:ext cx="1041480" cy="1041120"/>
            </a:xfrm>
            <a:prstGeom prst="pie">
              <a:avLst/>
            </a:prstGeom>
            <a:solidFill>
              <a:srgbClr val="ff7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2" name="Freeform 10"/>
            <p:cNvSpPr/>
            <p:nvPr/>
          </p:nvSpPr>
          <p:spPr>
            <a:xfrm>
              <a:off x="7196040" y="2927160"/>
              <a:ext cx="1498680" cy="1498320"/>
            </a:xfrm>
            <a:prstGeom prst="pie">
              <a:avLst/>
            </a:prstGeom>
            <a:solidFill>
              <a:srgbClr val="ff8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43" name="Freeform 11"/>
            <p:cNvSpPr/>
            <p:nvPr/>
          </p:nvSpPr>
          <p:spPr>
            <a:xfrm>
              <a:off x="6967440" y="2698920"/>
              <a:ext cx="1955880" cy="1955520"/>
            </a:xfrm>
            <a:prstGeom prst="pie">
              <a:avLst/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44" name="AutoShape 12"/>
          <p:cNvSpPr/>
          <p:nvPr/>
        </p:nvSpPr>
        <p:spPr>
          <a:xfrm>
            <a:off x="627120" y="3246480"/>
            <a:ext cx="7338960" cy="834840"/>
          </a:xfrm>
          <a:prstGeom prst="rightArrow">
            <a:avLst>
              <a:gd name="adj1" fmla="val 48917"/>
              <a:gd name="adj2" fmla="val 6381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" name="Oval 13"/>
          <p:cNvSpPr/>
          <p:nvPr/>
        </p:nvSpPr>
        <p:spPr>
          <a:xfrm>
            <a:off x="706320" y="3502080"/>
            <a:ext cx="287280" cy="28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Text Box 18"/>
          <p:cNvSpPr/>
          <p:nvPr/>
        </p:nvSpPr>
        <p:spPr>
          <a:xfrm rot="2700000">
            <a:off x="202320" y="4879440"/>
            <a:ext cx="32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Black"/>
              </a:rPr>
              <a:t>2007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PowerPoint Templates &amp; Backgrounds,  Diagram &amp; Charts 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Text Box 19"/>
          <p:cNvSpPr/>
          <p:nvPr/>
        </p:nvSpPr>
        <p:spPr>
          <a:xfrm rot="18900000">
            <a:off x="1712160" y="1873800"/>
            <a:ext cx="270036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Black"/>
              </a:rPr>
              <a:t>2008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PowerPoint Templates &amp; Backgrounds,  Diagram &amp; Charts 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8" name="Text Box 20"/>
          <p:cNvSpPr/>
          <p:nvPr/>
        </p:nvSpPr>
        <p:spPr>
          <a:xfrm rot="2700000">
            <a:off x="5869080" y="4405320"/>
            <a:ext cx="19684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Black"/>
              </a:rPr>
              <a:t>2011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PowerPoint Templates &amp; Backgrounds,  Diagram &amp; Charts 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" name="Text Box 21"/>
          <p:cNvSpPr/>
          <p:nvPr/>
        </p:nvSpPr>
        <p:spPr>
          <a:xfrm rot="18900000">
            <a:off x="4556880" y="1962720"/>
            <a:ext cx="245124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Black"/>
              </a:rPr>
              <a:t>2010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PowerPoint Templates &amp; Backgrounds,  Diagram &amp; Charts 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0" name="Text Box 22"/>
          <p:cNvSpPr/>
          <p:nvPr/>
        </p:nvSpPr>
        <p:spPr>
          <a:xfrm rot="2700000">
            <a:off x="3099960" y="4735440"/>
            <a:ext cx="2790720" cy="9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 Black"/>
              </a:rPr>
              <a:t>2009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PowerPoint Templates &amp; Backgrounds,  Diagram &amp; Charts .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4920" y="368280"/>
            <a:ext cx="91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时间轴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  <a:ea typeface="宋体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图表素材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Oval 13"/>
          <p:cNvSpPr/>
          <p:nvPr/>
        </p:nvSpPr>
        <p:spPr>
          <a:xfrm>
            <a:off x="2016000" y="3502080"/>
            <a:ext cx="287640" cy="28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" name="Oval 13"/>
          <p:cNvSpPr/>
          <p:nvPr/>
        </p:nvSpPr>
        <p:spPr>
          <a:xfrm>
            <a:off x="3513240" y="3502080"/>
            <a:ext cx="287280" cy="28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" name="Oval 13"/>
          <p:cNvSpPr/>
          <p:nvPr/>
        </p:nvSpPr>
        <p:spPr>
          <a:xfrm>
            <a:off x="4937040" y="3502080"/>
            <a:ext cx="287280" cy="28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" name="Oval 13"/>
          <p:cNvSpPr/>
          <p:nvPr/>
        </p:nvSpPr>
        <p:spPr>
          <a:xfrm>
            <a:off x="6251400" y="3502080"/>
            <a:ext cx="287640" cy="2840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Gulim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5T17:18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1:44Z</dcterms:modified>
  <cp:revision>22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