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31F-1C9D-46B0-8912-2255637A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798-D12C-4A63-9EBD-0734019F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B09E-65F6-4129-A94E-1DC8EA86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8D4-6B18-4B46-A122-0954C7AF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CFC-1B2D-47AF-926B-B3A0BE9F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01B-B0DF-4F73-A7D4-A54917B4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08C-E66D-4627-8CFA-0271516A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46B-0DDD-42C4-A3C3-924AA387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2B3-4A8E-4FFF-A72E-43D0A543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24F-4503-403F-B216-9BA9A52A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5CE-F80B-460D-BC8B-DDE3B061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4D1-D84E-4939-B76E-52F65E91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2F3B-2B4D-4B31-B7BB-1D18346BA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Owner\My Documents\My Pictures\1_副本_副本.png"/>
          <p:cNvPicPr/>
          <p:nvPr/>
        </p:nvPicPr>
        <p:blipFill>
          <a:blip r:embed="rId2"/>
          <a:stretch/>
        </p:blipFill>
        <p:spPr>
          <a:xfrm rot="386400">
            <a:off x="-1692000" y="6521040"/>
            <a:ext cx="1339920" cy="687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E:\ppt模板\个人作品\鱼\gucn_2011102786630161139pic2_副本_副本_副本_副本.png"/>
          <p:cNvPicPr/>
          <p:nvPr/>
        </p:nvPicPr>
        <p:blipFill>
          <a:blip r:embed="rId3"/>
          <a:stretch/>
        </p:blipFill>
        <p:spPr>
          <a:xfrm>
            <a:off x="6095880" y="4038480"/>
            <a:ext cx="1152720" cy="74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63244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9920" y="1143000"/>
            <a:ext cx="24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水墨画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0.58698 -0.38945 E"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0.02336 L 0.12257 -0.13483 C 0.16111 -0.16859 0.18333 -0.22017 0.18559 -0.27636 C 0.18819 -0.3395 0.171 -0.39315 0.13403 -0.43178 L -0.01667 -0.6161 E">
                                      <p:cBhvr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A6D-53CC-45B3-91BC-764EF66797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31:3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54:42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