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4.gif" ContentType="image/gif"/>
  <Override PartName="/ppt/media/image32.jpeg" ContentType="image/jpeg"/>
  <Override PartName="/ppt/media/image22.png" ContentType="image/png"/>
  <Override PartName="/ppt/media/projctor.wav" ContentType="audio/x-wav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23.wmf" ContentType="image/x-wmf"/>
  <Override PartName="/ppt/media/image51.jpeg" ContentType="image/jpeg"/>
  <Override PartName="/ppt/media/image9.jpeg" ContentType="image/jpeg"/>
  <Override PartName="/ppt/media/image48.png" ContentType="image/png"/>
  <Override PartName="/ppt/media/image11.jpeg" ContentType="image/jpeg"/>
  <Override PartName="/ppt/media/image6.png" ContentType="image/png"/>
  <Override PartName="/ppt/media/image20.png" ContentType="image/png"/>
  <Override PartName="/ppt/media/image36.jpeg" ContentType="image/jpeg"/>
  <Override PartName="/ppt/media/image35.jpeg" ContentType="image/jpeg"/>
  <Override PartName="/ppt/media/image10.jpeg" ContentType="image/jpeg"/>
  <Override PartName="/ppt/media/image25.gif" ContentType="image/gif"/>
  <Override PartName="/ppt/media/image29.jpeg" ContentType="image/jpeg"/>
  <Override PartName="/ppt/media/image37.jpeg" ContentType="image/jpeg"/>
  <Override PartName="/ppt/media/image8.jpeg" ContentType="image/jpeg"/>
  <Override PartName="/ppt/media/image45.gif" ContentType="image/gif"/>
  <Override PartName="/ppt/media/image12.jpeg" ContentType="image/jpeg"/>
  <Override PartName="/ppt/media/image41.png" ContentType="image/png"/>
  <Override PartName="/ppt/media/image47.jpeg" ContentType="image/jpeg"/>
  <Override PartName="/ppt/media/image49.png" ContentType="image/png"/>
  <Override PartName="/ppt/media/image34.wmf" ContentType="image/x-wmf"/>
  <Override PartName="/ppt/media/image39.png" ContentType="image/png"/>
  <Override PartName="/ppt/media/image46.gif" ContentType="image/gif"/>
  <Override PartName="/ppt/media/image50.jpeg" ContentType="image/jpeg"/>
  <Override PartName="/ppt/media/image52.png" ContentType="image/png"/>
  <Override PartName="/ppt/media/image30.jpeg" ContentType="image/jpeg"/>
  <Override PartName="/ppt/media/image53.gif" ContentType="image/gif"/>
  <Override PartName="/ppt/media/image54.jpeg" ContentType="image/jpeg"/>
  <Override PartName="/ppt/media/image55.jpeg" ContentType="image/jpeg"/>
  <Override PartName="/ppt/media/image31.jpeg" ContentType="image/jpeg"/>
  <Override PartName="/ppt/media/image5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F85-6298-4B6B-88DA-853E6C1C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D3D-0DC5-4745-A220-BCDD35AE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869-A346-4F8F-A7E5-4797F217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507-6135-4732-B328-D7440A54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9712-794E-4373-982F-244C5AB0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4EDC-0877-4824-9C83-10114961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E803-A960-4D3F-AD37-F6854D4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75C-61D3-4280-9284-95FF149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6E5D-E146-4371-9894-7AE91B6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68C3-A948-4E82-8995-15BA3338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0936-7659-4698-B174-2ADA26A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E26-3C22-4A05-83BF-06BB916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9BD1-6C11-4050-B40A-9C8CCBF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1F2F-56E1-47DB-98EA-67599ADA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D350-30F9-4311-A7BD-C5E5086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058-5652-4882-935A-7E497A56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CE2-EAEF-475E-8AC3-97181683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126-6C4A-4EA1-954F-B2BBBC3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D7A-5CAC-4A90-A36D-1AE366B3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D8D-559C-49ED-A805-461B9809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C03-B0F6-42C8-96AC-946548E8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776-F7F1-41A5-96DD-B4A4B64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FB0-8727-4A40-8B03-0EB7A364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BFB-0932-4780-A2B5-B9847DA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00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280-8330-49EB-9FA5-72E18124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-104760" y="0"/>
            <a:ext cx="3032280" cy="10731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084720" y="5805360"/>
            <a:ext cx="304812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3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c004e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AA09-890B-433C-9C2B-3D0BBD00F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104760" y="0"/>
            <a:ext cx="3032280" cy="107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084720" y="5805360"/>
            <a:ext cx="304812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2.png"/><Relationship Id="rId4" Type="http://schemas.openxmlformats.org/officeDocument/2006/relationships/audio" Target="file:///tmp/home/.config/libreoffice/4/user/gallery/carbrake.wav" TargetMode="External"/><Relationship Id="rId5" Type="http://schemas.microsoft.com/office/2007/relationships/media" Target="file:///tmp/home/.config/libreoffice/4/user/gallery/carbrake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jstar.net/download/wenxue/katongmanhua/sanguo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audio" Target="file:///tmp/home/.config/libreoffice/4/user/gallery/whoosh.wav" TargetMode="External"/><Relationship Id="rId5" Type="http://schemas.microsoft.com/office/2007/relationships/media" Target="file:///tmp/home/.config/libreoffice/4/user/gallery/whoosh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261,17,&#24187;&#28783;&#29255; 17" TargetMode="External"/><Relationship Id="rId2" Type="http://schemas.openxmlformats.org/officeDocument/2006/relationships/hyperlink" Target="261,17,&#24187;&#28783;&#29255; 17" TargetMode="Externa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file:///tmp/home/.config/libreoffice/4/user/gallery/projctor.wav" TargetMode="External"/><Relationship Id="rId3" Type="http://schemas.microsoft.com/office/2007/relationships/media" Target="file:///tmp/home/.config/libreoffice/4/user/gallery/projctor.wav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304920"/>
            <a:ext cx="4905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滚滚长江东逝水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浪花淘尽英雄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是非成败转头空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青山依旧在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几度夕阳红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白发渔樵江楮上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惯看秋月春风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一壶浊酒喜相逢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古今多少事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都付笑谈中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1000" y="6237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9880" y="304920"/>
            <a:ext cx="480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孙权劝学》选自《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资治通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》是司马光主持编纂的一部编年体通史，记载了从战国到五代共１３６２年间的史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3353040" cy="6400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81280" y="3276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司马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字君实，陕州夏县人，北宋政治史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-73080" y="-73080"/>
            <a:ext cx="4897440" cy="6931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>
            <a:lum bright="72000"/>
          </a:blip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876920" y="393840"/>
            <a:ext cx="41148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司马光：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字君实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世称涑水先生。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北宋政治家、史学家，著有《司马文正公集》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《稽古录》等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1371600" y="0"/>
            <a:ext cx="67057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诵读课文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3495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765000"/>
            <a:ext cx="700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用两分钟的时间初读课文，注意下列字词的读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64176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吕蒙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36576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358128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当 涂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95288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邪（通假字，“耶”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9528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涉猎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356544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即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2425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30481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30481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ī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04812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3048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ā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41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44798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43800" y="3032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-225360"/>
            <a:ext cx="9144000" cy="7921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33520" y="609480"/>
            <a:ext cx="46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  <a:ea typeface="黑体"/>
              </a:rPr>
              <a:t>理解文意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1736640"/>
            <a:ext cx="4191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参考注释，疏通课文，作出批注，划出读不懂的句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、质疑，共同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疏通文意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458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初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，权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吕蒙        曰：“卿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当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掌      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，不可不学！”蒙辞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军中多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权曰：“孤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岂      欲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卿治经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博士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邪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但   当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涉猎，见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往事             耳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。卿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言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多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孰 若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孤？孤常读书，自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隶书"/>
              </a:rPr>
              <a:t>以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大有所益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372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当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15560" y="1295280"/>
            <a:ext cx="136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……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85200" y="1295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37800" y="129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648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掌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4212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3280" y="2362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8080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事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1600" y="3429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92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8192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12640" y="3429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句末语气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56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7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应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752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860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5844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28080" y="556272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与……相比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60160" y="5562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以（之）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2666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疏通文意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838080"/>
            <a:ext cx="84978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初，权谓吕蒙        曰：“卿今当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当初，孙权对吕蒙说：“你现在当权管事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掌      事，不可不学！”蒙辞以军中多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能不学习！”吕蒙以军中事多来推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权曰：“孤岂      欲卿治经为博士邪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孙权说：“我难道想要你钻研经书成为博士吗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但   当涉猎，见往事             耳。卿言多务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只应当粗略地阅读，了解以往的事情罢了。 你说事务多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孰 若孤？孤常读书，自以为大有所益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谁比得上我事务多呢？我经常读书，自以为大有益处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79720" y="6381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830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蒙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乃 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始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就学。及鲁肃过寻阳，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蒙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论       议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大             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惊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曰：“卿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今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才略，非复吴下阿蒙！”蒙曰：“士别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日，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即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更刮目相待，大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何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见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晚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乎！”肃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遂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拜蒙母，结友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隶书"/>
              </a:rPr>
              <a:t>而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3000" y="53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13720" y="533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74680" y="525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8492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1752480"/>
            <a:ext cx="10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议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40840" y="1752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常，十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2832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13400" y="3505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17480" y="3505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41720" y="3505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实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268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1080" y="48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0400" y="4876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拜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53400" y="480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顺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882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蒙乃     始就学。及鲁肃过寻阳，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吕蒙于是开始学习。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到了鲁肃到寻阳的时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蒙论       议，大              惊曰：“卿今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鲁肃和吕蒙议论天下大事，十分惊奇地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才略，非复吴下阿蒙！”蒙曰：“士别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以你现在的才干、谋略来看，你不再是原来那个吴下阿蒙了！”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吕蒙说：“士别三日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，即更刮目相待，大兄何见事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就要重新另眼看待，长兄知道这件事太晚了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晚乎！”肃遂      拜蒙母，结友而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鲁肃于是叩拜吕蒙的母亲，与吕蒙结为朋友然后分别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08040" y="63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0"/>
            <a:ext cx="5181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文注释补充</a:t>
            </a:r>
            <a:endParaRPr b="0" lang="en-US" sz="24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1981080"/>
            <a:ext cx="6477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谓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曰：对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说。             掌事：掌管国家大事。             但：只不过。                             多务：事务繁多。                     孰若：与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相比如何。          遂：于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92080" y="616572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" y="-1139760"/>
            <a:ext cx="9124920" cy="7388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-30168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重点词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卿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辞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邪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涉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见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孰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益：                                      就：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及：                                          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今者：                     非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：                        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533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609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……说；告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990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代君对臣或朋友之间的爱称，相当于“你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1905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时王侯的自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2438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吗，表示反问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28954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粗略地阅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809880"/>
            <a:ext cx="441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罢了，表示限止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42670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何如，比 …… 怎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4724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收效，好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472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5257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了……的 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5638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5638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不再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60958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重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6095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啊，表示感叹语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5181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105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43434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066680" y="23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蒙辞以军中多务。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7288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注意下列句子中出现的倒装现象和句子成分省略现象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07656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应理解为：“蒙以军中多务辞，以：拿，用，介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45561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②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孰若孤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22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哪一个比得上我（处理的事务多）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123840" y="-530280"/>
            <a:ext cx="9267840" cy="111222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838080" y="1600200"/>
            <a:ext cx="7391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品析文章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0040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孙权劝学</a:t>
            </a:r>
            <a:endParaRPr b="0" lang="en-US" sz="4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32004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吕蒙就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952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鲁肃赞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19810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88620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1562040"/>
            <a:ext cx="304560" cy="3733920"/>
          </a:xfrm>
          <a:custGeom>
            <a:avLst/>
            <a:gdLst>
              <a:gd name="textAreaLeft" fmla="*/ 0 w 304560"/>
              <a:gd name="textAreaRight" fmla="*/ 109800 w 30456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28796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2514600" cy="2238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8600" y="4581360"/>
            <a:ext cx="2438280" cy="2114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066680" y="2286000"/>
            <a:ext cx="2227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96720" y="404640"/>
            <a:ext cx="604692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《孙权劝学》是一个著名的劝学故事。题目中最关键的词是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“劝”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。请找出孙权“劝”吕蒙学习的语句。</a:t>
            </a: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76360" y="260280"/>
            <a:ext cx="335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找一找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1590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卿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当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掌事，不可不学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25909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岂欲卿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治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博士邪？但当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涉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往事耳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70840" y="51069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孤常读书，自以为大有所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828800" y="0"/>
            <a:ext cx="5105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孙权劝学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1" name=""/>
          <p:cNvSpPr/>
          <p:nvPr/>
        </p:nvSpPr>
        <p:spPr>
          <a:xfrm>
            <a:off x="1380240" y="3887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卿言多务，孰若孤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34040" y="2033640"/>
            <a:ext cx="300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揭示学习的必要性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32560" y="3414600"/>
            <a:ext cx="48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学习的目的、方法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90680" y="4414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委婉的批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66040" y="58626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现身说法，读书的益处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276720" y="457200"/>
            <a:ext cx="640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卿今者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才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非复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吴下阿蒙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743200" cy="4114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844040" y="43671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语言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613480" y="4748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遂拜蒙母，结友而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77840" y="6149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（行动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02160" y="1125360"/>
            <a:ext cx="554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你今天的才干和谋略，已不再是过去在吴县时的那个吕蒙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528156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于是拜见了吕蒙的母亲，和吕蒙结为好友，然后分别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72440" y="22860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士别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三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，即更刮目相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大兄何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Times New Roman"/>
              </a:rPr>
              <a:t>见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之晚乎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89640" y="3429000"/>
            <a:ext cx="31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与读书人分别多日，就要重新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眼相待，长兄你为什么看清事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么迟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52280" y="380880"/>
            <a:ext cx="29718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鲁肃赞学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朗读课文，注意人物对话的语气。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当涂掌事，不可不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邓岂欲卿治经为博士邪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言多务，孰若孤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卿今者才略，非复吴下阿蒙！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）“大兄何见事之晚乎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92480" y="838080"/>
            <a:ext cx="28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语重心长，谆谆告诫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38880" y="1981080"/>
            <a:ext cx="48135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强调并不是要吕蒙研究儒家经典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当专享经学传授的学官，而是有别的目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36100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否定吕蒙辞以多务的理由。要重读强调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4440" y="5281560"/>
            <a:ext cx="4032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感叹句，要读出惊讶不解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54200" y="617220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指责中带有自豪的语气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92000" y="1262880"/>
            <a:ext cx="83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本文注重以对话表现人物。对话言简意丰，生动传神，富于情味。仅寥寥数语，就使人感受到人物各自说话时的口吻、神态和心理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454840" y="5229000"/>
            <a:ext cx="497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鲁肃之所以主动与吕蒙“结友”，是因为鲁肃为吕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的才略所折服而愿与之深交，表明鲁肃敬才、爱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二人情投意合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06560" y="38577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因为情况是在不断变化，人也在不断变化，不能拿老 眼光看待人。要用发展的眼光看待人和事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15800" y="2636280"/>
            <a:ext cx="8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孤常读书，自以为大有所益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0120" y="763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本文是怎样表现人物性格的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877400" y="2103480"/>
            <a:ext cx="451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孙权如何以现身说法，劝吕蒙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06120" y="3141720"/>
            <a:ext cx="44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为什么“士别三日，即更刮目相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30640" y="4724280"/>
            <a:ext cx="37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鲁肃为什么与吕蒙“结友”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55640" y="620640"/>
            <a:ext cx="7632360" cy="1579680"/>
            <a:chOff x="755640" y="620640"/>
            <a:chExt cx="7632360" cy="157968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755640" y="620640"/>
              <a:ext cx="76323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795200" y="105084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小组讨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280" y="228600"/>
            <a:ext cx="88934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权谓吕蒙曰：“卿今当涂掌事，不可不学！”“卿言多务，孰若孤？孤常读书，自以为大有所益。”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这话表现孙权对吕蒙的什么态度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876560" y="39621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亲近、关心，有长者之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438280" y="3573360"/>
            <a:ext cx="4114800" cy="3284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68360" y="270828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亲近、关心，有长者之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2894040" cy="3429000"/>
            <a:chOff x="0" y="0"/>
            <a:chExt cx="2894040" cy="3429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89404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0" y="0"/>
              <a:ext cx="289404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66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04000" y="0"/>
            <a:ext cx="324000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87640" y="2708280"/>
            <a:ext cx="2894040" cy="3540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11280" y="3500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曹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000" y="6156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孙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350028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刘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972440" y="549360"/>
            <a:ext cx="4874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提问：吕蒙读后发生了什么样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变化？通过谁的所见所语来写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9640" y="2362320"/>
            <a:ext cx="835344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Times New Roman"/>
              </a:rPr>
              <a:t>卿今者才略，非复吴下阿蒙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通过鲁肃所见所语来写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（侧面描写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283440" y="3429000"/>
            <a:ext cx="2860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蒙曰：“士别三日，即更刮目相待，大兄何见事之晚乎！”</a:t>
            </a:r>
            <a:br>
              <a:rPr sz="3600"/>
            </a:b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猜一猜吕蒙说这话时，是什么语气和心情？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3429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侃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隶书"/>
              </a:rPr>
              <a:t>   </a:t>
            </a:r>
            <a:r>
              <a:rPr b="1" lang="zh-CN" sz="4800" spc="-1" strike="noStrike">
                <a:solidFill>
                  <a:srgbClr val="ff6600"/>
                </a:solidFill>
                <a:latin typeface="Times New Roman"/>
                <a:ea typeface="隶书"/>
              </a:rPr>
              <a:t>反问句，指责中带有自豪的语气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自己的长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85440" y="68724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提问：为什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"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士别三日，即更刮目相待。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"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2573280"/>
            <a:ext cx="81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因为情况是在不断变化，人也在不断变化，不能拿老眼光看待人。要用发展的眼光看待人和事。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5440" y="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提问：请解释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刮目相待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并造句。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13200" y="1600200"/>
            <a:ext cx="502092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刮目相待”意思是用新的眼光来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待。表示不要用老眼光看待别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要估计到别人的进步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01760" y="4238640"/>
            <a:ext cx="52038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（例句）听了少管所的“现身说法”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告后，小明像变了一个人似的，你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宋体"/>
              </a:rPr>
              <a:t>他可要刮目相待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提问：请解释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吴下阿蒙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"</a:t>
            </a: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并造句。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07680" y="1552680"/>
            <a:ext cx="48441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吴下阿蒙”原指三国时期吴国大将吕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意思是说</a:t>
            </a:r>
            <a:r>
              <a:rPr b="1" lang="zh-CN" sz="3600" spc="-1" strike="noStrike">
                <a:solidFill>
                  <a:srgbClr val="9c004e"/>
                </a:solidFill>
                <a:latin typeface="宋体"/>
              </a:rPr>
              <a:t>人没有学问的意思。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现在多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在他人有了转变方面，凡学识大进，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地位从低下而攀高了，以及穷困而至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有了，都可以用此语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33360" y="5105520"/>
            <a:ext cx="5118480" cy="31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（例句）你还不知道吗？小黄已贵为总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理，可不再是吴下阿蒙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下列加红色的词表示什么语气？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邪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但当涉猎，见往事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大兄何见事之晚乎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2514600"/>
            <a:ext cx="72388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反问语气，可译为“吗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限制语气，可译为“罢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c004e"/>
                </a:solidFill>
                <a:latin typeface="Times New Roman"/>
                <a:ea typeface="楷体_GB2312"/>
              </a:rPr>
              <a:t>感叹语气，可译为“啊”或“呢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24000" y="260280"/>
            <a:ext cx="8610480" cy="63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55760" y="375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6920" y="1219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孙权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劝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68580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7840" y="533520"/>
            <a:ext cx="13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力陈必要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67080" y="533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当涂掌事，不可不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32720" y="1249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提出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92720" y="1295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涉猎见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5040" y="2087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现身说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84800" y="2057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多务熟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7640" y="3473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吕蒙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08800" y="2819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64960" y="3992400"/>
            <a:ext cx="6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后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28200" y="28494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辞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军中多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81840" y="403848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就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－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学有小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79200" y="5105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鲁肃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赞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22600" y="5084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今日才略，非吴下阿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289548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7632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板书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44" name=""/>
          <p:cNvSpPr/>
          <p:nvPr/>
        </p:nvSpPr>
        <p:spPr>
          <a:xfrm>
            <a:off x="1157400" y="20858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恳切、关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3280" y="4208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法推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05120" y="58960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叹、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19720" y="5904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得、自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3" name="projctor.wav"/>
      </p:stSnd>
    </p:sndAc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总结全文：</a:t>
            </a:r>
            <a:endParaRPr b="0" lang="en-US" sz="6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520" y="2058840"/>
            <a:ext cx="8463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本文通过孙权劝告吕蒙读书，吕蒙读书后大有长进的故事，告诉我们</a:t>
            </a:r>
            <a:r>
              <a:rPr b="1" lang="en-US" sz="4400" spc="-1" strike="noStrike">
                <a:solidFill>
                  <a:srgbClr val="000099"/>
                </a:solidFill>
                <a:latin typeface="宋体"/>
              </a:rPr>
              <a:t>"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开卷有益</a:t>
            </a:r>
            <a:r>
              <a:rPr b="1" lang="en-US" sz="4400" spc="-1" strike="noStrike">
                <a:solidFill>
                  <a:srgbClr val="000099"/>
                </a:solidFill>
                <a:latin typeface="宋体"/>
              </a:rPr>
              <a:t>"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</a:rPr>
              <a:t>的道理。本文以对话为主，用不多几句话，就使人受到人物说话时的口吻、神态和心理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-73080" y="152280"/>
            <a:ext cx="9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分角色朗读课文，体会人物形象 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1295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孙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：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不可不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3004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孤岂欲卿治经为博士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3092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“卿言多务，孰若孤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孤常读书，自以为大有所益。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76320" y="1219320"/>
            <a:ext cx="1601640" cy="2297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800600" y="3519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语重心长，言辞恳切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263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语气坚决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、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严厉中又可见关心、厚望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23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不悦、责备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46483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卿今者才略，非复吴下阿蒙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5500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吃惊，赞叹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6483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大兄何见事之晚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52280" y="449568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248520" y="55008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深感自豪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孙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-225360" y="58672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鲁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95680" y="5867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（吕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-104760" y="0"/>
            <a:ext cx="3032280" cy="1073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084720" y="5805360"/>
            <a:ext cx="3048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ff"/>
                </a:solidFill>
                <a:uFillTx/>
                <a:latin typeface="Times New Roman"/>
              </a:rPr>
              <a:t>练习</a:t>
            </a:r>
            <a:r>
              <a:rPr b="1" i="1" lang="en-US" sz="4800" spc="-1" strike="noStrike" u="sng">
                <a:solidFill>
                  <a:srgbClr val="ff00ff"/>
                </a:solidFill>
                <a:uFillTx/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600" y="8380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文章主要采用什么描写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133720"/>
            <a:ext cx="5105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97800" y="76500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对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84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孙权与吕蒙对话的主要内容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460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劝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3276720"/>
            <a:ext cx="931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孙权给吕蒙提的读书目标是：</a:t>
            </a:r>
            <a:r>
              <a:rPr b="0" lang="en-US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1280" y="3809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涉猎，见往事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464832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4</a:t>
            </a:r>
            <a:r>
              <a:rPr b="0" lang="zh-CN" sz="4800" spc="-1" strike="noStrike">
                <a:solidFill>
                  <a:srgbClr val="0033cc"/>
                </a:solidFill>
                <a:latin typeface="华文行楷"/>
                <a:ea typeface="华文行楷"/>
              </a:rPr>
              <a:t>、</a:t>
            </a: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表现孙权对下属吕蒙爱护、器重和希望的一句话是</a:t>
            </a:r>
            <a:r>
              <a:rPr b="1" lang="en-US" sz="48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8534520" y="57913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1406520" cy="8352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7566120" y="4876920"/>
            <a:ext cx="1577880" cy="1981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6400800" y="533412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卿今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61563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ff"/>
                </a:solidFill>
                <a:uFillTx/>
                <a:latin typeface="Tahoma"/>
              </a:rPr>
              <a:t>涂掌事，不可不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4" dur="3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9" dur="3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880" y="3443400"/>
            <a:ext cx="6019920" cy="14346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宋体"/>
                <a:ea typeface="华文新魏"/>
              </a:rPr>
              <a:t>孙权劝学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09480" y="13096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吴下阿蒙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3644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两个成浯的含义：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380988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用新的眼光来看待。也作“刮目相看”。刮，擦、摩；刮目，擦眼；待，相看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373392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刮目相待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14032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三国时吴国名将吕蒙，特指原来不好读书的吕蒙，后泛指缺少学识的人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</a:rPr>
              <a:t>掌握下列加点的词语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但当涉猎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见往事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乃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吴下阿蒙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刮目相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572000" y="4183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86400" y="497196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793880" y="2295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663560" y="3087720"/>
            <a:ext cx="8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83920" y="3807000"/>
            <a:ext cx="7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46360" y="4527720"/>
            <a:ext cx="153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  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12960" y="5319720"/>
            <a:ext cx="16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·  ·  ·  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32360" y="1989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2590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16360" y="27082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8000" y="3429000"/>
            <a:ext cx="178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于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理解下列句子的含义</a:t>
            </a: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蒙辞以军中多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孤岂欲卿治经为博士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蒙乃始就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大兄何见事之晚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8000" y="386064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吕蒙用军中事务多推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4495680"/>
            <a:ext cx="92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我难道想要你研究儒家经典当学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4000" y="51642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吕蒙于是开始去学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5280" y="5811840"/>
            <a:ext cx="70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、长兄认清这件事太晚了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52280" y="22860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、“卿今者才略，非复吴下阿蒙！”一句可见鲁肃当时怎样的神情和心理？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0880" y="220968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十分惊奇的神态，吕蒙的变化判若两人，使鲁肃即吃惊，又情不自禁的发出赞叹。这句话从侧面反映吕蒙因“学”而使才略有了令人难以置信的长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43434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“大兄何见事之晚乎！”表现了吕蒙当时怎样的心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5791320"/>
            <a:ext cx="8381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5562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Tahoma"/>
              </a:rPr>
              <a:t>并非对鲁肃不满，而是表现出吕蒙对自己才略长进后感到很自豪、自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28600" y="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、“刮目相待”后，鲁肃有何举动？说明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447920"/>
            <a:ext cx="7543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14479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ahoma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Tahoma"/>
              </a:rPr>
              <a:t>与吕蒙结友，说明鲁肃对吕蒙的赏识、认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447920" y="3209760"/>
            <a:ext cx="56386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33520" y="126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、孙权是为什么要劝说吕蒙学习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ahoma"/>
              </a:rPr>
              <a:t>怎样劝说吕蒙学习的？结果怎样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12193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孙权劝学     当涂掌事，不可不学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                   ——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必要性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76720" y="306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523880" y="22096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但当涉猎，见往事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要求不高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可行</a:t>
            </a:r>
            <a:r>
              <a:rPr b="0" lang="en-US" sz="36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76520" y="382284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卿言多务，孰若孤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孤常读书，自以为大有所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              ——</a:t>
            </a:r>
            <a:r>
              <a:rPr b="1" lang="zh-CN" sz="3600" spc="-1" strike="noStrike">
                <a:solidFill>
                  <a:srgbClr val="9c004e"/>
                </a:solidFill>
                <a:latin typeface="Tahoma"/>
              </a:rPr>
              <a:t>以身说法更可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533600" y="5759280"/>
            <a:ext cx="240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结果   蒙乃始就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760" y="46483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ahoma"/>
              </a:rPr>
              <a:t>语 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22880" y="2198520"/>
            <a:ext cx="51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287800" y="593640"/>
            <a:ext cx="4490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、吕蒙读书后发生了怎样的变化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通过谁的所见所语来写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0600" y="243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鲁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597760" y="44337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Tahoma"/>
              </a:rPr>
              <a:t>卿今者才略，非复吴下阿蒙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2400" y="2438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赞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08080"/>
            </a:gs>
            <a:gs pos="50000">
              <a:srgbClr val="ffffff"/>
            </a:gs>
            <a:gs pos="100000">
              <a:srgbClr val="8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1911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方仲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2376360"/>
            <a:ext cx="17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吕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70200" y="21938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当涂掌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乃始就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4114800"/>
            <a:ext cx="495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五岁能诗、文理皆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可观、贤于材人远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59640" y="219384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年长乃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黑体"/>
              </a:rPr>
              <a:t>学有所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5720" y="4114800"/>
            <a:ext cx="243828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"/>
              </a:rPr>
              <a:t>少年不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2"/>
              </a:rPr>
              <a:t>一事无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0880" y="36504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006600"/>
                </a:solidFill>
                <a:latin typeface="Tahoma"/>
              </a:rPr>
              <a:t>、与方仲永的变化相比，吕蒙的变化对你有什么样的启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0880" y="30492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孤岂欲卿治经为博士邪？”表达了怎样的心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1828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-----“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邪”表反问语气。可见孙权对吕蒙不听劝告的不悦神情和责备的意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78920" y="3809880"/>
            <a:ext cx="53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“卿言多务，孰若孤？孤常读书，自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大有所益。”这样说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51814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现身说法，鼓励吕蒙求学，可谓语重心长，言辞恳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28600" y="67597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440" y="1523880"/>
            <a:ext cx="8763120" cy="4543920"/>
            <a:chOff x="190440" y="1523880"/>
            <a:chExt cx="8763120" cy="4543920"/>
          </a:xfrm>
        </p:grpSpPr>
        <p:sp>
          <p:nvSpPr>
            <p:cNvPr id="448" name=""/>
            <p:cNvSpPr/>
            <p:nvPr/>
          </p:nvSpPr>
          <p:spPr>
            <a:xfrm>
              <a:off x="5295960" y="4190760"/>
              <a:ext cx="380880" cy="17528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90440" y="1523880"/>
              <a:ext cx="8763120" cy="4543920"/>
              <a:chOff x="190440" y="1523880"/>
              <a:chExt cx="8763120" cy="4543920"/>
            </a:xfrm>
          </p:grpSpPr>
          <p:sp>
            <p:nvSpPr>
              <p:cNvPr id="450" name=""/>
              <p:cNvSpPr/>
              <p:nvPr/>
            </p:nvSpPr>
            <p:spPr>
              <a:xfrm>
                <a:off x="1833480" y="2819160"/>
                <a:ext cx="1887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自以为大有所益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219640" y="1523880"/>
                <a:ext cx="304920" cy="220968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57600 h 2209680"/>
                  <a:gd name="textAreaBottom" fmla="*/ 2152080 h 220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930640" y="152388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见往事耳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49240" y="2163600"/>
                <a:ext cx="179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路转溪头忽见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53160" y="2895480"/>
                <a:ext cx="3200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大兄何见事之晚乎。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90440" y="213336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以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51400" y="160020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辞以军中多务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52560" y="1600200"/>
                <a:ext cx="152280" cy="167616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3560 h 1676160"/>
                  <a:gd name="textAreaBottom" fmla="*/ 163260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40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75520" y="21333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见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66760" y="464796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当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181160" y="4190760"/>
                <a:ext cx="152280" cy="167652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43560 h 1676520"/>
                  <a:gd name="textAreaBottom" fmla="*/ 163296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400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80000" y="4114800"/>
                <a:ext cx="1643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卿今当涂掌事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815840" y="548640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但当涉猎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704120" y="4572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c0000"/>
                    </a:solidFill>
                    <a:latin typeface="Times New Roman"/>
                  </a:rPr>
                  <a:t>乃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88680" y="4144680"/>
                <a:ext cx="14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乃不知有汉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88680" y="5410080"/>
                <a:ext cx="1400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蒙乃始就学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289548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   </a:t>
            </a: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、一词多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914400"/>
            <a:ext cx="30481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-104760" y="0"/>
            <a:ext cx="3032280" cy="10731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6084720" y="5805360"/>
            <a:ext cx="30481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解    题</a:t>
            </a:r>
            <a:endParaRPr b="0" lang="en-US" sz="5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7200" y="2209680"/>
            <a:ext cx="8769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孙权</a:t>
            </a: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隶书"/>
              </a:rPr>
              <a:t>，字仲谋，三国时吴国的国君。本文写的是孙权劝说吕蒙（三国时吴国的名将）要浏览群书，广泛学习的事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800440"/>
            <a:ext cx="8223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50920" y="260280"/>
            <a:ext cx="4876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延伸拓展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1844640"/>
            <a:ext cx="66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学了这篇文章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文中孙权劝学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吕蒙就学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鲁肃赞学</a:t>
            </a: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对你有什么启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5508720" y="4478400"/>
            <a:ext cx="23763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179280" y="0"/>
            <a:ext cx="3686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隶书"/>
              </a:rPr>
              <a:t>赠言：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492360" y="2205000"/>
            <a:ext cx="34005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读书好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 </a:t>
            </a: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好读书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  </a:t>
            </a: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读好书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4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c004e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8" dur="1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886200" y="15228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67080" y="1295280"/>
            <a:ext cx="4496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、背诵全文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、以今天的课堂发言为例，写一篇</a:t>
            </a:r>
            <a:r>
              <a:rPr b="1" lang="en-US" sz="4400" spc="-1" strike="noStrike">
                <a:solidFill>
                  <a:srgbClr val="ffff00"/>
                </a:solidFill>
                <a:latin typeface="隶书"/>
                <a:ea typeface="隶书"/>
              </a:rPr>
              <a:t>200</a:t>
            </a:r>
            <a:r>
              <a:rPr b="1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字左右的读后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26036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9c004e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7143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孙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99072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字仲谋，自称为春秋时大军事家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孙武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之后，曾与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刘备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联合大破曹军，获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赤壁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之捷。三国时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吴国的创建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295280" y="8305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876920" y="2514600"/>
            <a:ext cx="3657600" cy="43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0" y="762120"/>
            <a:ext cx="83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孙        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7000" y="4038480"/>
            <a:ext cx="1399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鲁    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852680" y="3809880"/>
            <a:ext cx="1399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吕     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00320" y="152280"/>
            <a:ext cx="506736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吕蒙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三国时吴国的名将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604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0" y="152280"/>
            <a:ext cx="45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《资治通鉴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司马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主持编纂的一部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编年体通史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记载了从战国到五代共一千三百六十二年的史事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书名“资治”，说明本书编撰的</a:t>
            </a:r>
            <a:r>
              <a:rPr b="1" i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目的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为统治者治国提供历史经验和教训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i="1" lang="zh-CN" sz="4000" spc="-1" strike="noStrike" u="sng">
                <a:solidFill>
                  <a:srgbClr val="ff0066"/>
                </a:solidFill>
                <a:uFillTx/>
                <a:latin typeface="Times New Roman"/>
              </a:rPr>
              <a:t>宋神宗认为此书“鉴于往事，有资于治道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09:49:4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42:18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