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48C-7D4B-4392-A003-3E4B0F67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68598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305160"/>
            <a:ext cx="68598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3DE-1FEA-4BE7-B082-F13F3474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30516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560" y="330516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409-D577-4367-AC81-278D598B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00000" y="133344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9480" y="133344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30516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00000" y="330516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9480" y="3305160"/>
            <a:ext cx="22086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A3C-FCBB-4DCA-8475-259854BA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333440"/>
            <a:ext cx="68598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CD0-1424-4107-A702-8E7C5B68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685980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C11-6EF2-447B-974B-91F0305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524-66B5-495D-BBBD-E615FD02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8C0-C297-4C61-84C4-24BC6050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68598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285-EBC0-4025-B370-EDD908B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30516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448-4BF2-448A-ADC9-1E76783E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560" y="330516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C8D-FD15-45DA-BCE0-F3D0BDE5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560" y="1333440"/>
            <a:ext cx="334728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305160"/>
            <a:ext cx="6859800" cy="18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205-B84E-4583-8E6B-6DAFB47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859800" cy="95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33440"/>
            <a:ext cx="6859800" cy="3774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19200" indent="-2383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5256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333440" indent="-1904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14680" indent="-190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00640"/>
            <a:ext cx="1778040" cy="30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00640"/>
            <a:ext cx="2414520" cy="30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2280" y="5300640"/>
            <a:ext cx="1778040" cy="30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6BA09E-B4CF-4B06-AE3D-71973352E76D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2.jpg"/>
          <p:cNvPicPr/>
          <p:nvPr/>
        </p:nvPicPr>
        <p:blipFill>
          <a:blip r:embed="rId1"/>
          <a:stretch/>
        </p:blipFill>
        <p:spPr>
          <a:xfrm>
            <a:off x="0" y="0"/>
            <a:ext cx="762300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936160" y="987480"/>
            <a:ext cx="37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生日祝福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1.jpg"/>
          <p:cNvPicPr/>
          <p:nvPr/>
        </p:nvPicPr>
        <p:blipFill>
          <a:blip r:embed="rId1"/>
          <a:stretch/>
        </p:blipFill>
        <p:spPr>
          <a:xfrm>
            <a:off x="0" y="0"/>
            <a:ext cx="7623000" cy="57182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" descr="2_03_02.png"/>
          <p:cNvPicPr/>
          <p:nvPr/>
        </p:nvPicPr>
        <p:blipFill>
          <a:blip r:embed="rId2"/>
          <a:stretch/>
        </p:blipFill>
        <p:spPr>
          <a:xfrm>
            <a:off x="5311800" y="0"/>
            <a:ext cx="2309760" cy="29941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2_02.png"/>
          <p:cNvPicPr/>
          <p:nvPr/>
        </p:nvPicPr>
        <p:blipFill>
          <a:blip r:embed="rId3"/>
          <a:stretch/>
        </p:blipFill>
        <p:spPr>
          <a:xfrm>
            <a:off x="0" y="3787920"/>
            <a:ext cx="3732120" cy="1930320"/>
          </a:xfrm>
          <a:prstGeom prst="rect">
            <a:avLst/>
          </a:prstGeom>
          <a:ln w="0">
            <a:noFill/>
          </a:ln>
        </p:spPr>
      </p:pic>
      <p:sp>
        <p:nvSpPr>
          <p:cNvPr id="47" name="矩形 6"/>
          <p:cNvSpPr/>
          <p:nvPr/>
        </p:nvSpPr>
        <p:spPr>
          <a:xfrm>
            <a:off x="452520" y="1001880"/>
            <a:ext cx="4716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602e04"/>
                </a:solidFill>
                <a:latin typeface="Edwardian Script ITC"/>
                <a:ea typeface="Holiday-MDJP01"/>
              </a:rPr>
              <a:t>What better way to get your feelings across than to say it with flowers ? So reach out to y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600" y="156960"/>
            <a:ext cx="6842160" cy="479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" y="1058400"/>
            <a:ext cx="7440840" cy="4351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2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073920" y="277920"/>
            <a:ext cx="115884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D6B-77F7-4813-B84A-A48E845272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3.jpg"/>
          <p:cNvPicPr/>
          <p:nvPr/>
        </p:nvPicPr>
        <p:blipFill>
          <a:blip r:embed="rId1"/>
          <a:stretch/>
        </p:blipFill>
        <p:spPr>
          <a:xfrm>
            <a:off x="0" y="0"/>
            <a:ext cx="7623000" cy="57182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3_03.png"/>
          <p:cNvPicPr/>
          <p:nvPr/>
        </p:nvPicPr>
        <p:blipFill>
          <a:blip r:embed="rId2"/>
          <a:stretch/>
        </p:blipFill>
        <p:spPr>
          <a:xfrm>
            <a:off x="4525920" y="501480"/>
            <a:ext cx="3095640" cy="4349880"/>
          </a:xfrm>
          <a:prstGeom prst="rect">
            <a:avLst/>
          </a:prstGeom>
          <a:ln w="0">
            <a:noFill/>
          </a:ln>
        </p:spPr>
      </p:pic>
      <p:sp>
        <p:nvSpPr>
          <p:cNvPr id="54" name="矩形 6"/>
          <p:cNvSpPr/>
          <p:nvPr/>
        </p:nvSpPr>
        <p:spPr>
          <a:xfrm>
            <a:off x="309600" y="1216080"/>
            <a:ext cx="4716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602e04"/>
                </a:solidFill>
                <a:latin typeface="Edwardian Script ITC"/>
                <a:ea typeface="Holiday-MDJP01"/>
              </a:rPr>
              <a:t>What better way to get your feelings across than to say it with flowers ? So reach out to y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04:0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8T02:13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