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D04-0EE5-4474-A9C3-2A1BAA72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2D1-C72F-4B85-B587-7CC9B42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1C9-4E58-423F-B37A-C49A3CAB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370-A164-41F7-AC9A-064ECBA0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3AE6-517B-42FD-AC1B-C8CAFFD6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1FB8-7A5F-4F26-867B-8B9040C4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4CD7-5B6A-43C0-BD19-33981CD9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C829-BABF-413B-9BA9-F9509BC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51CB-08FE-4209-B26F-58FAAF6C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F53A-A4C6-4FBB-830E-66D2E053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B2AD-E1E5-4AAD-AB6D-E455AA2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21D-982A-4AE7-822D-B474BBCF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A9C-9CFE-4524-9A96-EAA1CFB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32AD-97E8-42A8-8E3C-3060821D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31A6-F76E-4ABB-8A8E-15641CA5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3133-ABB7-47DE-BEEC-F32099CE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1E2B-4EB0-4B28-A3C9-5BD1400A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8F1-5804-46A0-B54A-9E9751D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68B-8FA5-4DA1-8D64-CBBA17B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DCF-DE2A-4B06-B5D4-69F2FD9C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31D-1B71-44C6-9F7F-3953E550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D7F-2684-41A8-937E-90B81F2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501-7CD0-4D30-A14D-B542A2FF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D83-6935-45AB-AA47-60B42C9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F008-671C-4A4D-8565-9DC59D0B0B8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DF4A-07BB-41E6-9976-6EA87D6B397E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486040" y="3885840"/>
            <a:ext cx="762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冯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骥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才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3" name="Picture 9" descr="10"/>
          <p:cNvPicPr/>
          <p:nvPr/>
        </p:nvPicPr>
        <p:blipFill>
          <a:blip r:embed="rId2"/>
          <a:stretch/>
        </p:blipFill>
        <p:spPr>
          <a:xfrm>
            <a:off x="755640" y="692280"/>
            <a:ext cx="3352680" cy="5333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44280" y="1844640"/>
            <a:ext cx="28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俗世奇人</a:t>
            </a: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隶书"/>
              </a:rPr>
              <a:t>研读赏析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有绝活的，吃荤，亮堂，站在大街中央；没能耐的，吃素，发蔫，靠边站着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句式特点，作者观点）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手艺道上的人，捏泥人的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泥人张</a:t>
            </a:r>
            <a:r>
              <a:rPr b="1" lang="en-US" sz="3600" spc="-1" strike="noStrike">
                <a:solidFill>
                  <a:srgbClr val="00264c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排第一。而且，有第一，没第二，第三差着十万八千里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体会夸张）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4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24B-5325-4EED-971E-8C3CD4B2F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721240" y="476280"/>
            <a:ext cx="438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四人小组讨论学习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刷子李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835280" y="2276640"/>
            <a:ext cx="461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刷子李</a:t>
            </a:r>
            <a:r>
              <a:rPr b="1" lang="zh-CN" sz="6600" spc="-1" strike="noStrike">
                <a:solidFill>
                  <a:srgbClr val="00264c"/>
                </a:solidFill>
                <a:latin typeface="Arial"/>
              </a:rPr>
              <a:t>”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奇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在何处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5661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148480" y="6415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拓展延伸作业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684520" y="2962440"/>
            <a:ext cx="42955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想想自己身边有没有这样的奇人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将他的传奇故事讲给大家来听听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并将这个故事记录在你的作业本上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教学目标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掌握重点字词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了解文章内容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品位语言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体会作者思想感情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Picture 4" descr="16"/>
          <p:cNvPicPr/>
          <p:nvPr/>
        </p:nvPicPr>
        <p:blipFill>
          <a:blip r:embed="rId6"/>
          <a:stretch/>
        </p:blipFill>
        <p:spPr>
          <a:xfrm>
            <a:off x="4876920" y="4489560"/>
            <a:ext cx="36576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重点字词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64c"/>
                </a:solidFill>
                <a:latin typeface="Times New Roman"/>
              </a:rPr>
              <a:t>绰号     蘸     露馅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64c"/>
                </a:solidFill>
                <a:latin typeface="Times New Roman"/>
              </a:rPr>
              <a:t>阔绰     大名鼎鼎 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64c"/>
                </a:solidFill>
                <a:latin typeface="Times New Roman"/>
              </a:rPr>
              <a:t>模子     褒贬     擅长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"/>
          <p:cNvSpPr/>
          <p:nvPr/>
        </p:nvSpPr>
        <p:spPr>
          <a:xfrm>
            <a:off x="3059280" y="1125360"/>
            <a:ext cx="1050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5" name="Picture 2" descr="1"/>
          <p:cNvPicPr/>
          <p:nvPr/>
        </p:nvPicPr>
        <p:blipFill>
          <a:blip r:embed="rId2"/>
          <a:srcRect l="-654" t="0" r="0" b="33629"/>
          <a:stretch/>
        </p:blipFill>
        <p:spPr>
          <a:xfrm>
            <a:off x="0" y="-6192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Picture 1026" descr="3"/>
          <p:cNvPicPr/>
          <p:nvPr/>
        </p:nvPicPr>
        <p:blipFill>
          <a:blip r:embed="rId2"/>
          <a:srcRect l="0" t="34427" r="424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9" name="Picture 3" descr="14"/>
          <p:cNvPicPr/>
          <p:nvPr/>
        </p:nvPicPr>
        <p:blipFill>
          <a:blip r:embed="rId2"/>
          <a:stretch/>
        </p:blipFill>
        <p:spPr>
          <a:xfrm>
            <a:off x="1447920" y="609480"/>
            <a:ext cx="3200400" cy="223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3"/>
          <p:cNvPicPr/>
          <p:nvPr/>
        </p:nvPicPr>
        <p:blipFill>
          <a:blip r:embed="rId3"/>
          <a:stretch/>
        </p:blipFill>
        <p:spPr>
          <a:xfrm>
            <a:off x="1676520" y="3276720"/>
            <a:ext cx="3124080" cy="32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0"/>
          <p:cNvPicPr/>
          <p:nvPr/>
        </p:nvPicPr>
        <p:blipFill>
          <a:blip r:embed="rId4"/>
          <a:stretch/>
        </p:blipFill>
        <p:spPr>
          <a:xfrm>
            <a:off x="5410080" y="762120"/>
            <a:ext cx="3353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3" name="Picture 2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6"/>
          <p:cNvPicPr/>
          <p:nvPr/>
        </p:nvPicPr>
        <p:blipFill>
          <a:blip r:embed="rId2"/>
          <a:stretch/>
        </p:blipFill>
        <p:spPr>
          <a:xfrm>
            <a:off x="2286000" y="380880"/>
            <a:ext cx="4800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i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461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泥人张</a:t>
            </a:r>
            <a:r>
              <a:rPr b="1" lang="zh-CN" sz="6600" spc="-1" strike="noStrike">
                <a:solidFill>
                  <a:srgbClr val="00264c"/>
                </a:solidFill>
                <a:latin typeface="Arial"/>
              </a:rPr>
              <a:t>”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奇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在何处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8" name="Picture 5" descr="BD00028_"/>
          <p:cNvPicPr/>
          <p:nvPr/>
        </p:nvPicPr>
        <p:blipFill>
          <a:blip r:embed="rId2"/>
          <a:stretch/>
        </p:blipFill>
        <p:spPr>
          <a:xfrm>
            <a:off x="5684760" y="2836800"/>
            <a:ext cx="1349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3:38:4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4:0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