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5B73-D0D7-41CF-9BD3-0343F749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4DE9-E184-4434-8001-70212CD9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9092-3BF5-4FB8-B6F2-9D2FBC24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EA12-4649-4CCF-B35E-6C9A0B701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336A-6C6E-4EA4-8A68-1B46906E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766F-FEB0-426D-9AF6-5A3280C0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615A-0537-4248-A876-F9D8E846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899A-885C-4F35-BF6A-D2CE189A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F32D-DDC5-46E1-B971-BAE28A79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472A-A3E1-4848-8F31-97A067B8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1187-A01B-48E8-821F-38874FAE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6D1B-DA96-4C9A-A64F-60132E95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B0E4-C03B-43BF-BD2A-8AC6613ABE3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4E92-3F7C-4773-9525-265B9C75E75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hyperlink" Target="http://www.eeppt.com/moban/shangwu/" TargetMode="Externa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11170" t="10179" r="13781" b="9956"/>
          <a:stretch/>
        </p:blipFill>
        <p:spPr>
          <a:xfrm>
            <a:off x="36360" y="-27000"/>
            <a:ext cx="9178920" cy="6970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6804000" y="3533760"/>
            <a:ext cx="2222640" cy="3035160"/>
          </a:xfrm>
          <a:prstGeom prst="rect">
            <a:avLst/>
          </a:prstGeom>
          <a:ln w="0">
            <a:noFill/>
          </a:ln>
        </p:spPr>
      </p:pic>
      <p:sp>
        <p:nvSpPr>
          <p:cNvPr id="43" name="直接连接符 5"/>
          <p:cNvSpPr/>
          <p:nvPr/>
        </p:nvSpPr>
        <p:spPr>
          <a:xfrm>
            <a:off x="3203640" y="3533760"/>
            <a:ext cx="5327640" cy="1440"/>
          </a:xfrm>
          <a:prstGeom prst="line">
            <a:avLst/>
          </a:prstGeom>
          <a:ln w="9360">
            <a:solidFill>
              <a:srgbClr val="dec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492360" y="2432160"/>
            <a:ext cx="432000" cy="215640"/>
          </a:xfrm>
          <a:prstGeom prst="rect">
            <a:avLst/>
          </a:prstGeom>
          <a:solidFill>
            <a:srgbClr val="0473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  <a:ea typeface="Calibri"/>
              </a:rPr>
              <a:t>V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360" y="6418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36280" y="299736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商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免费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rcRect l="0" t="9777" r="6777" b="0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rcRect l="0" t="0" r="33746" b="19895"/>
          <a:stretch/>
        </p:blipFill>
        <p:spPr>
          <a:xfrm>
            <a:off x="7539120" y="5427720"/>
            <a:ext cx="1619280" cy="1430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rcRect l="33746" t="19895" r="0" b="0"/>
          <a:stretch/>
        </p:blipFill>
        <p:spPr>
          <a:xfrm>
            <a:off x="-12600" y="-1440"/>
            <a:ext cx="1619280" cy="1428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4"/>
          <a:srcRect l="0" t="0" r="33746" b="19895"/>
          <a:stretch/>
        </p:blipFill>
        <p:spPr>
          <a:xfrm>
            <a:off x="7539120" y="5427720"/>
            <a:ext cx="1619280" cy="1430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5"/>
          <a:srcRect l="33746" t="19895" r="0" b="0"/>
          <a:stretch/>
        </p:blipFill>
        <p:spPr>
          <a:xfrm>
            <a:off x="-12600" y="-1440"/>
            <a:ext cx="1619280" cy="142848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766800" y="873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7391"/>
                </a:solidFill>
                <a:latin typeface="Calibri"/>
              </a:rPr>
              <a:t>目录｜</a:t>
            </a:r>
            <a:r>
              <a:rPr b="0" lang="en-US" sz="2800" spc="-1" strike="noStrike">
                <a:solidFill>
                  <a:srgbClr val="047391"/>
                </a:solidFill>
                <a:latin typeface="Calibri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2690640" y="2060640"/>
            <a:ext cx="4464360" cy="512640"/>
            <a:chOff x="2690640" y="2060640"/>
            <a:chExt cx="4464360" cy="512640"/>
          </a:xfrm>
        </p:grpSpPr>
        <p:sp>
          <p:nvSpPr>
            <p:cNvPr id="54" name="矩形 7"/>
            <p:cNvSpPr/>
            <p:nvPr/>
          </p:nvSpPr>
          <p:spPr>
            <a:xfrm>
              <a:off x="2690640" y="2141640"/>
              <a:ext cx="4464360" cy="431640"/>
            </a:xfrm>
            <a:prstGeom prst="rect">
              <a:avLst/>
            </a:prstGeom>
            <a:solidFill>
              <a:srgbClr val="047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2" descr=""/>
            <p:cNvPicPr/>
            <p:nvPr/>
          </p:nvPicPr>
          <p:blipFill>
            <a:blip r:embed="rId6"/>
            <a:srcRect l="0" t="34771" r="33746" b="19895"/>
            <a:stretch/>
          </p:blipFill>
          <p:spPr>
            <a:xfrm rot="10800000">
              <a:off x="2717280" y="2141280"/>
              <a:ext cx="86400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Box 8"/>
            <p:cNvSpPr/>
            <p:nvPr/>
          </p:nvSpPr>
          <p:spPr>
            <a:xfrm>
              <a:off x="2717280" y="2060640"/>
              <a:ext cx="45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ec36a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2"/>
          <p:cNvGrpSpPr/>
          <p:nvPr/>
        </p:nvGrpSpPr>
        <p:grpSpPr>
          <a:xfrm>
            <a:off x="2690640" y="2924280"/>
            <a:ext cx="4464360" cy="514080"/>
            <a:chOff x="2690640" y="2924280"/>
            <a:chExt cx="4464360" cy="514080"/>
          </a:xfrm>
        </p:grpSpPr>
        <p:sp>
          <p:nvSpPr>
            <p:cNvPr id="58" name="矩形 13"/>
            <p:cNvSpPr/>
            <p:nvPr/>
          </p:nvSpPr>
          <p:spPr>
            <a:xfrm>
              <a:off x="2690640" y="3005640"/>
              <a:ext cx="4464360" cy="432720"/>
            </a:xfrm>
            <a:prstGeom prst="rect">
              <a:avLst/>
            </a:prstGeom>
            <a:solidFill>
              <a:srgbClr val="047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2" descr=""/>
            <p:cNvPicPr/>
            <p:nvPr/>
          </p:nvPicPr>
          <p:blipFill>
            <a:blip r:embed="rId7"/>
            <a:srcRect l="0" t="34771" r="33746" b="19895"/>
            <a:stretch/>
          </p:blipFill>
          <p:spPr>
            <a:xfrm rot="10800000">
              <a:off x="2717280" y="3005640"/>
              <a:ext cx="86400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Box 15"/>
            <p:cNvSpPr/>
            <p:nvPr/>
          </p:nvSpPr>
          <p:spPr>
            <a:xfrm>
              <a:off x="2717280" y="2924280"/>
              <a:ext cx="45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ec36a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6"/>
          <p:cNvGrpSpPr/>
          <p:nvPr/>
        </p:nvGrpSpPr>
        <p:grpSpPr>
          <a:xfrm>
            <a:off x="2690640" y="3787920"/>
            <a:ext cx="4464360" cy="514080"/>
            <a:chOff x="2690640" y="3787920"/>
            <a:chExt cx="4464360" cy="514080"/>
          </a:xfrm>
        </p:grpSpPr>
        <p:sp>
          <p:nvSpPr>
            <p:cNvPr id="62" name="矩形 17"/>
            <p:cNvSpPr/>
            <p:nvPr/>
          </p:nvSpPr>
          <p:spPr>
            <a:xfrm>
              <a:off x="2690640" y="3869280"/>
              <a:ext cx="4464360" cy="432720"/>
            </a:xfrm>
            <a:prstGeom prst="rect">
              <a:avLst/>
            </a:prstGeom>
            <a:solidFill>
              <a:srgbClr val="047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2" descr=""/>
            <p:cNvPicPr/>
            <p:nvPr/>
          </p:nvPicPr>
          <p:blipFill>
            <a:blip r:embed="rId8"/>
            <a:srcRect l="0" t="34771" r="33746" b="19895"/>
            <a:stretch/>
          </p:blipFill>
          <p:spPr>
            <a:xfrm rot="10800000">
              <a:off x="2717280" y="3869280"/>
              <a:ext cx="86400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Box 19"/>
            <p:cNvSpPr/>
            <p:nvPr/>
          </p:nvSpPr>
          <p:spPr>
            <a:xfrm>
              <a:off x="2717280" y="3787920"/>
              <a:ext cx="45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ec36a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20"/>
          <p:cNvGrpSpPr/>
          <p:nvPr/>
        </p:nvGrpSpPr>
        <p:grpSpPr>
          <a:xfrm>
            <a:off x="2690640" y="4653000"/>
            <a:ext cx="4464360" cy="512640"/>
            <a:chOff x="2690640" y="4653000"/>
            <a:chExt cx="4464360" cy="512640"/>
          </a:xfrm>
        </p:grpSpPr>
        <p:sp>
          <p:nvSpPr>
            <p:cNvPr id="66" name="矩形 21"/>
            <p:cNvSpPr/>
            <p:nvPr/>
          </p:nvSpPr>
          <p:spPr>
            <a:xfrm>
              <a:off x="2690640" y="4734000"/>
              <a:ext cx="4464360" cy="431640"/>
            </a:xfrm>
            <a:prstGeom prst="rect">
              <a:avLst/>
            </a:prstGeom>
            <a:solidFill>
              <a:srgbClr val="047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2" descr=""/>
            <p:cNvPicPr/>
            <p:nvPr/>
          </p:nvPicPr>
          <p:blipFill>
            <a:blip r:embed="rId9"/>
            <a:srcRect l="0" t="34771" r="33746" b="19895"/>
            <a:stretch/>
          </p:blipFill>
          <p:spPr>
            <a:xfrm rot="10800000">
              <a:off x="2717280" y="4733640"/>
              <a:ext cx="86400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Box 23"/>
            <p:cNvSpPr/>
            <p:nvPr/>
          </p:nvSpPr>
          <p:spPr>
            <a:xfrm>
              <a:off x="2717280" y="4653000"/>
              <a:ext cx="45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ec36a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755640" y="2708280"/>
            <a:ext cx="625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商务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448B-75E1-4868-A1A6-B44D2F2B1D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0" t="9777" r="6777" b="0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rcRect l="0" t="0" r="33746" b="19895"/>
          <a:stretch/>
        </p:blipFill>
        <p:spPr>
          <a:xfrm>
            <a:off x="7539120" y="5427720"/>
            <a:ext cx="1619280" cy="1430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3"/>
          <a:srcRect l="33746" t="19895" r="0" b="0"/>
          <a:stretch/>
        </p:blipFill>
        <p:spPr>
          <a:xfrm>
            <a:off x="-12600" y="-1440"/>
            <a:ext cx="16192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10:55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4:56:11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