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848-1B31-452A-85BE-62419333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1B3-97E5-45CD-A157-215A6600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87E-E71B-4801-B40C-8FD4EDAE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849-0F26-4F04-AA8C-F43D3F24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9E1-C914-428D-99DD-E18BA695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1FB-CEE2-410B-9874-63DA275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1CD-E3FD-43D6-AF09-96105394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04F-9F85-409F-83EC-21115B95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C39-9DF8-491A-B121-322CF6D1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106-5B33-4F09-968C-5EC91A9B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98C-65B1-4056-A108-41A6D41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7B3-C338-4310-984C-F5A1A8F4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15D8-59E7-48F1-AAFF-D46803998B1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0E18-DA6E-47F8-B9FA-5EBDF1E680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hyperlink" Target="http://www.eeppt.com/moban/shangwu/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1170" t="10179" r="13781" b="9956"/>
          <a:stretch/>
        </p:blipFill>
        <p:spPr>
          <a:xfrm>
            <a:off x="36360" y="-27000"/>
            <a:ext cx="9178920" cy="6970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6804000" y="3533760"/>
            <a:ext cx="2222640" cy="3035160"/>
          </a:xfrm>
          <a:prstGeom prst="rect">
            <a:avLst/>
          </a:prstGeom>
          <a:ln w="0">
            <a:noFill/>
          </a:ln>
        </p:spPr>
      </p:pic>
      <p:sp>
        <p:nvSpPr>
          <p:cNvPr id="43" name="直接连接符 5"/>
          <p:cNvSpPr/>
          <p:nvPr/>
        </p:nvSpPr>
        <p:spPr>
          <a:xfrm>
            <a:off x="3203640" y="3533760"/>
            <a:ext cx="5327640" cy="1440"/>
          </a:xfrm>
          <a:prstGeom prst="line">
            <a:avLst/>
          </a:prstGeom>
          <a:ln w="9360">
            <a:solidFill>
              <a:srgbClr val="dec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92360" y="2432160"/>
            <a:ext cx="432000" cy="215640"/>
          </a:xfrm>
          <a:prstGeom prst="rect">
            <a:avLst/>
          </a:prstGeom>
          <a:solidFill>
            <a:srgbClr val="0473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  <a:ea typeface="Calibri"/>
              </a:rPr>
              <a:t>V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360" y="6418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36280" y="29973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766800" y="873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7391"/>
                </a:solidFill>
                <a:latin typeface="Calibri"/>
              </a:rPr>
              <a:t>目录｜</a:t>
            </a:r>
            <a:r>
              <a:rPr b="0" lang="en-US" sz="2800" spc="-1" strike="noStrike">
                <a:solidFill>
                  <a:srgbClr val="047391"/>
                </a:solidFill>
                <a:latin typeface="Calibr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2690640" y="2060640"/>
            <a:ext cx="4464360" cy="512640"/>
            <a:chOff x="2690640" y="2060640"/>
            <a:chExt cx="4464360" cy="512640"/>
          </a:xfrm>
        </p:grpSpPr>
        <p:sp>
          <p:nvSpPr>
            <p:cNvPr id="54" name="矩形 7"/>
            <p:cNvSpPr/>
            <p:nvPr/>
          </p:nvSpPr>
          <p:spPr>
            <a:xfrm>
              <a:off x="2690640" y="2141640"/>
              <a:ext cx="4464360" cy="43164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" descr=""/>
            <p:cNvPicPr/>
            <p:nvPr/>
          </p:nvPicPr>
          <p:blipFill>
            <a:blip r:embed="rId6"/>
            <a:srcRect l="0" t="34771" r="33746" b="19895"/>
            <a:stretch/>
          </p:blipFill>
          <p:spPr>
            <a:xfrm rot="10800000">
              <a:off x="2717280" y="2141280"/>
              <a:ext cx="864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8"/>
            <p:cNvSpPr/>
            <p:nvPr/>
          </p:nvSpPr>
          <p:spPr>
            <a:xfrm>
              <a:off x="2717280" y="206064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2690640" y="2924280"/>
            <a:ext cx="4464360" cy="514080"/>
            <a:chOff x="2690640" y="2924280"/>
            <a:chExt cx="4464360" cy="514080"/>
          </a:xfrm>
        </p:grpSpPr>
        <p:sp>
          <p:nvSpPr>
            <p:cNvPr id="58" name="矩形 13"/>
            <p:cNvSpPr/>
            <p:nvPr/>
          </p:nvSpPr>
          <p:spPr>
            <a:xfrm>
              <a:off x="2690640" y="3005640"/>
              <a:ext cx="4464360" cy="43272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2" descr=""/>
            <p:cNvPicPr/>
            <p:nvPr/>
          </p:nvPicPr>
          <p:blipFill>
            <a:blip r:embed="rId7"/>
            <a:srcRect l="0" t="34771" r="33746" b="19895"/>
            <a:stretch/>
          </p:blipFill>
          <p:spPr>
            <a:xfrm rot="10800000">
              <a:off x="2717280" y="3005640"/>
              <a:ext cx="86400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5"/>
            <p:cNvSpPr/>
            <p:nvPr/>
          </p:nvSpPr>
          <p:spPr>
            <a:xfrm>
              <a:off x="2717280" y="292428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6"/>
          <p:cNvGrpSpPr/>
          <p:nvPr/>
        </p:nvGrpSpPr>
        <p:grpSpPr>
          <a:xfrm>
            <a:off x="2690640" y="3787920"/>
            <a:ext cx="4464360" cy="514080"/>
            <a:chOff x="2690640" y="3787920"/>
            <a:chExt cx="4464360" cy="514080"/>
          </a:xfrm>
        </p:grpSpPr>
        <p:sp>
          <p:nvSpPr>
            <p:cNvPr id="62" name="矩形 17"/>
            <p:cNvSpPr/>
            <p:nvPr/>
          </p:nvSpPr>
          <p:spPr>
            <a:xfrm>
              <a:off x="2690640" y="3869280"/>
              <a:ext cx="4464360" cy="43272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2" descr=""/>
            <p:cNvPicPr/>
            <p:nvPr/>
          </p:nvPicPr>
          <p:blipFill>
            <a:blip r:embed="rId8"/>
            <a:srcRect l="0" t="34771" r="33746" b="19895"/>
            <a:stretch/>
          </p:blipFill>
          <p:spPr>
            <a:xfrm rot="10800000">
              <a:off x="2717280" y="3869280"/>
              <a:ext cx="86400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19"/>
            <p:cNvSpPr/>
            <p:nvPr/>
          </p:nvSpPr>
          <p:spPr>
            <a:xfrm>
              <a:off x="2717280" y="378792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0"/>
          <p:cNvGrpSpPr/>
          <p:nvPr/>
        </p:nvGrpSpPr>
        <p:grpSpPr>
          <a:xfrm>
            <a:off x="2690640" y="4653000"/>
            <a:ext cx="4464360" cy="512640"/>
            <a:chOff x="2690640" y="4653000"/>
            <a:chExt cx="4464360" cy="512640"/>
          </a:xfrm>
        </p:grpSpPr>
        <p:sp>
          <p:nvSpPr>
            <p:cNvPr id="66" name="矩形 21"/>
            <p:cNvSpPr/>
            <p:nvPr/>
          </p:nvSpPr>
          <p:spPr>
            <a:xfrm>
              <a:off x="2690640" y="4734000"/>
              <a:ext cx="4464360" cy="43164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2" descr=""/>
            <p:cNvPicPr/>
            <p:nvPr/>
          </p:nvPicPr>
          <p:blipFill>
            <a:blip r:embed="rId9"/>
            <a:srcRect l="0" t="34771" r="33746" b="19895"/>
            <a:stretch/>
          </p:blipFill>
          <p:spPr>
            <a:xfrm rot="10800000">
              <a:off x="2717280" y="4733640"/>
              <a:ext cx="864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23"/>
            <p:cNvSpPr/>
            <p:nvPr/>
          </p:nvSpPr>
          <p:spPr>
            <a:xfrm>
              <a:off x="2717280" y="465300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D2B-010F-406F-8133-88E59C207B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0:5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56:1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