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组合 1"/>
          <p:cNvGrpSpPr/>
          <p:nvPr/>
        </p:nvGrpSpPr>
        <p:grpSpPr>
          <a:xfrm>
            <a:off x="1547640" y="260280"/>
            <a:ext cx="6156360" cy="7302600"/>
            <a:chOff x="1547640" y="260280"/>
            <a:chExt cx="6156360" cy="7302600"/>
          </a:xfrm>
        </p:grpSpPr>
        <p:pic>
          <p:nvPicPr>
            <p:cNvPr id="41" name="Picture 3" descr=""/>
            <p:cNvPicPr/>
            <p:nvPr/>
          </p:nvPicPr>
          <p:blipFill>
            <a:blip r:embed="rId1"/>
            <a:srcRect l="0" t="2762" r="57831" b="7212"/>
            <a:stretch/>
          </p:blipFill>
          <p:spPr>
            <a:xfrm>
              <a:off x="1773000" y="260280"/>
              <a:ext cx="224280" cy="73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图片 17" descr=""/>
            <p:cNvPicPr/>
            <p:nvPr/>
          </p:nvPicPr>
          <p:blipFill>
            <a:blip r:embed="rId2"/>
            <a:stretch/>
          </p:blipFill>
          <p:spPr>
            <a:xfrm>
              <a:off x="1547640" y="1168200"/>
              <a:ext cx="3210120" cy="511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136"/>
            <p:cNvSpPr/>
            <p:nvPr/>
          </p:nvSpPr>
          <p:spPr>
            <a:xfrm>
              <a:off x="1995120" y="1662480"/>
              <a:ext cx="17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37"/>
            <p:cNvSpPr/>
            <p:nvPr/>
          </p:nvSpPr>
          <p:spPr>
            <a:xfrm>
              <a:off x="2123640" y="1238760"/>
              <a:ext cx="16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STE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38"/>
            <p:cNvSpPr/>
            <p:nvPr/>
          </p:nvSpPr>
          <p:spPr>
            <a:xfrm>
              <a:off x="2380680" y="2738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39"/>
            <p:cNvSpPr/>
            <p:nvPr/>
          </p:nvSpPr>
          <p:spPr>
            <a:xfrm>
              <a:off x="2507760" y="2315160"/>
              <a:ext cx="16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STE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40"/>
            <p:cNvSpPr/>
            <p:nvPr/>
          </p:nvSpPr>
          <p:spPr>
            <a:xfrm>
              <a:off x="1931760" y="3913560"/>
              <a:ext cx="17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41"/>
            <p:cNvSpPr/>
            <p:nvPr/>
          </p:nvSpPr>
          <p:spPr>
            <a:xfrm>
              <a:off x="2060280" y="3489840"/>
              <a:ext cx="16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STE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42"/>
            <p:cNvSpPr/>
            <p:nvPr/>
          </p:nvSpPr>
          <p:spPr>
            <a:xfrm>
              <a:off x="1547640" y="510984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43"/>
            <p:cNvSpPr/>
            <p:nvPr/>
          </p:nvSpPr>
          <p:spPr>
            <a:xfrm>
              <a:off x="1674720" y="4686120"/>
              <a:ext cx="160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Bauhaus 93"/>
                  <a:ea typeface="微软雅黑"/>
                </a:rPr>
                <a:t>STE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44"/>
            <p:cNvSpPr/>
            <p:nvPr/>
          </p:nvSpPr>
          <p:spPr>
            <a:xfrm>
              <a:off x="4437360" y="1204920"/>
              <a:ext cx="2947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  <a:ea typeface="微软雅黑"/>
                </a:rPr>
                <a:t>Click here to add your text. Click here to add your text. 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45"/>
            <p:cNvSpPr/>
            <p:nvPr/>
          </p:nvSpPr>
          <p:spPr>
            <a:xfrm>
              <a:off x="4757760" y="2315160"/>
              <a:ext cx="2946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  <a:ea typeface="微软雅黑"/>
                </a:rPr>
                <a:t>Click here to add your text. Click here to add your text. 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46"/>
            <p:cNvSpPr/>
            <p:nvPr/>
          </p:nvSpPr>
          <p:spPr>
            <a:xfrm>
              <a:off x="4373640" y="3489840"/>
              <a:ext cx="2946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  <a:ea typeface="微软雅黑"/>
                </a:rPr>
                <a:t>Click here to add your text. Click here to add your text. 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47"/>
            <p:cNvSpPr/>
            <p:nvPr/>
          </p:nvSpPr>
          <p:spPr>
            <a:xfrm>
              <a:off x="3924720" y="4615560"/>
              <a:ext cx="2947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  <a:ea typeface="微软雅黑"/>
                </a:rPr>
                <a:t>Click here to add your text. Click here to add your text. Click here to add your text. Click here to add your text. Click here to add your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79280" y="638172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8800" y="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四项列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20:51Z</dcterms:modified>
  <cp:revision>10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