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D79-8CA9-47CE-B6F0-48FCD01CC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698-4461-4C84-A159-F304FDC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50B-274E-49E9-8E46-AC24F3EC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925-8CEC-4047-8530-293A2E5E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2FB-7CB6-4FB4-BE10-EF066E02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9E68-A5AD-4298-989E-10C656E0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B14A-7607-4965-AF91-76E139BC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67C-F4CF-49A6-AC0E-DC30BF9D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26CC-E7D6-4559-940D-C0DB9C65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9EB-C29D-45CE-8DF0-4508BD8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AB7C-CA78-48C8-BED8-E1B56B83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EC34-7B74-4B83-ABB7-F1771DF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E4D8-1DA3-4B72-A0BC-C6E0824E9078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实用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表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09480" y="1447920"/>
            <a:ext cx="8077320" cy="4695480"/>
            <a:chOff x="609480" y="1447920"/>
            <a:chExt cx="8077320" cy="4695480"/>
          </a:xfrm>
        </p:grpSpPr>
        <p:grpSp>
          <p:nvGrpSpPr>
            <p:cNvPr id="43" name=""/>
            <p:cNvGrpSpPr/>
            <p:nvPr/>
          </p:nvGrpSpPr>
          <p:grpSpPr>
            <a:xfrm>
              <a:off x="609480" y="4245120"/>
              <a:ext cx="811080" cy="1898280"/>
              <a:chOff x="609480" y="4245120"/>
              <a:chExt cx="811080" cy="1898280"/>
            </a:xfrm>
          </p:grpSpPr>
          <p:sp>
            <p:nvSpPr>
              <p:cNvPr id="44" name=""/>
              <p:cNvSpPr/>
              <p:nvPr/>
            </p:nvSpPr>
            <p:spPr>
              <a:xfrm>
                <a:off x="682200" y="6001560"/>
                <a:ext cx="66528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09480" y="4245120"/>
                <a:ext cx="811080" cy="1842120"/>
              </a:xfrm>
              <a:prstGeom prst="rect">
                <a:avLst/>
              </a:prstGeom>
              <a:gradFill rotWithShape="0">
                <a:gsLst>
                  <a:gs pos="0">
                    <a:srgbClr val="e8e8d0"/>
                  </a:gs>
                  <a:gs pos="50000">
                    <a:srgbClr val="c5c383"/>
                  </a:gs>
                  <a:gs pos="100000">
                    <a:srgbClr val="e8e8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1806480" y="4245120"/>
              <a:ext cx="811080" cy="1898280"/>
              <a:chOff x="1806480" y="4245120"/>
              <a:chExt cx="811080" cy="1898280"/>
            </a:xfrm>
          </p:grpSpPr>
          <p:sp>
            <p:nvSpPr>
              <p:cNvPr id="47" name=""/>
              <p:cNvSpPr/>
              <p:nvPr/>
            </p:nvSpPr>
            <p:spPr>
              <a:xfrm>
                <a:off x="1879200" y="6001560"/>
                <a:ext cx="66528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806480" y="4245120"/>
                <a:ext cx="811080" cy="1842120"/>
              </a:xfrm>
              <a:prstGeom prst="rect">
                <a:avLst/>
              </a:prstGeom>
              <a:gradFill rotWithShape="0">
                <a:gsLst>
                  <a:gs pos="0">
                    <a:srgbClr val="e8e8d0"/>
                  </a:gs>
                  <a:gs pos="50000">
                    <a:srgbClr val="c5c383"/>
                  </a:gs>
                  <a:gs pos="100000">
                    <a:srgbClr val="e8e8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003480" y="4245120"/>
              <a:ext cx="811080" cy="1898280"/>
              <a:chOff x="3003480" y="4245120"/>
              <a:chExt cx="811080" cy="1898280"/>
            </a:xfrm>
          </p:grpSpPr>
          <p:sp>
            <p:nvSpPr>
              <p:cNvPr id="50" name=""/>
              <p:cNvSpPr/>
              <p:nvPr/>
            </p:nvSpPr>
            <p:spPr>
              <a:xfrm>
                <a:off x="3076200" y="6001560"/>
                <a:ext cx="66528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003480" y="4245120"/>
                <a:ext cx="811080" cy="1842120"/>
              </a:xfrm>
              <a:prstGeom prst="rect">
                <a:avLst/>
              </a:prstGeom>
              <a:gradFill rotWithShape="0">
                <a:gsLst>
                  <a:gs pos="0">
                    <a:srgbClr val="e8e8d0"/>
                  </a:gs>
                  <a:gs pos="50000">
                    <a:srgbClr val="c5c383"/>
                  </a:gs>
                  <a:gs pos="100000">
                    <a:srgbClr val="e8e8d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289400" y="4245120"/>
              <a:ext cx="806400" cy="1898280"/>
              <a:chOff x="4289400" y="4245120"/>
              <a:chExt cx="806400" cy="1898280"/>
            </a:xfrm>
          </p:grpSpPr>
          <p:sp>
            <p:nvSpPr>
              <p:cNvPr id="53" name=""/>
              <p:cNvSpPr/>
              <p:nvPr/>
            </p:nvSpPr>
            <p:spPr>
              <a:xfrm>
                <a:off x="4361760" y="6001560"/>
                <a:ext cx="66132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289400" y="4245120"/>
                <a:ext cx="806400" cy="1842120"/>
              </a:xfrm>
              <a:prstGeom prst="rect">
                <a:avLst/>
              </a:prstGeom>
              <a:gradFill rotWithShape="0">
                <a:gsLst>
                  <a:gs pos="0">
                    <a:srgbClr val="d8eebb"/>
                  </a:gs>
                  <a:gs pos="50000">
                    <a:srgbClr val="99d549"/>
                  </a:gs>
                  <a:gs pos="100000">
                    <a:srgbClr val="d8ee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486400" y="4245120"/>
              <a:ext cx="806400" cy="1898280"/>
              <a:chOff x="5486400" y="4245120"/>
              <a:chExt cx="806400" cy="1898280"/>
            </a:xfrm>
          </p:grpSpPr>
          <p:sp>
            <p:nvSpPr>
              <p:cNvPr id="56" name=""/>
              <p:cNvSpPr/>
              <p:nvPr/>
            </p:nvSpPr>
            <p:spPr>
              <a:xfrm>
                <a:off x="5558760" y="6001560"/>
                <a:ext cx="66132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486400" y="4245120"/>
                <a:ext cx="806400" cy="1842120"/>
              </a:xfrm>
              <a:prstGeom prst="rect">
                <a:avLst/>
              </a:prstGeom>
              <a:gradFill rotWithShape="0">
                <a:gsLst>
                  <a:gs pos="0">
                    <a:srgbClr val="d8eebb"/>
                  </a:gs>
                  <a:gs pos="50000">
                    <a:srgbClr val="99d549"/>
                  </a:gs>
                  <a:gs pos="100000">
                    <a:srgbClr val="d8ee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683400" y="4245120"/>
              <a:ext cx="806400" cy="1898280"/>
              <a:chOff x="6683400" y="4245120"/>
              <a:chExt cx="806400" cy="1898280"/>
            </a:xfrm>
          </p:grpSpPr>
          <p:sp>
            <p:nvSpPr>
              <p:cNvPr id="59" name=""/>
              <p:cNvSpPr/>
              <p:nvPr/>
            </p:nvSpPr>
            <p:spPr>
              <a:xfrm>
                <a:off x="6755760" y="6001560"/>
                <a:ext cx="66132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83400" y="4245120"/>
                <a:ext cx="806400" cy="1842120"/>
              </a:xfrm>
              <a:prstGeom prst="rect">
                <a:avLst/>
              </a:prstGeom>
              <a:gradFill rotWithShape="0">
                <a:gsLst>
                  <a:gs pos="0">
                    <a:srgbClr val="d8eebb"/>
                  </a:gs>
                  <a:gs pos="50000">
                    <a:srgbClr val="99d549"/>
                  </a:gs>
                  <a:gs pos="100000">
                    <a:srgbClr val="d8ee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880400" y="4245120"/>
              <a:ext cx="806400" cy="1898280"/>
              <a:chOff x="7880400" y="4245120"/>
              <a:chExt cx="806400" cy="1898280"/>
            </a:xfrm>
          </p:grpSpPr>
          <p:sp>
            <p:nvSpPr>
              <p:cNvPr id="62" name=""/>
              <p:cNvSpPr/>
              <p:nvPr/>
            </p:nvSpPr>
            <p:spPr>
              <a:xfrm>
                <a:off x="7952760" y="6001560"/>
                <a:ext cx="661320" cy="1418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880400" y="4245120"/>
                <a:ext cx="806400" cy="1842120"/>
              </a:xfrm>
              <a:prstGeom prst="rect">
                <a:avLst/>
              </a:prstGeom>
              <a:gradFill rotWithShape="0">
                <a:gsLst>
                  <a:gs pos="0">
                    <a:srgbClr val="d8eebb"/>
                  </a:gs>
                  <a:gs pos="50000">
                    <a:srgbClr val="99d549"/>
                  </a:gs>
                  <a:gs pos="100000">
                    <a:srgbClr val="d8eeb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093680" y="2797200"/>
              <a:ext cx="2236680" cy="877680"/>
              <a:chOff x="1093680" y="2797200"/>
              <a:chExt cx="2236680" cy="877680"/>
            </a:xfrm>
          </p:grpSpPr>
          <p:sp>
            <p:nvSpPr>
              <p:cNvPr id="65" name=""/>
              <p:cNvSpPr/>
              <p:nvPr/>
            </p:nvSpPr>
            <p:spPr>
              <a:xfrm>
                <a:off x="1225440" y="3378240"/>
                <a:ext cx="1972440" cy="2966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93680" y="2797200"/>
                <a:ext cx="2236680" cy="749880"/>
              </a:xfrm>
              <a:prstGeom prst="rect">
                <a:avLst/>
              </a:prstGeom>
              <a:gradFill rotWithShape="0">
                <a:gsLst>
                  <a:gs pos="0">
                    <a:srgbClr val="f7f4b7"/>
                  </a:gs>
                  <a:gs pos="50000">
                    <a:srgbClr val="ebe115"/>
                  </a:gs>
                  <a:gs pos="100000">
                    <a:srgbClr val="f7f4b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406840" y="2797200"/>
              <a:ext cx="2236680" cy="877680"/>
              <a:chOff x="5406840" y="2797200"/>
              <a:chExt cx="2236680" cy="877680"/>
            </a:xfrm>
          </p:grpSpPr>
          <p:sp>
            <p:nvSpPr>
              <p:cNvPr id="68" name=""/>
              <p:cNvSpPr/>
              <p:nvPr/>
            </p:nvSpPr>
            <p:spPr>
              <a:xfrm>
                <a:off x="5538600" y="3378240"/>
                <a:ext cx="1972440" cy="2966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406840" y="2797200"/>
                <a:ext cx="2236680" cy="749880"/>
              </a:xfrm>
              <a:prstGeom prst="rect">
                <a:avLst/>
              </a:prstGeom>
              <a:gradFill rotWithShape="0">
                <a:gsLst>
                  <a:gs pos="0">
                    <a:srgbClr val="feeeb1"/>
                  </a:gs>
                  <a:gs pos="50000">
                    <a:srgbClr val="ffcc00"/>
                  </a:gs>
                  <a:gs pos="100000">
                    <a:srgbClr val="feeeb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ex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000240" y="1447920"/>
              <a:ext cx="2906640" cy="885960"/>
              <a:chOff x="3000240" y="1447920"/>
              <a:chExt cx="2906640" cy="885960"/>
            </a:xfrm>
          </p:grpSpPr>
          <p:sp>
            <p:nvSpPr>
              <p:cNvPr id="71" name=""/>
              <p:cNvSpPr/>
              <p:nvPr/>
            </p:nvSpPr>
            <p:spPr>
              <a:xfrm>
                <a:off x="3171600" y="2114640"/>
                <a:ext cx="2563920" cy="219240"/>
              </a:xfrm>
              <a:custGeom>
                <a:avLst/>
                <a:gdLst/>
                <a:ahLst/>
                <a:rect l="l" t="t" r="r" b="b"/>
                <a:pathLst>
                  <a:path w="1120" h="252">
                    <a:moveTo>
                      <a:pt x="1120" y="252"/>
                    </a:moveTo>
                    <a:lnTo>
                      <a:pt x="1116" y="250"/>
                    </a:lnTo>
                    <a:lnTo>
                      <a:pt x="1100" y="246"/>
                    </a:lnTo>
                    <a:lnTo>
                      <a:pt x="1074" y="240"/>
                    </a:lnTo>
                    <a:lnTo>
                      <a:pt x="1038" y="232"/>
                    </a:lnTo>
                    <a:lnTo>
                      <a:pt x="992" y="222"/>
                    </a:lnTo>
                    <a:lnTo>
                      <a:pt x="938" y="212"/>
                    </a:lnTo>
                    <a:lnTo>
                      <a:pt x="876" y="204"/>
                    </a:lnTo>
                    <a:lnTo>
                      <a:pt x="806" y="196"/>
                    </a:lnTo>
                    <a:lnTo>
                      <a:pt x="730" y="190"/>
                    </a:lnTo>
                    <a:lnTo>
                      <a:pt x="646" y="184"/>
                    </a:lnTo>
                    <a:lnTo>
                      <a:pt x="556" y="184"/>
                    </a:lnTo>
                    <a:lnTo>
                      <a:pt x="466" y="184"/>
                    </a:lnTo>
                    <a:lnTo>
                      <a:pt x="384" y="190"/>
                    </a:lnTo>
                    <a:lnTo>
                      <a:pt x="308" y="196"/>
                    </a:lnTo>
                    <a:lnTo>
                      <a:pt x="238" y="204"/>
                    </a:lnTo>
                    <a:lnTo>
                      <a:pt x="178" y="212"/>
                    </a:lnTo>
                    <a:lnTo>
                      <a:pt x="126" y="222"/>
                    </a:lnTo>
                    <a:lnTo>
                      <a:pt x="82" y="232"/>
                    </a:lnTo>
                    <a:lnTo>
                      <a:pt x="46" y="240"/>
                    </a:lnTo>
                    <a:lnTo>
                      <a:pt x="20" y="246"/>
                    </a:lnTo>
                    <a:lnTo>
                      <a:pt x="6" y="250"/>
                    </a:lnTo>
                    <a:lnTo>
                      <a:pt x="0" y="252"/>
                    </a:lnTo>
                    <a:lnTo>
                      <a:pt x="0" y="62"/>
                    </a:lnTo>
                    <a:lnTo>
                      <a:pt x="560" y="0"/>
                    </a:lnTo>
                    <a:lnTo>
                      <a:pt x="1120" y="62"/>
                    </a:lnTo>
                    <a:lnTo>
                      <a:pt x="1120" y="252"/>
                    </a:lnTo>
                    <a:lnTo>
                      <a:pt x="112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00240" y="1447920"/>
                <a:ext cx="2906640" cy="785880"/>
              </a:xfrm>
              <a:prstGeom prst="rect">
                <a:avLst/>
              </a:prstGeom>
              <a:gradFill rotWithShape="0">
                <a:gsLst>
                  <a:gs pos="0">
                    <a:srgbClr val="faedd9"/>
                  </a:gs>
                  <a:gs pos="50000">
                    <a:srgbClr val="f7d6a1"/>
                  </a:gs>
                  <a:gs pos="100000">
                    <a:srgbClr val="faedd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Click to add Titl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" name=""/>
            <p:cNvCxnSpPr>
              <a:stCxn id="66" idx="2"/>
              <a:endCxn id="45" idx="0"/>
            </p:cNvCxnSpPr>
            <p:nvPr/>
          </p:nvCxnSpPr>
          <p:spPr>
            <a:xfrm rot="5400000">
              <a:off x="1263960" y="3297600"/>
              <a:ext cx="698400" cy="11973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6" idx="2"/>
              <a:endCxn id="48" idx="0"/>
            </p:cNvCxnSpPr>
            <p:nvPr/>
          </p:nvCxnSpPr>
          <p:spPr>
            <a:xfrm rot="16200000">
              <a:off x="1863000" y="3895920"/>
              <a:ext cx="698400" cy="360"/>
            </a:xfrm>
            <a:prstGeom prst="bentConnector2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6" idx="2"/>
              <a:endCxn id="51" idx="0"/>
            </p:cNvCxnSpPr>
            <p:nvPr/>
          </p:nvCxnSpPr>
          <p:spPr>
            <a:xfrm flipH="1" rot="16200000">
              <a:off x="2461320" y="3297240"/>
              <a:ext cx="698400" cy="11973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6" name=""/>
            <p:cNvCxnSpPr>
              <a:stCxn id="69" idx="2"/>
              <a:endCxn id="54" idx="0"/>
            </p:cNvCxnSpPr>
            <p:nvPr/>
          </p:nvCxnSpPr>
          <p:spPr>
            <a:xfrm rot="5400000">
              <a:off x="5259600" y="2979720"/>
              <a:ext cx="698400" cy="18327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69" idx="2"/>
              <a:endCxn id="57" idx="0"/>
            </p:cNvCxnSpPr>
            <p:nvPr/>
          </p:nvCxnSpPr>
          <p:spPr>
            <a:xfrm rot="5400000">
              <a:off x="5857920" y="3578400"/>
              <a:ext cx="698400" cy="6357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69" idx="2"/>
              <a:endCxn id="60" idx="0"/>
            </p:cNvCxnSpPr>
            <p:nvPr/>
          </p:nvCxnSpPr>
          <p:spPr>
            <a:xfrm flipH="1" rot="16200000">
              <a:off x="6456960" y="3615120"/>
              <a:ext cx="698400" cy="5619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9" idx="2"/>
              <a:endCxn id="63" idx="0"/>
            </p:cNvCxnSpPr>
            <p:nvPr/>
          </p:nvCxnSpPr>
          <p:spPr>
            <a:xfrm flipH="1" rot="16200000">
              <a:off x="7055280" y="3016440"/>
              <a:ext cx="698400" cy="1758960"/>
            </a:xfrm>
            <a:prstGeom prst="bentConnector3">
              <a:avLst>
                <a:gd name="adj1" fmla="val 49974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2" idx="2"/>
              <a:endCxn id="66" idx="0"/>
            </p:cNvCxnSpPr>
            <p:nvPr/>
          </p:nvCxnSpPr>
          <p:spPr>
            <a:xfrm rot="5400000">
              <a:off x="3050640" y="1394640"/>
              <a:ext cx="563760" cy="224208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1" name=""/>
            <p:cNvCxnSpPr>
              <a:stCxn id="72" idx="2"/>
              <a:endCxn id="69" idx="0"/>
            </p:cNvCxnSpPr>
            <p:nvPr/>
          </p:nvCxnSpPr>
          <p:spPr>
            <a:xfrm flipH="1" rot="16200000">
              <a:off x="5207760" y="1479600"/>
              <a:ext cx="563760" cy="2071800"/>
            </a:xfrm>
            <a:prstGeom prst="bentConnector3">
              <a:avLst>
                <a:gd name="adj1" fmla="val 49968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8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289400" y="4245120"/>
            <a:ext cx="806400" cy="1898280"/>
            <a:chOff x="4289400" y="4245120"/>
            <a:chExt cx="806400" cy="1898280"/>
          </a:xfrm>
        </p:grpSpPr>
        <p:sp>
          <p:nvSpPr>
            <p:cNvPr id="85" name=""/>
            <p:cNvSpPr/>
            <p:nvPr/>
          </p:nvSpPr>
          <p:spPr>
            <a:xfrm>
              <a:off x="436176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940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c6ebfe"/>
                </a:gs>
                <a:gs pos="50000">
                  <a:srgbClr val="66ccff"/>
                </a:gs>
                <a:gs pos="100000">
                  <a:srgbClr val="c6eb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093680" y="2797200"/>
            <a:ext cx="2237040" cy="877680"/>
            <a:chOff x="1093680" y="2797200"/>
            <a:chExt cx="2237040" cy="877680"/>
          </a:xfrm>
        </p:grpSpPr>
        <p:sp>
          <p:nvSpPr>
            <p:cNvPr id="88" name=""/>
            <p:cNvSpPr/>
            <p:nvPr/>
          </p:nvSpPr>
          <p:spPr>
            <a:xfrm>
              <a:off x="1225440" y="3378240"/>
              <a:ext cx="1972800" cy="2966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93680" y="2797200"/>
              <a:ext cx="2237040" cy="749880"/>
            </a:xfrm>
            <a:prstGeom prst="rect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b1eecf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07200" y="2797200"/>
            <a:ext cx="2236680" cy="877680"/>
            <a:chOff x="5407200" y="2797200"/>
            <a:chExt cx="2236680" cy="877680"/>
          </a:xfrm>
        </p:grpSpPr>
        <p:sp>
          <p:nvSpPr>
            <p:cNvPr id="91" name=""/>
            <p:cNvSpPr/>
            <p:nvPr/>
          </p:nvSpPr>
          <p:spPr>
            <a:xfrm>
              <a:off x="5538960" y="3378240"/>
              <a:ext cx="1972440" cy="2966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07200" y="2797200"/>
              <a:ext cx="2236680" cy="74988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c0dffe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000240" y="1447920"/>
            <a:ext cx="2906640" cy="885240"/>
            <a:chOff x="3000240" y="1447920"/>
            <a:chExt cx="2906640" cy="885240"/>
          </a:xfrm>
        </p:grpSpPr>
        <p:sp>
          <p:nvSpPr>
            <p:cNvPr id="94" name=""/>
            <p:cNvSpPr/>
            <p:nvPr/>
          </p:nvSpPr>
          <p:spPr>
            <a:xfrm>
              <a:off x="3171600" y="2114280"/>
              <a:ext cx="2563920" cy="2188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00240" y="1447920"/>
              <a:ext cx="2906640" cy="785520"/>
            </a:xfrm>
            <a:prstGeom prst="rect">
              <a:avLst/>
            </a:prstGeom>
            <a:gradFill rotWithShape="0">
              <a:gsLst>
                <a:gs pos="0">
                  <a:srgbClr val="d8755a"/>
                </a:gs>
                <a:gs pos="50000">
                  <a:srgbClr val="eec8bd"/>
                </a:gs>
                <a:gs pos="100000">
                  <a:srgbClr val="d875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96" name=""/>
          <p:cNvCxnSpPr>
            <a:stCxn id="89" idx="2"/>
          </p:cNvCxnSpPr>
          <p:nvPr/>
        </p:nvCxnSpPr>
        <p:spPr>
          <a:xfrm rot="5400000">
            <a:off x="1265040" y="3296520"/>
            <a:ext cx="697680" cy="1197360"/>
          </a:xfrm>
          <a:prstGeom prst="bentConnector3">
            <a:avLst>
              <a:gd name="adj1" fmla="val 4987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9" idx="2"/>
          </p:cNvCxnSpPr>
          <p:nvPr/>
        </p:nvCxnSpPr>
        <p:spPr>
          <a:xfrm flipV="1" rot="10800000">
            <a:off x="2212200" y="3546000"/>
            <a:ext cx="1080" cy="697680"/>
          </a:xfrm>
          <a:prstGeom prst="bentConnector2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</p:cNvCxnSpPr>
          <p:nvPr/>
        </p:nvCxnSpPr>
        <p:spPr>
          <a:xfrm flipH="1" rot="16200000">
            <a:off x="2461680" y="3296160"/>
            <a:ext cx="697680" cy="1197360"/>
          </a:xfrm>
          <a:prstGeom prst="bentConnector3">
            <a:avLst>
              <a:gd name="adj1" fmla="val 4987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2" idx="2"/>
            <a:endCxn id="86" idx="0"/>
          </p:cNvCxnSpPr>
          <p:nvPr/>
        </p:nvCxnSpPr>
        <p:spPr>
          <a:xfrm rot="5400000">
            <a:off x="5259240" y="2978640"/>
            <a:ext cx="699480" cy="1834200"/>
          </a:xfrm>
          <a:prstGeom prst="bentConnector3">
            <a:avLst>
              <a:gd name="adj1" fmla="val 5000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2" idx="2"/>
          </p:cNvCxnSpPr>
          <p:nvPr/>
        </p:nvCxnSpPr>
        <p:spPr>
          <a:xfrm rot="5400000">
            <a:off x="5858640" y="3576600"/>
            <a:ext cx="697680" cy="637200"/>
          </a:xfrm>
          <a:prstGeom prst="bentConnector3">
            <a:avLst>
              <a:gd name="adj1" fmla="val 4987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2" idx="2"/>
          </p:cNvCxnSpPr>
          <p:nvPr/>
        </p:nvCxnSpPr>
        <p:spPr>
          <a:xfrm flipH="1" rot="16200000">
            <a:off x="6457680" y="3613680"/>
            <a:ext cx="697680" cy="562680"/>
          </a:xfrm>
          <a:prstGeom prst="bentConnector3">
            <a:avLst>
              <a:gd name="adj1" fmla="val 4987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2" idx="2"/>
          </p:cNvCxnSpPr>
          <p:nvPr/>
        </p:nvCxnSpPr>
        <p:spPr>
          <a:xfrm flipH="1" rot="16200000">
            <a:off x="7057080" y="3015000"/>
            <a:ext cx="697680" cy="1759680"/>
          </a:xfrm>
          <a:prstGeom prst="bentConnector3">
            <a:avLst>
              <a:gd name="adj1" fmla="val 4987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5" idx="2"/>
            <a:endCxn id="89" idx="0"/>
          </p:cNvCxnSpPr>
          <p:nvPr/>
        </p:nvCxnSpPr>
        <p:spPr>
          <a:xfrm rot="5400000">
            <a:off x="3051000" y="1394280"/>
            <a:ext cx="564480" cy="2242440"/>
          </a:xfrm>
          <a:prstGeom prst="bentConnector3">
            <a:avLst>
              <a:gd name="adj1" fmla="val 4984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95" idx="2"/>
            <a:endCxn id="92" idx="0"/>
          </p:cNvCxnSpPr>
          <p:nvPr/>
        </p:nvCxnSpPr>
        <p:spPr>
          <a:xfrm flipH="1" rot="16200000">
            <a:off x="5208480" y="1479600"/>
            <a:ext cx="564480" cy="2071800"/>
          </a:xfrm>
          <a:prstGeom prst="bentConnector3">
            <a:avLst>
              <a:gd name="adj1" fmla="val 49840"/>
            </a:avLst>
          </a:prstGeom>
          <a:ln w="9360">
            <a:solidFill>
              <a:srgbClr val="808080"/>
            </a:solidFill>
            <a:miter/>
            <a:tailEnd len="med" type="triangle" w="med"/>
          </a:ln>
        </p:spPr>
      </p:cxnSp>
      <p:grpSp>
        <p:nvGrpSpPr>
          <p:cNvPr id="105" name=""/>
          <p:cNvGrpSpPr/>
          <p:nvPr/>
        </p:nvGrpSpPr>
        <p:grpSpPr>
          <a:xfrm>
            <a:off x="609480" y="4245120"/>
            <a:ext cx="806400" cy="1898280"/>
            <a:chOff x="609480" y="4245120"/>
            <a:chExt cx="806400" cy="1898280"/>
          </a:xfrm>
        </p:grpSpPr>
        <p:sp>
          <p:nvSpPr>
            <p:cNvPr id="106" name=""/>
            <p:cNvSpPr/>
            <p:nvPr/>
          </p:nvSpPr>
          <p:spPr>
            <a:xfrm>
              <a:off x="68184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948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d8eebb"/>
                </a:gs>
                <a:gs pos="50000">
                  <a:srgbClr val="99d549"/>
                </a:gs>
                <a:gs pos="100000">
                  <a:srgbClr val="d8eeb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828800" y="4245120"/>
            <a:ext cx="806400" cy="1898280"/>
            <a:chOff x="1828800" y="4245120"/>
            <a:chExt cx="806400" cy="1898280"/>
          </a:xfrm>
        </p:grpSpPr>
        <p:sp>
          <p:nvSpPr>
            <p:cNvPr id="109" name=""/>
            <p:cNvSpPr/>
            <p:nvPr/>
          </p:nvSpPr>
          <p:spPr>
            <a:xfrm>
              <a:off x="190116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2880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d8eebb"/>
                </a:gs>
                <a:gs pos="50000">
                  <a:srgbClr val="99d549"/>
                </a:gs>
                <a:gs pos="100000">
                  <a:srgbClr val="d8eeb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971800" y="4245120"/>
            <a:ext cx="806400" cy="1898280"/>
            <a:chOff x="2971800" y="4245120"/>
            <a:chExt cx="806400" cy="1898280"/>
          </a:xfrm>
        </p:grpSpPr>
        <p:sp>
          <p:nvSpPr>
            <p:cNvPr id="112" name=""/>
            <p:cNvSpPr/>
            <p:nvPr/>
          </p:nvSpPr>
          <p:spPr>
            <a:xfrm>
              <a:off x="304416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7180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d8eebb"/>
                </a:gs>
                <a:gs pos="50000">
                  <a:srgbClr val="99d549"/>
                </a:gs>
                <a:gs pos="100000">
                  <a:srgbClr val="d8eeb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5486400" y="4245120"/>
            <a:ext cx="806400" cy="1898280"/>
            <a:chOff x="5486400" y="4245120"/>
            <a:chExt cx="806400" cy="1898280"/>
          </a:xfrm>
        </p:grpSpPr>
        <p:sp>
          <p:nvSpPr>
            <p:cNvPr id="115" name=""/>
            <p:cNvSpPr/>
            <p:nvPr/>
          </p:nvSpPr>
          <p:spPr>
            <a:xfrm>
              <a:off x="555876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c6ebfe"/>
                </a:gs>
                <a:gs pos="50000">
                  <a:srgbClr val="66ccff"/>
                </a:gs>
                <a:gs pos="100000">
                  <a:srgbClr val="c6eb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6661080" y="4245120"/>
            <a:ext cx="806400" cy="1898280"/>
            <a:chOff x="6661080" y="4245120"/>
            <a:chExt cx="806400" cy="1898280"/>
          </a:xfrm>
        </p:grpSpPr>
        <p:sp>
          <p:nvSpPr>
            <p:cNvPr id="118" name=""/>
            <p:cNvSpPr/>
            <p:nvPr/>
          </p:nvSpPr>
          <p:spPr>
            <a:xfrm>
              <a:off x="673344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66108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c6ebfe"/>
                </a:gs>
                <a:gs pos="50000">
                  <a:srgbClr val="66ccff"/>
                </a:gs>
                <a:gs pos="100000">
                  <a:srgbClr val="c6eb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7848720" y="4245120"/>
            <a:ext cx="806400" cy="1898280"/>
            <a:chOff x="7848720" y="4245120"/>
            <a:chExt cx="806400" cy="1898280"/>
          </a:xfrm>
        </p:grpSpPr>
        <p:sp>
          <p:nvSpPr>
            <p:cNvPr id="121" name=""/>
            <p:cNvSpPr/>
            <p:nvPr/>
          </p:nvSpPr>
          <p:spPr>
            <a:xfrm>
              <a:off x="7921080" y="6001560"/>
              <a:ext cx="661320" cy="141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48720" y="4245120"/>
              <a:ext cx="806400" cy="1842120"/>
            </a:xfrm>
            <a:prstGeom prst="rect">
              <a:avLst/>
            </a:prstGeom>
            <a:gradFill rotWithShape="0">
              <a:gsLst>
                <a:gs pos="0">
                  <a:srgbClr val="c6ebfe"/>
                </a:gs>
                <a:gs pos="50000">
                  <a:srgbClr val="66ccff"/>
                </a:gs>
                <a:gs pos="100000">
                  <a:srgbClr val="c6eb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04920" y="60958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5f4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EBE-3124-4A4D-81C8-0984AE59D0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3:51:36Z</dcterms:modified>
  <cp:revision>9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