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3D4-23B5-4B51-8808-A79AD3F5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70D-9A70-441E-8EA3-4E37D7F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76D-147D-4BA7-B47D-4F961B58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4F1-D122-4E1A-B584-25BCFA3E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65D-861C-4831-9508-7ED54045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7E0-87F1-444A-8C39-5622AD56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7A5-7954-4802-910B-5DCF215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C15-D05D-4479-86D7-AE892BCC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345-7057-4E6D-8903-0136544F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D8F-F7C5-4A97-8FA8-CA24156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B6B-DDAD-4EC6-89CA-4050D42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F95-FDAE-4091-A075-5F93829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03F-1C46-4F46-B82A-6FF9D9D0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"/>
          <p:cNvSpPr/>
          <p:nvPr/>
        </p:nvSpPr>
        <p:spPr>
          <a:xfrm>
            <a:off x="1873080" y="728640"/>
            <a:ext cx="5399280" cy="5399280"/>
          </a:xfrm>
          <a:prstGeom prst="blockArc">
            <a:avLst>
              <a:gd name="adj1" fmla="val 11976980"/>
              <a:gd name="adj2" fmla="val 20423020"/>
              <a:gd name="adj3" fmla="val 24296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854360" y="706320"/>
            <a:ext cx="5435280" cy="5445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1990800" y="2424240"/>
            <a:ext cx="5162400" cy="2009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35640" y="3392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323240" y="2486520"/>
            <a:ext cx="498960" cy="1886040"/>
            <a:chOff x="4323240" y="2486520"/>
            <a:chExt cx="498960" cy="1886040"/>
          </a:xfrm>
        </p:grpSpPr>
        <p:grpSp>
          <p:nvGrpSpPr>
            <p:cNvPr id="56" name=""/>
            <p:cNvGrpSpPr/>
            <p:nvPr/>
          </p:nvGrpSpPr>
          <p:grpSpPr>
            <a:xfrm>
              <a:off x="4323240" y="3429000"/>
              <a:ext cx="342720" cy="943560"/>
              <a:chOff x="4323240" y="3429000"/>
              <a:chExt cx="342720" cy="943560"/>
            </a:xfrm>
          </p:grpSpPr>
          <p:sp>
            <p:nvSpPr>
              <p:cNvPr id="57" name=""/>
              <p:cNvSpPr/>
              <p:nvPr/>
            </p:nvSpPr>
            <p:spPr>
              <a:xfrm flipH="1">
                <a:off x="4523760" y="3429000"/>
                <a:ext cx="49680" cy="2829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332960" y="3677760"/>
                <a:ext cx="333000" cy="332640"/>
                <a:chOff x="4332960" y="3677760"/>
                <a:chExt cx="333000" cy="332640"/>
              </a:xfrm>
            </p:grpSpPr>
            <p:sp>
              <p:nvSpPr>
                <p:cNvPr id="59" name=""/>
                <p:cNvSpPr/>
                <p:nvPr/>
              </p:nvSpPr>
              <p:spPr>
                <a:xfrm rot="600000">
                  <a:off x="4355640" y="3700440"/>
                  <a:ext cx="287280" cy="28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600000">
                  <a:off x="4464000" y="3807000"/>
                  <a:ext cx="730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fefe">
                        <a:alpha val="8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323240" y="3954600"/>
                <a:ext cx="266760" cy="266400"/>
                <a:chOff x="4323240" y="3954600"/>
                <a:chExt cx="266760" cy="266400"/>
              </a:xfrm>
            </p:grpSpPr>
            <p:sp>
              <p:nvSpPr>
                <p:cNvPr id="62" name=""/>
                <p:cNvSpPr/>
                <p:nvPr/>
              </p:nvSpPr>
              <p:spPr>
                <a:xfrm rot="600000">
                  <a:off x="4341240" y="3972600"/>
                  <a:ext cx="230400" cy="23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600000">
                  <a:off x="4427640" y="4057560"/>
                  <a:ext cx="5832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fefe">
                        <a:alpha val="8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324320" y="4172400"/>
                <a:ext cx="200160" cy="200160"/>
                <a:chOff x="4324320" y="4172400"/>
                <a:chExt cx="200160" cy="200160"/>
              </a:xfrm>
            </p:grpSpPr>
            <p:sp>
              <p:nvSpPr>
                <p:cNvPr id="65" name=""/>
                <p:cNvSpPr/>
                <p:nvPr/>
              </p:nvSpPr>
              <p:spPr>
                <a:xfrm rot="600000">
                  <a:off x="4337640" y="4186080"/>
                  <a:ext cx="17280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600000">
                  <a:off x="4402440" y="4249440"/>
                  <a:ext cx="43920" cy="4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fefe">
                        <a:alpha val="8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" name=""/>
            <p:cNvGrpSpPr/>
            <p:nvPr/>
          </p:nvGrpSpPr>
          <p:grpSpPr>
            <a:xfrm>
              <a:off x="4479480" y="2486520"/>
              <a:ext cx="342720" cy="943560"/>
              <a:chOff x="4479480" y="2486520"/>
              <a:chExt cx="342720" cy="94356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4573440" y="3147120"/>
                <a:ext cx="49680" cy="28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4479480" y="2848680"/>
                <a:ext cx="333000" cy="332640"/>
                <a:chOff x="4479480" y="2848680"/>
                <a:chExt cx="333000" cy="332640"/>
              </a:xfrm>
            </p:grpSpPr>
            <p:sp>
              <p:nvSpPr>
                <p:cNvPr id="70" name=""/>
                <p:cNvSpPr/>
                <p:nvPr/>
              </p:nvSpPr>
              <p:spPr>
                <a:xfrm flipV="1" rot="600000">
                  <a:off x="4502160" y="2871360"/>
                  <a:ext cx="287280" cy="2872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 rot="600000">
                  <a:off x="4610160" y="2978640"/>
                  <a:ext cx="73080" cy="730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555440" y="2638080"/>
                <a:ext cx="266760" cy="266400"/>
                <a:chOff x="4555440" y="2638080"/>
                <a:chExt cx="266760" cy="266400"/>
              </a:xfrm>
            </p:grpSpPr>
            <p:sp>
              <p:nvSpPr>
                <p:cNvPr id="73" name=""/>
                <p:cNvSpPr/>
                <p:nvPr/>
              </p:nvSpPr>
              <p:spPr>
                <a:xfrm flipV="1" rot="600000">
                  <a:off x="4573440" y="2656080"/>
                  <a:ext cx="230400" cy="230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 rot="600000">
                  <a:off x="4659480" y="2742480"/>
                  <a:ext cx="58320" cy="58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621320" y="2486520"/>
                <a:ext cx="200160" cy="200160"/>
                <a:chOff x="4621320" y="2486520"/>
                <a:chExt cx="200160" cy="200160"/>
              </a:xfrm>
            </p:grpSpPr>
            <p:sp>
              <p:nvSpPr>
                <p:cNvPr id="76" name=""/>
                <p:cNvSpPr/>
                <p:nvPr/>
              </p:nvSpPr>
              <p:spPr>
                <a:xfrm flipV="1" rot="600000">
                  <a:off x="4635000" y="2499840"/>
                  <a:ext cx="172800" cy="172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 rot="600000">
                  <a:off x="4699440" y="2565000"/>
                  <a:ext cx="43920" cy="43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" name=""/>
          <p:cNvSpPr/>
          <p:nvPr/>
        </p:nvSpPr>
        <p:spPr>
          <a:xfrm>
            <a:off x="1835280" y="115920"/>
            <a:ext cx="59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9920" y="765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扇子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84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800000">
                                      <p:cBhvr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199819">
                                      <p:cBhvr>
                                        <p:cTn id="2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746-30FA-4352-9100-A806AF2E5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09:0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28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