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603-47BB-4D95-B315-833A572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41D-CA2A-4ED4-B87F-FADFA0A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D55-2E03-415A-9F8E-F02FBB76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867-DE83-47FB-889D-11CF56D1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261-29C1-4232-8BC7-535437D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321-38AA-4FDD-8DF1-572414E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233-FD9D-4260-BE18-DB5FE71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0ED-747C-4E5D-8B7C-4E6CBF3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BAE-FB6F-4D7C-AE6E-65113D9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F3D-8458-4846-AFDF-05A9BE5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EFF-C41C-463D-BC25-5BACDB5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000-1CC1-4C91-9EE7-DC09869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124-A4BF-401C-A4ED-961E6C15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hyperlink" Target="264,4,&#21548;&#21548;&#65292; &#31179;&#30340;&#22768;&#38899;&#65292; &#22823;&#26641;&#25238;&#25238;&#25163;&#33218;&#65292; &#8220;&#21047;&#21047;&#8221;&#65292; &#26159;&#40644;&#21494;&#36947;&#21035;&#30340;&#35805;&#38899;&#12290;" TargetMode="External"/><Relationship Id="rId6" Type="http://schemas.openxmlformats.org/officeDocument/2006/relationships/hyperlink" Target="265,5,&#21548;&#21548;&#65292; &#31179;&#30340;&#22768;&#38899;&#65292; &#34763;&#34752;&#25391;&#21160;&#32709;&#33152;&#65292; " TargetMode="External"/><Relationship Id="rId7" Type="http://schemas.openxmlformats.org/officeDocument/2006/relationships/hyperlink" Target="266,6,&#24187;&#28783;&#29255; 6" TargetMode="External"/><Relationship Id="rId8" Type="http://schemas.openxmlformats.org/officeDocument/2006/relationships/hyperlink" Target="267,7,&#24187;&#28783;&#29255; 7" TargetMode="External"/><Relationship Id="rId9" Type="http://schemas.openxmlformats.org/officeDocument/2006/relationships/hyperlink" Target="268,8,&#24187;&#28783;&#29255; 8" TargetMode="External"/><Relationship Id="rId10" Type="http://schemas.openxmlformats.org/officeDocument/2006/relationships/hyperlink" Target="269,9,&#24187;&#28783;&#29255; 9" TargetMode="External"/><Relationship Id="rId11" Type="http://schemas.openxmlformats.org/officeDocument/2006/relationships/hyperlink" Target="271,10,&#24187;&#28783;&#29255; 10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70,3,&#24187;&#28783;&#29255; 3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areyes.com.cn/2/lib/200307/30/004/22.jpg&amp;imgrefurl=http://www.beareyes.com.cn/2/lib/200307/30/20030730004.htm&amp;h=624&amp;w=960&amp;sz=418&amp;tbnid=uIe5CKjmPowJ:&amp;tbnh=95&amp;tbnw=147&amp;hl=zh-CN&amp;start=3&amp;prev=/images%3Fq%3D%25E8%259F%258B%25E8%259F%2580%26svnum%3D10%26hl%3Dzh-CN%26lr%3D%26newwindow%3D1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270,3,&#24187;&#28783;&#29255; 3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b.xinhuanet.com/zhuanti/2005-03/17/xin_260302171557343106262.jpg&amp;imgrefurl=http://www.hb.xinhuanet.com/zhuanti/2005-03/17/content_3895279.htm&amp;h=300&amp;w=400&amp;sz=24&amp;tbnid=PX-TPH1uE-sJ:&amp;tbnh=90&amp;tbnw=120&amp;hl=zh-CN&amp;start=11&amp;prev=/images%3Fq%3D%25E5%25A4%25A7%25E9%259B%2581%26svnum%3D10%26hl%3Dzh-CN%26lr%3D%26newwindow%3D1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b.xinhuanet.com/zhuanti/2005-03/17/xin_260302171557343106262.jpg&amp;imgrefurl=http://www.hb.xinhuanet.com/zhuanti/2005-03/17/content_3895279.htm&amp;h=300&amp;w=400&amp;sz=24&amp;tbnid=PX-TPH1uE-sJ:&amp;tbnh=90&amp;tbnw=120&amp;hl=zh-CN&amp;start=11&amp;prev=/images%3Fq%3D%25E5%25A4%25A7%25E9%259B%2581%26svnum%3D10%26hl%3Dzh-CN%26lr%3D%26newwindow%3D1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270,3,&#24187;&#28783;&#29255; 3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70,3,&#24187;&#28783;&#29255; 3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70,3,&#24187;&#28783;&#29255; 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70,3,&#24187;&#28783;&#29255; 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3" descr="F:\ppt\630a\小学三年级上册语文第十二课听听，秋的声音PPT课件2\2014-6-30 15-21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1258920" y="1052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听听，秋的声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78136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185-55DC-4854-9F08-836DD850BF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海之女神.mp3" descr=""/>
          <p:cNvPicPr/>
          <p:nvPr/>
        </p:nvPicPr>
        <p:blipFill>
          <a:blip r:embed="rId2"/>
          <a:stretch/>
        </p:blipFill>
        <p:spPr>
          <a:xfrm>
            <a:off x="853272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5720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大树抖抖手臂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刷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，是黄叶道别的声音，黄叶说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3520" y="259092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蟋蟀振动翅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口瞿口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，是和阳台告别的歌韵，蟋蟀在唱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11280" y="49370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排排大雁追上白云，撒下一阵暖暖的叮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826920" y="2421000"/>
            <a:ext cx="46483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447920" y="4419720"/>
            <a:ext cx="434340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6680" y="6705720"/>
            <a:ext cx="403884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3898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09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752480" y="20574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华文彩云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彩云"/>
              </a:rPr>
              <a:t>小诗人园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685800" y="83664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华文行楷"/>
                <a:ea typeface="华文行楷"/>
              </a:rPr>
              <a:t>阅读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华文行楷"/>
                <a:ea typeface="华文行楷"/>
              </a:rPr>
              <a:t>       </a:t>
            </a:r>
            <a:r>
              <a:rPr b="0" lang="zh-CN" sz="4400" spc="-1" strike="noStrike">
                <a:solidFill>
                  <a:srgbClr val="00ff00"/>
                </a:solidFill>
                <a:latin typeface="华文行楷"/>
                <a:ea typeface="华文行楷"/>
              </a:rPr>
              <a:t>秋天，不仅有丰富的色彩，还有美妙的声音。让我们有感情地朗读这首诗，一边读，一边展开想象，把读后的体会和同学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5516640"/>
            <a:ext cx="19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63640" y="55897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771640" y="5589720"/>
            <a:ext cx="151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708360" y="5589720"/>
            <a:ext cx="1152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572000" y="5661000"/>
            <a:ext cx="1150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651640" y="5661000"/>
            <a:ext cx="1655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659640" y="5661000"/>
            <a:ext cx="1511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2835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9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560" y="764640"/>
            <a:ext cx="900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听听，</a:t>
            </a:r>
            <a:br>
              <a:rPr sz="5400"/>
            </a:b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秋的声音，</a:t>
            </a:r>
            <a:br>
              <a:rPr sz="5400"/>
            </a:b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大树抖抖手臂，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“刷刷”，</a:t>
            </a:r>
            <a:br>
              <a:rPr sz="5400"/>
            </a:b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是黄叶道别的话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236000" y="586728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0"/>
            <a:ext cx="106092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听听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秋的声音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蟋蟀振动翅膀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56000" y="3500280"/>
            <a:ext cx="485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口瞿口瞿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87280" y="436572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是和阳台告别的歌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812000" y="5877000"/>
            <a:ext cx="13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xin_260302171557343106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765000"/>
            <a:ext cx="9144000" cy="72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ff"/>
                </a:solidFill>
                <a:latin typeface="Arial"/>
                <a:ea typeface="隶书"/>
              </a:rPr>
              <a:t>一排排大雁追上白云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ff"/>
                </a:solidFill>
                <a:latin typeface="Arial"/>
                <a:ea typeface="隶书"/>
              </a:rPr>
              <a:t>撒下一阵暖暖的叮咛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ff"/>
                </a:solidFill>
                <a:latin typeface="Arial"/>
                <a:ea typeface="隶书"/>
              </a:rPr>
              <a:t>一阵阵秋风掠过田野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ff"/>
                </a:solidFill>
                <a:latin typeface="Arial"/>
                <a:ea typeface="隶书"/>
              </a:rPr>
              <a:t>送来一片丰收的歌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xin_260302171557343106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5520" y="4608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7308720" y="5805360"/>
            <a:ext cx="144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0529175133180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404640"/>
            <a:ext cx="982836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听听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走进秋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走进这辽阔的音乐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你好好地去听秋的声音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093080" y="609300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948360" y="5734080"/>
            <a:ext cx="12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照片 024"/>
          <p:cNvPicPr/>
          <p:nvPr/>
        </p:nvPicPr>
        <p:blipFill>
          <a:blip r:embed="rId1"/>
          <a:stretch/>
        </p:blipFill>
        <p:spPr>
          <a:xfrm>
            <a:off x="-147600" y="-3340080"/>
            <a:ext cx="9291600" cy="10198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0"/>
            <a:ext cx="87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秋的声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片叶子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朵小花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滴汗水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颗绽开的谷粒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443640" y="5805360"/>
            <a:ext cx="1873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4501155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95280" y="0"/>
            <a:ext cx="79930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秋的声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从远方匆匆地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向远方匆匆地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们听到了秋的声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948360" y="5734080"/>
            <a:ext cx="16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9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南十字星.mp3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0" y="122400"/>
            <a:ext cx="9144000" cy="68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</a:t>
            </a:r>
            <a:r>
              <a:rPr b="1" lang="en-US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12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、  听听，秋的声音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听听，                                         听听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秋的声音，                                 走进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大树抖抖手臂，                         走进这辽阔的音乐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刷刷</a:t>
            </a:r>
            <a:r>
              <a:rPr b="1" lang="zh-CN" sz="2800" spc="-1" strike="noStrike">
                <a:solidFill>
                  <a:srgbClr val="cc99ff"/>
                </a:solidFill>
                <a:latin typeface="Arial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，                                     你好好地去听秋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是黄叶道别的话音。                 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听听，                                          在每一片叶子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秋的声音，                                  在每一朵小花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蟋蟀振动翅膀，                          在每一滴汗水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口瞿口瞿</a:t>
            </a:r>
            <a:r>
              <a:rPr b="1" lang="zh-CN" sz="2800" spc="-1" strike="noStrike">
                <a:solidFill>
                  <a:srgbClr val="cc99ff"/>
                </a:solidFill>
                <a:latin typeface="Arial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，                             在每一颗绽开的谷粒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是和阳台告别的歌韵。             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一排排大雁追上白云，             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撒下一阵暖暖的叮咛；             从远方匆匆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一阵阵秋风掠过田野，             向远方匆匆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送来一片丰收的歌吟。             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cc99ff"/>
                </a:solidFill>
                <a:latin typeface="华文行楷"/>
                <a:ea typeface="华文行楷"/>
              </a:rPr>
              <a:t>我们听到了秋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2247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3:25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33:16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