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BE2-D6F9-4E65-81D3-CD4030973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440-6F4D-4410-9DBB-4F8CF579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4E5D-D633-4832-A5E5-47E14C7DE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A48-5896-4B30-929B-172C2B78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18D1A-9D30-41DE-8DF5-53DDA376D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1DC8B-A0BF-46CE-98A2-B43DF75B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7E18-3102-428B-AD8A-76CC444D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DAB5-EE22-4E79-A092-58AA0645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0FB1-50AB-476B-9EED-A39DB9EB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88D54-2302-4F51-95AA-445FFBFF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A93F0-9491-4679-9CDC-82395ED6B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EFD-EFF1-41E9-A2B8-39CFAF76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8DFA-B606-4B33-980B-5659AC3F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1DE8B-8D09-4D82-A803-A9FD4952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3CEE-A035-445F-A792-EE1E5771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845A-A04D-4E10-B24E-7AC9C6F6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009A-9F6C-4E18-A1D7-A1FD152E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5D968-87DF-4CEB-BB6E-BCE9E755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C795-0EC4-48F2-945E-AFBDFB0E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AC537-606B-4C34-8C58-D958D51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4ABD6-CFD6-4351-9ABC-AC91E3DD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1267-6D8E-4008-824E-2C8D4DC7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3D35-EDB2-4689-A36E-3876CD15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0A243-522A-4ECB-8578-A7B0FCED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E29EE-23E9-4B3F-976D-31FCDCC6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4FCDA-4F50-44E6-AEC7-E453181C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45FAF-A500-4815-AB06-96FE92B0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663C0-5EAA-4141-A456-C3349CCF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545BB-DD2E-495C-A92B-70669005D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0B794-8F37-432D-B9B4-31D50AFB1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01A-AE8B-4499-958C-6F1C2BD17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EAA4-28E9-4AA2-9540-163259BE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DFE0-09CE-42EF-B273-BC26B5A6A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0DD-B9DA-4B74-881D-C34EE8604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263A-F033-495A-9B67-42C4305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4C39-46B1-4A41-B86B-477C0036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2C63-5305-4582-9F8D-B08E7AA8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21F0-1BF7-4E11-B4DD-486ECD1A2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CA8F-6C48-41E7-A90D-8466035622D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kayoh-tech.co.jp/image/shikishi_m5660.jpg"/>
          <p:cNvPicPr/>
          <p:nvPr/>
        </p:nvPicPr>
        <p:blipFill>
          <a:blip r:embed="rId1"/>
          <a:srcRect l="1389" t="1323" r="888" b="1383"/>
          <a:stretch/>
        </p:blipFill>
        <p:spPr>
          <a:xfrm>
            <a:off x="-36360" y="44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27332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826920" y="1413000"/>
            <a:ext cx="7142400" cy="109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600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 rot="5400000">
            <a:off x="4175280" y="1161000"/>
            <a:ext cx="1224000" cy="1584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56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辱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5867280" y="551412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战国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35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51880" y="6922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唐雎不辱使命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468360" y="0"/>
            <a:ext cx="8077320" cy="60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3635280" y="907920"/>
            <a:ext cx="287280" cy="113040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4"/>
          <p:cNvSpPr/>
          <p:nvPr/>
        </p:nvSpPr>
        <p:spPr>
          <a:xfrm>
            <a:off x="3635280" y="2492280"/>
            <a:ext cx="360360" cy="11304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3708360" y="4149720"/>
            <a:ext cx="360360" cy="1079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4211640" y="765000"/>
            <a:ext cx="37450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骄横狂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不卑不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140360" y="2492280"/>
            <a:ext cx="29718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盛气凌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义正辞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211640" y="4005360"/>
            <a:ext cx="3809880" cy="13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子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布衣之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4643280" y="573408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前倨后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250920" y="112536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一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1835280" y="2637000"/>
            <a:ext cx="30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二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1908000" y="443700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三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24000" y="573408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四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4"/>
          <p:cNvSpPr/>
          <p:nvPr/>
        </p:nvSpPr>
        <p:spPr>
          <a:xfrm>
            <a:off x="1476360" y="2997360"/>
            <a:ext cx="289080" cy="1800000"/>
          </a:xfrm>
          <a:custGeom>
            <a:avLst/>
            <a:gdLst>
              <a:gd name="textAreaLeft" fmla="*/ 184680 w 289080"/>
              <a:gd name="textAreaRight" fmla="*/ 289080 w 28908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2340000" y="1052640"/>
            <a:ext cx="18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原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684360" y="314172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经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556000" y="5734080"/>
            <a:ext cx="194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楷体_GB2312"/>
              </a:rPr>
              <a:t>结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6588000" y="4292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针锋相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68360" y="1989000"/>
            <a:ext cx="813600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对于文中的主要人物，你如何评价或持何种态度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324000" y="1783080"/>
            <a:ext cx="84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运用了哪些刻画人物的方法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461400" y="2637000"/>
            <a:ext cx="334908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4052520" y="3573360"/>
            <a:ext cx="69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动作描写、语言描写、神态描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250920" y="26028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找出文中典型的描写，示范朗读，从中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以看出秦王和唐雎各是什么样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395280" y="3357720"/>
            <a:ext cx="22320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692360" y="2565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神态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92360" y="400536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语言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1619280" y="522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动作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1187280" y="2781360"/>
            <a:ext cx="360360" cy="3097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80640 h 3097080"/>
              <a:gd name="textAreaBottom" fmla="*/ 3016440 h 30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4211640" y="2133720"/>
            <a:ext cx="446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不悦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秦王色挠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4284720" y="530064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谢之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2"/>
          <p:cNvSpPr/>
          <p:nvPr/>
        </p:nvSpPr>
        <p:spPr>
          <a:xfrm>
            <a:off x="250920" y="69228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秦王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468360" y="386064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050920" y="3213000"/>
            <a:ext cx="66294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贪得无厌、奸诈狡猾，外强中干、骄横狂暴、色厉内荏的封建统治者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3352680" y="15238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节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"/>
          <p:cNvSpPr/>
          <p:nvPr/>
        </p:nvSpPr>
        <p:spPr>
          <a:xfrm>
            <a:off x="3348000" y="1844640"/>
            <a:ext cx="304920" cy="289548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-835200" y="1676520"/>
            <a:ext cx="3472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059280" y="2852640"/>
            <a:ext cx="546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据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492360" y="407664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言之有“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力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95280" y="2492280"/>
            <a:ext cx="30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唐雎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说话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50920" y="476280"/>
            <a:ext cx="8424720" cy="21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是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言辞委婉，言之有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要求以五百里之地易安陵，实是强占。当遭到安陵君拒绝后，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不悦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于是面对唐雎露出威胁之意，并盛气凌人地责备安陵君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轻寡人</a:t>
            </a:r>
            <a:r>
              <a:rPr b="1" lang="zh-CN" sz="3200" spc="-1" strike="noStrike">
                <a:solidFill>
                  <a:srgbClr val="0000ff"/>
                </a:solidFill>
                <a:latin typeface="Tahoma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对此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先用屈从的口吻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说：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否，非若是也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回答，既缓和了秦王以强凌弱的气势，使会谈能够继续下去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又强调了不肯易地的原因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容地说明安陵君不肯易地是因为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受地于先王而守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并非故意违背秦王的意愿。回答得委婉，言之有理，言之有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965160" y="681192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250920" y="404640"/>
            <a:ext cx="849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字，含义丰富；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既说明愿忠于先王的遗业，维护国家主权和领土的完整，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易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；又表明安陵国并无扩张之意，倒有御敌之心，这不仅婉言拒绝了秦王的易地要求，还暗暗告诫秦王不要轻举妄动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虽千里不敢易也，岂直五百里哉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?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问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十分有力，表明安陵国非但不想易地，而且根本不愿意易地。因为安陵君明白秦王真正目的。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守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一种坚持正义，不畏强暴的具体表现，显示出安陵国土的神圣不可侵犯。由于唐雎言之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节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从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道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方面暗示了秦王的不义，触犯了他的尊严，难怪他要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怫然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了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0920" y="549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    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针锋相对、言之有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秦王见诈骗不行，便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百万，流血千里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所谓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威胁。唐雎正气凛然，针锋相对，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伏尸二人，流血五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进行回击。在这场围绕天子与布衣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交锋中，唐服很快就由被动而变为主动。当秦王鄙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布衣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，唐雎立即驳斥：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此庸夫之怒也，非士之怒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提醒秦王正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179280" y="47628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接着用语势强烈的排比句，列举专诸刺王僚、聂政刺韩傀、要离刺庆忌的史实，对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加以渲染说明。这三个史实，直刺贪生怕死的秦王心窝；警告秦王吸取历史教训，不要自蹈死地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但是，这些有根有据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士之怒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毕竟是历史上的事，已经过去了，它对秦王虽有所触动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威胁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但还不足以使利令智昏的秦王幡然悔悟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于是，唐雎又逼近一步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此三子者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与臣而将四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这是暗示他将效法三人，刺杀秦王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样就把血淋淋的史实，变成对秦王的直接威胁，迫使秦王不得不考虑自己的危急处境。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-188280" y="1341360"/>
            <a:ext cx="17344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唐雎不</a:t>
            </a:r>
            <a:r>
              <a:rPr b="1" lang="zh-CN" sz="5400" spc="-1" strike="noStrike">
                <a:solidFill>
                  <a:srgbClr val="800000"/>
                </a:solidFill>
                <a:latin typeface="Arial"/>
                <a:ea typeface="华文行楷"/>
              </a:rPr>
              <a:t>辱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使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979640" y="3284640"/>
            <a:ext cx="1657440" cy="215640"/>
          </a:xfrm>
          <a:custGeom>
            <a:avLst/>
            <a:gdLst>
              <a:gd name="textAreaLeft" fmla="*/ 207000 w 1657440"/>
              <a:gd name="textAreaRight" fmla="*/ 1450440 w 165744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3170160" y="465300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完成了出使的任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700360" y="189000"/>
            <a:ext cx="3744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      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053960" y="2060640"/>
            <a:ext cx="165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5095800" y="2924280"/>
            <a:ext cx="116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辱没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辜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28600" y="685800"/>
            <a:ext cx="84470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三是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巧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以行征言，言之有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力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上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倘若唐雎只用舌战，不辅以武力，秦王势必会存侥幸，绝不会轻易折服。为能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更富于慑敌的威力。唐雎辅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挺剑而起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这一义无反顾的行动，来证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欲刺秦王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这就从根本上彻底打破了秦王的一切幻想，迫使秦王不得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250920" y="90792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从这个故事可以看出唐雎是什么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24000" y="36450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唐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1763640" y="3284640"/>
            <a:ext cx="705816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从容镇定，不畏强暴，有胆有识、爱国忠君、机智勇敢、能言善辩具有凛然正气的外交家的形象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24000" y="260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阅读课文，分组讨论下列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08000" y="909720"/>
            <a:ext cx="856944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以五百里地易安陵的真正目的是什么 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出使秦国的原因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是怎样劝说秦王的？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说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具体内容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唐雎举专诸、聂政、要离等三个人物的目的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秦王最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跪而谢之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说明了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990720" y="38088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归纳各段的段意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304920" y="434880"/>
            <a:ext cx="2133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538956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代唐雎出使秦国的原因（背景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828800" y="2514600"/>
            <a:ext cx="7010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坚决抵制秦王的骗局，表现出维护国土的严正立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905120" y="3914640"/>
            <a:ext cx="685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以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士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反击秦王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5006880" y="5257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唐雎在这场斗争中取得了胜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心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775880" y="417600"/>
            <a:ext cx="388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你懂得了什么道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95280" y="191628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与人交往中，说话技巧起着很重要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平时要多锻炼自己的说话能力，培养自己的说话技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468360" y="2205000"/>
            <a:ext cx="820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在我们以后的写作过程中，可充分运用个性化的人物语言来凸现人物的性格特点，提高我们的写作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539640" y="549360"/>
            <a:ext cx="676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写作启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拓展延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95280" y="26028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知道哪些关于说话能力和技巧的名言警句？试列举一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468360" y="184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楷体_GB2312"/>
              </a:rPr>
              <a:t>荀子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口能言之，身能行之，国宝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1202400" y="2708280"/>
            <a:ext cx="522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刘勰：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人之辩胜于九鼎之宝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三寸之舌强于百万之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468360" y="414972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西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179280" y="54450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圣经</a:t>
            </a:r>
            <a:r>
              <a:rPr b="1" lang="en-US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2268360" y="53020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句话说得合宜，就如金苹果在银网子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8"/>
          <p:cNvSpPr/>
          <p:nvPr/>
        </p:nvSpPr>
        <p:spPr>
          <a:xfrm>
            <a:off x="1979640" y="4076640"/>
            <a:ext cx="69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世界的三大战略武器：口才、美元、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826920" y="2637000"/>
            <a:ext cx="77043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晏子：出使楚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蔺相如：完璧归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诸葛亮：舌战群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468360" y="549360"/>
            <a:ext cx="806436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还了解外交史上哪些出使他国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辱使命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人或故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324000" y="476280"/>
            <a:ext cx="82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战国时代国别体史书。原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事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策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短长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不同名号，共有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3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篇，分东周、西周、楚、赵、魏、韩、燕、宋、卫、中山十二策。是记载战国时期各国的策士（说客，又叫纵横家）的言论、活动的史书，以记言为主西汉成帝时，刘向将其整理编辑而成</a:t>
            </a: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971640" y="1268280"/>
            <a:ext cx="180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积累字词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395280" y="4046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通假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755640" y="220500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故不</a:t>
            </a:r>
            <a:r>
              <a:rPr b="1" lang="zh-CN" sz="48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错</a:t>
            </a: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意也。“错”通“措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55640" y="371628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仓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鹰击于殿上。“仓”通“苍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4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395280" y="333360"/>
            <a:ext cx="66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古今异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468360" y="1628640"/>
            <a:ext cx="8207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长跪而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谢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之　古义：道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　　　　　今义：感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324000" y="4005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唐雎不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使命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　古义：使：出使；命：任务　　　今义：重大的任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1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4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395280" y="260280"/>
            <a:ext cx="626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词类活用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95280" y="155736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请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广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于君（形容词用作动词，使动用法，“使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扩充”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95280" y="321300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轻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寡人与（形容词用作动词，意动用法，“认为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轻，小看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95280" y="494172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天下</a:t>
            </a:r>
            <a:r>
              <a:rPr b="1" lang="zh-CN" sz="4400" spc="-1" strike="noStrike" u="sng">
                <a:solidFill>
                  <a:srgbClr val="0000ff"/>
                </a:solidFill>
                <a:uFillTx/>
                <a:latin typeface="Times New Roman"/>
                <a:ea typeface="楷体_GB2312"/>
              </a:rPr>
              <a:t>缟素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（名词用作动词，穿丧服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468360" y="1341360"/>
            <a:ext cx="5472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不辱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人谓安陵君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安陵君因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唐雎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于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仓鹰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殿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受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使唐雎使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5651640" y="580536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到、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119240" y="47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395280" y="260280"/>
            <a:ext cx="58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一词多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>
            <a:off x="250920" y="1700280"/>
            <a:ext cx="217440" cy="1944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250920" y="4437000"/>
            <a:ext cx="217440" cy="1943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5857920" y="1197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5900040" y="2133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597132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971320" y="4797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5867280" y="3068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派、出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4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4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1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4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468360" y="62064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，受地于先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千里不敢易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250920" y="9079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4932360" y="549360"/>
            <a:ext cx="37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虽然，表转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5003640" y="148428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即使，表假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"/>
          <p:cNvSpPr/>
          <p:nvPr/>
        </p:nvSpPr>
        <p:spPr>
          <a:xfrm>
            <a:off x="468360" y="2637000"/>
            <a:ext cx="6985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免冠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跣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有先王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>
            <a:off x="250920" y="2924280"/>
            <a:ext cx="217440" cy="115236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4500720" y="2637000"/>
            <a:ext cx="352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光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9"/>
          <p:cNvSpPr/>
          <p:nvPr/>
        </p:nvSpPr>
        <p:spPr>
          <a:xfrm>
            <a:off x="4500720" y="3500280"/>
            <a:ext cx="34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只、仅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395280" y="4653000"/>
            <a:ext cx="7272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寡人欲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五百里之地易安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君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1"/>
          <p:cNvSpPr/>
          <p:nvPr/>
        </p:nvSpPr>
        <p:spPr>
          <a:xfrm>
            <a:off x="250920" y="4941720"/>
            <a:ext cx="217440" cy="1152720"/>
          </a:xfrm>
          <a:custGeom>
            <a:avLst/>
            <a:gdLst>
              <a:gd name="textAreaLeft" fmla="*/ 138960 w 217440"/>
              <a:gd name="textAreaRight" fmla="*/ 217800 w 2174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6948360" y="472428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用、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3419640" y="5589720"/>
            <a:ext cx="4609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把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当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4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4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1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4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4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4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50920" y="9810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468360" y="1700280"/>
            <a:ext cx="79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250920" y="31417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250920" y="3933720"/>
            <a:ext cx="889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是安陵君却违背我的意愿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轻视我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250920" y="479736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324000" y="544500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468360" y="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重点语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76a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测一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324000" y="44280"/>
            <a:ext cx="7776720" cy="6113160"/>
            <a:chOff x="324000" y="44280"/>
            <a:chExt cx="7776720" cy="6113160"/>
          </a:xfrm>
        </p:grpSpPr>
        <p:sp>
          <p:nvSpPr>
            <p:cNvPr id="288" name="Rectangle 3"/>
            <p:cNvSpPr/>
            <p:nvPr/>
          </p:nvSpPr>
          <p:spPr>
            <a:xfrm>
              <a:off x="324000" y="44280"/>
              <a:ext cx="7776720" cy="6113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 ）      韩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）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      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）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     ）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   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44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zh-CN" sz="44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44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4"/>
            <p:cNvSpPr/>
            <p:nvPr/>
          </p:nvSpPr>
          <p:spPr>
            <a:xfrm>
              <a:off x="1212480" y="14922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5"/>
            <p:cNvSpPr/>
            <p:nvPr/>
          </p:nvSpPr>
          <p:spPr>
            <a:xfrm>
              <a:off x="1212480" y="2178000"/>
              <a:ext cx="111240" cy="7596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6"/>
            <p:cNvSpPr/>
            <p:nvPr/>
          </p:nvSpPr>
          <p:spPr>
            <a:xfrm>
              <a:off x="1878840" y="29397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7"/>
            <p:cNvSpPr/>
            <p:nvPr/>
          </p:nvSpPr>
          <p:spPr>
            <a:xfrm>
              <a:off x="1212480" y="37018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8"/>
            <p:cNvSpPr/>
            <p:nvPr/>
          </p:nvSpPr>
          <p:spPr>
            <a:xfrm>
              <a:off x="1212480" y="431136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9"/>
            <p:cNvSpPr/>
            <p:nvPr/>
          </p:nvSpPr>
          <p:spPr>
            <a:xfrm>
              <a:off x="1212480" y="50734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10"/>
            <p:cNvSpPr/>
            <p:nvPr/>
          </p:nvSpPr>
          <p:spPr>
            <a:xfrm>
              <a:off x="1878840" y="5759280"/>
              <a:ext cx="111240" cy="763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50920" y="1341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战国末期，秦国先后灭掉了韩、魏等国，气势日炽。安陵国是魏国的附庸小国，秦国企图用诈骗手段不战而吞并安陵，安陵君于是派唐雎到秦国去谈判，唐雎在秦王面前，不畏强暴，以死相拼，终于没有辜负出使之命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556000" y="289080"/>
            <a:ext cx="3537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内容介绍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2209680" y="58672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2514600" y="530208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"/>
          <p:cNvSpPr/>
          <p:nvPr/>
        </p:nvSpPr>
        <p:spPr>
          <a:xfrm>
            <a:off x="2895480" y="4114800"/>
            <a:ext cx="184320" cy="64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解释下列加点的词，注意比较它们的词义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翻译下面的文言句子。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228600" y="548640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Group 2"/>
          <p:cNvGrpSpPr/>
          <p:nvPr/>
        </p:nvGrpSpPr>
        <p:grpSpPr>
          <a:xfrm>
            <a:off x="611280" y="549360"/>
            <a:ext cx="7776720" cy="5790600"/>
            <a:chOff x="611280" y="549360"/>
            <a:chExt cx="7776720" cy="5790600"/>
          </a:xfrm>
        </p:grpSpPr>
        <p:sp>
          <p:nvSpPr>
            <p:cNvPr id="320" name="Rectangle 3"/>
            <p:cNvSpPr/>
            <p:nvPr/>
          </p:nvSpPr>
          <p:spPr>
            <a:xfrm>
              <a:off x="611280" y="549360"/>
              <a:ext cx="7776720" cy="50860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读准下列加点字的音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逆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   韩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傀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uī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徒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跣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xiǎn 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抢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地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qiāng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缟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素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gǎ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庸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夫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yōng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色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挠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á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  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怫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然（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f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ú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休</a:t>
              </a:r>
              <a:r>
                <a:rPr b="1" lang="zh-CN" sz="3600" spc="-1" strike="noStrike" u="sng">
                  <a:solidFill>
                    <a:srgbClr val="3333ff"/>
                  </a:solidFill>
                  <a:uFillTx/>
                  <a:latin typeface="楷体_GB2312"/>
                  <a:ea typeface="楷体_GB2312"/>
                </a:rPr>
                <a:t>祲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（ 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j</a:t>
              </a:r>
              <a:r>
                <a:rPr b="1" lang="en-US" sz="36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ì</a:t>
              </a:r>
              <a:r>
                <a:rPr b="1" lang="en-US" sz="36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n </a:t>
              </a:r>
              <a:r>
                <a:rPr b="1" lang="zh-CN" sz="3600" spc="-1" strike="noStrike">
                  <a:solidFill>
                    <a:srgbClr val="3333ff"/>
                  </a:solidFill>
                  <a:latin typeface="楷体_GB2312"/>
                  <a:ea typeface="楷体_GB2312"/>
                </a:rPr>
                <a:t>）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4"/>
            <p:cNvSpPr/>
            <p:nvPr/>
          </p:nvSpPr>
          <p:spPr>
            <a:xfrm>
              <a:off x="1499760" y="1996920"/>
              <a:ext cx="111240" cy="7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5"/>
            <p:cNvSpPr/>
            <p:nvPr/>
          </p:nvSpPr>
          <p:spPr>
            <a:xfrm>
              <a:off x="1499760" y="2682720"/>
              <a:ext cx="111240" cy="7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"/>
            <p:cNvSpPr/>
            <p:nvPr/>
          </p:nvSpPr>
          <p:spPr>
            <a:xfrm>
              <a:off x="2166120" y="344448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7"/>
            <p:cNvSpPr/>
            <p:nvPr/>
          </p:nvSpPr>
          <p:spPr>
            <a:xfrm>
              <a:off x="1499760" y="420660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8"/>
            <p:cNvSpPr/>
            <p:nvPr/>
          </p:nvSpPr>
          <p:spPr>
            <a:xfrm>
              <a:off x="1499760" y="481608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9"/>
            <p:cNvSpPr/>
            <p:nvPr/>
          </p:nvSpPr>
          <p:spPr>
            <a:xfrm>
              <a:off x="1499760" y="557820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0"/>
            <p:cNvSpPr/>
            <p:nvPr/>
          </p:nvSpPr>
          <p:spPr>
            <a:xfrm>
              <a:off x="2166120" y="6264000"/>
              <a:ext cx="111240" cy="75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7a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0800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380880" y="304920"/>
            <a:ext cx="6934320" cy="579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重点掌握以下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易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加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弗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错意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55960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交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165560" y="1873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句中表希望的语气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399480" y="2590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给予恩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2469600" y="331956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2418840" y="4037040"/>
            <a:ext cx="388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yuè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悦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高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"/>
          <p:cNvSpPr/>
          <p:nvPr/>
        </p:nvSpPr>
        <p:spPr>
          <a:xfrm>
            <a:off x="2612520" y="4724280"/>
            <a:ext cx="1826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因而，于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9"/>
          <p:cNvSpPr/>
          <p:nvPr/>
        </p:nvSpPr>
        <p:spPr>
          <a:xfrm>
            <a:off x="4788000" y="5454720"/>
            <a:ext cx="1448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注意，放在心上。错，通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措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2"/>
          <p:cNvSpPr/>
          <p:nvPr/>
        </p:nvSpPr>
        <p:spPr>
          <a:xfrm>
            <a:off x="380880" y="533520"/>
            <a:ext cx="2667240" cy="60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免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庸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士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休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祲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缟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327480" y="685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摘掉帽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097080" y="14479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光着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2560680" y="22096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3091320" y="2971800"/>
            <a:ext cx="21009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庸无能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4862520" y="36576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这里指有才能有胆识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2438280" y="4419720"/>
            <a:ext cx="5410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吉凶的征兆。休，吉祥。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祲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不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"/>
          <p:cNvSpPr/>
          <p:nvPr/>
        </p:nvSpPr>
        <p:spPr>
          <a:xfrm>
            <a:off x="5322600" y="58672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白色的丝织品，这里指穿丧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457200" y="380880"/>
            <a:ext cx="28954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广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逆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轻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与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岂直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怫然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公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2638440" y="5335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扩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597040" y="11430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违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"/>
          <p:cNvSpPr/>
          <p:nvPr/>
        </p:nvSpPr>
        <p:spPr>
          <a:xfrm>
            <a:off x="2562120" y="182880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轻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"/>
          <p:cNvSpPr/>
          <p:nvPr/>
        </p:nvSpPr>
        <p:spPr>
          <a:xfrm>
            <a:off x="2893320" y="2590920"/>
            <a:ext cx="342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语气助词，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479760" y="32767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难道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3619080" y="3960720"/>
            <a:ext cx="1277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0" lang="en-US" sz="3600" spc="-1" strike="noStrike">
                <a:solidFill>
                  <a:srgbClr val="ff0066"/>
                </a:solidFill>
                <a:latin typeface="Arial"/>
                <a:ea typeface="华文细黑"/>
              </a:rPr>
              <a:t>fú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盛怒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4438800" y="4648320"/>
            <a:ext cx="2323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相当于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先生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古代对人的尊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"/>
          <p:cNvSpPr/>
          <p:nvPr/>
        </p:nvSpPr>
        <p:spPr>
          <a:xfrm>
            <a:off x="3095640" y="530208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762120" y="1324080"/>
            <a:ext cx="2666880" cy="34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色挠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谢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谕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〖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徒以</a:t>
            </a: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3"/>
          <p:cNvSpPr/>
          <p:nvPr/>
        </p:nvSpPr>
        <p:spPr>
          <a:xfrm>
            <a:off x="4824360" y="16002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变了脸色。挠，屈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3095640" y="2362320"/>
            <a:ext cx="403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3681720" y="3244680"/>
            <a:ext cx="612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明白、懂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4746240" y="4114800"/>
            <a:ext cx="625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因为。徒，只是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6"/>
          <p:cNvSpPr/>
          <p:nvPr/>
        </p:nvSpPr>
        <p:spPr>
          <a:xfrm>
            <a:off x="468360" y="161136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唐雎不辱使命"/>
          <p:cNvPicPr/>
          <p:nvPr/>
        </p:nvPicPr>
        <p:blipFill>
          <a:blip r:embed="rId2"/>
          <a:stretch/>
        </p:blipFill>
        <p:spPr>
          <a:xfrm>
            <a:off x="-1751040" y="0"/>
            <a:ext cx="1135224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3" name="AutoShape 3"/>
          <p:cNvSpPr/>
          <p:nvPr/>
        </p:nvSpPr>
        <p:spPr>
          <a:xfrm>
            <a:off x="3581280" y="0"/>
            <a:ext cx="5562720" cy="3200400"/>
          </a:xfrm>
          <a:prstGeom prst="cloudCallout">
            <a:avLst>
              <a:gd name="adj1" fmla="val 58134"/>
              <a:gd name="adj2" fmla="val -1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4191120" y="4572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秦王谓唐雎曰：“寡人以五百里之地易安陵，安陵君不听寡人，何也？且秦灭韩亡魏，而君以五十里之地存者，以君为长者，故不错意也。今吾以十倍之地，请广于君，而君逆寡人者，轻寡人与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0D79-1E0A-4ABB-9C88-BE39FE3C234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解释下列加点的词，注意比较它们的词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990720" y="990720"/>
            <a:ext cx="7696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使人谓安陵君曰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因使唐雎使于秦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不说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请说之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高可二黍许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安陵君其许寡人（       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4"/>
          <p:cNvSpPr/>
          <p:nvPr/>
        </p:nvSpPr>
        <p:spPr>
          <a:xfrm>
            <a:off x="288360" y="1752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5"/>
          <p:cNvSpPr/>
          <p:nvPr/>
        </p:nvSpPr>
        <p:spPr>
          <a:xfrm>
            <a:off x="288360" y="34290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6"/>
          <p:cNvSpPr/>
          <p:nvPr/>
        </p:nvSpPr>
        <p:spPr>
          <a:xfrm>
            <a:off x="288360" y="50292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5961960" y="1219320"/>
            <a:ext cx="45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6510600" y="2057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出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3615120" y="281952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3234240" y="37018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4349880" y="4572000"/>
            <a:ext cx="637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多一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2"/>
          <p:cNvSpPr/>
          <p:nvPr/>
        </p:nvSpPr>
        <p:spPr>
          <a:xfrm>
            <a:off x="5216760" y="541008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听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3"/>
          <p:cNvSpPr/>
          <p:nvPr/>
        </p:nvSpPr>
        <p:spPr>
          <a:xfrm>
            <a:off x="762120" y="13716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762120" y="304812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5"/>
          <p:cNvSpPr/>
          <p:nvPr/>
        </p:nvSpPr>
        <p:spPr>
          <a:xfrm>
            <a:off x="838080" y="47242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"/>
          <p:cNvSpPr/>
          <p:nvPr/>
        </p:nvSpPr>
        <p:spPr>
          <a:xfrm>
            <a:off x="4572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翻译下面的文言句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457200" y="11430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⑴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布衣之怒，亦免冠徒跣，以头抢地尔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" y="1905120"/>
            <a:ext cx="8839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平民发怒时，也不过是摘了帽子，光着脚，把头往地上撞罢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"/>
          <p:cNvSpPr/>
          <p:nvPr/>
        </p:nvSpPr>
        <p:spPr>
          <a:xfrm>
            <a:off x="533520" y="304812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⑵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君逆寡人者，轻寡人与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304920" y="3809880"/>
            <a:ext cx="8381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但是他却违背我的意愿，是瞧不起我的实力吗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609480" y="48769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⑶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秦王色挠，长跪而谢之曰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179280" y="5518080"/>
            <a:ext cx="8686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秦王吓得变了脸色，跪直身子向唐雎道歉说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47" name="AutoShape 3"/>
          <p:cNvSpPr/>
          <p:nvPr/>
        </p:nvSpPr>
        <p:spPr>
          <a:xfrm>
            <a:off x="609480" y="304920"/>
            <a:ext cx="8153640" cy="2895480"/>
          </a:xfrm>
          <a:prstGeom prst="cloudCallout">
            <a:avLst>
              <a:gd name="adj1" fmla="val 17425"/>
              <a:gd name="adj2" fmla="val 8344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09680" y="685800"/>
            <a:ext cx="54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秦王怫然怒，谓唐雎曰：“公亦尝闻天子之怒乎？”唐雎对曰：“臣未尝闻也。”秦王曰：“天子之怒，伏尸百万，流血千里。”唐雎曰：“大王尝闻布衣之怒乎？”秦王曰：“布衣之怒，亦免冠徒跣，以头抢地尔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唐雎不辱使命2"/>
          <p:cNvPicPr/>
          <p:nvPr/>
        </p:nvPicPr>
        <p:blipFill>
          <a:blip r:embed="rId2"/>
          <a:stretch/>
        </p:blipFill>
        <p:spPr>
          <a:xfrm>
            <a:off x="0" y="3276720"/>
            <a:ext cx="9144000" cy="3581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3"/>
          <p:cNvSpPr/>
          <p:nvPr/>
        </p:nvSpPr>
        <p:spPr>
          <a:xfrm>
            <a:off x="762120" y="0"/>
            <a:ext cx="8381880" cy="3124080"/>
          </a:xfrm>
          <a:prstGeom prst="cloudCallout">
            <a:avLst>
              <a:gd name="adj1" fmla="val -16157"/>
              <a:gd name="adj2" fmla="val 678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2209680" y="3049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唐雎曰：“此庸夫之怒也，非士之怒也。夫专诸之刺王僚也，彗星袭月；聂政之刺韩傀也，白虹贯日；要离之刺庆忌也，仓鹰击于殿上。此三子者，皆布衣之士也，怀怒未发，休祲降于天，与臣而将四矣。若士必怒，伏尸二人，流血五步，天下缟素，今日是也。”挺剑而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987640" y="14842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出使秦国的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3276720" y="3284640"/>
            <a:ext cx="49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唐雎与秦王斗争的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3276720" y="522936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写斗争的结果，唐雎取得胜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95280" y="1700280"/>
            <a:ext cx="289080" cy="4319640"/>
          </a:xfrm>
          <a:custGeom>
            <a:avLst/>
            <a:gdLst>
              <a:gd name="textAreaLeft" fmla="*/ 84960 w 289080"/>
              <a:gd name="textAreaRight" fmla="*/ 289080 w 289080"/>
              <a:gd name="textAreaTop" fmla="*/ 180000 h 4319640"/>
              <a:gd name="textAreaBottom" fmla="*/ 4140000 h 43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50920" y="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ff0000"/>
                </a:solidFill>
                <a:uFillTx/>
                <a:latin typeface="Times New Roman"/>
                <a:ea typeface="华文行楷"/>
              </a:rPr>
              <a:t>理清文章结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84360" y="141300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468360" y="3429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、三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826920" y="5445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四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AutoShape 2"/>
          <p:cNvSpPr/>
          <p:nvPr/>
        </p:nvSpPr>
        <p:spPr>
          <a:xfrm>
            <a:off x="1332000" y="907920"/>
            <a:ext cx="287280" cy="13716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1403280" y="3141720"/>
            <a:ext cx="228600" cy="1752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50"/>
                </a:lnTo>
                <a:cubicBezTo>
                  <a:pt x="10800" y="10350"/>
                  <a:pt x="5400" y="11250"/>
                  <a:pt x="0" y="11250"/>
                </a:cubicBezTo>
                <a:cubicBezTo>
                  <a:pt x="5400" y="11250"/>
                  <a:pt x="10800" y="12150"/>
                  <a:pt x="10800" y="1305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611280" y="90792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600200" y="765000"/>
            <a:ext cx="7543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五百里之地易安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秦王不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539640" y="314172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763640" y="3141720"/>
            <a:ext cx="762012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故不错意也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非若是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轻寡人与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虽千里不敢易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40208"/>
                </a:solidFill>
                <a:latin typeface="楷体_GB2312"/>
                <a:ea typeface="楷体_GB2312"/>
              </a:rPr>
              <a:t>天子之怒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布衣之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684360" y="5229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1979640" y="558972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长跪而谢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6012000" y="333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受地于先王，愿终守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6084720" y="1484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使唐雎使于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395280" y="1197000"/>
            <a:ext cx="289080" cy="5111640"/>
          </a:xfrm>
          <a:custGeom>
            <a:avLst/>
            <a:gdLst>
              <a:gd name="textAreaLeft" fmla="*/ 84960 w 289080"/>
              <a:gd name="textAreaRight" fmla="*/ 289080 w 289080"/>
              <a:gd name="textAreaTop" fmla="*/ 212760 h 5111640"/>
              <a:gd name="textAreaBottom" fmla="*/ 489888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3"/>
          <p:cNvSpPr/>
          <p:nvPr/>
        </p:nvSpPr>
        <p:spPr>
          <a:xfrm>
            <a:off x="4067280" y="155736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安陵危在旦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8:28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2:34:52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