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028-CA78-49AB-AAB7-558F3C1A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88A-5C04-414E-8906-C0FD4073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5A49-54D0-47A3-93BD-F12FB406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B79-F471-474A-A5B4-DE6D62E6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4D4-59EC-4968-8DED-954DA5F7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051-07D4-451C-981E-A932B650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5B57-52AB-41D0-B393-81F7557D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5FC-D736-4EE1-A477-60F8DF1D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172-62A5-48DD-AF1C-AD8E54DC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FA8A-83A7-4477-8EB7-706AEED5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4C9-471E-4B70-A3EC-A033BE9E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459-1AD2-4120-BC99-398FB204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03EE-BDCF-48F1-BF1E-9555A7A67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4"/>
          <p:cNvPicPr/>
          <p:nvPr/>
        </p:nvPicPr>
        <p:blipFill>
          <a:blip r:embed="rId1"/>
          <a:srcRect l="1641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2590920" y="3276720"/>
            <a:ext cx="4235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西边天上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朵朵白云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变成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红彤彤的晚霞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；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从东山上升起的太阳，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到西山上就要落下！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57600" y="121932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太阳是大家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课件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2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04920" y="685800"/>
            <a:ext cx="838188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地球万岁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太阳是大家的，月亮是大家的，地球每时每刻都自转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哪里的白天都不是永驻，哪里的黑夜都不能持久；地球上的每个人，都有权力分享阳光的明媚，月光的温柔。海洋是大家的，陆地是大家的，地球把海洋和陆地，送给白皮肤的欧洲、美洲，也送给黄皮肤的亚洲，黑皮肤的非洲，和棕色皮肤的大洋洲。森林是大家的，草原是大家的，荒凉的戈壁和沙漠野是大家的。地球教导我们：珍惜生存的家园。学会爱和奋斗。不要贪婪地索取。不要奢靡地享受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52480" y="17524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内存知己，天涯若比邻。    王勃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上生明月，天涯共此时。    张九龄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久旱逢甘雨，他乡遇故知。    汪洙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寒知松柏，患难见真情。    无名氏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里送鹅毛，礼轻情义重。    邢俊臣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685800" y="609480"/>
            <a:ext cx="3429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课前语言积累</a:t>
            </a:r>
            <a:endParaRPr b="1" lang="en-US" sz="4000" spc="-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38F-172A-4F56-BF1F-8BA61EAD4C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0" name="Picture 4" descr="34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143000" y="838080"/>
            <a:ext cx="71629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天中太阳做了多少好事：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把金光往鲜花上洒，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把小树往高处拔；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陪着小朋友在海边戏水，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他们扬起欢乐的浪花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…… 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362320" y="304920"/>
            <a:ext cx="64008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阳就要从西山落啦！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她要去哪儿？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她要趁人们睡觉的时候，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走向另外的国家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别的国家里，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有快乐的小朋友，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有小树和鲜花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知道，此时，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里的小朋友和鲜花，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在睡梦中等她，盼她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……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ttp://www.eeppt.com/moban/kejian/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08:11:2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50:23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