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2EC-17D9-4609-AABB-1FC1DFB2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BD1-EC3E-41DE-9CE7-87B5766E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F7F-5A1D-476E-9780-B0854513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0F9-53FC-460D-AA3D-63AC1DD4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1863-921B-4EA3-AE3E-580EE84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2CC5-F75D-4995-81C3-33C8A7D7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562-E09A-4A16-B566-E043629B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F9B4-F65C-42A3-9D29-C57D5ED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E174-50FF-4DF5-AE41-114FAF26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72CD-811C-42D5-9782-0A2B29B7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DF6E-C07C-4064-95B2-CAC78591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E66-4FB5-4401-B2AC-B7B59BE6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75E1-9591-4726-A701-AFF6E84B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BB9-E29F-48D9-A648-44786225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2001-9ACB-4513-BBAD-051628FE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3A07-22F9-4B28-B81B-D452581D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96A-21E5-4FEA-9EF5-08155DFB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DD3-F3E2-4B6A-ACA3-4B0772A6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306-5A32-4196-B02C-14EF707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3C94-3DBC-4422-A5E1-BBCF2B3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BC8-6CB1-4DCD-8ECC-80F2694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78C-A66D-4FCC-BF66-FB98FE6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433-80ED-44AC-A790-257E03DA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DA2-9D4E-405B-8FBA-04FE241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5D2-A4EF-40F2-9AA7-40F71BED5354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8960"/>
            <a:chOff x="228600" y="198108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D6C9-E8D8-416D-9DF2-8CD68B8B276A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未成年人德育管理研究中心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2895120"/>
            <a:ext cx="72644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大学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系    </a:t>
            </a:r>
            <a:r>
              <a:rPr b="0" lang="en-GB" sz="3600" spc="-1" strike="noStrike">
                <a:solidFill>
                  <a:srgbClr val="006666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6600" y="32004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成立“未成年人德育管理研究中心”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                         背景之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成立“未成年人德育管理研究中心”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                         背景之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成立“未成年人德育管理研究中心”的意义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理论意义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: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运用管理学的思想去分析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的德育管理工作，使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的道德教育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有管理学的背景为理论指导，这是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工作科学有效的关键所在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实践意义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|: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工作的复杂性决定了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的多样性和实践性，所以只有把理论运用于实践，才能切实地提高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未成年人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德育管理的质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未成年人德育管理研究中心”的宗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从学校、家庭、社会的战略管理的角度，剖析未成年人德育管理工作存在的诸多问题，并结合当前未成年人德育管理工作面临的新形势和新任务，使未成年人德育管理工作的质量不断提高，自觉按照德育管理规律办事</a:t>
            </a:r>
            <a:r>
              <a:rPr b="0" lang="zh-CN" sz="2800" spc="-1" strike="noStrike">
                <a:solidFill>
                  <a:srgbClr val="003366"/>
                </a:solidFill>
                <a:latin typeface="宋体"/>
              </a:rPr>
              <a:t>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本研究中心的工作思路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本中心先从学校德育管理的角度出发，分析目</a:t>
            </a: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前学校德育管理的内外部环境，掌握内部的优势和弱点，了解外部的机会与不利条件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在研究现行学校有关德育政策和规划的基础上，确定学校德育管理工作的目标和确认主要议题领域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052-898A-4EF9-9687-B262EE9BB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与部分中小学建立联系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，制定并选择恰当的策略，付诸实施，在实践中不断修改完善。最后进行总结评估。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宋体"/>
              </a:rPr>
              <a:t>在上述研究的基础上，对学校以外的德育管理展开专项研究，结合社区管理、家庭教育、社会文化管理等有关领域，研究构建面向全社会的未成年人德育管理体系，探索未成年人德育管理的规律。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3000" y="23619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希望并热忱欢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对未成年人的德育管理研究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兴趣的教师和学生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加入进来！</a:t>
            </a:r>
            <a:r>
              <a:rPr b="0" lang="en-US" sz="4400" spc="-1" strike="noStrike">
                <a:solidFill>
                  <a:srgbClr val="83c8e3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1825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24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