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3.gif" ContentType="image/gif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C2D-886D-4E94-9816-FC197423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D95-BC88-4EB6-BD70-B1DCDA2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891-741E-4D33-A280-C8969262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2E4-8E74-474E-9425-194D695A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85EC-C370-4B45-8EE1-53732F4B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1296-8CDF-4C3B-9992-F5A8181F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42E3-17C3-4064-A521-1935FDB5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565C-2010-44D5-9F0D-230FDFA9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1C17-BFF4-4651-81EE-CFB12C7F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9022-C36D-4960-8999-CA26DD12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147-EB21-4622-9D6D-1C244F3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C88-2602-4469-822A-AC8F41AE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1C16-CDBB-42DE-B810-70BF48A3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21F7-384F-40F5-B11F-862337C7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C4C-A31B-4DE6-8637-5A82FC56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902C-4159-4D8B-A8B4-7613F61A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EBA6-50FC-4DE8-956D-5CDAED65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B81B-1238-401C-B5FE-433492E5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F7B6-37B7-4E08-B657-AD286A0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E7F3-48A4-499B-90DE-AEE4EC74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B630-0233-4E54-A090-40CDDAC5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254F-56D2-4453-AE10-FD62DFAB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3F2-265B-4ED7-AE5F-6B5B5E67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1B2C-EBFA-4438-9FB6-0C5AE5D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FFEA-56C5-4531-BF7E-E7865DBB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08B0-9BC0-47AB-AB2E-96F7845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0D7E-2A24-4520-A035-05191C8E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6DAC-9254-460B-B7E5-F2E579D5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FF09-E9CC-4462-80E1-E91A7FDB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CDA92-4DEA-4AA5-8CC9-BF47A090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D43-06DF-4A07-9DD3-A774B3C2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E03-F523-48ED-9EFF-DE6BF3B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673-F7C9-493D-8ECD-58561B5A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2E1-C6AA-46B2-9BD1-577580B6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AD1-BB24-468A-BF17-D6EA0EBA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012-37F3-44AF-AE22-454F7E3D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AD6-7533-4D08-B27F-F32E06C2E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948C-1020-4C90-8270-2A49D5351F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7415-B5A7-4204-8C7E-5FFFAAC67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4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endParaRPr b="0" lang="en-US" sz="8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41400" y="838080"/>
            <a:ext cx="14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望洞庭》公开课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3169971187715872290"/>
          <p:cNvPicPr/>
          <p:nvPr/>
        </p:nvPicPr>
        <p:blipFill>
          <a:blip r:embed="rId2"/>
          <a:stretch/>
        </p:blipFill>
        <p:spPr>
          <a:xfrm>
            <a:off x="2514600" y="149544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2971800" y="4800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祝同学们学习进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"/>
          <p:cNvSpPr/>
          <p:nvPr/>
        </p:nvSpPr>
        <p:spPr>
          <a:xfrm>
            <a:off x="1828800" y="25700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望洞庭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7240" y="1676160"/>
            <a:ext cx="5257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刘禹锡：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7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4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字梦得，匈奴族后裔，唐代中期诗人、政治家、哲学家。政治上主张革新，是王叔文派政治革新活动的中心人物之一。后被贬为郎州司马、连州刺史，晚年任太子宾客，世称“刘宾客”。他的诗精炼含蓄，往往能以清新的语言表达自己对人生或历史的深刻理解， 因而被白居易推崇备至，誉为“诗豪”。其代表作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乌衣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秋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竹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浪淘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一）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浪淘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八）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杨柳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一）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西塞山怀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酬乐天扬州初逢席上见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，他在和白居易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春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曾注明“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忆江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曲拍为句”，这是中国文学史上依曲填词的最早记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tang20"/>
          <p:cNvPicPr/>
          <p:nvPr/>
        </p:nvPicPr>
        <p:blipFill>
          <a:blip r:embed="rId20"/>
          <a:stretch/>
        </p:blipFill>
        <p:spPr>
          <a:xfrm>
            <a:off x="826920" y="1600200"/>
            <a:ext cx="27673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1211Na29360141249"/>
          <p:cNvPicPr/>
          <p:nvPr/>
        </p:nvPicPr>
        <p:blipFill>
          <a:blip r:embed="rId2"/>
          <a:stretch/>
        </p:blipFill>
        <p:spPr>
          <a:xfrm>
            <a:off x="841320" y="69228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200962011270327"/>
          <p:cNvPicPr/>
          <p:nvPr/>
        </p:nvPicPr>
        <p:blipFill>
          <a:blip r:embed="rId3"/>
          <a:stretch/>
        </p:blipFill>
        <p:spPr>
          <a:xfrm>
            <a:off x="4848120" y="69228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20070911020428630"/>
          <p:cNvPicPr/>
          <p:nvPr/>
        </p:nvPicPr>
        <p:blipFill>
          <a:blip r:embed="rId4"/>
          <a:stretch/>
        </p:blipFill>
        <p:spPr>
          <a:xfrm>
            <a:off x="841320" y="3860640"/>
            <a:ext cx="3959280" cy="288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Travel_00003423"/>
          <p:cNvPicPr/>
          <p:nvPr/>
        </p:nvPicPr>
        <p:blipFill>
          <a:blip r:embed="rId5"/>
          <a:srcRect l="0" t="0" r="1441" b="14445"/>
          <a:stretch/>
        </p:blipFill>
        <p:spPr>
          <a:xfrm>
            <a:off x="4861080" y="3860640"/>
            <a:ext cx="3902040" cy="27687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6"/>
          <p:cNvSpPr txBox="1"/>
          <p:nvPr/>
        </p:nvSpPr>
        <p:spPr>
          <a:xfrm>
            <a:off x="2627280" y="3286080"/>
            <a:ext cx="403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华文行楷"/>
              </a:rPr>
              <a:t>洞庭美景</a:t>
            </a:r>
            <a:endParaRPr b="0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华文行楷"/>
              <a:ea typeface="华文行楷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0280" y="2057400"/>
            <a:ext cx="7898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3132000" y="965160"/>
            <a:ext cx="36576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听一听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147" name="Picture 12" descr="g"/>
          <p:cNvPicPr/>
          <p:nvPr/>
        </p:nvPicPr>
        <p:blipFill>
          <a:blip r:embed="rId2"/>
          <a:stretch/>
        </p:blipFill>
        <p:spPr>
          <a:xfrm>
            <a:off x="3276720" y="4038480"/>
            <a:ext cx="1676160" cy="1254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PPT43"/>
          <p:cNvPicPr/>
          <p:nvPr/>
        </p:nvPicPr>
        <p:blipFill>
          <a:blip r:embed="rId2"/>
          <a:stretch/>
        </p:blipFill>
        <p:spPr>
          <a:xfrm>
            <a:off x="395280" y="1557360"/>
            <a:ext cx="3335400" cy="4680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3465360" y="549360"/>
            <a:ext cx="32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读一读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152" name="Picture 5" descr="9e058a62c06371470c33fa18"/>
          <p:cNvPicPr/>
          <p:nvPr/>
        </p:nvPicPr>
        <p:blipFill>
          <a:blip r:embed="rId3"/>
          <a:stretch/>
        </p:blipFill>
        <p:spPr>
          <a:xfrm>
            <a:off x="1523880" y="5335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886200" y="25909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038480" y="2666880"/>
            <a:ext cx="441972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ú  guāng  qiū    yuè   liǎng xiāng  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湖   光   秋   月    两   相   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án  miàn   wú    fēng   jìnɡ   wèi    m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潭   面   无   风    镜   未   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áo  wàng dòng tíng  shān  shuǐ  s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遥   望   洞   庭    山   水   色，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ái    yín    pán    lǐ      yī    qīng   lu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   银   盘   里    一   青   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876920" y="1523880"/>
            <a:ext cx="25146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àng     dòng    tí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望      洞     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304920"/>
            <a:ext cx="632484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诗文的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87280" y="1700280"/>
            <a:ext cx="57596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诗写的是千里洞庭的秋夜景色，诗人选择了月夜遥望的角度，通过丰富的想象和形象的比喻，独出心裁的描写出湖光山色的优美动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俨如山水画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0060607012309415"/>
          <p:cNvPicPr/>
          <p:nvPr/>
        </p:nvPicPr>
        <p:blipFill>
          <a:blip r:embed="rId2"/>
          <a:stretch/>
        </p:blipFill>
        <p:spPr>
          <a:xfrm>
            <a:off x="1152360" y="380880"/>
            <a:ext cx="15908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  <a:ea typeface="华文行楷"/>
              </a:rPr>
              <a:t>         </a:t>
            </a:r>
            <a:r>
              <a:rPr b="1" lang="zh-CN" sz="4600" spc="-1" strike="noStrike">
                <a:solidFill>
                  <a:srgbClr val="330033"/>
                </a:solidFill>
                <a:latin typeface="Times New Roman"/>
                <a:ea typeface="华文行楷"/>
              </a:rPr>
              <a:t>诗文今译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16036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潭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镜未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银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青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PT45"/>
          <p:cNvPicPr/>
          <p:nvPr/>
        </p:nvPicPr>
        <p:blipFill>
          <a:blip r:embed="rId2"/>
          <a:stretch/>
        </p:blipFill>
        <p:spPr>
          <a:xfrm>
            <a:off x="685800" y="36684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914400" y="4876920"/>
            <a:ext cx="770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全文翻译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秋夜，月光下的洞庭湖水清澈空明，与明朗的月色交相辉映。湖面风平浪静，波光闪动，像一面没有磨过的镜子。远远望去，湖中翠绿的洞庭山，多像白色银盘中一只小巧玲珑的青螺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276720" y="1447920"/>
            <a:ext cx="5486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：这里指水色与月光融为一体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潭面：指湖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镜未磨：古人的镜子用铜制作、磨成。这里一说是水面无风 ，波平如镜；一说是远望湖中的景物，隐约不清，如同镜面没打磨时照物不清楚。 两说均可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银盘：形容洞庭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螺：青色的田螺，这里用来比喻湖中间的青山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使用规范说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06CD-586A-481C-B2D8-E053D84F37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文运用了几次比喻手法？分别把什么比喻成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文表达了作者怎样的情感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2133360" y="3805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想一想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Picture 7" descr="u=11053846,2949936580&amp;fm=0&amp;gp=12"/>
          <p:cNvPicPr/>
          <p:nvPr/>
        </p:nvPicPr>
        <p:blipFill>
          <a:blip r:embed="rId2"/>
          <a:stretch/>
        </p:blipFill>
        <p:spPr>
          <a:xfrm>
            <a:off x="1066680" y="51444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2120" y="541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05:56:51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48:51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