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541-F371-4FFF-B3F6-49246FCC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E96-5E46-4016-AA37-592660BF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2EE-6E4B-40DA-9FE1-385D1D23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320-362B-4DFA-BF94-5DCAA780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D8D-B218-4554-8C9B-F8477FCF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593-6F23-4C58-B860-78C6F6E9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B49-A4EC-4E83-BAB0-DB7FF13A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42F-DE24-40F9-8322-CED8F149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E88-EA8F-44D6-BEE2-467A4566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C99-4783-4378-BF91-9E621DBA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6AE-3898-4398-8EE5-3E7165E1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283-81B5-4855-98AB-10C5818B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76ED-41E4-466E-9DA2-650DBB07084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76ED-1BA1-41C3-9C6F-D802C48AD8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iStock_000000747323Small-ori.jpg"/>
          <p:cNvPicPr/>
          <p:nvPr/>
        </p:nvPicPr>
        <p:blipFill>
          <a:blip r:embed="rId1"/>
          <a:srcRect l="0" t="0" r="-6852" b="0"/>
          <a:stretch/>
        </p:blipFill>
        <p:spPr>
          <a:xfrm>
            <a:off x="0" y="152280"/>
            <a:ext cx="8839080" cy="6705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3"/>
          <p:cNvSpPr/>
          <p:nvPr/>
        </p:nvSpPr>
        <p:spPr>
          <a:xfrm>
            <a:off x="7238880" y="423720"/>
            <a:ext cx="1909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spcBef>
                <a:spcPts val="5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9080" y="4237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外国人物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21760" y="141300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14:21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