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83A2-317C-4143-9DDE-1286C6D2B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EDF9-6994-4ED7-BB65-FC7545412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4616-2E78-4E3F-ADDC-AFC28522D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FF9D-0D04-45AA-AB1A-D2A1574E9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F233-90B7-457B-AAF4-FC2B66839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97B4-315E-468D-950B-6016C058B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2AF3-40B1-49BF-AB94-D168A31E6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9398-A206-4A38-95B1-BEDFD2995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3A8B-844B-4A77-B23B-7F8284C6F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A186-C363-4488-A25B-D09CC652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4028-E64F-492A-BBDB-44D6ACB2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DBE3-C28D-4255-9B46-51A36A3B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48FB2-A0F3-4675-96F1-69B0D58E447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C2DB5-39DB-4ECD-8711-73612D0FF9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 flipH="1"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85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7" descr="baby.jpg"/>
          <p:cNvPicPr/>
          <p:nvPr/>
        </p:nvPicPr>
        <p:blipFill>
          <a:blip r:embed="rId1"/>
          <a:srcRect l="0" t="0" r="-22" b="12"/>
          <a:stretch/>
        </p:blipFill>
        <p:spPr>
          <a:xfrm>
            <a:off x="5562720" y="152280"/>
            <a:ext cx="3352680" cy="6370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507680" y="83664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外国小孩人物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77040" y="1844640"/>
            <a:ext cx="371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1A54-C83D-496F-8FC1-8D5B5822705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2T15:19:18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