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E49-3C86-40A2-AE15-A5F888AC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1C4-9E92-421F-ABA5-5726BBC0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DD0-42B7-4345-BD88-656DF776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81A-676D-4B6E-9173-18826413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C76-F1D5-4D08-B86B-AEC10F6A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61B-577C-40D2-9A7C-94EDAC2F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D87-1167-48DC-9197-E9618F6B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962-5E5F-4261-8ACB-7598F481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864-51DC-4A23-AD9B-8967911B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C06-53EE-4FB6-AED7-8863449A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613-B957-48C1-B5F7-ECA0084E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F01-ADB8-46F9-82BE-69D7FA03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6A98-DA7D-49D1-BA59-292BA4131C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F740-D071-49A4-8FF5-AED66B7F0A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D:\Backup\Presentations\Lianne\mafish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8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\\eyestore\Home\ori.carmon\Re-Branding\logos new Mortar\Logo white.wmf"/>
          <p:cNvPicPr/>
          <p:nvPr/>
        </p:nvPicPr>
        <p:blipFill>
          <a:blip r:embed="rId2"/>
          <a:stretch/>
        </p:blipFill>
        <p:spPr>
          <a:xfrm>
            <a:off x="7467480" y="6205680"/>
            <a:ext cx="1447920" cy="34740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6"/>
          <p:cNvSpPr/>
          <p:nvPr/>
        </p:nvSpPr>
        <p:spPr>
          <a:xfrm>
            <a:off x="30492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5151"/>
                </a:solidFill>
                <a:latin typeface="Arial"/>
              </a:rPr>
              <a:t>© 2008 Eyeblaster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Bottom-wave-for-dean.png"/>
          <p:cNvPicPr/>
          <p:nvPr/>
        </p:nvPicPr>
        <p:blipFill>
          <a:blip r:embed="rId3">
            <a:lum bright="-44000"/>
          </a:blip>
          <a:srcRect l="-1040" t="-6863" r="641" b="-1032"/>
          <a:stretch/>
        </p:blipFill>
        <p:spPr>
          <a:xfrm>
            <a:off x="0" y="3857760"/>
            <a:ext cx="9144000" cy="3000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5"/>
          <p:cNvSpPr/>
          <p:nvPr/>
        </p:nvSpPr>
        <p:spPr>
          <a:xfrm>
            <a:off x="0" y="322200"/>
            <a:ext cx="9144000" cy="7574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top-wave-for-Dean.png"/>
          <p:cNvPicPr/>
          <p:nvPr/>
        </p:nvPicPr>
        <p:blipFill>
          <a:blip r:embed="rId4">
            <a:lum contrast="-24000"/>
          </a:blip>
          <a:srcRect l="0" t="1211" r="-7219" b="0"/>
          <a:stretch/>
        </p:blipFill>
        <p:spPr>
          <a:xfrm>
            <a:off x="0" y="0"/>
            <a:ext cx="9144000" cy="330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Backup\Presentations\Lianne\mafish.jpg"/>
          <p:cNvPicPr/>
          <p:nvPr/>
        </p:nvPicPr>
        <p:blipFill>
          <a:blip r:embed="rId5"/>
          <a:stretch/>
        </p:blipFill>
        <p:spPr>
          <a:xfrm>
            <a:off x="-3240" y="1060560"/>
            <a:ext cx="5270400" cy="5194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1520" y="374760"/>
            <a:ext cx="82915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s out in the cro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1332000"/>
            <a:ext cx="9144000" cy="3240000"/>
          </a:xfrm>
          <a:prstGeom prst="rect">
            <a:avLst/>
          </a:prstGeom>
          <a:solidFill>
            <a:srgbClr val="bfbfb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914400"/>
            <a:ext cx="7286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buClr>
                <a:srgbClr val="5151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3737"/>
                </a:solidFill>
                <a:latin typeface="Arial"/>
              </a:rPr>
              <a:t>Ease of use complements innov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3737"/>
                </a:solidFill>
                <a:latin typeface="Arial"/>
              </a:rPr>
              <a:t>Get it ad hoc or schedu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3737"/>
                </a:solidFill>
                <a:latin typeface="Arial"/>
              </a:rPr>
              <a:t>Significant time sav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3737"/>
                </a:solidFill>
                <a:latin typeface="Arial"/>
              </a:rPr>
              <a:t>Use metrics available only in the CR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3737"/>
                </a:solidFill>
                <a:latin typeface="Arial"/>
              </a:rPr>
              <a:t>Analysis made eas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1095795.jpg"/>
          <p:cNvPicPr/>
          <p:nvPr/>
        </p:nvPicPr>
        <p:blipFill>
          <a:blip r:embed="rId6"/>
          <a:stretch/>
        </p:blipFill>
        <p:spPr>
          <a:xfrm>
            <a:off x="-32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Bottom-wave-for-dean.png"/>
          <p:cNvPicPr/>
          <p:nvPr/>
        </p:nvPicPr>
        <p:blipFill>
          <a:blip r:embed="rId7"/>
          <a:srcRect l="-1040" t="-6863" r="641" b="-1032"/>
          <a:stretch/>
        </p:blipFill>
        <p:spPr>
          <a:xfrm>
            <a:off x="0" y="3857760"/>
            <a:ext cx="9144000" cy="300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Bottom-wave-for-dean.png"/>
          <p:cNvPicPr/>
          <p:nvPr/>
        </p:nvPicPr>
        <p:blipFill>
          <a:blip r:embed="rId8"/>
          <a:srcRect l="-1040" t="-6863" r="641" b="-1032"/>
          <a:stretch/>
        </p:blipFill>
        <p:spPr>
          <a:xfrm>
            <a:off x="-3240" y="0"/>
            <a:ext cx="9142560" cy="300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14360" y="56833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网络通信数据传输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F03-090C-4C30-8DEB-124E924244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5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