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8.png" ContentType="image/png"/>
  <Override PartName="/ppt/media/image15.gif" ContentType="image/gif"/>
  <Override PartName="/ppt/media/image3.jpeg" ContentType="image/jpeg"/>
  <Override PartName="/ppt/media/image1.png" ContentType="image/png"/>
  <Override PartName="/ppt/media/image19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3F5-4919-4D96-8E14-7B3C18DC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8A4-2E36-4BD0-A5CA-2549529D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AAD-A4F8-4C38-92C1-E3454804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14A-EE5A-4C7E-BC4F-F0C00C8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04A-5AC2-4657-9692-5829D093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A57-9EAC-4546-B0F7-463EC907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497-14FF-4F16-8D40-6301EA7E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7CD-2A0E-44D7-B765-14AE4A66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C09-5F84-4ED2-9308-5EC1D775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C6B-D47C-44AA-AC2C-A3904BF3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A28-386D-48F4-AD93-21E2CA79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52A-EE2D-4798-A441-390E92E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FA8-3B72-45FF-A664-42C0CF8F4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2362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7320" y="1295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为你骄傲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5112875849577"/>
          <p:cNvPicPr/>
          <p:nvPr/>
        </p:nvPicPr>
        <p:blipFill>
          <a:blip r:embed="rId1"/>
          <a:stretch/>
        </p:blipFill>
        <p:spPr>
          <a:xfrm>
            <a:off x="36360" y="44280"/>
            <a:ext cx="9134640" cy="6840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24000" y="907920"/>
            <a:ext cx="81421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看着石头像子弹一样射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像流星一样从天而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觉得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6445080" y="6237360"/>
            <a:ext cx="503280" cy="360360"/>
          </a:xfrm>
          <a:prstGeom prst="smileyFace">
            <a:avLst>
              <a:gd name="adj" fmla="val 465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685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拾起一块光滑的小石头，把它扔了出去。一不小心，石头砸在老奶奶家的后窗户上。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听到玻璃破碎的声音，就像兔子一样飞快地逃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1_296"/>
          <p:cNvPicPr/>
          <p:nvPr/>
        </p:nvPicPr>
        <p:blipFill>
          <a:blip r:embed="rId1"/>
          <a:stretch/>
        </p:blipFill>
        <p:spPr>
          <a:xfrm>
            <a:off x="3429000" y="434340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152280"/>
            <a:ext cx="3886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看谁读得好！</a:t>
            </a:r>
            <a:endParaRPr b="1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3505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、我们听到玻璃破碎的声音，就</a:t>
            </a:r>
            <a:r>
              <a:rPr b="1" lang="zh-CN" sz="4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兔子一样飞快地逃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0920" y="162864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、石头</a:t>
            </a:r>
            <a:r>
              <a:rPr b="1" lang="zh-CN" sz="4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子弹一样射出去，</a:t>
            </a:r>
            <a:r>
              <a:rPr b="1" lang="zh-CN" sz="4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又像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流星一样从天而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6156360" y="5373720"/>
            <a:ext cx="936720" cy="576360"/>
          </a:xfrm>
          <a:custGeom>
            <a:avLst/>
            <a:gdLst>
              <a:gd name="textAreaLeft" fmla="*/ 218520 w 936720"/>
              <a:gd name="textAreaRight" fmla="*/ 718200 w 936720"/>
              <a:gd name="textAreaTop" fmla="*/ 60480 h 576360"/>
              <a:gd name="textAreaBottom" fmla="*/ 365040 h 57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585080" y="883800"/>
            <a:ext cx="6013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能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白云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的落叶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星星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，又像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76360" y="6094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害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7672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担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763800" y="3276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124080" y="48006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一阵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6252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403848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038480" y="3962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14"/>
          <p:cNvPicPr/>
          <p:nvPr/>
        </p:nvPicPr>
        <p:blipFill>
          <a:blip r:embed="rId1"/>
          <a:stretch/>
        </p:blipFill>
        <p:spPr>
          <a:xfrm>
            <a:off x="36360" y="-77760"/>
            <a:ext cx="9144000" cy="2354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79280" y="2565360"/>
            <a:ext cx="871236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天晚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想到老奶奶家被打碎的玻璃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知道是我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6720" y="4902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我担心老奶奶知道后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我害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28600" y="1143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这以后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还是和往常一样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每天给她送报纸。她也和往常一样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微笑着跟我打招呼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却觉得很不自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96720" y="1557360"/>
            <a:ext cx="864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以后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是和往常一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给她送报纸。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也和往常一样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微笑着跟我打招呼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却觉得很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自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04920" y="762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天晚上，我一想到老奶奶家被打碎的玻璃就害怕，担心她知道是我干的。这以后，我还是和往常一样，每天给她送报纸。她也和往常一样，微笑着跟我打招呼，我却觉得很不自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95280" y="2781360"/>
            <a:ext cx="856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心里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47628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心里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顿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438280" y="19810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骄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4572000" y="19810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傲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219320" y="1171440"/>
            <a:ext cx="67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宋体"/>
              </a:rPr>
              <a:t>攒       装进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宋体"/>
              </a:rPr>
              <a:t>来到     投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28600" y="1905120"/>
            <a:ext cx="83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第一天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0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分；第二天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70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分。一个星期过去了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元，两个星期过去了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元，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1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天过去了，他终于攒够了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04920" y="304920"/>
            <a:ext cx="753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三个星期过去了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已经攒了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元。这些钱足够用来修理窗户了。我把钱和一张便条装进信封，在便条上向老奶奶说明了事情的经过，并真诚地向她道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991720" cy="76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亲爱的老奶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您好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　我是给您送（    ）的小男孩。我（    ）一块（    ）的石子扔出去，不小心砸碎了您家的玻璃。我一听到（   ）（   ）的声音，就吓得像兔子似的逃走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我一天不说出是我打碎的，我就一天不得安宁。到您家送报纸，我就浑身不自在。现在，我把三个星期送报纸的钱攒起来，用来修理窗户，请您收下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　对不起，老奶奶，请您原谅我，好吗？</a:t>
            </a:r>
            <a:r>
              <a:rPr b="0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　　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　　　　　　　　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5334120" y="56386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碎玻璃的小男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117240" y="116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62256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拾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17524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6088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玻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590920" y="228600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3_9"/>
          <p:cNvPicPr/>
          <p:nvPr/>
        </p:nvPicPr>
        <p:blipFill>
          <a:blip r:embed="rId1"/>
          <a:stretch/>
        </p:blipFill>
        <p:spPr>
          <a:xfrm>
            <a:off x="0" y="5897520"/>
            <a:ext cx="9144000" cy="960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65040" y="401760"/>
            <a:ext cx="8245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第二天，我去给老奶奶送报纸。她微笑着接过报纸，说：“我有点儿东西给你。”原来是一袋饼干。我谢过她，然后一边吃着饼干，一边继续送报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当饼干快要吃完的时候，我发现袋子里有一个信封。打开一看，里面是７美元和一张便条，上面写着：</a:t>
            </a: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我为你骄傲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14600" y="10666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想象如果老奶奶当面说这句话，会是什么样的表情和语气？读读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90720" y="3809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3251_2009052922452116bMr"/>
          <p:cNvPicPr/>
          <p:nvPr/>
        </p:nvPicPr>
        <p:blipFill>
          <a:blip r:embed="rId1"/>
          <a:stretch/>
        </p:blipFill>
        <p:spPr>
          <a:xfrm>
            <a:off x="0" y="0"/>
            <a:ext cx="9972720" cy="755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2345040" y="2777400"/>
            <a:ext cx="36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而骄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F90-0AC0-4341-8E02-483C596130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WordArt 2" descr=""/>
          <p:cNvPicPr/>
          <p:nvPr/>
        </p:nvPicPr>
        <p:blipFill>
          <a:blip r:embed="rId2"/>
          <a:stretch/>
        </p:blipFill>
        <p:spPr>
          <a:xfrm>
            <a:off x="993600" y="-165240"/>
            <a:ext cx="3383280" cy="114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36440" y="1143000"/>
            <a:ext cx="900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你觉得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可以采取什么样的方法来弥补这次过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生活中，你遇到过这样的事吗？做了错事，应当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当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到便条时心里会怎么想？请你大胆想象，续讲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WW_015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犯错时，我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别人犯错时，我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779920" y="1447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勇于承担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961360" y="398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学会宽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438280" y="167652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3"/>
          <p:cNvSpPr/>
          <p:nvPr/>
        </p:nvSpPr>
        <p:spPr>
          <a:xfrm>
            <a:off x="2666880" y="15238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骄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10080" y="167652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5"/>
          <p:cNvSpPr/>
          <p:nvPr/>
        </p:nvSpPr>
        <p:spPr>
          <a:xfrm>
            <a:off x="5715000" y="15238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傲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-227160" y="457200"/>
            <a:ext cx="91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诚实是一个人得以保持的最高尚的东西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--------  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英国   乔叟）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宁可因为说真话而负罪，也不要说假话开脱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波斯     萨迪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走正直诚实的生活道路，必定会有一个问心无愧的归宿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前苏联   高尔基）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谅解也是一种勉励、启迪、指引，它难催人弃恶从善，使歧路人走入正轨，发挥他们的潜力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-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穆尼尔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纳素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夫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宽容产生的道德上的震动比责罚产生的要强烈得多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---------(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前苏联  苏霍姆林斯基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尽量宽恕别人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而不要原谅自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-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古罗马  贺拉斯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6640" y="634536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5112875472081"/>
          <p:cNvPicPr/>
          <p:nvPr/>
        </p:nvPicPr>
        <p:blipFill>
          <a:blip r:embed="rId1"/>
          <a:stretch/>
        </p:blipFill>
        <p:spPr>
          <a:xfrm>
            <a:off x="36360" y="46080"/>
            <a:ext cx="9509400" cy="683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68360" y="549360"/>
            <a:ext cx="33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读书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00000" y="1341360"/>
            <a:ext cx="722808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读准字音，读通句子，遇到难读的句子，反反复复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边读边标上自然段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用横线画出文中的比喻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思考：课文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295280" y="533520"/>
            <a:ext cx="2895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我会读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371600" y="2743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219320" y="26668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滑  玻璃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破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碎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攒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43000" y="46483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信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箱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道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顿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43000" y="2286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371600" y="4191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g     x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g     q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   d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143000" y="21337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b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li         su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z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11"/>
          <p:cNvPicPr/>
          <p:nvPr/>
        </p:nvPicPr>
        <p:blipFill>
          <a:blip r:embed="rId2"/>
          <a:stretch/>
        </p:blipFill>
        <p:spPr>
          <a:xfrm>
            <a:off x="4427640" y="62064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343160" y="907920"/>
            <a:ext cx="658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滑  玻  璃  碎  攒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封  歉  箱  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1476360" y="4437000"/>
            <a:ext cx="2808360" cy="1944720"/>
            <a:chOff x="1476360" y="4437000"/>
            <a:chExt cx="2808360" cy="1944720"/>
          </a:xfrm>
        </p:grpSpPr>
        <p:grpSp>
          <p:nvGrpSpPr>
            <p:cNvPr id="63" name="Group 4"/>
            <p:cNvGrpSpPr/>
            <p:nvPr/>
          </p:nvGrpSpPr>
          <p:grpSpPr>
            <a:xfrm>
              <a:off x="1547640" y="4437000"/>
              <a:ext cx="1657080" cy="1944720"/>
              <a:chOff x="1547640" y="4437000"/>
              <a:chExt cx="1657080" cy="1944720"/>
            </a:xfrm>
          </p:grpSpPr>
          <p:sp>
            <p:nvSpPr>
              <p:cNvPr id="64" name="Line 5"/>
              <p:cNvSpPr/>
              <p:nvPr/>
            </p:nvSpPr>
            <p:spPr>
              <a:xfrm>
                <a:off x="1547640" y="4437000"/>
                <a:ext cx="0" cy="19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"/>
              <p:cNvSpPr/>
              <p:nvPr/>
            </p:nvSpPr>
            <p:spPr>
              <a:xfrm>
                <a:off x="1547640" y="443700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7"/>
            <p:cNvSpPr/>
            <p:nvPr/>
          </p:nvSpPr>
          <p:spPr>
            <a:xfrm>
              <a:off x="1476360" y="45813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读准字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5724360" y="4365720"/>
            <a:ext cx="1657080" cy="1944720"/>
            <a:chOff x="5724360" y="4365720"/>
            <a:chExt cx="1657080" cy="1944720"/>
          </a:xfrm>
        </p:grpSpPr>
        <p:grpSp>
          <p:nvGrpSpPr>
            <p:cNvPr id="68" name="Group 9"/>
            <p:cNvGrpSpPr/>
            <p:nvPr/>
          </p:nvGrpSpPr>
          <p:grpSpPr>
            <a:xfrm>
              <a:off x="5724360" y="4365720"/>
              <a:ext cx="1657080" cy="1944720"/>
              <a:chOff x="5724360" y="4365720"/>
              <a:chExt cx="1657080" cy="1944720"/>
            </a:xfrm>
          </p:grpSpPr>
          <p:sp>
            <p:nvSpPr>
              <p:cNvPr id="69" name="Line 10"/>
              <p:cNvSpPr/>
              <p:nvPr/>
            </p:nvSpPr>
            <p:spPr>
              <a:xfrm>
                <a:off x="5724360" y="4365720"/>
                <a:ext cx="0" cy="19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5724360" y="436572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12"/>
            <p:cNvSpPr/>
            <p:nvPr/>
          </p:nvSpPr>
          <p:spPr>
            <a:xfrm>
              <a:off x="5868720" y="450864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记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230400"/>
            <a:ext cx="91440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光滑      玻璃     打碎    顿时      攒起来    信封     信箱    道歉        报纸      继续     东西   窗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不自在    打招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真诚地道歉    光滑的小石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167877805727"/>
          <p:cNvPicPr/>
          <p:nvPr/>
        </p:nvPicPr>
        <p:blipFill>
          <a:blip r:embed="rId1"/>
          <a:srcRect l="11394" t="9394" r="8074" b="21108"/>
          <a:stretch/>
        </p:blipFill>
        <p:spPr>
          <a:xfrm>
            <a:off x="-30240" y="0"/>
            <a:ext cx="9207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116000" y="1960200"/>
            <a:ext cx="6789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小男孩拾起一块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光滑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石头扔向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玻璃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顿时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玻璃被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打碎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044720" y="4188240"/>
            <a:ext cx="7203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小男孩把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攒起来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钱放在一个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信封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里，然后投进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信箱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真诚地向老奶奶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道歉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WordArt 5" descr=""/>
          <p:cNvPicPr/>
          <p:nvPr/>
        </p:nvPicPr>
        <p:blipFill>
          <a:blip r:embed="rId2"/>
          <a:stretch/>
        </p:blipFill>
        <p:spPr>
          <a:xfrm>
            <a:off x="1401840" y="463680"/>
            <a:ext cx="2268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755640" y="2381040"/>
            <a:ext cx="777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在老奶奶家后院里玩扔石子的游戏，我一不小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老奶奶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逃走了。后来我攒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元，装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，跟老奶奶道歉。老奶奶原谅了我，并写了一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，上面写着“我为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56000" y="1557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796000" y="2133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364000" y="3933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2200" y="4508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骄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124000" y="270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916360" y="33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5:17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3:5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