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F9B-F876-40B7-9147-2A090A7A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C46-5959-4CA3-86FC-AF2F0231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08B-ACA9-4FA8-ABD6-08987AEE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D3E-BEB1-481F-AD37-611A438D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116-DADF-4A57-8522-884791DC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8AB-2D47-4A29-BA89-E29104C8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EA2-0E29-49A8-BC36-8BB8702B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666-B4E0-4F82-B2CE-5D7CAE19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062-2F87-4E79-B36F-FB20FB4E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6A1-F51E-45DB-9972-542C8B1D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F83-FA51-47A1-96F7-30642765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AE0-EB83-4A74-957A-EA127095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30CC-6FB4-4AAF-80D4-B7F63103A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111"/>
          <p:cNvPicPr/>
          <p:nvPr/>
        </p:nvPicPr>
        <p:blipFill>
          <a:blip r:embed="rId2"/>
          <a:stretch/>
        </p:blipFill>
        <p:spPr>
          <a:xfrm>
            <a:off x="4284720" y="3500280"/>
            <a:ext cx="4859280" cy="3321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555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350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无标题"/>
          <p:cNvPicPr/>
          <p:nvPr/>
        </p:nvPicPr>
        <p:blipFill>
          <a:blip r:embed="rId4"/>
          <a:stretch/>
        </p:blipFill>
        <p:spPr>
          <a:xfrm>
            <a:off x="0" y="0"/>
            <a:ext cx="4211640" cy="350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01300000084627122067862617213"/>
          <p:cNvPicPr/>
          <p:nvPr/>
        </p:nvPicPr>
        <p:blipFill>
          <a:blip r:embed="rId5"/>
          <a:stretch/>
        </p:blipFill>
        <p:spPr>
          <a:xfrm>
            <a:off x="0" y="3500280"/>
            <a:ext cx="4284720" cy="335772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108000" y="404640"/>
            <a:ext cx="2340000" cy="6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北师大版小学语文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五年级下册第三单元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213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2800" y="17733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微笑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素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匆忙中我忘记对你微笑， 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原谅我， 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善良淳厚的你， 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否给我一个微笑？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永远微笑吧！ 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人生的旅途上， 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好的身份证就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微笑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2239a4fc63723652"/>
          <p:cNvPicPr/>
          <p:nvPr/>
        </p:nvPicPr>
        <p:blipFill>
          <a:blip r:embed="rId2"/>
          <a:stretch/>
        </p:blipFill>
        <p:spPr>
          <a:xfrm>
            <a:off x="5724360" y="2349360"/>
            <a:ext cx="2476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c1eb8f6ac7eeb513465632126671758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457200" y="2514600"/>
            <a:ext cx="6477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幼圆"/>
              </a:rPr>
              <a:t>“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幼圆"/>
              </a:rPr>
              <a:t>身份证”是一个人身份的证明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幼圆"/>
              </a:rPr>
              <a:t>,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幼圆"/>
              </a:rPr>
              <a:t>是人们从事各项活动是必需的证件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幼圆"/>
              </a:rPr>
              <a:t>,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  <a:ea typeface="幼圆"/>
              </a:rPr>
              <a:t>在这里作者把微笑比喻成了最好的身份证。人们若有了“微笑”，无论走到哪里，都会受到别人的欢迎，所以说“微笑是最好的身份证”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7621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诗人把微笑比喻成“最好的身份证”，你是怎样理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读课文，加深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由朗读，诗人为什么把微笑比喻成“最好的身份证”？你是怎样理解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同学们相互交流，谈谈自己的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联系实际谈对文中诗人为什么把微笑比喻成“最好的身份证”的理解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章前五个自然段，都是提到微笑给我们生活中带来的美好与幸福，让我们知道人与人之间有时一个微笑就以足矣！第六自然段作者笔锋一转，提示我们“我忘记对你微笑，你能否给我一个微笑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提示：这是本文中的经典，告诫我们彼此之间要相互理解，和谐相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4360" y="620280"/>
            <a:ext cx="273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小节提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首西班牙民歌，作者以简洁自然纯朴真实的语言，字里行间，意蕴幽长。通过生活中最简单的一个表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微笑，拉近了人与人之间的距离，使整个社会大家庭更加和谐。表达了作者对美好生活的向往，对人性的呼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拓展延伸，畅所欲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经常把微笑送给别人吗？你曾感激的接受过别人的微笑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联系实际谈经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谈到的实际生活中的感受写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21b9bae530498f0115831505d99f08e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1403280" y="206064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隶书"/>
              </a:rPr>
              <a:t>看谁能在最短的时间内能把这首诗歌背下来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684360" y="836640"/>
            <a:ext cx="3146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课堂练习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111"/>
          <p:cNvPicPr/>
          <p:nvPr/>
        </p:nvPicPr>
        <p:blipFill>
          <a:blip r:embed="rId2"/>
          <a:stretch/>
        </p:blipFill>
        <p:spPr>
          <a:xfrm>
            <a:off x="4284720" y="3500280"/>
            <a:ext cx="4859280" cy="3321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555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3500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无标题"/>
          <p:cNvPicPr/>
          <p:nvPr/>
        </p:nvPicPr>
        <p:blipFill>
          <a:blip r:embed="rId4"/>
          <a:stretch/>
        </p:blipFill>
        <p:spPr>
          <a:xfrm>
            <a:off x="0" y="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01300000084627122067862617213"/>
          <p:cNvPicPr/>
          <p:nvPr/>
        </p:nvPicPr>
        <p:blipFill>
          <a:blip r:embed="rId5"/>
          <a:stretch/>
        </p:blipFill>
        <p:spPr>
          <a:xfrm>
            <a:off x="0" y="3141720"/>
            <a:ext cx="4284720" cy="3716280"/>
          </a:xfrm>
          <a:prstGeom prst="rect">
            <a:avLst/>
          </a:prstGeom>
          <a:ln w="0">
            <a:noFill/>
          </a:ln>
        </p:spPr>
      </p:pic>
      <p:sp>
        <p:nvSpPr>
          <p:cNvPr id="88" name="WordArt 12"/>
          <p:cNvSpPr txBox="1"/>
          <p:nvPr/>
        </p:nvSpPr>
        <p:spPr>
          <a:xfrm>
            <a:off x="2916360" y="2133720"/>
            <a:ext cx="411480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传递微笑！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教学目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会本文，了解生字，正确读“逝、隆、顿、转瞬即逝、善良淳厚这几个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感情朗读课文，了解诗歌的表达方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道微笑在我们生活中的作用，知道人与人之间应当和谐相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8720" y="4581360"/>
            <a:ext cx="755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83A-5997-4124-A043-A53343468F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6000" y="620280"/>
            <a:ext cx="330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生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瞬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hùn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逝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hì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隆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ó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顿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ú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燃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án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淳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ú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7"/>
          <p:cNvSpPr/>
          <p:nvPr/>
        </p:nvSpPr>
        <p:spPr>
          <a:xfrm>
            <a:off x="2776680" y="630864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2979450_2007042218354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611280" y="1611360"/>
            <a:ext cx="66294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转瞬即逝    顿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生意兴隆    燃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善良淳厚</a:t>
            </a:r>
            <a:r>
              <a:rPr b="1" lang="zh-CN" sz="7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温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411280" y="404640"/>
            <a:ext cx="13939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生词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初读课文，整体感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初读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学们朗读诗歌，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本文为什么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微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主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课文中几次提到微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996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微笑，花费很少，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价值却很高；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的人幸福，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收的人回报。 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微笑，仅有几秒，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转瞬即逝；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留下的回忆，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终生美好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2239a4fc63723652"/>
          <p:cNvPicPr/>
          <p:nvPr/>
        </p:nvPicPr>
        <p:blipFill>
          <a:blip r:embed="rId2"/>
          <a:stretch/>
        </p:blipFill>
        <p:spPr>
          <a:xfrm>
            <a:off x="5264280" y="2492280"/>
            <a:ext cx="2476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69372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人富，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富到对方不需要；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没有人穷，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穷到给不出一个微笑。 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了它，家庭充满温馨，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了它，生意兴隆荣耀；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使陌生者不再陌生，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是朋友间交流的暗号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2239a4fc63723652"/>
          <p:cNvPicPr/>
          <p:nvPr/>
        </p:nvPicPr>
        <p:blipFill>
          <a:blip r:embed="rId2"/>
          <a:stretch/>
        </p:blipFill>
        <p:spPr>
          <a:xfrm>
            <a:off x="5435640" y="1773360"/>
            <a:ext cx="2476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777240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使劳累者疲劳顿消，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为失意者重燃希望的火苗；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悲伤者它有如太阳，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所有礼品都更有效。 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人都需要微笑，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没有人，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一个忘记微笑的人， 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它更加需要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2239a4fc63723652"/>
          <p:cNvPicPr/>
          <p:nvPr/>
        </p:nvPicPr>
        <p:blipFill>
          <a:blip r:embed="rId2"/>
          <a:stretch/>
        </p:blipFill>
        <p:spPr>
          <a:xfrm>
            <a:off x="6012000" y="2060640"/>
            <a:ext cx="2476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0:08:1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11:32:29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e80b000000000001024120</vt:lpwstr>
  </property>
</Properties>
</file>